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648-3930-49C5-95F4-2B503518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9EB-B65F-4A7D-B7B7-5B016DE8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3E3-754D-4CBB-8010-B4CB0A35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826-E5EB-4A22-804C-C3254D14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418F-79D5-49CC-A38C-7E1F1C0A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74CA-EA5D-455A-B93A-50174FB5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3717-EFE0-430D-95A4-E396B5C7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9996-4CF1-4E9C-B204-F924E78E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2465-AA2E-4D78-A348-A68FE91E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CFA8-10A1-409C-AAD4-9AC7C873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AD01-2931-4E15-9D88-C68D0983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17B-4B3E-4DE0-A3C6-59B2C079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BD80-287F-4958-9C86-FBF0F6CF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D116-D983-497A-A7B0-E9BFC297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AFFE-77A3-47FE-ACD7-DFE9746B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FC3D-9E2A-4B73-A014-48C2A304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1466-5F95-47EA-AD48-4BB69657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1B7-3B41-4988-B5C1-77AC6C69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AFD-6402-49E9-B315-C5927933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F60-55C1-4846-B827-2724284D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47B-32D9-465B-9551-F57C3381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91F-5A20-4B7D-BCD4-70D8F29C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C02-863B-45BD-9B8B-682F6580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364-B010-41F2-8E0F-6E519884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1056-6C57-4007-A0FA-2F1DC87E0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63BD-9854-443E-AA2C-C8F3F5BD2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Related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need to group together related items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s in a p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ps in a 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two distinct fac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size ar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-size collection classe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95D-F374-459D-848A-952675A082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Initializer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9880" y="1828800"/>
            <a:ext cx="74959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suitNames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Spades", "Hearts", "Diamonds", "Club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[] vertices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oint(0,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oint(0,1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oint(1,1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oint(1,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arlyRainfall y2k = new YearlyRainfall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int[]{10,10,8,8,6,4,4,0,4,4,7,10,}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471-EE4E-4F99-8BAD-5813E46EE2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For Loops with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" y="1965240"/>
            <a:ext cx="795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totalRainFall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btain the data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[] monthlyValues = getRainfal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otalRain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Months = monthlyValues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month = 0; month &lt; numMonths; month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Rain += monthlyValues[month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otalRa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A1C-B9A9-408F-82B1-47CD4DCA0A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ng over an Array in Re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920" y="2270160"/>
            <a:ext cx="764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rintInReverse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double[] numbers = getMark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ndex = numbers.length-1; index &gt;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--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umbers[index]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97F-0588-4B2A-8DF5-CA36ED160A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8640" y="1676520"/>
            <a:ext cx="8258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final int numSeats = 15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status of seats in a the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rue means the seat is free, false means occup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boolean[] seatStatus = new boolean[numSea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l seats are free to start wi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 = 0; i &lt; numSeats; i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atStatus[i]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876920"/>
            <a:ext cx="80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initializers are available to initialize static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1CF-9891-4C99-BB04-FD8F23F858F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Method Array Arg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access command line argument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 PrintArguments x y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ing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x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y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z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placed in the main method'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are no arguments, the length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A34-C651-4C10-8396-673CE78DEF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ommand Line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6360" y="2057400"/>
            <a:ext cx="8410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LookupWord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ossaryManager glossary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GlossaryManag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n = 0; n &lt; args.length; n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Looking up "+args[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ossary.definition(args[n]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140-FFAE-4F5B-99E1-A3A1C0D77BB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7720" y="1878120"/>
            <a:ext cx="76485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Make a copy of the Point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Points(Point[] p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p 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Points = p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s = new Point[numPoin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py from p to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arraycopy(p,0,points,0,numPoint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294-6C09-493D-A228-ABD2BA122A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n Unsorted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need to search an array for a particular item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 is often uns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 might or might not be 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 must be taken not to search beyond the end of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decide how to return a found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4D6-B794-4768-A2BF-1FE8FE7316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with Multiple Retu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9120" y="1940040"/>
            <a:ext cx="7800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indexOf(int[] numbers,int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otPresent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ndex = 0; index &lt; numbers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umbers[index] ==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We did not fi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otPres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655-85AE-4640-A01E-D851726822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with a Singl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60480" y="166068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indexOf(int[] numbers,int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otPresent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found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(index &lt; numbers.length) &amp;&amp; !found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umbers[index] ==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und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ound ? index : notPres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367-64B7-4608-88C3-BA6247791E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That Arrays Sol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86320" y="1609560"/>
            <a:ext cx="7587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YearlyRainfal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meanMonthlyRainfall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getJan()+getFeb()+getMar()+getApr()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May()+getJun()+getJul()+getAug()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p()+getOct()+getNov()+getDec())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Month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Ja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Ja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atic final int numMonths = 1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Jan, Feb, Mar, Apr, May, Ju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ul, Aug, Sep, Oct, Nov, D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C68-A3EC-4B4B-B86D-CF527EADB7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rray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static methods for manipulating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arch for a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mpare the contents of two ar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ill an array with a particular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ort the contents of an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AC87-1439-4514-8C61-5CE3DF7106C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of multiple dimensions are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 grid, for a board game such as ch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 cube structur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dimensional arrays are regarded as being arrays of arr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rectangular structures are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804-2F77-47AB-8837-F5569E6B18E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D Array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9120" y="1736640"/>
            <a:ext cx="764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Rows = 10, numCols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[][] matrix = new double[numRows][numCol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[][] grid = new double[numRows]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row = 0; row &lt; grid.length; row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d[row] = new double[numCol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[][] hiddenWord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'd', 'g', 'i', 'b'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'e', 'i', 'u', 'm'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't', 'a', 's', 'a'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A67-3365-44A2-9D18-CC9D9692B8B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Rectangular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17680" y="1940040"/>
            <a:ext cx="612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Rows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[] triangle = new int[numRows]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row = 0; row &lt; numRows; row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angle[row] = new int[row+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[] pascalsTriangle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1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1,1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1,2,1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1,3,3,1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8D6-832C-4813-AD08-B5AC359338A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Contro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efines several further statements that affect a program's flow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witch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eak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inu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s may also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bel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rarely use this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693-87D7-4177-808A-63E5156DDE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itch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ger expression is used to select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se 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labels are integer constant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ault 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vides a no-match o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s mark statements to be executed on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is used to end a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127-5E9E-49BA-94E8-1D162264CB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itch Statemen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6600" y="1600200"/>
            <a:ext cx="82731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menuAction(char choic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(choic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'd'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'i'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e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'h'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lp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Unknown command: "+choic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F81-EDEE-40D6-BEBC-41B051B64F1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k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6720" y="1736640"/>
            <a:ext cx="8562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indexOf(int[] numbers,int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otPresent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found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dex = 0; index &lt; numbers.length; index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umbers[index] ==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und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Leave now - before index is increm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ound ? index : notPres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C85-A82C-49C9-BBE1-3ADFAE5B38E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tinu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4520" y="1523880"/>
            <a:ext cx="7191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kipPrinting(int x, int y, int z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num = 1; num &lt;= 100; num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num % x) =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in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num % y) =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in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num % z) =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in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is one isn't divisible by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AE2D-080B-4428-822F-38A780E5246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ed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may be preceded by a lab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dentifi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s may be the target of break and continue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goto statement in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implifies breaking out of deeply nested lo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eature should be used with ca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102-5237-4B82-9719-B7E26EB96F6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for Primitive-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920" y="1828800"/>
            <a:ext cx="764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YearlyRainfall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xed size of the rainfall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final int numMonths = 1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clare an attribute to hold the month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ainfall fig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[] rainfall = new int [numMonth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960" y="4373640"/>
            <a:ext cx="81252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re bracket notation is distinctive of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int[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62D-9159-47FF-BD5B-8F975EACAB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make it possible to group related items in a singl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ray's length is fixed on constr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may have multiple dim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witch, Break and Continue statements provide further flow control cap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ed statements should be used sparing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B77-A330-42FF-A031-134D6D4B44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fo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2680" y="1828800"/>
            <a:ext cx="8410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ardG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re are four distinct suits in this g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final int numSuits =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n array for the names of the distinct su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ring[] suitNames = new String[numSui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297320"/>
            <a:ext cx="7940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: No String objects are created. Only a container for St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location is initialized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0E5-04C4-435B-9BA1-568E3A63C9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Leng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of an array is fixed on constr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rray object ha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dividual elements of an array are always indexed from zero to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337-2118-412D-BEC7-89D81EC76B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ing an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1736640"/>
            <a:ext cx="749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tore the rainfall figure for Janu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infall[0] = 3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mpare the December and November fig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rainfall[11] &gt; rainfall[10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December was wetter than November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rrect an error of 1 millimeter in March'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ainfall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infall[2]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517-26C4-4042-80A4-E31D6A718F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ors for Array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920" y="1711440"/>
            <a:ext cx="764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YearlyRainfall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turn a reference to the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[] getRainfall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Independent copy not return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rainfa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xed size of the rainfall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final int numMonths = 1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clare an attribute to hold the month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ainfall fig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[] rainfall = new int [numMonth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00B-106B-41F4-9552-9AD038422F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ors for Array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41360" y="1812960"/>
            <a:ext cx="6581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Polyli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lyline(Point[] p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oints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Points(Point[] p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p 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Independent copy not tak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s =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Point[] points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351-6FB1-40B4-A748-3C096ADB52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7600" y="1600200"/>
            <a:ext cx="780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AssignmentMoni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ifferentially weight the assign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[] assignmentWeights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, 2, 1, 5,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final int numAssignments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ignmentWeights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6320" y="4495680"/>
            <a:ext cx="378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ng semicol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 final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B29-E8A6-49BA-ACB4-D0FAEA5B56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9T12:47:07Z</cp:lastPrinted>
  <dcterms:modified xsi:type="dcterms:W3CDTF">2000-01-26T14:45:29Z</dcterms:modified>
  <cp:revision>27</cp:revision>
  <dc:subject/>
  <dc:title>Arrays and Further Control Structures</dc:title>
</cp:coreProperties>
</file>