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AEB-12F3-4CF9-827B-FA43E43D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0B7-A338-491D-A670-D0BB5D98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9B3-BF99-4B7E-8777-90965F75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783-164B-40C7-B305-302033F8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B6DE-4CFA-4E13-B5F9-9FBE1293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A0F9-0477-4DF6-A585-437AA76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9F19-09E3-49CE-A5F3-300FACFB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D156-AE1D-4D7D-9C44-D1304BF4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C694-5EFB-4D16-804D-2C4924A9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06CC-BA78-4851-8A72-09D5ED67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4F02-8E09-4D17-B936-CCED8F47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C03-C9D2-4B87-8A89-3FFBFC27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92B8-D2EF-4750-8E47-5304D48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13E3-7F38-4B2C-A60B-125B716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E3A8-FD35-4C36-B848-1C89C80C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0919-934F-40D6-B80A-55F48B23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EC84-B218-4FEF-AE0A-4B9FD84A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F93-E5EB-44BC-BC41-0829F060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18C-8111-4AAA-920F-5F58A06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F1D-B57E-4211-B257-8C470073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04B-BB92-462D-9006-444F2147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225-46B7-467F-ACF0-53836728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503-5112-4D74-A4E5-6F0839D4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1FE-FC3B-41FC-9144-E5608971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A269-47D2-44FB-9047-28567CAA6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AD8E-156B-4A86-8726-577E904E9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may be grouped into hierarchical named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classes may be used by quoting their fully qualified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.LinkedList list = new java.util.LinkedLis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lly qualified names are rather unwiel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963-A545-4B69-A418-791F9AA743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ingBuff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ing-like objects that are mu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d for building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ut of multiple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ze is dynamic and un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21E-937E-41D7-B1C7-8D1C376A1E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 an Inte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4520" y="17366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ring formatInt(int number,int width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space for the full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ffer formattedIn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Buffer(wid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ppend a string version of th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dInt.append(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How many extra spaces are requi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paces = width-formattedInt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space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dInt.insert(0,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rmattedInt.toStr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D03-BBA3-4D33-B88A-76035802BC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ca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ries and cultures often have their own conventions for information forma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cy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ousands sepa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cimal sepa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ces captured by instances of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36C-9226-422E-BAAB-3C10105799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092320"/>
            <a:ext cx="810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howLocale(Locale lo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Country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Language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Name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loc.getDisplayVarian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ISO3Country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loc.getISO3Langu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600" y="4861080"/>
            <a:ext cx="749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ted States, English, English (United State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A, 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F64-6335-4213-B6A9-63B06EEFBD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mber 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" y="1660680"/>
            <a:ext cx="8105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tex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umberFormat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Format formatt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Format.getNumberInst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setMaximumFractionDigits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uncated PI =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format(Math.P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setMinimumIntegerDigits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uncated PI =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format(Math.P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CC2-8D55-4350-A6EC-168EE0A46E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ate 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9040" y="1828800"/>
            <a:ext cx="786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btain a Date object for the current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 now = new 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Use the default format for the current loc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Format formatter = DateFormat.getDateInstan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Default: "+formatter.format(now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monstrate the FULL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matter = DateFormat.getDateInstance(DateFormat.F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Full: "+formatter.format(now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0200" y="472428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ault: May 1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ll: Friday, May 1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49B-7600-40F3-A9B8-57B9148C32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may be grouped into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may be imported from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ava.lang package provides utility classes,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le-specific information can be used to format numbers, dat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065-2556-4D74-9D70-292153EC21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another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mport java.util.Array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ed class names may be used unqualif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rayList list = new Array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ly the names are imported, not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C11-29FA-4E89-AE49-F3BFA466D7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ating a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2760" y="167652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Mariti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text.NumberForm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util.Observ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4880" y="4343400"/>
            <a:ext cx="725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ault, classes belong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named 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introduce further scope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3FC-3D7E-429E-B34E-B99DFD46FE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Mat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ackage is always implicitly imp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lass consists entirely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s and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never construct a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contains many useful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rig. functions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F37-A405-435A-84E1-7D1F1132F7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ing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defined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tring literal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Identical literals have the same object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method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At, equals, length, startsWith, toLower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8AF-09D9-4D36-A6E5-E74F9175CB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 Compar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ways to compare tw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, equals, equalsIgnore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est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 equ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str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ly g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 e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25C-09B9-4F68-840E-74765A68A1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mmutability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construct new strings out of existing strings, e.g., u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tring objects are immutable, we always obtain a new in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noun = "dog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un += "s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ppend, conc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D4B-355E-4F64-8403-29EC0A8876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s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" y="1752480"/>
            <a:ext cx="825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untSpaces(String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ook for the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 = s.indexOf(' 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xOf returns -1 on fail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index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e found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ook for the next just after the last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 = s.indexOf(' ',index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077-196A-4063-88E1-BEAFFBE029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s from Primitiv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assignment is ille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32; // Forb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it type conversion is comm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""+nu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the static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String.valueOf(nu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BDC-35C3-410F-82FC-77E9F1BED6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2-07T10:24:35Z</dcterms:modified>
  <cp:revision>19</cp:revision>
  <dc:subject/>
  <dc:title>Package and Utility Classes</dc:title>
</cp:coreProperties>
</file>