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B8E-7AD5-47FC-A2F0-74266110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B9B-1E0B-4260-88B6-C5F32F83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17F-17FB-4DF6-831B-1BD3B8FB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04B-619F-4C4B-AB17-64D315C2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D2D2-8283-4B63-A87F-1895EE9F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EA9D-1777-41BD-9468-48BAEA5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F998-3773-44BD-8B42-8D4EE291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B5C4-B6F7-4820-B2FB-50076778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BAD3-1E0B-4186-A894-4E4FA2C2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BEF4-906B-47AE-A8FF-A9B97E6E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7926-327F-4F9C-90AB-81BE3AB6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4F4-1612-4760-9C6B-4B8A1BD9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7CC9-92ED-42AA-AF17-2426362F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DC6F-DBD8-40B8-8BA9-0FFEE977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D56D-1BDF-4320-89ED-354534B1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02B7-0606-4678-ABB3-F2E1F129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99C6-2A59-4EE1-A9FE-A8D5710E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995-0BDB-40F1-AA4B-320CFF14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ACD-A6C6-4352-BF90-0618F4B2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985-EA13-4FC5-9A39-BC9BBA00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D14-93BD-46D3-9DA9-E2107C76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81C-EEF9-4C3B-BC4D-3F9501BC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2CE-1F87-4325-8686-152F048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267-578C-4B58-8AAB-3D274EE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1FE0-CD05-4475-94D0-394AE65EF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1F76-06E6-4414-A52D-41EA4CEA9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inheritance in contrast to interfac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polymorphism in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damental feature of OO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OO languages much of their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acility that supports code re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19B-623D-479E-8F6A-7D8E5B1FBAB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terController Super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65400" y="1676520"/>
            <a:ext cx="444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Heater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switchO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On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switchOff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On(fal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isO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get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CBD-3A80-4023-B101-C63A4C1F55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HeaterContro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1447920"/>
            <a:ext cx="8547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final int DefaultLevel = 16, ..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nt getLevel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getHeater().getTemperatur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setLevel(int level) throw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(MinLevel &lt;= level) &amp;&amp; (level &lt;= MaxLevel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Heater().setTemperature(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RuntimeException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Illegal level setting: "+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277-4641-4919-8EB6-6F15A8AE41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ariableController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9120" y="1704960"/>
            <a:ext cx="80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like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eaterControll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7600" y="2955960"/>
            <a:ext cx="795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ariableController v = new VariableControll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rm up the 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.switch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v.getLevel() == v.MinLeve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.setLevel(v.DefaultLeve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he room is warm enough - switch the heater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.switchOf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DA2-A459-4A73-B99C-86CD1A8EEA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 class object may be used anywhere that an object of its super class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his with interfaces and their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E83-8A7E-4D30-84BE-E0324A8476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-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/super class often characterized in this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ater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ship is on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necessarily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E87-D25E-4E1F-8C9D-84F40D392E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A versus Has-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linguistic con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sponsible for inappropriate class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CData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Li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CData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vel at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ater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90C-F155-4182-A6D9-9CDF03FAA3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in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ppropriat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casts and Upca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 for Speci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Similarity of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 Initialization and Super Class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E3B-5383-46CA-9731-1A61CFF23E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ppropriate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240" y="1635120"/>
            <a:ext cx="7191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ort java.util.Rand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Inappropriate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Die extends Rando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turn an integer in the range 1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ro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range = 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Use the inherited nextInt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1+nextInt(ran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600" y="5135400"/>
            <a:ext cx="77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ava.util.Stack extends java.util.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026-E963-431E-9DF3-E8BB0BEB51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per Di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8120" y="1558800"/>
            <a:ext cx="7191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ort java.util.Rand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Di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turn an integer in the range 1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ro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range = 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1+getRand().nextInt(ran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tected Random getRand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ra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Random rand = new Rando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72B-91BA-4050-9ADC-D42AE8529A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may extend only a singl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may implement multiple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extending a singl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may extend multiple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 ParentTeacher extends Parent, Tea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F9E-05F5-427F-B996-636F4ED98E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within a problem domain are often closely 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 is often hierarch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parent - Parent -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 - Child/Child (sibling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go Ship, Passenger Ship, Ferry, Dingh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FF7-BD02-48B6-86CC-49CAECB1D7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wncasts and Upc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182880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terminology relates to the inheritance hierarchy: up or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360" y="3260880"/>
            <a:ext cx="8321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Explicit downcas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Downcast: Object -&gt;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s = (String) iterator.n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Implicit up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ariableController v = new VariableController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Upcast: HC &lt;- V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eaterController h =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FE5-47E9-404A-B9AB-030E473B14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for Spec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es are often more specialized versions of their sup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io.LineNumber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permarket'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llable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extended to add a sell-by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PerishableItem extends Sellable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has everything (and mor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C13-FD49-470D-9283-D3635A1C1C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LoanI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3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84160" y="1889280"/>
            <a:ext cx="749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LoanIte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getTitle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it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getAccessionNumb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accession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 title, accession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9DF-3E84-4925-8EC0-EC9A6C84736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Boo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ub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7080" y="2575080"/>
            <a:ext cx="551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Book extends LoanIte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getNumPages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umPag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llow for multiple auth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[] autho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int numPag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6840" y="1706400"/>
            <a:ext cx="63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of authors and length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BB4-A245-4FDE-8A3C-D1C190BA6AE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MusicC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ub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3840" y="163044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of artists and track numbers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7080" y="2514600"/>
            <a:ext cx="551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usicCD extends LoanIte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getNumTracks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umTrack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llow for multiple ar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[] arti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int numTrack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F55-2881-402A-8CA7-368D847FC43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Simi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usic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similar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't be tempted to meld them into a singl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changes difficult to include sensib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 playing time, for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al similarity more 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B2C-747F-49A6-A4D7-ED2EBC25C3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 Class Init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er class elements of a sub class object must be properly initial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/off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 class elements initialized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 class constructor selection is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 passing must be arr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347-7250-4E8F-9433-E8AD128908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 Class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9000" y="1295280"/>
            <a:ext cx="8257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Bookmark implements Serializ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kmark(String url,String titl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s.url = ur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Title(tit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nnotatedBookmark extends Bookmark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nnotatedBookmark(String url,String tit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descrip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per(url,tit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Description(descrip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B44-4DA5-4E40-B902-2CB0F784F82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 Class Construc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called as first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-arg super class constructor called by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error if the super class does not have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las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y constructor have a default no-arg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791-FF39-4126-8211-0CDE8F3D3B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No-Arg 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600" y="1676520"/>
            <a:ext cx="841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ariableController(int initialLevel) throws ...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tLevel(initial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Implicit extension of Object super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HeaterController extends 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Default (implicit) no-arg constru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Controller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(Implic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025-4E4D-4655-9DCD-7E9662C8CB0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each new class from scr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'do-it-all'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'type' field to select behavi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agg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148-7711-4A64-A512-CB91635EAB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Exception Sub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vial sub class implemen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functionality often not 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onstructors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provide more detailed typing for exception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853-42AB-403C-8916-27898767CB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HeaterLevel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" y="1932120"/>
            <a:ext cx="786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HeaterLevelException extend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LevelException(String messag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Pass on the error message to the super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messa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LevelExcepti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A2D-05FB-4C28-ABD5-6C881C557B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ing Sub Class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9240" y="3243240"/>
            <a:ext cx="854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setLevel(int level) throws HeaterLevel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(level &lt; MinLevel) || (level &gt; MaxLevel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HeaterLevelException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Illegal level setting: "+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040" y="1905120"/>
            <a:ext cx="832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-defined exception class instances are thrown and caught in the usual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3F5-F1D5-4EF6-A1CB-F50E8702879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Contro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 means we need to revisit issues of access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rights does a sub class have over its super class memb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in one package might extend classes defined elsew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2F2-1762-47F1-84A0-EE57B715F2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Control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ess is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ess is class on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es have no r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access is whole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ess is package plus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A52-97B8-4FC9-A51F-1C973A275AA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85320" y="76320"/>
            <a:ext cx="45698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generatio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Grandpar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int getTop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o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setTop(int t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op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vate int to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Parent extends Grandpar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int getMiddle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tected void setMiddle(int m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iddle = 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vate int mid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012-D478-423F-894A-9E8A9A255034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ltimate super class of all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default versions of common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, toString, getClass, hash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l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265-0595-48AB-B7B9-8D817C9C83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Object Behav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ference e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class@hashCode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for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 compu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sh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n identical c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A78-BBB8-4A7C-BDA5-D0A014966CF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560" y="3260880"/>
            <a:ext cx="734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Obje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toString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getClass().getName()+"@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ger.toHexString(hashCod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640" y="17524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d, by default, in contexts requiring a String in place of an object re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C53-5E14-42B1-AB1C-4FF4A941E1C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specializations often need to modify super class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ault behavio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mimics reference equality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creat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allow 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ep 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9DB-C676-4A8B-A0FA-7B4B089BDE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ly a lot of du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guarantees that an object will not be used inappropria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 out inappropriate use is potentially tr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36B-D265-46DD-9FD9-A47984DEC3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51120" y="457200"/>
            <a:ext cx="74959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Poi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ring toString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"("+getX()+","+getY()+"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boolean equals(Object o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(o == this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 if(o == null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 if(o instanceof Point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 p = (Point) 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getX() == p.getX() &amp;&amp; getY() == p.get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DB0-95DF-4B05-AF11-6656BCB2AF1F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on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ype and arguments must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version must not be less vi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regarded in matching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exceptions in sub class must be compatible with those in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version may throw n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D43-0C11-4745-AB63-4FB7147BE71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always arrive at the outermost layer for non-privat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ermost matching method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s generate efficient code to handle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ner version may be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202-8698-490E-95F2-F84B0E8851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the Super Class Version of a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6200" y="2346480"/>
            <a:ext cx="719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method(int arg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Invoke the closest super class ver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per.method(ar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7CB-FE09-4637-B764-B7C504840EE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ge of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from usage of super in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used from anywhere within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ossible to select the nearest version from an inner 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538-F323-468A-B829-C96E471E782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tions on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den method may not b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signatures must have identical name, return type, argument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gument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version may be more vi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version's exceptions must be a subset of those thrown by super clas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0EE-4D26-4257-9B3E-2A8E23DF071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yles of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ing for Brea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version adds its own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ing for Ch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 class version called if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ing for Restri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of super class version modif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650-9056-4DED-803E-B213DA97896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for Bread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4440" y="1808280"/>
            <a:ext cx="8273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int DefaultLevel = 16, ..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switchOn() throw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!isOn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tLevel(Default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HeaterLevel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RuntimeException(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.switch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7AC-0AB7-409A-899D-EC451EA7CFE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for Ch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" y="1447920"/>
            <a:ext cx="7953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yCommandProcessor extends CommandProcess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process(String command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command.equals(myCommand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keAc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e were able to resp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uper.process(comman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he command I know how to respond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 myCommand = "...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1B4-AEA6-41AE-B526-8507682C17FC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for Rest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9960" y="150336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ChessPie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validMove(Move m, Board b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m.getFrom().equals(m.getTo(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hessPiece target = b.getPieceAt(m.getTo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target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 if(target.getColor() == getColor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1F5-2EAE-4580-AFFF-0310A0D719E0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Ta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9520" y="1447920"/>
            <a:ext cx="772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a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Possible types of bo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int CargoShip = 0, PassengerShip = 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erry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at(int typ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.type = 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loadCargo(Cargo c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getType() != PassengerShip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968-C3F6-40C5-9277-67BF3D2F45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53000" y="762120"/>
            <a:ext cx="6901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Rook extends ChessPie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Rook(int color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co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validMove(Move m,Board board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!super.validMove(m,boar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m.colDistance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board.clearPath(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 if(m.rowDistance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board.clearPath(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878-D903-4DE9-8B52-A88BD07E5523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 Class Behavior and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overridden in a sub class will be invoked from within the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excep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static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duplicated in a sub class are not accessed from within the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through methods overridden in the sub class, such as accessors and mut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CBB-F959-42FF-9D90-8CE2E78429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lasses 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defined 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 sub cla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final class String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done to protect complex internal state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defined 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not be overrid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C7B-5063-4E3B-9544-28BAE17F099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re promising altern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behavior defined in delegat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st classes relay common-behavior messages to a delegat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sts define their own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the I/O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5F1-7894-49E3-9619-1F2A4C7D78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12760" y="365040"/>
            <a:ext cx="5667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argoShip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argoShip(String nam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hip = new Ship(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setCourse(double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Ship().setCourse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loadCargo(Cargo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ddCargo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Ship getShip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h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hip sh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97D-818A-4624-9F07-6CE6878F398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elements in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ive elements in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uplicate method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havior from sup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aware of their own type without the need for tag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B6D-EAA0-46B0-87E3-2A24A48154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ety of heating control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(shared) functi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r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functi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se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/off time peri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y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2EB-7CDC-4027-A91A-11B27C332D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6T17:38:23Z</cp:lastPrinted>
  <dcterms:modified xsi:type="dcterms:W3CDTF">2000-03-14T14:29:12Z</dcterms:modified>
  <cp:revision>24</cp:revision>
  <dc:subject/>
  <dc:title>Class Inheritance</dc:title>
</cp:coreProperties>
</file>