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BFD-0DFD-4A8C-9620-179DF380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CA6-8B3F-46BE-983A-FF04D4AB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8FF-AC50-4125-9B7C-3B9B104F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619-3161-4249-90E4-D32476BB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9145-85B2-4280-8D82-752981D9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A8DC-8227-4F24-9F1E-EFE2B76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448-FA01-44FD-860C-E4674DE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BF77-DC9D-42B6-8672-E1927D0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4AEA-2EEC-4DB9-8707-1E0A2E8D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7400-A1EB-414F-9F82-B054938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345D-4FB2-444F-954B-BBF7EEC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B1F-8901-4FA2-BC7D-EC0A24F4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A7E-F44A-4F6B-8826-C4BC2E8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177-00E2-468E-AE59-25A46DD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A89-5C2D-494D-B408-634FD53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E6EF-94DB-493F-A67A-E9B42FEA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CECF-325B-475A-8DBC-CC2707F9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8EC-4C8D-4013-AEB6-4C9596AA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3E6-82F9-4BB0-8E0E-B58D69A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36E-7A73-4D3B-BF0B-45D49AC7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DCD-45AB-4AD0-9C10-0F8576D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5DE-2337-4E3F-B5DF-0183C09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8C4-DB54-4A1F-A088-12E074F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1DF-2AE3-4B2F-ACA4-21EBD18F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88C-E2C0-4587-8CBE-8F8D0502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8CBD-18FA-45A6-99BD-D6C7D7DD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and 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wi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nested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D9F-4811-4B6B-B34E-6F2517194B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ing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ention might b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nique attribute - database lock or open file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ufficient to omit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 classes might implemen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hould throw an exce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715-CF9C-483F-B7FB-8E22A89D11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clon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360" y="1828800"/>
            <a:ext cx="8562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t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ly prevent sub class cl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CloneNotSupported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CloneNotSupportedException("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16A-F76E-4F85-A16C-51D44C7D7E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Nested Classes (aka Nested Top-Level Classes!?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h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w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F8D-9A99-462B-A2C7-43720DA18E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36840" y="633240"/>
            <a:ext cx="795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Class constants for basic temper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inLevel = 5, MaxLevel 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n illegal temperature level has been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class HeaterLevel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The attached heater's current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DF6-5450-4617-8670-5F0F84C13AA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Nested Class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 has a qualified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.HeaterLevel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.class file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$HeaterLevelException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name used outside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VariableController.HeaterLevel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333-A617-4E21-A087-799C5E3BAD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tatic neste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nly exist within the context of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losing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have static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ccess private members of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1E9-8399-4F87-B07D-62D22DCF48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fulfill distinct roles in suppor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ordinate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mon in supporting GU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B36-A71E-43DC-B023-1695512787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ordinate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break up a 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subordinate sub-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logging a ship's mov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enclosing class less clut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8F3-8920-4329-9E46-8947EAA0C3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9600" y="209520"/>
            <a:ext cx="7998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LoggingShip extends SimpleShip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mov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ger().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ShipLo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void 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osition p = new Position(getX(),getY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().add(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positionLo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LinkedList positionLog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ShipLog logger = new Ship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6CF-B812-4A60-A51E-6E0F1734218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ng an object’s data to outsid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ly of the internal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a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llection of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14E-B7EB-4ED8-94DB-2B016BE848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not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methods: just a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in interfac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no meaningful exis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elements used by defining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5E5-1E55-4DC3-AF6D-9EFC5FF50D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960" y="388800"/>
            <a:ext cx="7861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dd(double 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Numbers().add(new Double(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get(int index) th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dexOutOfBounds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ouble d = (Double) getNumbers().get(ind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d.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numItem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Numbers().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Number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umb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LinkedList numbers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1C8-0A08-4472-B86D-C7168CB5F7D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8760" y="190440"/>
            <a:ext cx="822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getPositive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Positi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Positi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xtPosition() &gt;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 throws NoSuchElement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nextPosi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 &gt;= 0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bject o = getNumbers().ge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Index(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138-D72C-4A1C-8E4B-A9CE7CB689F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ted within any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only be created from within that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visibility modifier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access the method’s final variables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3C8-1744-4DFB-A9EB-52A23846A0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5960" y="511200"/>
            <a:ext cx="731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bo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int nextPosi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getInde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howMany = numItem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i &lt; howMan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(i) &gt;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Abo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4EA-D0B7-4C7B-B3E2-4D3010F11C9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classes often do not require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implement an interface or extend a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finition and creation are closely lin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6FD-2097-4806-8D93-984A91C6F2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99640" y="1076400"/>
            <a:ext cx="731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Iterato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4C4-2109-4934-B9CC-31555F783D4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 in GU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2280" y="1609560"/>
            <a:ext cx="717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Picture extends J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ainer contents = getContentPa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dd a button to quit th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Button quit = new JButton("Qui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t.addActionListener(new ActionListen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ctionPerformed(Action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ents.add(quit,"South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223-9242-44AB-95E0-F65EC54A13C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1523880"/>
            <a:ext cx="786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Out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Midd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nd 'Outer.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nermo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, 'Middle.this' and 'Outer.thi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nermost i = new Innermo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Middle m = new Midd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2A7-5E9A-454D-BA93-3C465A49CE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re incomplete and must be sub classed to b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offer an alternative to interfaces where partial implementation is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implement cloning by implement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454-0960-4666-ADB8-8AB1299FC7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 may be static nested classes or inn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 instances always exist within the contex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have access to the private members of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are useful for fulfilling a range of roles within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069-0655-4D42-BF16-D6D0766383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tract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404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class Number implements Serializ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int 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long long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double 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float floa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yte byte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hort short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7A5-865E-46DA-8C98-289659A71B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common interface for multiple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implementations v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 classes, depends on type of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AA6-3B78-445D-A701-A529AEE9F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680" y="190512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Double extends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(double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value =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probably involves loss of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float floatValu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float) double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lue being wrap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double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6CD-A53D-4F27-8E8F-4844BE4220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instantiations have no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ssPie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er cla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n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provide additional or overriding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255-8B30-4795-A454-5279A5DEA3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 or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methods are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do not have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void the need to define duplicat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ing an abstract class prevents extension of a second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74F-75A6-455F-A3C9-58BEB70C8A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classes inherit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urns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often pref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(empty)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ace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D4A-9FEA-42EE-8D90-F3E663811A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Cloneable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175248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oint implements 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 shallow co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clo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(CloneNotSupported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is should never hap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Error("Cloning error: "+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600-4E24-4799-A142-76B93C4531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12:56:15Z</cp:lastPrinted>
  <dcterms:modified xsi:type="dcterms:W3CDTF">1999-10-09T09:08:40Z</dcterms:modified>
  <cp:revision>19</cp:revision>
  <dc:subject/>
  <dc:title>Abstract and Nested Classes</dc:title>
</cp:coreProperties>
</file>