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27DC-7E29-4274-9E92-E52827F7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48B0-EE30-4365-953B-F53108D6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84C1-BB6A-4351-9B21-D89CE04A0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3275-40FD-4B2D-A272-D70093B81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DBBE-97A7-4A92-AC48-BB0AE30F4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6470-E035-4D7E-88A4-37590778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84FB-B9D9-43CE-B2D5-FECA29BA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037E-2128-4DA0-9A16-DCC8C1E2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B383-C686-49C4-A3C5-E6C7770B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8A17-A28D-4B1F-A8C4-A9C5BC7C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ADD0-074C-426A-BE52-931012F0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46C9-196E-475B-9C2C-76887637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96ED-34AB-438E-BD69-CEE967C4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E508-E955-4F54-9FF4-5779603C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0EFF-9FF4-479D-B76E-505A0F13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9DB6-C1CA-4D92-B1F3-647AE5686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B979-5438-4154-95EC-0894A8F1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26B2-E865-4983-9145-13101046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AF2D-BD9A-441D-82E5-9052B86E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CA58-47B3-46F4-A4C0-B5BD6D1E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D63A-850F-40B7-BF8E-0F2AD462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F314-9DF6-4299-AC39-5CC09D5C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04E8-3310-4C4C-AB68-8A5E8CDD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9840-0CC3-4ED5-BADE-4871E8B7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DF44-CB46-4034-B9C8-9E554EFF7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49E7-DFC4-4F9A-8C52-6019F5278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petition of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etition of statements is a further common facet of everyday life and object behavi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peat every day: Get up; have breakfast; go off to work; have lunch; do more work; have an evening meal; relax; go to b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ava has three types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oo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repet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while, do, fo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1EF0-4641-401C-81E3-84FABA01D3B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crement and Decr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as a shorthand for add-one-to and subtract-one-fr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 = value+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 +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++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ix and postfix for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+val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-val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--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3A62-757D-45C6-85C9-47846E9FBDA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 For Loop to Print a 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9120" y="1940040"/>
            <a:ext cx="8105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printNumbers(int maximum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nextToPrint = 1; nextToPrint &lt;= maximu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ToPrint++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nextToPrint+"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3440" y="4479840"/>
            <a:ext cx="7237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e loop variable declara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 sit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ble is not available outside the lo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268D-9768-409B-AE51-7FB3EE5B9D3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tional Header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expressions in a for loop's header are opt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ission of the middle expression (the condition) creates a potentially infinite lo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wo outer expressions do not have to be explicitly concerned with loop con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usually are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377F-A91F-464F-937F-9744210E1C4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Loop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41720" y="2117880"/>
            <a:ext cx="4142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ountdow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 ; n &gt;= 0; n--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Print fore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n = 0; ; n++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59B9-67BB-4BDA-9042-FAC87B499A0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Comma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6200" y="1649520"/>
            <a:ext cx="734328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Use isPrime to count the number of pr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numbers from 2 to ma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 countPrimes(int max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umPrimes, possib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numPrimes = 0, possible =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sible &lt;=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sible++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isPrime(possible)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Primes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numPrim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C0BB-27CF-4F82-BCFA-21151482F5A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de Blocks and 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bodies of control structures define a further scope lev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ass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hod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trol structure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ariables may be defined within e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ope of a variable is limited to its defining blo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703A-EAD6-4F8B-9D6C-D2CF934A65D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ized Definition and 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65400" y="1828800"/>
            <a:ext cx="61243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,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tatements using x and 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x &gt; y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wap the values held in x and 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Hold onto the value of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temp =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opy y's value into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opy into y the old value of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4DEF-09B5-40AF-AEE6-016160725D4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al Variables and Arg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odifier may be used to indicate a constant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inal int DOZEN = 12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inal double NUMDEGREES = 360.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ppercase names commonly used for special 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rmal naming used simply for optimiz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BC45-5931-4A79-B00A-60D1F450887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ields and Constru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inal field must be initializ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its declaration,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all of its class's construc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an initializer blo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a method without a bo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uninitialized final field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lank final vari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85D0-F457-49B9-AE7D-5FEBAAF0FB4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tic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nly available as fields of a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hod variables cannot be stat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monly used to provide global access to constant values of significa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ublic static final int Jan = 1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c variables exist independently of in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stances share the same static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A5BB-D500-49B6-8F0E-0E9E0EEEFFD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While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3429000"/>
            <a:ext cx="6858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condition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Repeat multiple stat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16765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led by a Boolean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ware of its (syntactic) similarity to the simple if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6CFF-8E5F-40B7-BD79-8B51D231D57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tic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so known a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lass method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c methods are invoked through the name of their containing cla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ouble rand = Math.random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static method may not access non static members of its containing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ic methods exist independently of in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D846-41C7-455A-A5B6-25D8FDCF2D6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ava's three loops provide for different styles of repet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loops often used for bounded repet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ditional and loop statement bodies introduce a further level of sco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ariables may be defined within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c variables and methods exist independently from any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8DCD-294C-4DF7-9EA1-641F1B5C475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ng Salt to S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8520" y="2133720"/>
            <a:ext cx="734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altTheSoup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there isn't enough salt in the soup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a pinch of sa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36720" y="4224240"/>
            <a:ext cx="736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at the number of pinches added is arbitrary and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575D-70D4-4051-A69C-1FD2F26FFD7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ting a 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4440" y="1954080"/>
            <a:ext cx="719136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Print the numbers 1 to maxim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printNumbers(int maximum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extToPrint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nextToPrint &lt;= maximum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nextToPrint+"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Get ready to print the next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ToPrint +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0450-CED5-4F3D-9FCD-F5BF7F51549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ing Input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9120" y="1940040"/>
            <a:ext cx="7953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Input keyboard = new SimpleInpu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rChartMinder minder = new BarChartMinder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BarChart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terminatingValue = -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Please input the values, use "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rminatingValue+" to finish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value = keyboard.next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value != terminatingValu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nder.addToChart(val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 = keyboard.next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24DC-B026-436F-8714-B660262639E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Do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6200" y="1736640"/>
            <a:ext cx="5362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Repeat multiple stat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(conditio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4160880"/>
            <a:ext cx="755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at the statements in the body of the loop are always executed at least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e final semicolon, which is requ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C668-C5F5-41A9-844B-D795E0CACC5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ting a 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36440" y="1905120"/>
            <a:ext cx="7191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printNumbers(int maximum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extToPrint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nextToPrint+"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Get ready to print the next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ToPrint +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nextToPrint &lt;= maxim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2173-D5A7-4D4A-82CE-C9A9394552F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For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repeat statements a fixed number of ti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ree teaspoons of sug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ck twice and then give the pass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very often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lle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objects - see later chap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in effect to the while lo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2235-A547-4E1E-903F-2AF0A9D28B6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r-Loop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2057400"/>
            <a:ext cx="7648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Repeat multiple stat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itialization; condition; post-body updat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tatements to be repe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1360" y="4537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4743360"/>
            <a:ext cx="816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ly used with increment and decrement opera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F15A-A3B7-4237-A8F8-14BA8D8626B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cp:lastPrinted>1999-09-27T15:14:59Z</cp:lastPrinted>
  <dcterms:modified xsi:type="dcterms:W3CDTF">2000-01-18T16:31:02Z</dcterms:modified>
  <cp:revision>21</cp:revision>
  <dc:subject/>
  <dc:title>Adding Repetitive Behavior</dc:title>
</cp:coreProperties>
</file>