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5A6BA-CA19-46AD-AE4F-EDB67EB1C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28C9C-9C7E-45A3-8354-89B03A112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4E164-B78F-41B6-90E7-4D42936DA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9BBC6-3F97-48E7-B260-5906B0698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E7C4E-1FBE-4813-893F-3290F5554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2D2DD-41FB-4262-A449-379F330BB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A3E72-9E6A-49CC-A47E-823DB975D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E13E1-DD0B-47C4-9AE9-48DD06221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31CD3-6223-4E53-9860-8D1CBA918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73C01-A235-41C5-AD67-8AD84C571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CDCA5-67A0-47F7-AE04-3E9E00254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D1456-2029-47E8-B6E9-985187EDE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2F27E-D248-4ED5-9428-CCD8ED2D4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B8ECD-7637-445D-BBF7-6C33DF26C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FCE51-EC55-4B43-AB5A-24CA183F7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D14BB-F384-4762-B1F2-92C160BDD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0D67A-683D-4452-AFF7-CFA7F8015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20E36-48B8-4751-881B-FCEDD4E8C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1A5D1-A2B1-49AE-B9C0-7646C131C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3C294-3CF9-4B47-ABBE-227004BF8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6C512-1A65-4032-8033-EC7CC351C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3FF20-20D1-4DE0-B429-262B46112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F8368-709E-432E-BC41-6634B603D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850C2-C026-4E1D-9C98-631075831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970FA-F46C-4C6E-9C06-4323C30561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OOP with Jav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its, Bytes, and Jav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03918-0459-49C8-A61D-96AD1C1218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Why So Much for So Littl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e want to use computers to solve complex task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mplex problems require powerful programming languag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owerful programming languages have more rules than simpler languag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reating and Using Objec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3CA0D-4D96-4CC0-9844-D221E529C1E3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oving a Shi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265400" y="2209680"/>
            <a:ext cx="6733800" cy="28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/ An illustration of ship mov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lass ShipMain3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static void main(String[] args)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hip argo = new Ship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/ Ask the ship to mov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rgo.move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reating and Using Objec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91226-7680-4279-AA85-B00449346863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assing Arguments with Messa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repor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ov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essages convey implicit inform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hip uses its own internal state to respon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 messages need to be accompanied by further explicit inform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nge course to ..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duce speed to ..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reating and Using Objec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A99DA-CAD5-4EAB-A2B4-F509F12093CA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ssing Argu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189080" y="1828800"/>
            <a:ext cx="688644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lass ShipMain4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static void main(String[] args)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hip argo = new Ship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rgo.report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rgo.move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/ Ask it to change course, move 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/ report its new setting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rgo.setCourse(90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rgo.move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rgo.report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reating and Using Objec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88925-C5E7-42B7-937A-E3E04371330B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ceiving Repl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uman communication often requires a repl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is the time?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e there any free berths in the port?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is the square-root of 2?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milarly, we can request information from a Ship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often store the answer somewhe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reating and Using Objec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C567A-0184-4C70-B9F3-02DF58FD6EE8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questing a Ship’s Spe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76680" y="1600200"/>
            <a:ext cx="7038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lass ShipMain5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 static void main(String[] args)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hip argo = new Ship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rgo.report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// Define a variable to hold the spe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ouble currentSpeed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// Ask the ship what its current speed i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urrentSpeed = argo.getSpeed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// Increase the ship's spe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rgo.setSpeed(currentSpeed+1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rgo.mov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rgo.report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reating and Using Objec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8D6B1-5802-46F8-A7B2-DEA250523266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Variables and Objec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ables and objects are differ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variable may refer to a single objec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fferent variables may refer to the same object -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lias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variable may be switched from one object to anoth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variable may b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ninitialize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reating and Using Objec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3E2B0-7BCD-4B58-B1FB-484E36061FE0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he Main Method's Cla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e choose never to create an object of the main method’s clas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approach is not followed by many other authoriti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e main method is a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static metho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tatic methods have special properties that we shall explore in due cour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reating and Using Objec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953B8-A00C-4B67-93E5-E25B5AE6437E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-O problem solving involves identifying classes, objects and object interact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bjects maintain state and exhibit class-defined behavi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nstances of the same class behave in similar way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essage passing illustrates object interac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reating and Using Objec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D4493-D857-4D15-9114-1E5F65A33139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view (cont.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ssages may contain additional information: in the form of argume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result may be returned as the result of a messa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ables and objects are distinc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riables switch between different objec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object may be simultaneously referred to by different variab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reating and Using Objec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178C8-C2A6-4D3D-B904-667E90251889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What are Object-Oriented Language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upport an O-O view of problem solv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bjects categorized into class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bjects interact with each oth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bjects have behavio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bjects maintain sta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Behavior and state are intimately relat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oftware reuse is facilitat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reating and Using Objec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BD3A2-98A8-45CC-9F84-05A5EBF74ED4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deling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the Operation of a Por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lasses and objects in the scenari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por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hips moving in and ou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argo and associated transport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assengers, vehicles, car park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ustoms officers, pilo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spects of the natural environm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reating and Using Objec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FCFD5-84F8-4413-B9D5-FC795CEB701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ractions in the Por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fer of cargo between ship and doc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ssengers embarking and disembark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pilot joining or leaving a ship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ship requesting permission to ent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weather affecting ship moveme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reating and Using Objec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F4FF3-0D38-4C63-849F-24AD6C20165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lasses and Objec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 class definition provides a description of a typical object within that clas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CargoShip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PassengerFerry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n individual object is an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instan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of a clas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efinition of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behavior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attribut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attributes store an object’s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state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reating and Using Objec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C67FC-016D-4D9F-84D7-7CB0365777D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ass and Instan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Lin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ight capture the common characteristics of ocean lin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MS Titani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MS Olympi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ight be two instances of that clas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ass definition is like a blueprint or templa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lor, size, pattern might vary, but instances of the same class come from the same mol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reating and Using Objec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FC697-DC57-4113-A5A3-E57CA241A8F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reating an Obje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960480" y="2030400"/>
            <a:ext cx="7343640" cy="35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/ An illustration of object cre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lass ShipMain1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static void main(String[] args)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/ Define a method variable to refer 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/ a Ship objec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hip argo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/ Construct a new Ship objec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rgo = new Ship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reating and Using Objec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E65B2-AC56-47B4-873D-9ABE585C5EBF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Object Interaction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cation between peo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ormation: “I am going to a party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estion: “What is the time?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der/Request: “Please buy me some gum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jects communicate in similar way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ssing messages to each oth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or/Agent, Client/Server relationship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reating and Using Objec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BCF1D-4A82-4322-9C8E-6A0B433A4231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ending a Message to a Shi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960480" y="2030400"/>
            <a:ext cx="7343640" cy="381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/ An illustration of message send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lass ShipMain2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static void main(String[] args)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/ Define a method variab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/ Make it refer to a new Ship objec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hip argo = new Ship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/ Ask the ship to report its position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/ course and spe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rgo.report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reating and Using Objec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BE32A-9501-442E-AA50-C790931AA28D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7T11:23:09Z</dcterms:created>
  <dc:creator>David J. Barnes</dc:creator>
  <dc:description/>
  <dc:language>en-US</dc:language>
  <cp:lastModifiedBy>David J. Barnes</cp:lastModifiedBy>
  <cp:lastPrinted>1999-09-21T15:06:56Z</cp:lastPrinted>
  <dcterms:modified xsi:type="dcterms:W3CDTF">1999-10-09T09:09:30Z</dcterms:modified>
  <cp:revision>11</cp:revision>
  <dc:subject/>
  <dc:title>Creating and Using Objects</dc:title>
</cp:coreProperties>
</file>