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A738-82D8-4C11-A2A9-9124B410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1134-55BB-4859-ACA6-EC49C3A9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F443-2151-4614-BC49-CD9D6BF1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100A-04A2-4954-84A7-849EB876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C1FD-85BA-4B6D-B280-EB9D3168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1C7F-CADF-4F12-88DC-51B3F1EF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B0E3-7CCB-4036-AEF2-17D92DC5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9754-793D-4EEA-9753-1E175555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9A25-1EED-491D-AE62-A786BA0C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9519-38B5-4EB6-9801-5358469B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B207-9AC6-487D-9487-004EEA7D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8CE2-7230-431E-B8A6-01F2B477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F858-AD5A-4CE1-8AC0-6DCBF583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2AB7-EE63-4A1F-9103-95A5A0E7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75D0-9EF0-42DF-9C87-00C8DF8C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040D-B8F6-4B54-A3D1-E9EBC10E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9534-D2A8-471F-9DF0-A1FE27D3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AE85-68B2-443F-B645-7AAD4B6B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E7D2-5A0C-4FC0-ACD6-30099B71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CA6C-1FAC-4FDD-9060-634DED3E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975D-4B78-4BDA-AB77-D4E76AD0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117A-7B19-475B-AB3D-D07FB089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ED81-2D5A-42A9-B202-13EDC41E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9569-B333-4BE8-865F-1B5B2B0F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EBB7-FE99-4135-BA53-6B3206D91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BA05-D652-40BB-8E17-CAC4A4E29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ing programs well is a challe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ftware engine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ant programs to solve ever more complex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elps to bridge the gap between a problem and its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EE30-9147-4F48-B9D7-155EB4570BF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 Level Programming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PU instruction sets are low-level programming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level programming languages represent attempts to make writing programs eas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gol, BASIC, C, C++, COBOL, FORTRAN, Java, Pascal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748F-569D-49C9-8EC5-0FD9A62261E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’s Ance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a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reimplementation of C++ in the early 1990s by James Gos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nded for intelligent consumer de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ak became Java in 199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ability and Security of primary conce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inently suitable for We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 powerful language in its own r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82EC-8F37-4181-B2AA-3EA349CAADE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-level languages provi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a typ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rol structur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igh-level language program must be translated into low-level instru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i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 a program’s port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ed versions may differ in subtle ways on different mach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40E9-B288-4883-B88A-929BB774818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's Approach to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implementation on different machines is rigidly def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defined to be run o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irtual mach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JVM is an imaginary CPU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yte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tru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programs are translated to bytecodes by the Java compi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ed programs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pre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E4CE-48F9-4FC4-9380-5489664ED8A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ngle bit has a value of either 0 or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yte is 8 b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PU repeats the fetch-execute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PU has its own instruction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-level languages must be transl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programs are translated into bytecodes for a Java Virtual Mach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285F-C097-4BFB-9479-82183C2DD21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imple Model of a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 Processing Unit (CPU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Access Memory (RA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 drives, keyboard, mouse, printer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-and-Feel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 mana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1F5C-9F44-482F-8C03-C375D49A023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 -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ry Dig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 value of either 0 or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ariety of hardware represen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tage, light level, magnetic field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undamental building block for model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59DE-0760-4EF2-B624-899F6A02D7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Bits to Model Real-Life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s allow us to model real-world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bits model four door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bits model eight col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t values represent impossible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(models) should not enter impossible or inconsistent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2239-9AF0-4CDF-A65D-D1DCB37445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 bits is known as a by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byte can represent 256 different patter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 and software often deal with bytes rather than single b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4 Megabytes of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Gigabytes of d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byte data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23B9-744C-401B-9688-0D9C860770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Powers of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24 (Ki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5,536 (2 by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48,576 (Meg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,073,741,824 (Gig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,099,511,627,776 (Te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D8B3-7327-4874-A1AB-2E56F7D81D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entral Processing U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utational heart of a comp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PU obeys its ow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ruction 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 instructions are usually sim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s often only run on a CPU with a particular instruction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programs are no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r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11E5-8686-462D-9E00-96C001C582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etch-Execu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lessly repeated by the CP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tch the next instr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 the instruction just fe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structions are fetched from the computer’s fast-access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 coun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dentifies the next instru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incremented between each ste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D3E3-74A2-4612-82BC-A032A11D41A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ipping and Repeating 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etch-execute cycle will perform an infinite linear sequence of instru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often want to repeat some instru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often want to skip some instru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ranch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chieved by modifying the program counter’s cont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lters which instruction is fetched n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35DC-B3CF-4AFC-8828-3E13E0A6D8F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cp:lastPrinted>1999-09-20T09:07:15Z</cp:lastPrinted>
  <dcterms:modified xsi:type="dcterms:W3CDTF">1999-10-25T10:17:59Z</dcterms:modified>
  <cp:revision>15</cp:revision>
  <dc:subject/>
  <dc:title>Bits, Bytes, and Java</dc:title>
</cp:coreProperties>
</file>