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B670-2C81-485D-9663-A731EA2F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522E-69F8-4C5E-818E-FE5FF480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A7F8-DE89-4B40-827B-90A5E326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B60D-AB1A-43E8-A62C-C1AC018D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9F98-D0D2-4159-94F6-02315FB4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FD19-77C7-4D83-88E1-38CDEDC4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7F44-48FE-4D6C-9D96-11611B02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19FB-063E-4DD9-9635-1F40F3CD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0840-E375-41B3-AC98-9177A360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A5C9-B8A7-46CD-882D-BCC269DC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BCC7-A6C3-481C-B417-52FCD14E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D71-0C72-40A9-80F4-532BBDA7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F656-6E20-413B-B9B4-254EFAAF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8DB6-679E-4832-91C8-D1D89ED9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97C4-E004-4A06-ACE4-A23D3DAC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3626-E4C0-42B7-9F6F-156E617F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1364-6408-4619-908C-9BA688B8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FF1-0E99-40EF-BE7D-B6CE6919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D711-9193-4B9D-A423-B7A664CC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093-7D4A-42CC-B75E-2BE15F16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038B-8951-4477-8F2F-B9AF2898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9DE4-24C8-462B-B0A9-1ED6A824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E38-A079-461F-9A24-618F1F66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95E9-D5C9-4F4C-839F-9DA9CFD9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1F41-DDB6-447C-B08E-9245BA09E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A8BE-CC99-4517-82A9-86DB4168D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put-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lex issue in programming language des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face to the outsid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must be accommodated as transparently as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sets, end-of-line, path separators, endian-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ers, Writers and Stre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08D4-F556-4FD3-BAFF-B52F1F3A8C8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ed Reader and Wri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51920" y="1808280"/>
            <a:ext cx="7313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leReader in = new FileReader(infil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ufferedReader reader = new BufferedReader(i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leWriter out = new FileWriter(outfil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ufferedWriter writer = new BufferedWriter(ou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ader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riter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tch(FileNotFoundException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out.println(e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tch(IOException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out.println(e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CB78-4CF0-4411-941F-76D0564485A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-by-Line Cop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9880" y="1981080"/>
            <a:ext cx="749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ufferedReader reader = new BufferedReader(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ad the first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line = reader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null returned on EO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(line != null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rite the whole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riter.write(lin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dd the newline charac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riter.new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ad the next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 = reader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E7D7-3BCB-4BDB-A8C9-C0945CF07A3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ea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classes that deliver input as a stream of raw bytes, or write raw by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fferedInputStream, DataInputStream, FileInput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fferedOutputStream, DataOutputStre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Output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ir read and write methods tak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yte[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ther th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har[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84A6-8173-4F11-AB2A-98BF9ECF04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eam Readers and Wri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putStreamRe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utput-StreamWri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ridge the div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file encodings suppor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ed from an appropriate Stre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/Write operations are deleg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/Write operations take char arg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wrap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 InputStreamReader(System.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277-5AB8-4ABB-B141-DEDD8ACBDB6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and Wri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ften want objects to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ross program r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storage methods on a per-class basis is inefficient and error-pr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greed binary format is necessary for port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 control is impor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tion: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bjectInputStre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bjectOutputStre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370-E839-40FF-89DA-AC5D44EB3E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StreamTokeni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ed from a Reader, to which i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leg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s input  reque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multi-character numbers or str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T_NUMBER, TT_WORD, TT_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ly designed with programming language translation in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8FB-18BF-450B-958E-A76C6BF6E0D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in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lits strings into separate String tok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miter characters are user settable  (whitespace by defaul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also return delimiters if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boolean hasMoreToke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String nextToken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21F-D639-4C65-B453-7C01F161851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4960" y="1889280"/>
            <a:ext cx="7953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line = in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(line != null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Tokenizer tokenizer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StringTokenizer(line,",;:.\"' \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(tokenizer.hasMoreTokens(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word = tokenizer.nextToke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Print the next wo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ystem.out.println(wor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 = in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4B3A-D5E8-4940-AFA7-510FAA75AD6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-Output is usually difficult to perform in a platform-independen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age provides the required indepen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supplies details of external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eader and Writer classes for text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F1AA-8C79-486C-9C2A-ECE406F20E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Buffered classes for input-output effici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tream classes when access to binary data i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 Reader/Writer classes form a bridge between streams and readers and wri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useful for breaking up textual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3BFF-EDDC-4F45-B57C-ACC6B6A76F6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ck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es that provide an insulation l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hides file system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er and Writer classes perform mapping to and from Uni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classes deliver raw byt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le objects may be read and written eas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1A2-3431-4879-81C0-7DDF822457E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represent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stract path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s both files and directories (folder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, parent directory, size, permi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 takes the file’s n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 info = new File("Letter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xception thrown if the file does not ex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C59-35D7-4A68-8D4F-B24F1DB3BD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s of 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9520" y="1854360"/>
            <a:ext cx="7724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le info = new File("Letter.txt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info.exists(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out.println("Size of "+info.getName()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" is "+info.length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info.isDirectory(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out.println("The file is a directory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info.canRead(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out.println("The file is readable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info.canWrite(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out.println("The file is writeable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22E8-DBBD-429F-8B83-98A92E58359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200" y="6091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FileRead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FileWri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main classes for reading and writ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le is opened when its name is passed to their constru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 should be closed (vi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hen finished wi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read and write methods deal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[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5DB-C9FD-44B8-8D70-B75B71B0BB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ing and Closing a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0000" y="1731960"/>
            <a:ext cx="7587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Try to open the f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Reader inputFile = new FileReader(file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Process the file's cont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Close the file now that it is finished wi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File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tch(FileNotFoundException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Unable to open "+file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tch(IOException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The file could not be read or clo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Unable to process "+file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9FFC-9608-4644-8625-B97989886AA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ing a Text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84160" y="1660680"/>
            <a:ext cx="7343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copyFile(FileReader inputFi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leWriter outputF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O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bufferSize = 102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har[] buffer = new char[buffer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ad the first chunk of charac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umberRead = inputFile.read(buff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(numberRead &gt;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rite out what was re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outputFile.write(buffer,0,numberRea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umberRead = inputFile.read(buff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outputFile.flush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0B98-EDE6-41C8-8DBA-1D7523688AF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Single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1400" y="168588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copyFile(FileReader inputFile,FileWriter outputFil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Read the first charac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nextChar = inputFile.rea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Have we reached the end of fil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le(nextChar != -1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putFile.write(nextCha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Read the next charac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xtChar = inputFile.rea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putFile.flush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tch(IOException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out.println("Unable to copy a file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6289-D09C-452D-9AEA-A6C6AC1D95F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put-Output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-output is generally a slow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 and network access are often invol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ngle large read/write probably takes little more time than a small read/wr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ed classes bundle multiple read/write operations into fe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more than is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ay writing until more is rea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D0E3-13ED-4066-9A50-7F70C5C549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dcterms:modified xsi:type="dcterms:W3CDTF">1999-10-09T09:07:51Z</dcterms:modified>
  <cp:revision>20</cp:revision>
  <dc:subject/>
  <dc:title>Input-Output</dc:title>
</cp:coreProperties>
</file>