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DFC-B4D1-4B7D-8484-735FF8CA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7E2-70AF-4CF9-BB26-0B8BB23D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922-920D-40D4-A819-A1E22289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291-11CB-4B98-9608-4CF73BD7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9EE8-B0F7-4A0D-8BF2-99B1A40C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5ECF-B0EB-4EBE-BDFD-2A554BD7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7343-CCC2-4EBC-8397-3A05F2E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760-2AC3-4401-BE91-5AB2D66A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59F8-1143-45BD-84DF-9421EF96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1EE7-29A0-4F8C-9BB1-6FF4252E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4107-05E4-4A7A-BA95-84DB715E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E97-91F6-47A9-A05A-E5B49B17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727E-F374-4BA9-847A-1A50E36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FE93-7F8C-42B9-B015-CC5854C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4C1F-28F0-4797-8568-8E2A672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ABEC-B55C-4604-908E-CEA6AD42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5301-AE42-4D24-8D70-1D931067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9B4-45E9-466E-8737-751B10B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A9B-72EF-4450-BBF1-BAD0FDE5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63E-F82D-46A7-B7DE-1E2553FC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D20-6522-4D63-9925-7ADD89B2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EFC-3037-455E-9A91-D89A4670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35D-04DA-4027-8148-A6D34D7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CAB-BC35-461F-BB9F-B9DDBEA8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E61A-BE4E-4305-98CC-07125B74B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554-7149-4447-9444-54D3084A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owing objects to choose between different courses of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wo forms of choice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lean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ional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lean Logical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085-D5FD-4D8B-9B50-481D540F66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880" y="1940040"/>
            <a:ext cx="7495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cred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amount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nd out how much is currentl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currentBalance = getBal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in the amount to be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Balance += am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 the attribute from the new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Balance(currentBal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D98-4AFC-4F63-9633-E51441549C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ternative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 if statement allows the dependent statements to be either executed or not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ometimes wish to choose between two alternative sets of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f-else statement makes thi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B06-0F7F-4AC6-B181-D6D0FABCE3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f-els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1360" y="1584360"/>
            <a:ext cx="5667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lect between multiple-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tern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dition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20F-7912-4827-AE44-B2465DF36F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 in if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1905120"/>
            <a:ext cx="688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B if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C if condition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604-D9DF-43D0-8171-36D45572AD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sequ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; B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; C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executed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341-A504-423B-AE9C-F4990767DB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Two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6200" y="2193840"/>
            <a:ext cx="749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Please type two integers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 = reader.nextInt(), y = reader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x &gt;= y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x+" is the larg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y+" is the larg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6FC-417A-4A82-A05A-2C74C4BBD1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sted If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6920" y="1625760"/>
            <a:ext cx="2923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x &gt;= y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x &gt;= z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y &gt;= z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BA3-5F80-4D39-80FC-6743F19498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cading if-els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0320" y="1905120"/>
            <a:ext cx="307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3F8-3F76-49D2-94EF-C809C1D092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Expression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operators allow two arithmetic expressions to be com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more complex conditions need to be t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at all parts of a multi-expression condition are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at at least one part of a multi-expression condition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E11-4315-49F8-A75F-06A983A333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Boolean Log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63640" y="2230560"/>
          <a:ext cx="5627880" cy="386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30560"/>
                    <a:ext cx="56278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C28-93F3-4B59-8549-D8AAC9DBA8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line sequences are insufficient to solve most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 in th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ive to the super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k nearly empty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 in th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we need gas, then fill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ive to the super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997-1E7D-4D72-B8EC-E72ACD65B9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And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gical-And Operator (&amp;&amp;) is a short-circuit op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s left operand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operan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y-evaluating version (&amp;)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peran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if both operand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0B5-A9B3-4FD7-B23E-02E7939C09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wo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320" y="204156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x == y) &amp;&amp; (y == z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x, y and z are equal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a &lt; 0) &amp;&amp; (b &lt; 0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Both values are negative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17B-B8D2-455A-8D0A-5B2141EECD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Or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gical-Or Operator (| |) is a short-circuit op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s left operand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operan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y-evaluating version (|)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peran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if both operand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811-58BB-4450-9336-BB3CE2C0B0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wo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5320" y="204156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x &lt; y) || (x &lt; z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x is not the larges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a &lt; 0) || (b &lt; 0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At least one is negative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397-0B4A-4F61-82C5-9AA32240A86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No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41720" y="3413160"/>
            <a:ext cx="490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eb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!account.isOverdrawn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mit the 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0720" y="1766880"/>
            <a:ext cx="751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s the value of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672-55CB-4C86-B66C-ED6990C5BD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ditiona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Boolean expression to choose between alternativ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ition ? expr1 : exp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used in assignment and retur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larger = (x &gt;= y)? x : 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(n &lt; 0)? -n : 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190-FBB8-4095-92C5-6C86A20708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imple if-statement allows an optional sequence of statements to be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f-else statement allows a choice between two sets of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al and Logical operators allow Boolean expressions to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6CD-036A-4553-A5F2-3621522E2D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t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estion is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ndition is che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pendent actions are only performed if the answer is Y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ndition is 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 dependent actions are performed, and sometimes they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26A-F6C8-45FC-BCC3-36C65702F5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ac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quest a login name from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quest a matching pas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the password matches the login name, then grant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ADE-96BB-4B5D-B3A5-692F396119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imple Choic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41720" y="1981080"/>
            <a:ext cx="490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form a single state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pending upon cond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form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70B-9323-4D1C-9A3D-C63CFFEAD0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guarding the dependent statements is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olean expression can have only two possible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values are completely different from Java's numerical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F12-141E-49CA-BAB2-2A90E3FDC2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65400" y="17524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B if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560" y="4429080"/>
            <a:ext cx="437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sequ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; B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FBE-35AB-4768-94E9-738A17B996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2000" y="2298600"/>
          <a:ext cx="6908760" cy="29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298600"/>
                    <a:ext cx="690876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C50-2329-4530-AB55-BC77453B84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5040" y="2092320"/>
            <a:ext cx="642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Speed(double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change the speed if i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ot too hi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s &lt;= getMaximumSpeed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d =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C6F-68A9-4258-8E88-9FEFD2710B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7T10:12:09Z</cp:lastPrinted>
  <dcterms:modified xsi:type="dcterms:W3CDTF">1999-11-29T11:45:48Z</dcterms:modified>
  <cp:revision>18</cp:revision>
  <dc:subject/>
  <dc:title>Adding Selective Behavior</dc:title>
</cp:coreProperties>
</file>