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8D96-26CA-43E1-AC1F-D5F9AD77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4B8E-DA15-4952-AD7E-F4A1ED7C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30A1-E7CE-4B96-AD92-E926DF98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DDD6-3026-4C10-8785-B8129ABD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B0F9-37AB-423F-B647-447A000A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A7A5-9C29-469A-B28E-8C0D1C96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B6C2-7B1F-4DD3-9D2E-E8C4FD64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0AB5-46A7-4924-B156-070679EF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30F7-2A03-4AE3-A7AC-2F863A12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2DB0-BA19-40E6-92FC-2180B8DE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263D-40CE-4A0B-A870-A7DF8EE1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43AD-2879-4E72-B240-E0375851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2F76-056B-4014-90A9-AF0DF752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7478-E0BA-4278-B6A1-1D5EB427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A3C8-50DC-4C65-93C0-E4FA4495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F70C-FD4F-4AF9-AC6B-82E2EE7E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523E-28FC-485A-96A3-97003CA3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DD79-EF92-4ADE-B4FB-9C130154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CA35-AB56-4E3A-BFA8-B7B6323C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89EC-2C62-47EA-82C8-1035D30C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D097-5E70-41F1-BDAF-159FABFE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EFB-CAEC-430A-8FE6-7FF41F96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BD0F-6940-4264-86D2-B389B78F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B579-71CF-4395-ADAE-7179A97A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3DA8-57F0-4296-9BE7-9B1843ACD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B8ED-4AFF-46B8-8A20-64D93C4B0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bject State and Complex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bjects maintain a set of attrib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sition, course, sp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ount name, balance, trans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urrent set of values is the object’s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ple state: on/of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lex state: chemical process control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tributes defined by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n a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926E-0156-40C0-BC33-01A4470402F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tho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or methods have a return typ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getMessag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 with a return type have a return statement in their bod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messag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alue following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passed back to the method cal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DD2C-151D-40E9-9F02-83D0405541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 of a class hav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ass sco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at leas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freely accessible from anywhere in the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generally choose to manipulate an attribute only through its associated accessor and mut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onvention is not followed by all auth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2860-C06A-4CFE-9421-04DD5692FF7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Compat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ression type in a return statement must match the return type of the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ype of an actual argument must match the type of the formal arg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ype of the right-hand side of an expression must match the variable’s type on the left-hand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2793-C506-4E9E-A55A-965CE640898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primitive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, char, double, 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or primitive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yte, float, long, sh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itive-types have no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a primitive type, but occurs frequen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33AF-BCDF-4D68-B217-3A3E48C6942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impleSwitch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4800" y="2041560"/>
            <a:ext cx="6276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 class with a boolean attrib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 simple on/off swit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impleSwitch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Method definitions go 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Whether the switch is on or o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 switch is off by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boolean on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23BE-6E62-49EB-84B6-F2ED92F5533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Public Interface of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62240" y="1828800"/>
            <a:ext cx="4981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impleSwitch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Turn the switch 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witchOn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witchOff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boolean isTheSwitchOn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6E8E-0070-4FDC-A9C0-52F51AD6CDF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ridg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50840" y="14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0320" y="1581120"/>
            <a:ext cx="484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impleSwitch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Turn the switch 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witchOn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On(tr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boolean getOn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void setOn(boolean o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 = 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boolean on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93A-2CDD-4B06-B1BD-E4E5B51519A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ublic interface of a class should reflect real-world us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switchOn, switchOf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tra methods required to bridge between public interface and private implem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essors and mutators may be suffic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 object may invoke its own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B155-A426-447F-8955-FA2ADBB0C91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fe guarding the state of an object is of primary impor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o a bibliophile’s boo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attributes can be guarded by an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can be denied or granted to objects of other classes, a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40E9-5DAD-4214-B34B-3D3211FD0C5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apsulation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does not enforce privacy by defa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ignation for all attrib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over attribute values may be important because of knock-on 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lid  range for an attribute may change as other elements of the state are chang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ical plant process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craft ori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997F-A273-43CC-B501-631AEA994A9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 and Complexity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attributes mean potentially more complex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 values are often interdepen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wave band and valid frequency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keep class definitions as simple as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 up large classes into smaller collaborating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3C95-0B60-49B9-BB75-6570B314044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or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entially provide outside access to a private attrib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accessor available from all other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accessor harmless for primitive type attrib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accessor limits availability to other objects of the same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s implementation details hid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41CD-506F-4974-A3A9-85E64CE1EE8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tator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cessary for external modification of a private attrib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care required with visi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mutator potentially allows objec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ther classes to alter th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body could make checks to ensure validity of mu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FA15-50A4-41B1-9DDC-5830EBCCC8E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89080" y="1752480"/>
            <a:ext cx="5361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etField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iel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void setField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eld = 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iel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E555-F497-4850-AF47-F06E444829F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structors - Initializ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bject should start its existence in a valid and consistent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ors are used to achieve this a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structor is never used to receive messages from other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ked automatically as part of an object’s cre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9969-A32F-41CA-873E-BFBDD4A750D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-Arg Constru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17680" y="2092320"/>
            <a:ext cx="6428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impleControll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impleController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Temperature(293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tTemperature(double t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erature = 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double temperatu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24D9-A54C-4AEB-8611-FF20CF14CC2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structors with Arg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7680" y="18637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89080" y="1981080"/>
            <a:ext cx="6124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ontroll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ontroller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defaultT = 293.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Temperature(default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ontroller(double initialT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Temperature(initial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5681-6196-4F92-AD5B-E5083EC9624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Controll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9120" y="2092320"/>
            <a:ext cx="8105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ontrollerMain3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reate controllers using the 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different construc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roller control1 = new Controller(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rol2 = new Controller(275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328E-C704-4174-B3CD-6A989312DFD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verloaded Constructors - th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20760" y="1905120"/>
            <a:ext cx="6886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ontroll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ontroller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is must be the first stat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(293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ontroller(double initialT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Temperature(initial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BC14-1A1E-4F2D-A8CC-52D6989C8C7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dentifier U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iers used, so far,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s of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mal argument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hod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or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hod variable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eld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09C3-CFBB-419A-8366-8B9A460DDA6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e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ide a method, look for a matching method variable or formal arg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for a matching method or field within th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for another class in the current context (curr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imported pack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for a default class (e.g.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8CAA-2252-47F3-86FC-0F57F5E0838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Outline of a Class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20760" y="3581280"/>
            <a:ext cx="62006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Define a class called ClassN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lassNam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Method definitions go 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Field definitions go 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header and class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itions in the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and fie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C94A-B451-4F48-8801-693D44DD3A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definitions capture the behavior and attributes of typical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havior modeled by method defini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ibutes modeled by field defini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cy helps to encapsulate object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or and mutator methods provide access to object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9157-AF65-4986-99A4-0F523C1ACDC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or and mutator methods can be written to follow a common pat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initialization is provided through constru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may take arg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aning of an identifier depends upon the context in which it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0479-07F8-43D1-B392-B586B4BE651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s and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 and fields may be arranged in any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tend to list methods before fie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 describe the behavior of in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 are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 variables (most comm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9C07-20C2-4C7A-BA7C-BCCB5A8141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nce and Class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nstance (object) has its own copy of the instance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pe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tribute of 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ation in one instance does not affect another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instances share a class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ed via one instance, changed in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87FA-ACE7-4533-870B-E971995772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ing the SimpleNot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4520" y="1905120"/>
            <a:ext cx="7343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NoteMain1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reate two new SimpleNot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ady for mess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Note milk = new SimpleNote(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mming = new SimpleNot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‘Write’ a message on one no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lk.setMessage("We need more milk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heck the mess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milk.getMessag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4024-3AD2-482F-87D0-703551E9ECE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ng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1880" y="1801800"/>
            <a:ext cx="780048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 class to represent a sticky note,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uld be stuck to a wall, doo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frigerator, etc. This simplified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just stores the message and provides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o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impleNot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Omit the methods for simplic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 variable used to store the 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 note is blank to start wi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ring message = "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E2B6-3D89-45CD-9858-510A8F368E0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thods of the SimpleNot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07440" y="1731960"/>
            <a:ext cx="6078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impleNot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Return what the message 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ring getMessage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messag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Change the mess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Message(String m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= 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The variable used to store the tex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The note is blank to start wi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essage = "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D861-C0DD-43B8-815C-3B0BD554E69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mon Types of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etMessag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ccess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returns the value of its associated attribu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has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eturn typ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matching the type of the attribu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etMessag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utat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changes the value of its associated attribu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has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formal argumen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matching the type of the attribu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6BAE-7E76-4612-BABC-4950F79A28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cp:lastPrinted>1999-09-23T07:52:10Z</cp:lastPrinted>
  <dcterms:modified xsi:type="dcterms:W3CDTF">1999-10-21T16:13:44Z</dcterms:modified>
  <cp:revision>25</cp:revision>
  <dc:subject/>
  <dc:title>Defining Classes</dc:title>
</cp:coreProperties>
</file>