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E379-E1D2-4195-B66A-2FBC1D06E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5DD9-B980-417B-897D-5942F31C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D00B-8A55-47D3-B283-CFF1B31D7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D12D-E8BB-40B0-ACC8-3E2B8E212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5E980-AE30-42EA-9C60-1D7D32236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6A3C-6E31-4A55-A07E-A4E0E312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4A81-05CB-48FD-A419-814FD4B6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C62D-FAFE-421E-B48C-34418C3A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5DF9-6EFE-42CC-9205-C0544C9A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993B-A223-42B7-8FC3-6A751FA3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5889-6170-4782-8172-42E2DAF5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D806-65CE-4FD1-9FF2-6E3F8C59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C761-0D65-471C-A597-3DC9AC27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1BDE-4A0B-43A2-A8F2-327F616F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BD9F-08F2-4FFC-8924-C59EDED5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888C-4134-425E-BF32-78D6BED4D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856C-76E5-4C71-B581-68B02C6D3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A617-455C-40E1-B02D-546A4274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90CD-35EC-4E47-A6DA-C0A98EAD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9295-21E0-4406-A5E2-49ED7D98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A740-FD09-4F8D-BFD9-1A017B22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D60D-F6DA-40E6-8516-B35AE497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DD55-675F-4562-8CBE-3B2AF771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9271-56C5-4CAE-8913-B529CADF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5BBB-116E-4B43-8538-BBF3EEC2B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OP with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s, Bytes, and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A715-B928-4CD2-A1A1-FB062D27E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tting Past the Compi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compiler is responsible for checking that programs obey a language’s r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yntax err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mantic err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gical errors could still get throug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gical errors only manifest themselves at run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on Program Compon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21F1-3329-4EAC-B6E6-FBEC24E0ED2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undamental Language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served Words (over 4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ok similar to reserved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urly Brackets - always in pai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8480" y="4343400"/>
            <a:ext cx="6886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Nothing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on Program Compon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2E40-8F1D-4110-9D47-68D50CF659E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imple Structure of a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thods have a header and a bo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body contains declarations and stat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Main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program’s starting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mal arguments between parenthe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on Program Compon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6574-C63E-446D-A2F0-390934D52F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ite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ly for human read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te space only required between identifiers and reserved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Nothing{public static void main(String[]args){}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nt to show program struc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to be consist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on Program Compon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C405-93F9-419F-A30A-D04018E7A1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irely for human readers; ignored by the compil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forms in Ja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A single line com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* The text of a multi-line comment may be spread over several lines.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** Javadoc multi-line comments contain program documentation directives.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on Program Compon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DCD0-645E-44B9-A569-760BED0DC8F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iling and Running A Simple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89080" y="2819520"/>
            <a:ext cx="6886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 program to print "hello, world"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Hello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hello, world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 in the fil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ello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on Program Compon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0291-5466-44D3-A5DA-281743C3284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Edit-Compile-Run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eate the file,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Hello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ile (using JavaSoft’s SDK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javac Hello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Edit to correct errors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n using the bytecode interpre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java 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dit and repeat until satisf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on Program Compon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535C-67FB-4E55-BFBC-53D844BEBF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ytecode 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Java compiler creates per-class bytecode f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bytecode file has a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.clas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uffi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Hello.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same bytecode file may be run on any machine with a bytecode interpreter, without recompi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on Program Compon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7A19-223E-437B-BADA-EE5A2FF4390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ilers apply stringent checks to the text of a pro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gram may not be run until it comp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gram starts running from its main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gram is compiled with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ava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piled program is run with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av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on Program Compon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94D2-2B77-4C81-96FD-DC0B9972023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7T11:23:09Z</dcterms:created>
  <dc:creator>David J. Barnes</dc:creator>
  <dc:description/>
  <dc:language>en-US</dc:language>
  <cp:lastModifiedBy>David J. Barnes</cp:lastModifiedBy>
  <dcterms:modified xsi:type="dcterms:W3CDTF">1999-10-09T09:09:06Z</dcterms:modified>
  <cp:revision>9</cp:revision>
  <dc:subject/>
  <dc:title>Common Program Components</dc:title>
</cp:coreProperties>
</file>