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56E-CF30-4143-B955-3ECE4ACF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B5F-80E4-4B2F-A6FF-8362B74D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CD0-E297-4280-9162-A5E64E11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18A-8133-440E-88F6-8F8192F4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D41B-A0E5-4BAC-A6FE-F99BCE12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900D-28AF-41A2-9981-1B709877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785C-7040-4854-B517-CE539F6C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8B0D-2202-4962-A582-69016B12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EA44-5DCE-4421-863A-042A4042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4E54-964D-4430-90AF-8A14975E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FE00-89A2-42A1-88B8-8E05A78C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FC6-8257-4A45-8B1D-5D4BD520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7269-AC24-4D65-B9C5-3F65D8BD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C89D-F7E4-40FD-A243-32EC9291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D969-C5A4-47C2-88B2-1F58944C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52B7-1B13-47F3-8EDC-99613E4A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E039-9B6B-4FF4-869C-0C7973DE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9F9-6143-44F2-8A59-312153D6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172-A30F-496F-8ADF-793101AA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BB9-7A35-4BD7-B17A-0163E143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92E-B44D-40B1-9DB6-98D1126F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FD4-A3AA-488A-82E0-9D83F657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2CD-C866-44F2-B1B2-924BA1B9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D79-EC04-45A5-8678-A187A953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D47C-822F-4432-B4DB-8558834AD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C85D-94E6-4448-BBB3-1AF4A1D14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features offered by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offered by more than on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underlying implemen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rnally in an identical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pt separate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67A-0575-45C6-9624-F47D3AFE01D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Enum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" y="1889280"/>
            <a:ext cx="8562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tera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hasNex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 next() throws NoSuchElement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emove() throws IllegalStateExcep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nsupportedOperation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Enumera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hasMoreElement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  nextElement() th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oSuchElement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C60-7381-49A6-B0BA-F7DFFE93A3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3280" y="266688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Compar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compareTo(Object o) th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Cast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Compara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compare(Object o1,Object o2) th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Cast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equals(Object 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782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of implementing classes can be sor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913-A6BA-46EB-83BB-74E687574FE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Fil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name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6360" y="2819520"/>
            <a:ext cx="8410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FileFilt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hould the given path name be accep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accept(File path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FilenameFilt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hould name in directory be accep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accept(File directory,String 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1760" y="2011320"/>
            <a:ext cx="58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cceptable/required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469-174A-4505-8A1B-D2C70D8D60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Interface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ty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t as a marke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ing Multiple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common in GUI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lict resolution requ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method names or field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AEC-EC6C-4C09-9E6D-074DF65885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methods with different argument list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verloa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methods with identical headers have a single imple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has to be meaningful for both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exception lists must be reduced to the common sub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field names must be qual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04B-94FE-495E-9382-1F3A226168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mpty interface to support persistenc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bject seria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le objects are manipulated vi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ans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elds are not serial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tern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vides finer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87B-22DF-42C8-AF94-FD66E16427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contains only method signatures (headers) and/or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are all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 static 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are usually implemented by multiple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morphism allows any implementing instances to be typed as the interface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97F-664B-4086-A623-2625F50EE9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or allows the dynamic type of an object to be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without methods are often used to collect related constant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mpty interface may be used as a ma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standard interfaces, e.g.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529-5B5F-49C1-86BB-AF0202785B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Interf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everyday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theaters, TVs, VCR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nterface definitions are 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hea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definition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3C6-E252-43B9-AF31-B6446C6A78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fac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2680" y="1828800"/>
            <a:ext cx="8410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VC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loadTape(String tape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ejec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pla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pau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sto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ff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re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getStatu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atic final int PLAYING  = 0, PAUSED  =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OPPED  = 2, FORWARD = 3, BACKWARD = 4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OTAPE 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9ED-058C-40AA-95EF-82A2FF7841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an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65040" y="1828800"/>
            <a:ext cx="53625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NoFrillsVCR implements VC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eject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getStatus() != NOTAP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Status(NOTAP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6F6-2689-4BAF-981C-0E30D5790A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 definitions are not repeated in defin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unqualified in implement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 accessible in different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the interface nam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CR.STO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 implementing class nam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oFrillsVCR.STO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 instance referenc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eap.STO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A49-3827-4846-978F-1DC7E9EFDB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main reasons for creating an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imit on the number of implement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s may add further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playing speed, fo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not part of the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AC6-88EC-443D-8AB8-E28F636902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that knows about a particular interface may interact with an object of any of the implement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ill not know about additional functional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variable playing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or, and a cast provide access to class-specific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2CE-B7BE-4A2B-AD64-505CEECE60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anceof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040" y="1965240"/>
            <a:ext cx="8715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VideoTest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boolean testVCR(VCR video,String tap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video instanceof UpMarketVCR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Test its extra fea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MarketVCR betterVCR = (UpMarketVCR) vide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Play at twice the normal spe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etterVCR.setSpeed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A57-5E22-40C8-8D65-4B41CAE920D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withou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2120" y="1859040"/>
            <a:ext cx="64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ng point for related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880" y="2575080"/>
            <a:ext cx="780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ieceName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atic final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wn = 0, Rook = 1, Knight = 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ishop = 3, Queen = 4, King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7880" y="4357800"/>
            <a:ext cx="76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to enumerated types, but no type che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94000" y="5013360"/>
            <a:ext cx="56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piece = PieceNames.K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badPiece = piece+1; // Nons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F37-081E-448E-8074-CEBB0668A1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10-05T08:50:17Z</cp:lastPrinted>
  <dcterms:modified xsi:type="dcterms:W3CDTF">2000-03-13T13:08:28Z</dcterms:modified>
  <cp:revision>19</cp:revision>
  <dc:subject/>
  <dc:title>Interfaces</dc:title>
</cp:coreProperties>
</file>