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B91-4A58-46E4-AA2B-443C0C84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E2D-1C1D-4EB7-AB7D-4151BDF0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5B17-F570-424A-A2DC-046691BC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D3A-CCB9-40DF-862A-BB1A2E5F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47ED-119E-45D6-A91B-EB9CA88A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C8A9-09CB-455A-A5F2-D9AA5DA5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9BBD-6145-475C-8330-D99EF748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19EC-4E24-4F13-96BD-51A6DBA6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9214-7611-4FC8-B274-289C64C5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2ADA-BBEA-4BFD-A1E9-8E19F3C5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A7C0-E2E5-4943-A484-38769D6A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0427-3AFF-48FE-8372-FFC2C505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BA7D-6865-4AB9-83BD-CC39E246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1891-065D-4AB1-9B10-FE5F757A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3EFF-BA3D-4BD0-976C-0E2FD073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CD33-1582-469A-B61E-152E7C79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A0CA-64A7-46F2-8F05-EE4D4977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8B9-FF59-4BF1-AF7D-A04A42E0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26F6-D5D9-4093-9BC7-CE9C2DE3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210-7128-4A25-85E8-D11257F1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431-1977-41D5-826E-808FEB00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928-80AE-416F-8A53-ACBC7FAF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1D36-C106-4780-A809-47885820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549-DC8F-4A06-A80C-4A301671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10D5-6F68-46C3-9DD6-5A75A0F6C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B2CB-1E15-4C4E-9F88-624E56332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ding Behav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vious class definitions have passively maintained attrib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tive behavior invol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quences of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oices between alternative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etition of one or more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ements inside method bod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E0B-A51E-454B-AA2E-F9988744919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 Concate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addition operator has a further use, when one of its operands is a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eate a new String that is the concatenation of its operan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"big"+"apple"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reate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"bigapple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non-String operand is converted to a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"version "+1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reates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"version 10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408-A38A-48F0-A7B6-CFE31CD50E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Char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Java, a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ccupies 16 b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va based on the Unicode character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racter literals enclosed between single quote characters: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'A', '9', '!'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r values may be stored in integer variables, but not vice-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C1D-F738-4E64-B148-CC3B6E7991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Con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licit Type Con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ger to floating point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ss-precise value converted to more-precise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imitive Type Che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ore-precise value may not be used where a less-precise type is requi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, cannot store a double value into an int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4B56-B233-4279-AD0B-ECE03EE741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imitive Type Ca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normal type checking rules may be subverted by using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a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ype name written between parenthe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x = (int) 3.1415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sts usually involve loss of information, so may be ris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D65-5BA8-4BD0-85B1-F77CA56B87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bined Assignment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 and assignment are comm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alance = balance+amou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d assignment operators exist for all the binary arithmetic operat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rk *= scalingFact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15F-3B8C-413D-B55C-B447DB4F0F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ading Input Using SimpleIn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impleInpu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a class to simplify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ading Numerical Val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extInt, nextDou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ading Str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extLine, next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ading Boolean Val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extBoolea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ading Data from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7D7-6150-4D77-8951-68788C1899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ct behavior often involves sequences of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ndard arithmetic operations are avail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der of precedence must be conside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ype compatibility rules must be obey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ast permits normal type rules to be bro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4232-27E5-4C13-927D-49AA4697875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tting Things in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sks commonly involve performing a sequence of 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irst do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Then do t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inally do the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rolling a Shi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ove, setCourse, move, repor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67A-A2F2-4C0E-9AFE-7C4949AE9F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 and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rders make no s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hip cannot be moved before it has been constru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orders may have different eff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l your old car. Pay the money into a bank. Write a check to buy a new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check to buy a new car. Sell your old car. Pay the money into a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BE0-CEE2-4BE8-A89F-397F112CD2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 and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often matters when actions are dependent upon the state of some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osits and withdrawals affect the state of a bank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ning fossil fuel affects the environment in which individuals l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56D-2195-4747-B3FA-A6C545CE78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icit and Implicit State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ors names are chosen to show that they have explicit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F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methods have implicit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itly affects a ship’s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F3B-D47B-488A-B259-580EADD9D4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rithmetic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ions involving numerical data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yte 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int, long, sh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, flo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s for addition, subtraction, negation, multiplication and di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results for integer and floating point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78F-4618-4799-BB32-A03DDFB28B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Addition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240" y="1752480"/>
            <a:ext cx="8105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PennyBankAccoun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redit the account with the given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credit(long amoun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Find out current bal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currentBalance = getBalanc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dd in the amount to be credi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rrentBalance = currentBalance+amou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et the attribute from the new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Balance(currentBalanc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2C64-1169-4080-BCEB-2D3F76D4395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ultiplication and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operators are: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* /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between integers results in trun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/3 gives a result of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between floating point numb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0/3.0 gives a result of 1.66666666666666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us (%) gives remainder after di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%3 gives a result of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4FF-2624-410F-BA06-AF23655FB7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rder of Prece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governing order of evaluation in a multi-operator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 take precedence over oper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ication and di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 and subt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to right for equal precedence oper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98E3-A8C6-49FF-9B1A-228DC0584A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dcterms:modified xsi:type="dcterms:W3CDTF">1999-10-09T09:10:12Z</dcterms:modified>
  <cp:revision>14</cp:revision>
  <dc:subject/>
  <dc:title>Adding Sequential Behavior</dc:title>
</cp:coreProperties>
</file>