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765-77B4-42BB-AE8E-FF057D34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B76-23DE-4FB8-B4DE-7438B341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9A1-CB51-4CF4-A589-8FAF20E1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9A3-0FA8-448F-BAA2-2C4C7A4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BF71-3CD7-4B26-8FD1-05D6EF4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F3CE-6064-490A-B9CA-1C54355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6C3-CF8E-4CB9-B726-D4FE395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839A-B009-4994-8529-F606E76D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2B1-FEBC-4580-8B47-7CE78A2D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576-F99C-4FED-8F0E-5F904916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3113-599A-4ED7-AC0F-2F0FC66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057-68CE-4FE1-AB8F-B3093D8D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BDCF-CC80-4A96-B9D7-5CD8BAE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6736-32AA-465E-8FC0-2FB4623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644F-9FBA-432A-A8ED-0CCDE36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4052-715F-42D0-A902-EDC509B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DF8B-F535-4D78-9CC1-590ADD82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D80-FD90-49B2-BA82-AAAFF64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765-48F8-41F4-9CC6-DF672F9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4CC-B9E1-494B-8335-9FD2031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80B-B8A2-4184-A85E-A28AF6A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464-9003-4E3C-840F-784DB792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1DC-2A87-4AB7-BB78-2AD2BE9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B1C-881C-462E-A16B-A58A3D3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1CA-AF6E-4E61-80F9-A7FB083B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2AA-1C30-47CB-970F-331562DAC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Flexible Siz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and Object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ng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B15-3304-4C48-97A4-D26C2DAB47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classes cannot hold primitive-typ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ust be wrapped i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has a wrap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acter, Double, 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Value, double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parsing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79E-0B49-45D7-8B01-B84D2F494B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2640" y="1889280"/>
            <a:ext cx="612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um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wrapper = new Integer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.add(wrapp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rt the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ections.sort(li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818-847A-43E4-B32A-CB6719C1C4D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through 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00" y="1782720"/>
            <a:ext cx="52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use integer ind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36800" y="2651040"/>
            <a:ext cx="764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Items = nameList.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Item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(String) nameList.get(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1911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ould be inefficient for a LinkedList, because it does not store its items in a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D18-F33C-474A-B143-C384D41459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fficient iteration over an arbitrary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7680" y="3108240"/>
            <a:ext cx="612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 names = nameList.itera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ames.hasNext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who = (String) names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who.startsWith("X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.re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D31-001B-4F7D-B5B3-23659E4945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its efficient retrieval of data from random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often more ord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In, First-Out (FIFO)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-In, First-Out (LIFO)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well suited to supporting such specialized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178-7BDA-4B96-B96B-8E5C3DAF19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-day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queues, traffic jams, cafe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h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 at the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move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E25-3433-4DD4-87C5-AACC745905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720" y="17524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Queue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nex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Queue().removeFir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queue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FC7-72EF-443A-B157-13028A1E63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ys in a restaurant, cards in a discard p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ime stack, recursiv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ail (push), remove from tail (po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terface to Queue, but different semant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1DD-F147-4C42-A3CA-5C731E5A30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16606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tack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las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Stack().removeLa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stack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E67-72A0-42D3-A5C5-191C6D52C8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ommonly available for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ample of 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 Queue and Stack classes easily created for oth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ic types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F82-2EB0-4CEB-9CE5-BA7925BC57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Size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applications, the required size for a collection may be unpredictable 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hand (bounded but vari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s to a radio phone-in (unbound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ngers on a ferry (unbounded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not always suitable for holding such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673-8BB2-4ABF-81B7-E48ECC71A6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recursion - often accid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ed recursion.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solutions to divide-and-conque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923-96C7-4B99-BFBC-BFB6571A2C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or Egg conundr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rtioning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hit me, he hit me first, she did, he did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ary spi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 prices to cover higher wages, raise wages to cover higher pric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FA8-9F3E-49A7-831B-7301FA5345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cken or Eg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9360" y="2590920"/>
            <a:ext cx="612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hich came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chickenOrEgg(String whic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hi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which.equals("Chicken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Egg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Chicke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960" y="17064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invokes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463-F348-4B8C-B4D8-31FD8A073B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240" y="1658880"/>
            <a:ext cx="854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chickenOrEgg("Chicken")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  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" y="344808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finite sequence of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9080" y="4114800"/>
            <a:ext cx="67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ever reached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 of print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6B0-F9F6-4946-AD3D-F77B2F0890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calls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 calls method Z, and method Z calls method A before it ha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spot potenti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18F-67FA-4301-A881-A8646FF7EE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ing 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can also be in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inating condition is never trigg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must be an 'escape route'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-recursive path through a recursiv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limit on the depth of the recu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FD0-B587-4CEB-BC33-B139E8FBB6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mited Recursiv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6440" y="1752480"/>
            <a:ext cx="5972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long limit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&lt; limi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2200" y="432756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End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2FD-B4EE-476E-B99F-24B889CA28A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736640"/>
            <a:ext cx="6429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long factorial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(non-recursive) ba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 * factorial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466740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cannot be applied until the recursion unwi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CE2-86E9-4AE8-8C1B-B9D7AF8E04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 and Conqu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 problems often involve recursive 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data set can often be broken down quickly into smaller sub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chnique is applied recursively to each sub-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verall technique is applied recursively to a single sub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167-F5C5-429D-AAAF-AFE3EFB2A9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812960"/>
            <a:ext cx="642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the mid-po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the target element is too bi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the target element is too sma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 have fou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9400" y="521172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Try again' implies making a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9F6-6E53-430F-B960-E3BE6FCFE4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Unsui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er array might arbitrarily limit th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large array will wast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ight be no guarantees that it will not overflow, any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create a new array if the old one fill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notifying ali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6CB-256C-4AC3-B8C4-B3B9EC6434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0960" y="58752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indexOf(int[] numbers, int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ch-part-to-examin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no-more-items-lef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dex = find-the-mid-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value &g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righ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(value &l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lef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DB3-B3B8-46B8-9F10-1CCC777A92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oblems require flexibl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ording to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ast when retrieving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rapper classes to store primi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erate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B5F-F83D-42DA-B827-AD36E44F71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classes often form the basis for further specia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ue and Stack are the most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is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may be directly or indirectly recur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ing infinite recursion requires a non-recursive 'escape route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932-D02D-47B7-811E-F20C29EA3D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solutions often involve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is one example of a divide-and-conquer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DD0-A968-4E5F-B91A-E83F2D2B9F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 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classes,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and contract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asted space, no arbitrary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hold objects, not primi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solve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837-CC28-4119-A298-00240A07B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List for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7600" y="1889280"/>
            <a:ext cx="749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RadioShow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names of call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ArrayList callers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8840" y="4495680"/>
            <a:ext cx="800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an equivalent array decl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callers = new String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8E7-1204-4D02-98D0-49F83B66A1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Lis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in a collection `lose' their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n index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...size()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List defin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, get, set, 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items are automatically 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tem's index might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pacity grows auto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minimize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6CA-3F02-4CB7-B375-DB2D3A647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and Obje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both a dynamic type and a static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the variable used to ref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treat everything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generally passive, not needing to interact with the items they co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5C9-8E46-4649-8DD0-459EE0963C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720" y="17524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ing an object usually requires a c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9080" y="2606760"/>
            <a:ext cx="68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rrayList callers = getCaller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the first caller (compilation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380988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cannot tell that the object is a String, so an explicit cast is nee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9080" y="516564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(String)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61F-372B-4468-861E-54FBCAEA2E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ilar interface to Array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, clear, get, indexOf, remove,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direct access to first and last items in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 getLast, removeFirst, add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for data structures, e.g., stacks and que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81C-09D3-40FD-9488-0DDBF40F1D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2T14:56:21Z</cp:lastPrinted>
  <dcterms:modified xsi:type="dcterms:W3CDTF">2000-02-09T10:11:49Z</dcterms:modified>
  <cp:revision>25</cp:revision>
  <dc:subject/>
  <dc:title>Collection Classes</dc:title>
</cp:coreProperties>
</file>