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09AC-D986-424D-B80C-0906F2D9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F6AB-0A51-4BAD-86F0-4845ECEE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AB40-4D74-4A0D-833F-213FFD70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2D37-4DBB-4C29-AEF0-68FC792C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115C-959F-4111-A719-B0CA0819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2DC4-C47F-4BAD-9D0D-A4AA027C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B691-26AE-4B8D-95FE-088E40B6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7145-0C78-4B17-A404-0FE86FB2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F03A-B337-4D80-AE7E-502B846D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4C1E-5BAB-4863-8A7A-5DFC58D6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EA03-C602-421D-ADED-D72F4125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865A-656A-4972-BA92-355B9843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0E60-34D2-4096-91EF-015B6654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91A9-3613-43A4-A5C3-D11565F8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47E9-D8BF-44BB-B19E-3B0DD013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F5A6-EE10-4F1D-8C9B-89F5F9E3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C13B-C72E-424C-A357-B2640919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1835-3486-4F8F-B7AF-EEF1FFDA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7DFE-2D42-46D4-94B6-78648CDB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B877-FA0C-44FA-83F2-92FD9044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1245-1027-400E-939A-B43A0F50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CB4-4099-4156-850F-383CC1EF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10D6-A346-4B26-97A4-89EA6A42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E275-A812-4DDA-8FCD-84065FD9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1AAC-3833-4DAE-9AB5-476256DF9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DBA2-FE58-4CE4-925A-5533DFAF1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ed for Ex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wing Ex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ion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Construction Fail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ching Ex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rror Ex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nally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BCC-BA03-4CE3-9175-8CA9D1B21C6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ching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ception that is not caught or handled will result in immediate program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ching an exception means we might be able to fix the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a slower speed for the 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's try statement provides an exception handling (catching) mechan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72DE-7F68-42ED-AE00-E8251469630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y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2520" y="1600200"/>
            <a:ext cx="7343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ings could go wrong within this bl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(Exception 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omething went wro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l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D953-3912-4E54-A469-77258DB6CD9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ching an Ex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4800" y="1965240"/>
            <a:ext cx="6124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nstruction could fa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p argo = new Shi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speed = ..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etting a new speed could fa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o.setSpeed(spee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(RuntimeException 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err.println(e.getMessag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BB82-3A60-481B-8B7B-053E2C2FCCE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cipating Multiple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65040" y="1889280"/>
            <a:ext cx="5514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 protected stat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(IndexOutOfBoundsException 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(ArithmeticException 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(RuntimeException 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3579-DF31-46A6-A11A-FEBB788BA34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agating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ules for checked and unchecked exceptions diff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hecked excep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agated to the caller if there is no local hand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ed excep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handled locally, or propagated via an explicit throws cla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5D66-0F5A-4D82-8DD6-E520C29B659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hrowing an Ex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5400" y="2041560"/>
            <a:ext cx="6124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method() throws Excep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Protected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(Exception 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Partial recove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throw the exce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2B46-A4B2-4B66-AB3A-82CE348DC2D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.la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age define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representing a particularly serious exce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from which recovery is im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instance, an out-of-memory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aringly, and as a last res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cipate exceptions, and plan for their recov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C6D8-E9ED-4188-9A76-7CAF907E62C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nally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8480" y="1660680"/>
            <a:ext cx="6124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method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2 might throw an exce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-T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-T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-T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(Exception 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-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l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-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6D6E-B7F6-497E-B920-DED3CD21AC5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ten Used to Close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82160" y="1752480"/>
            <a:ext cx="6627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eReader inFile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eWriter outFile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File = new FileReader(sourc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File = new FileWriter(destination,tr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ly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inFile != null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File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outFile != null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File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0BA9-2531-4B99-BB59-2DB6914F274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bject might be asked to perform inappropriate 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bject often does not know how to respond in such sit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ions allow an object to leave the caller to sort out the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ception is either checked or uncheck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73BF-740D-4847-A364-6128154734B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ed For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'The World Outside'' is potentially host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ublic interface allows external ac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exceptional condi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ing to move a ship that is moo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ing to book a seat in a full thea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ing faster than the local speed lim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ceptional condition is based on the Ship's context, rather than its capabi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C45E-E583-4818-8714-27A443C65A0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ions may be caught and handled, or propag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aught (unhandled) exceptions result in premature program termi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nally clause provides an always-executed route out of a try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ther the catch clause or finally clause may be omit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200E-DC24-4BC5-8AB1-6A042D90D71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sible Respon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int an error messag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erminate the progra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lently ignore the reques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lement the request anywa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lement a modified or faked ac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quest a correction interactivel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turn the wrong answ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turn an error indic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7985-5810-4146-B81A-09CD770CBA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wing an Ex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's standard 'error indication' is an exce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s represented by 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ithmetic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assCast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berFormat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10EF-B206-47E3-BB7C-EAE3CF688E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ow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24040" y="1635120"/>
            <a:ext cx="7953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UncheckedMain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erminate the whole prog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new RuntimeExcepti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I just can't cope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0800" y="4156200"/>
            <a:ext cx="822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ception in thread "main" java.lang.RuntimeExcep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 just can't cop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t java.lang.Throwable.&lt;init&gt;(Throwable.java:7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t java.lang.Exception.&lt;init&gt;(Exception.java:4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t java.lang.RuntimeException.&lt;init&gt;(RuntimeException.java:4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t UncheckedMain2.main(UncheckedMain2.java: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7F32-404E-4582-A67E-7B940612B6F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ion objects have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String getMessag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void printStackTrac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String toString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methods are used when an exception is caught, to provide diagnostic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C6ED-7724-4A7F-B4E0-83200998AA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ows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9960" y="1870200"/>
            <a:ext cx="786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Speed(double s) throws RuntimeExcep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Check the validity of the reque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Math.abs(s) &gt; maximumSpeed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Too fast. Don't proce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ow new RuntimeException("Speed "+s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 is beyond the maximum of "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ximumSpee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eed = 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7DFF-FCBB-45F3-B5C4-8084C5FAA29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Construction Fail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2680" y="1965240"/>
            <a:ext cx="8258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ircl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ircle(double r) throws RuntimeExcep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r &lt;= 0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new RuntimeExcepti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The radius must be positive: "+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dius = 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6D5D-10F0-43C5-A6A4-56EACE761BC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ed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untimeExce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checked exce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hecked do not require a throws cla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hecked do not have to be 'caught'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ecked exce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ed do require a throws cla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ed do have to be dealt with in some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7BD7-B127-4DDC-ACE5-9E60309539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dcterms:modified xsi:type="dcterms:W3CDTF">2000-02-24T08:39:30Z</dcterms:modified>
  <cp:revision>18</cp:revision>
  <dc:subject/>
  <dc:title>Exceptions</dc:title>
</cp:coreProperties>
</file>