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00B1-7624-4557-97C6-2C5DD7C1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E747-2A1C-45F5-AE9E-E546081F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83A1-FCC6-4505-B840-FBDCE647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78ED-64C4-4BD9-ACDF-B502B959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BC78-D8C2-40AA-BA2E-3EAADBFB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F74A-48B1-486D-880C-CDF024DD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332A-846C-4BE5-992B-48301C53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730A-5219-42E5-A1AC-6B3B37E6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A77D-A735-4FE6-9C3A-F1C5CF90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AB4B-E012-4EA5-B3ED-3C1B67EF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81E2-5E00-4014-8FA1-7FFFDD7C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A93-2705-4341-BAE4-CDE5904F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E46C-D06F-4386-9622-30E4C303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FBEF-EDC9-4BE8-B0E7-638068E1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C75A-F7FE-42DD-AF92-064C65F1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C104-9DE1-4FC4-84CB-32D6995F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D075-362B-4A63-A4FA-22A7ED61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4F5C-D25C-4887-B4F3-C8DD58A6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B07-3A36-4A50-8A71-0D53ED5F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189C-A5D1-4D32-AB6A-05670419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E9EE-1709-4B01-B996-6A5D3AC9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7B73-02DB-4341-A3B6-9B879BC5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41BB-0AC2-414F-934D-509C0954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B5A4-7208-437B-8C9D-D5CF74F9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E017-CCD2-4220-A1AE-49498A8E5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CD75-5366-4AE1-AAAB-644C34A56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ed for 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wing 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ion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Construction 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ching 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rror 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nally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A6F9-05D6-4384-9761-F5470674EE3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ching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ception that is not caught or handled will result in immediate program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ching an exception means we might be able to fix the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a slower speed for the 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's try statement provides an exception handling (catching) mechan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15E-ACBE-4513-8B2B-F3FB19983E7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y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2520" y="1600200"/>
            <a:ext cx="7343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ings could go wrong within this b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Exception 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omething went wro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l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587D-F3B9-4D65-AF9F-24831CC9EED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ching an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4800" y="1965240"/>
            <a:ext cx="6124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nstruction could fa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p argo = new Shi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speed = ..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etting a new speed could fa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o.setSpeed(spee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RuntimeException 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rr.println(e.getMessag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E70E-70E0-4480-B8DC-582E86DCC35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cipating Multiple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65040" y="1889280"/>
            <a:ext cx="5514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protected stat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IndexOutOfBoundsException 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ArithmeticException 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RuntimeException 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277E-6024-44BA-8353-C548380DE37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agating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ules for checked and unchecked exceptions diff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hecked exce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agated to the caller if there is no local hand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ed exce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handled locally, or propagated via an explicit throws cl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2A30-2101-40B2-A291-AE8B29CBD58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hrowing an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5400" y="2041560"/>
            <a:ext cx="6124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method() throws 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Protected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Exception 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Partial recov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throw the exce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F756-7F9F-429F-BC3A-C89F9C29800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age define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representing a particularly serious exce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from which recovery is im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instance, an out-of-memory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aringly, and as a last res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cipate exceptions, and plan for their recov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B6B4-FA36-4557-82C6-D8C7FCEE3E0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nally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8480" y="1660680"/>
            <a:ext cx="6124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method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2 might throw an exce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-T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-T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-T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Exception 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-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l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-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4E71-AC07-436C-A3CF-F281BA0F8EE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ten Used to Close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82160" y="1752480"/>
            <a:ext cx="6627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Reader inFile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Writer outFile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File = new FileReader(sourc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File = new FileWriter(destination,tr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ly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inFile != null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File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outFile != null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File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E2B6-DCC1-4363-9E3C-BFC01E5702D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bject might be asked to perform inappropriate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bject often does not know how to respond in such sit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ions allow an object to leave the caller to sort out the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ception is either checked or uncheck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DD37-9588-4BFB-B99A-737A524BB32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ed For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'The World Outside'' is potentially host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blic interface allows external ac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exceptional condi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ing to move a ship that is moo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ing to book a seat in a full thea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ing faster than the local speed lim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eptional condition is based on the Ship's context, rather than its capab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DB1-64AE-4EC5-99C0-3D1DACA5C9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ions may be caught and handled, or propag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aught (unhandled) exceptions result in premature program termi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nally clause provides an always-executed route out of a try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ther the catch clause or finally clause may be omit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7EE4-6452-47C3-A393-0E5203847E9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ible Respon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int an error messag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erminate the progra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lently ignore the reque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lement the request anywa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lement a modified or faked ac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quest a correction interactivel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turn the wrong answ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turn an error indic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E211-7B49-408B-ABED-FFF913BA02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wing an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's standard 'error indication' is an exce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s represented by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ithmetic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assCast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berFormat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D27E-E4E5-45F0-BE60-251512EE54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ow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24040" y="1635120"/>
            <a:ext cx="7953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UncheckedMain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erminate the whole pro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new RuntimeExcepti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I just can't cope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0800" y="4156200"/>
            <a:ext cx="822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ception in thread "main" java.lang.RuntimeExcep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 just can't cop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t java.lang.Throwable.&lt;init&gt;(Throwable.java:7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t java.lang.Exception.&lt;init&gt;(Exception.java:4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t java.lang.RuntimeException.&lt;init&gt;(RuntimeException.java:4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t UncheckedMain2.main(UncheckedMain2.java: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C27C-A0CD-4914-8F8B-D3CFB954231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ion objects have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String getMessag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void printStackTrac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String toString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methods are used when an exception is caught, to provide diagnostic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D40C-5E0C-4E34-8EA8-296CEA131B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ows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9960" y="1870200"/>
            <a:ext cx="786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Speed(double s) throws Runtime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Check the validity of the reque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Math.abs(s) &gt; maximumSpeed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Too fast. Don't proce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ow new RuntimeException("Speed "+s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 is beyond the maximum of "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ximumSpee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eed = 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31C-925B-41F1-90E1-F64C785EEC0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Construction Fail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2680" y="1965240"/>
            <a:ext cx="8258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ircl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ircle(double r) throws Runtime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r &lt;= 0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new RuntimeExcepti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The radius must be positive: "+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dius = 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49F3-F0B0-4CAB-B0CC-A2354B6FF56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ed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checked exce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hecked do not require a throws cl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hecked do not have to be 'caught'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ecked 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ed do require a throws cl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ed do have to be dealt with in some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DB3D-C31F-4209-B8FE-EDA1A430197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dcterms:modified xsi:type="dcterms:W3CDTF">2000-02-24T08:39:30Z</dcterms:modified>
  <cp:revision>18</cp:revision>
  <dc:subject/>
  <dc:title>Exceptions</dc:title>
</cp:coreProperties>
</file>