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2FC99-AF4F-4297-A789-F56597B31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2D7B8-890C-4005-B283-0EF3B1352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4A4D6-9FF0-42E3-8BBE-623F8DBB8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9526B-8F71-42F2-A961-3601F3707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BF854-2524-4038-B5C8-49DF421A6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BFF1D-2B97-4616-A03A-EE5962504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2E696-4EC1-49CA-9110-A29649FAA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63342-A6D9-4D3A-A931-3C965BAAE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3F0FD-0B73-4A76-AD6A-0069993B4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99F33-1126-445D-9745-9864174A3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5DB75-9095-42BD-8EB6-E53F7EE65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E0B71-F8B2-4959-B4D8-F86F7DE38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AD0D2-36E1-494B-9718-3FFC76C0D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A32B5-7F89-478E-856E-44D9BA3BF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80C6A-7970-4945-9320-3939BAADF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CE870-5E5C-4BE9-A777-91692A2F8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AB0F9-91FF-4E0E-916F-FF2E45AC3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2AFC3-7AD2-46BA-8857-2BCFB7878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702F4-7033-426F-9CB0-F708F15B0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DBD1D-0F1C-4F97-A649-ECB1657BC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18EFB-548B-42B2-A817-136B028E7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00571-2918-484C-AC12-40D461B47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79023-31CE-4449-A27B-E1A0E33F7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EBDCD-C7A9-4D76-B166-9633C4531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EED49-EC78-49A1-98F3-969174670B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OOP with Ja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its, Bytes, and Ja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D0F79-DF9B-4868-86A3-BCE74A1563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rouping Related It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often need to group together related items of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ds in a pac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ips in a por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va provides two distinct faciliti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xed-size array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lexible-size collection classes 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java.uti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rays and Further Control Structur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B2766-9D6E-4AA2-9077-89ACBD86B1E5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urther Initializer 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39880" y="1828800"/>
            <a:ext cx="7495920" cy="41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ring[] suitNames =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"Spades", "Hearts", "Diamonds", "Clubs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oint[] vertices =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ew Point(0,0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ew Point(0,1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ew Point(1,1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ew Point(1,0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YearlyRainfall y2k = new YearlyRainfall(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ew int[]{10,10,8,8,6,4,4,0,4,4,7,10,}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rays and Further Control Structur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0F41A-59C3-46FD-A421-BCB1F0B89682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For Loops with Array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79600" y="1965240"/>
            <a:ext cx="795312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int totalRainFall(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Obtain the data valu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inal int[] monthlyValues = getRainfall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totalRain = 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inal int numMonths = monthlyValues.length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or(int month = 0; month &lt; numMonths; month++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otalRain += monthlyValues[month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urn totalRain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rays and Further Control Structur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C6F17-1F6E-46B8-A9FB-7459B7CE1512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terating over an Array in Rever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55920" y="2270160"/>
            <a:ext cx="76482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void printInReverse(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inal double[] numbers = getMarks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or(int index = numbers.length-1; index &gt;= 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dex--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.out.print(numbers[index]+" 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rays and Further Control Structur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5279F-2BDE-4F71-8C76-780B9C011B6A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itializer Bloc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8640" y="1676520"/>
            <a:ext cx="82580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vate final int numSeats = 15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The status of seats in a theat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true means the seat is free, false means occupi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vate boolean[] seatStatus = new boolean[numSeats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All seats are free to start with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or(int i = 0; i &lt; numSeats; i++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atStatus[i] = tru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57200" y="4876920"/>
            <a:ext cx="8016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tic initializers are available to initialize static fie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rays and Further Control Structur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60461-49D2-4CB4-9DA3-98DA2F2EB989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Main Method Array Argu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to access command line argument valu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java PrintArguments x y 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trings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"x"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"y"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"z"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re placed in the main method's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arg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rgum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there are no arguments, the length of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arg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zer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rays and Further Control Structur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A1808-17E9-4D9A-883E-27E6716BB5B5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Command Line Argu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06360" y="2057400"/>
            <a:ext cx="841032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lass LookupWords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lossaryManager glossary =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ew GlossaryManager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or(int n = 0; n &lt; args.length; n++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.out.println("Looking up "+args[n]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lossary.definition(args[n]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rays and Further Control Structur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262AF-50C9-469B-B570-47879DB5ECF6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pying Array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47720" y="1878120"/>
            <a:ext cx="7648560" cy="28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Make a copy of the Point dat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void setPoints(Point[] p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(p != null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inal int numPoints = p.length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oints = new Point[numPoints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Copy from p to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.arraycopy(p,0,points,0,numPoints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rays and Further Control Structur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02D03-3140-47AD-93E2-9AC4181965BF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arching an Unsorted Arr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often need to search an array for a particular item of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data is often unsort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item might or might not be pres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e must be taken not to search beyond the end of the arr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need to decide how to return a found ite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rays and Further Control Structur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A16AE-A978-44C7-9DDE-FA532B59D5EC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arch with Multiple Retur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19120" y="1940040"/>
            <a:ext cx="780084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int indexOf(int[] numbers,int value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inal int notPresent = -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or(int index = 0; index &lt; numbers.length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dex++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(numbers[index] == value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urn index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We did not find i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urn notPresen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rays and Further Control Structur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20716-DD8B-4819-8B41-60F4B4263B08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arch with a Single Retur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960480" y="1660680"/>
            <a:ext cx="719100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int indexOf(int[] numbers,int value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inal int notPresent = -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index = 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oolean found = fals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hile((index &lt; numbers.length) &amp;&amp; !found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(numbers[index] == value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ound = tru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lse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dex++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urn found ? index : notPresen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rays and Further Control Structur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4E134-CB28-4D34-AC25-933974E733A7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lems That Arrays Sol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886320" y="1609560"/>
            <a:ext cx="7587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lass YearlyRainfall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int meanMonthlyRainfall()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(getJan()+getFeb()+getMar()+getApr()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May()+getJun()+getJul()+getAug()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Sep()+getOct()+getNov()+getDec()) 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umMonth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int getJan()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Jan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vate static final int numMonths = 1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vate int Jan, Feb, Mar, Apr, May, Jun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Jul, Aug, Sep, Oct, Nov, De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rays and Further Control Structur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C3600-4839-4510-A522-7DBB4A9091DC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Arrays Cla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ed in the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java.ut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acka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ains static methods for manipulating array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binarySearc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search for a valu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equa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compare the contents of two array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fil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fill an array with a particular valu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or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sort the contents of an arr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rays and Further Control Structur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0F709-8FFF-4C45-9FE0-43537DF4D5FB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-Dimensional Array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rays of multiple dimensions are possib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D grid, for a board game such as ches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D cube structure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lti-dimensional arrays are regarded as being arrays of array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n-rectangular structures are possib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rays and Further Control Structur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A0F90-CC49-4CC7-8B68-8D788203E167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D Array Constr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19120" y="1736640"/>
            <a:ext cx="764820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inal int numRows = 10, numCols = 5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ouble[][] matrix = new double[numRows][numCols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ouble[][] grid = new double[numRows][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or(int row = 0; row &lt; grid.length; row++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rid[row] = new double[numCols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har[][] hiddenWord =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 'd', 'g', 'i', 'b' }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 'e', 'i', 'u', 'm' }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 't', 'a', 's', 'a' }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rays and Further Control Structur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3A559-71FB-483A-BD86-646031EFF8C3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n-Rectangular Array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417680" y="1940040"/>
            <a:ext cx="612432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inal int numRows = 5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[][] triangle = new int[numRows][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or(int row = 0; row &lt; numRows; row++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riangle[row] = new int[row+1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[][] pascalsTriangle =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1}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1,1}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1,2,1}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1,3,3,1}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rays and Further Control Structur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2A8AC-D587-4B18-B230-E81DA2B4B4FC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urther Control State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va defines several further statements that affect a program's flow of contro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witch Stat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Break Stat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Continue Stat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tements may also b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abelle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rarely use this featu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rays and Further Control Structur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79EA3-831F-4176-BB26-9B8C620AAC23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Switch Stat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integer expression is used to select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ase labe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se labels are integer constant express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efault labe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rovides a no-match op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bels mark statements to be executed on selec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brea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tatement is used to end a ca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rays and Further Control Structur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5A667-8ED3-4ECB-8325-38695986B8BF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Switch Statement (cont.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16600" y="1600200"/>
            <a:ext cx="8273160" cy="45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void menuAction(char choice)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(choice)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'd'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ele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'i'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sert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'h'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help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efaul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ystem.out.println("Unknown command: "+choic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rays and Further Control Structur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9A03B-E2F0-4FB4-95AF-2ABED27899A0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Break Stat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06720" y="1736640"/>
            <a:ext cx="85626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int indexOf(int[] numbers,int value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inal int notPresent = -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index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oolean found = fals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or(index = 0; index &lt; numbers.length; index++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(numbers[index] == value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ound = tru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Leave now - before index is incremen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urn found ? index : notPresen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rays and Further Control Structur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BCB78-7E86-4307-A67E-D179DFB9E6EE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Continue Stat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884520" y="1523880"/>
            <a:ext cx="719100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void skipPrinting(int x, int y, int z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or(int num = 1; num &lt;= 100; num++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((num % x) == 0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ntinu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((num % y) == 0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ntinu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((num % z) == 0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ntinu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This one isn't divisible by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.out.println(num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rays and Further Control Structur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8CA23-7258-4EF5-B464-66F833C3BEEB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beled State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y statement may be preceded by a label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identifi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bels may be the target of break and continue statem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 is no goto statement in Jav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simplifies breaking out of deeply nested loop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feature should be used with cau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rays and Further Control Structur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787CF-619F-4991-BC15-9A24633F85B5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rays for Primitive-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55920" y="1828800"/>
            <a:ext cx="76482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lass YearlyRainfall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Fixed size of the rainfall arra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vate static final int numMonths = 12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Declare an attribute to hold the month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rainfall figur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vate int[] rainfall = new int [numMonths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07960" y="4373640"/>
            <a:ext cx="812520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quare bracket notation is distinctive of array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ype: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int[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truction: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new int[...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rays and Further Control Structur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8932F-8A93-4FF6-8D89-1C1D985B2E70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rays make it possible to group related items in a single objec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array's length is fixed on construc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rays may have multiple dimens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witch, Break and Continue statements provide further flow control capabilit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beled statements should be used sparing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rays and Further Control Structur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A5714-72E6-4FE3-8DB5-594B2C91CF3C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rays for Obje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2680" y="1828800"/>
            <a:ext cx="84103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lass CardGame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There are four distinct suits in this gam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vate final int numSuits = 4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An array for the names of the distinct sui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vate String[] suitNames = new String[numSuits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57200" y="4297320"/>
            <a:ext cx="794052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B: No String objects are created. Only a container for String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location is initialized to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rays and Further Control Structur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3F34C-5B6D-4C39-898A-B2DF2CA1157E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ray Length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length of an array is fixed on construc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array object has a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ttribu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individual elements of an array are always indexed from zero to (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length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rays and Further Control Structur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4DD8A-C604-4F6C-A731-357B7050096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dexing an Arr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916200" y="1736640"/>
            <a:ext cx="749592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Store the rainfall figure for Januar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ainfall[0] = 3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Compare the December and November figur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(rainfall[11] &gt; rainfall[10]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"December was wetter than November.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Correct an error of 1 millimeter in March'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rainfall tot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ainfall[2]++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rays and Further Control Structur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64382-FE34-4279-9FE9-B89A2F1E1E1E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cessors for Array Attribu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63920" y="1711440"/>
            <a:ext cx="764820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lass YearlyRainfall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Return a reference to the arra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int[] getRainfall(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Independent copy not returned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urn rainfall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Fixed size of the rainfall arra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vate static final int numMonths = 12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Declare an attribute to hold the month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rainfall figur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vate int[] rainfall = new int [numMonths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rays and Further Control Structur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DE405-5EF7-401F-840D-B64D9F8FECAE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tators for Array Attribu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341360" y="1812960"/>
            <a:ext cx="658152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lass Polyline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Polyline(Point[] p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Points(p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void setPoints(Point[] p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(p != null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Independent copy not taken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oints = 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vate Point[] points = null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rays and Further Control Structur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E2734-E3F7-49CA-B322-CA6AEB33051A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itializing Array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7600" y="1600200"/>
            <a:ext cx="78004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lass AssignmentMonitor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Differentially weight the assign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vate int[] assignmentWeights =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, 2, 1, 5, 1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vate final int numAssignments =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ssignmentWeights.length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06320" y="4495680"/>
            <a:ext cx="3789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ne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equir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rminating semicol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onal final comm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rays and Further Control Structur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DC5C2-64ED-4893-95B9-3D4A26CF05EA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7T11:23:09Z</dcterms:created>
  <dc:creator>David J. Barnes</dc:creator>
  <dc:description/>
  <dc:language>en-US</dc:language>
  <cp:lastModifiedBy>David J. Barnes</cp:lastModifiedBy>
  <cp:lastPrinted>1999-09-29T12:47:07Z</cp:lastPrinted>
  <dcterms:modified xsi:type="dcterms:W3CDTF">2000-01-26T14:45:29Z</dcterms:modified>
  <cp:revision>27</cp:revision>
  <dc:subject/>
  <dc:title>Arrays and Further Control Structures</dc:title>
</cp:coreProperties>
</file>