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683-8DB2-4802-87E8-31A16E4B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01D-F993-498F-97F3-8DF9B01F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0FF-1E93-4AF3-85AB-C95CC02E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990-AE3F-47EF-9D19-B9CE78A6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D6AF-08F1-44F0-99D1-AD39A3F4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D419-28DF-4894-9802-203660EA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3FDF-E1F6-46BD-9DEA-D26C15B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3810-FD1A-4C69-B319-2F0EB3D3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1BF7-E2A8-4D17-AE04-66DB651A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0B8B-0BCE-468A-9424-2F229046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BF9B-11B6-425F-9A36-A285C05B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5DE-9814-486D-8E50-EDA0C050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4D35-A317-4655-AE29-D7E21D70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D716-CAF6-40F0-AEC0-FF1C5D8E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4D1B-949F-4479-8118-1A8680E9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CBF7-90A3-4138-93EF-50E34B3B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13C5-AF7A-451C-8F97-9351BC0E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5E3-8A8C-4A6D-9B94-93668026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D08-3C5B-41FA-AD72-B845604E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019-2F3C-42E3-A87A-7B0AF472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979-E15C-438F-A5B8-E9E0A17B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FED-C80E-4679-809A-86157A3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418-F259-446C-BCE9-809AFDF9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D60-0A60-4856-A34D-C352299A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42E3-A779-4478-A5F1-C221FD907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4203-2C42-497A-BA97-2EFCC9C33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Past the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is responsible for checking that programs obey a language’s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ntax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mantic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 errors could still get thr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gical errors only manifest themselves at run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BBF-08DC-46B7-9E2A-00A33A833D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damental Languag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erved Words (over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k similar to reserved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ly Brackets - always in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8480" y="4343400"/>
            <a:ext cx="68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oth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454-2546-45E9-B5BF-EF0EED8C69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imple Structure of a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hods have a header and a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body contains declarations and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ai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rogram’s star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mal arguments between parenth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CC5-BDAD-4933-BAB7-8D364F4C58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ite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for human rea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space only required between identifiers and reserved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othing{public static void main(String[]args){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nt to show program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be consis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0CB-99CC-442F-BC04-C5C6F99060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ly for human readers; ignored by the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orms in J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A single line com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The text of a multi-line comment may be spread over several lines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* Javadoc multi-line comments contain program documentation directives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AB4-47BA-4094-81B5-876D059FFA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ing and Running A Simpl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89080" y="2819520"/>
            <a:ext cx="6886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program to print "hello, world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hello, world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in the fi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l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410-78BF-4815-BE10-BBB9BC837E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Edit-Compile-Run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the file,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ell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ile (using JavaSoft’s SD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c Hell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Edit to correct error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n using the bytecode interpr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dit and repeat until satis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F78-E304-484B-8152-181974721E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ytecode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ava compiler creates per-class bytecode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bytecode file has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ff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Hello.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ame bytecode file may be run on any machine with a bytecode interpreter, without recompi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46A-7859-481F-86F0-A3700E985E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s apply stringent checks to the text of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may not be run until it comp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starts running from its mai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is compiled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iled program is run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A07-F355-4CB0-BB70-3D2E8E56F8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0-09T09:09:06Z</dcterms:modified>
  <cp:revision>9</cp:revision>
  <dc:subject/>
  <dc:title>Common Program Components</dc:title>
</cp:coreProperties>
</file>