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B57-7CFF-4128-9291-BA1B3126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4CC-0A19-41AB-850D-911043A4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2CB-948B-45C2-B3E4-F99CE800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B77-9DA3-4ED9-ACA8-382B08E5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A52C-A50B-4801-B176-C6D84F8A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6D29-899A-4920-ADE7-7A237023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EA79-2269-4CE4-B032-12B4389B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89B8-E731-43E7-9657-000D8942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2C5F-41B2-4A8C-A2E0-8344BFED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BA20-3992-447D-BBF1-CD9C1596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4D9E-6CEC-47E9-849C-A83EA48C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1E7-EBEB-45C4-B353-D3C6752A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DA7C-CA29-4E32-A847-DD254CEC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C42D-38A6-4B87-9A8E-3DA886B8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9149-B671-49B5-83E8-17D6952B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0E44-606C-4A99-8030-C5531F59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A594-67A3-47D4-A7D9-E539E631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07C-B36A-43A8-8615-98A6380C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B47-F353-4369-8C5B-F518BF65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919-AA3F-4FAD-981A-6A7C2B16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776-0C37-4C7E-9B5E-F3DC16D2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774-8D06-44E0-B8E3-8F0685AC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E44-5E35-4276-AC46-C6B5409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ABC-7674-4E32-953B-1DBCC169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93C6-F26E-43BE-80E9-32544009A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DB35-A4E2-4235-AF77-D1027E11C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programs well is a challe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ftware engine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programs to solve ever more complex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lps to bridge the gap between a problem and its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F37-B856-40EA-AADE-87760663B10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Level Programming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U instruction sets are low-level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level programming languages represent attempts to make writing programs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gol, BASIC, C, C++, COBOL, FORTRAN, Java, Pascal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666-6F1D-4250-A91E-0CBD0F4602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’s Ance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a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reimplementation of C++ in the early 1990s by James Gos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ded for intelligent consumer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ak became Java in 199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ty and Security of primary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nently suitable for We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 powerful language in its own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71E-BAE3-4F54-9B57-BAC810AD26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-level languages provi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gh-level language program must be translated into low-level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a program’s por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d versions may differ in subtle ways on different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F3B-8E3D-43DD-B6C2-879AA96A6C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's Approach to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implementation on different machines is rigidly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defined to be run o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rtual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VM is an imaginary CPU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r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are translated to bytecodes by the Java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ed program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pre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FDA-6CD4-4821-B5FA-0717F85E96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bit has a value of either 0 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yte is 8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PU repeats the fetch-execut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PU has its own instruction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-level languages must be trans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are translated into bytecodes for a Java Virtual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45E-29E0-4BD4-BA1F-3D1D01324D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mple Model of a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Processing Unit (CPU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cess Memory (RA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drives, keyboard, mouse, prin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-and-Feel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 mana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AF1-A2B3-455B-AC72-604AAA23EF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-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y Dig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value of either 0 or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ety of hardware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, light level, magnetic fiel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damental building block for model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390-8F4C-4F95-AA2F-32262B9FAF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Bits to Model Real-Life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s allow us to model real-world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bits model four door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bits model eight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values represent impossibl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(models) should not enter impossible or inconsistent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C6D-CBD1-408D-A143-9747DE91A3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bits is known as a by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byte can represent 256 different patter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and software often deal with bytes rather than single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 Megabytes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Gigabytes of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byte data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E57-636A-4A4E-B7F4-D1F7CEF456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Powers of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24 (Ki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5,536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8,576 (Me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,073,741,824 (Gi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,099,511,627,776 (T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D17-530C-464E-B4C4-C0AB00A7BA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entral Processing U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utational heart of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PU obeys its ow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 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instructions are usually si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often only run on a CPU with a particular instruction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programs are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DEB-A4C4-44AB-8445-91D5074D09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etch-Execu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lessly repeated by the CP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ch the next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he instruction just fe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structions are fetched from the computer’s fast-access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 cou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dentifies the next i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incremented between each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EA7-98EC-4BD5-A2DF-5ACEEC6002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pping and Repeat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tch-execute cycle will perform an infinite linear sequence of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often want to repeat some instr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often want to skip some instr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an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chieved by modifying the program counter’s cont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ters which instruction is fetched n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9F8-8D1E-4C45-9E4B-38BC93E8CB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0T09:07:15Z</cp:lastPrinted>
  <dcterms:modified xsi:type="dcterms:W3CDTF">1999-10-25T10:17:59Z</dcterms:modified>
  <cp:revision>15</cp:revision>
  <dc:subject/>
  <dc:title>Bits, Bytes, and Java</dc:title>
</cp:coreProperties>
</file>