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6C5-D6EB-48AE-8931-362252BC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B6B-A885-417E-BB85-8CD11B9E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8C4-6B63-45D0-B073-06AEF841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446-A0DE-4622-8B2A-7042DC2F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E4D5-BCDB-42EB-A0EF-0DD053D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6D72-E771-48FF-987C-D28DCBC1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AE0-6D26-4835-B98F-F8BE0B2E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ADEB-7291-410E-B20D-9AF85251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78BE-D59E-48B4-809C-6290DD4E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8805-79D2-4A10-B31F-D7B0356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51D4-537E-45C6-A609-DFAC14AB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367-BDBE-472F-9A34-03AAB1C1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5DF-13D8-40ED-8FEA-F78BE34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7CAB-BC69-4099-95FD-E0BDF10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521F-627A-44D2-860C-E1C5A1D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8AA2-7996-445B-BAD1-AB31B02E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99D6-90A0-4822-B12A-04B71965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7A4-F63A-4159-8613-F57D3811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B5D-5F7D-4040-8D5B-F15EE7D3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227-8018-4E17-BD6C-8E99BECD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9D5-ED71-4B46-B3E1-FA20FF11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84A-13C2-4BFD-A887-9B8A20E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3ED-EDCF-43F8-B1EC-0E84725C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C43-21E2-4DB3-8F24-0DD917E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C49-7777-448C-B4A8-0E33A3EE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CB6-482D-4C7B-B771-151E94904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Flexible Size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and Object Id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ng through a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B26-1326-477C-AD8D-A821A8A7EB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classes cannot hold primitive-typ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ust be wrapped i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has a wrap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, Character, Double, Inte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Value, double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parsing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4D5-7E6E-4BE6-993C-874BA71ADE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52640" y="1889280"/>
            <a:ext cx="612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 list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um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wrapper = new Integer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.add(wrapp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rt the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ections.sort(li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B66-09D6-4056-BA28-18389A7BB8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through 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00" y="1782720"/>
            <a:ext cx="52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use integer ind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36800" y="2651040"/>
            <a:ext cx="764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Items = nameList.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numItem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(String) nameList.get(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41911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ould be inefficient for a LinkedList, because it does not store its items in an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37E-58CF-4C29-9062-B62DC59E7A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fficient iteration over an arbitrary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7680" y="3108240"/>
            <a:ext cx="612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 names = nameList.itera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ames.hasNext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who = (String) names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who.startsWith("X"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s.re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214-1B68-418A-AAB7-B107478781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 and Stack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its efficient retrieval of data from random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often more ord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In, First-Out (FIFO)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-In, First-Out (LIFO) 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well suited to supporting such specialized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ECA-FF68-4CAE-AC3D-9ED9DAF2A0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every-day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queues, traffic jams, cafe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at th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list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 at the 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list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move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9E8-D4EA-4765-BC1F-796289DD94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interface of Card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720" y="175248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a card to the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dd(Card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Queue().ad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move (and return) the next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ard nex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Card) getQueue().removeFir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collection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nkedList queue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E2D-45B0-4F06-B706-6FCE040EC1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common in everyda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ys in a restaurant, cards in a discard p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time stack, recursiv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at tail (push), remove from tail (po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nterface to Queue, but different semant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4A4-50B9-42AC-992C-5A0A6A2767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interface of Card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880" y="166068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Stac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a card to the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dd(Card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tack().ad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move (and return) the last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ard nex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Card) getStack().removeLa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collection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nkedList stack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A2F-0E17-42F1-9E62-CEBB2151D1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 and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commonly available for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ample of inappropriat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d Queue and Stack classes easily created for oth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ic types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4E1-D825-4D99-A4F4-3519FDEE2C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Size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applications, the required size for a collection may be unpredictable o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s in a hand (bounded but vari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s to a radio phone-in (unbound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ngers on a ferry (unbounded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not always suitable for holding such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8FC-ECED-4DF5-9CE1-6D0D5B9D93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recursion - often accid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ed recursion. An alternative to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solutions to divide-and-conque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FAA-970B-49DF-8C7F-F2C9272BE6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inite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or Egg conundr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rtioning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hit me, he hit me first, she did, he did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ary spi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 prices to cover higher wages, raise wages to cover higher pric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0A1-0202-402E-9663-F5F2391991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cken or Eg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9360" y="2590920"/>
            <a:ext cx="612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hich came 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chickenOrEgg(String which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out.println(whi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which.equals("Chicken"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ickenOrEgg("Egg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ickenOrEgg("Chicke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960" y="17064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invokes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803-3627-4DCF-948B-C4C7E3F58FB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9240" y="1658880"/>
            <a:ext cx="854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chickenOrEgg("Chicken")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: chickenOrEgg("Egg"), which prints Egg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chickenOrEgg("Chicken"), which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:   chickenOrEgg("Egg"), which prints Egg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 chickenOrEgg("Chicken"), which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920" y="344808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finite sequence of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9080" y="4114800"/>
            <a:ext cx="67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quencePrint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uencePrint(n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ever reached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nd of print: "+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AC5-08D1-4544-B1E5-7BBCA5CC30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calls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 calls method Z, and method Z calls method A before it ha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spot potenti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749-34EA-4C86-9F08-9243C81199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ing Infinite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can also be in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inating condition is never trigg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must be an 'escape route'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n-recursive path through a recursiv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limit on the depth of the recu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F04-29F1-4B89-AC68-1F77A938AF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mited Recursiv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6440" y="1752480"/>
            <a:ext cx="5972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quencePrint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long limit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 &lt; limi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uencePrint(n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nd: "+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2200" y="432756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End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280-0243-4DEE-9C05-5A598F5C506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Fa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736640"/>
            <a:ext cx="6429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long factorial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(non-recursive) base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 * factorial(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466740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ltiplications cannot be applied until the recursion unwi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A77-5BEF-48D0-953C-B0210EDEAC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 and Conqu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 problems often involve recursive 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data set can often be broken down quickly into smaller sub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chnique is applied recursively to each sub-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verall technique is applied recursively to a single sub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F21-18C1-42EF-BE2D-79C8DD88D4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812960"/>
            <a:ext cx="642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 the mid-po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the target element is too big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again to the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the target element is too sma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again to the 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 have fou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9400" y="521172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Try again' implies making a recursive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B54-6CC1-41A7-8B17-AD4F7301B4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Unsui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er array might arbitrarily limit the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large array will waste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ight be no guarantees that it will not overflow, any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create a new array if the old one fill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with notifying ali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77F-2AE4-444D-BFA7-ADA770BD75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0960" y="58752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indexOf(int[] numbers, int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ch-part-to-examin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no-more-items-lef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otPres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dex = find-the-mid-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value &gt; numbers[index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Of(numbers,value,right-hand-si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(value &lt; numbers[index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Of(numbers,value,left-hand-si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4A2-C286-4094-9F16-58E9D1D748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roblems require flexible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ording to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cast when retrieving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rapper classes to store primi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erate through a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8ED-0528-4F0E-B9AC-42AB76254E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ion classes often form the basis for further specia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ue and Stack are the most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is an alternative to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may be directly or indirectly recur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ing infinite recursion requires a non-recursive 'escape route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0A1-7532-4F5F-85BE-088B658CAF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-and-conquer solutions often involve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is one example of a divide-and-conquer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AB6-8B6E-4C18-AC74-02C13193E7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 Collectio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classes, defin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and contract 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asted space, no arbitrary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nly hold objects, not primitiv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solve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C72-495B-4F3A-BECD-5032E9A27A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List for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7600" y="1889280"/>
            <a:ext cx="749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RadioShow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ore the names of call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ArrayList callers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8840" y="4495680"/>
            <a:ext cx="800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an equivalent array decla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[] callers = new String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3FF-D0C3-402A-9369-69067B6748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Lis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in a collection `lose' their id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n index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...size()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List defin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, get, set, 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items are automatically 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tem's index might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pacity grows auto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mTo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minimize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966-DCFF-4C13-AC5D-32D2E20FEC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and Object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both a dynamic type and a static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'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'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the variable used to ref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treat everything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generally passive, not needing to interact with the items they co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B72-BDD7-42CF-AE54-DBBA9E35CC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5720" y="17524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ing an object usually requires a c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9080" y="2606760"/>
            <a:ext cx="68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rrayList callers = getCaller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the first caller (compilation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aller = callers.ge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380988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 cannot tell that the object is a String, so an explicit cast is nee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9080" y="516564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aller = (String) callers.ge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53A-78EE-4150-AA2B-5F3476ED6B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ilar interface to Array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, clear, get, indexOf, remove,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direct access to first and last items in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 getLast, removeFirst, add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able for data structures, e.g., stacks and que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328-D4BB-4999-A9EA-49060B4DA4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2T14:56:21Z</cp:lastPrinted>
  <dcterms:modified xsi:type="dcterms:W3CDTF">2000-02-09T10:11:49Z</dcterms:modified>
  <cp:revision>25</cp:revision>
  <dc:subject/>
  <dc:title>Collection Classes</dc:title>
</cp:coreProperties>
</file>