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DD56-D17C-4CE0-ADA2-936B6EA9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2EE-9693-4AC9-B179-BB25A3FC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8B7-FB4E-4E95-8A4C-77B60FA9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180-79AC-4E04-BE64-7A06F72D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373B-4C5F-4884-BC78-399EC24B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5C34-02F4-4CB9-B6B0-423A86F9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A2A8-E9DF-47B1-A5C9-769C82FE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87B4-BD70-40A3-B4DE-1AD20B61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2C4C-768A-444B-BEC9-8F365056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7C73-52FD-4052-9522-C42A0D7C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AFA0-F3E0-4600-AEEE-C620D33D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2BF-A34F-4536-B592-589055AC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24F7-6B69-45AB-ADAB-B50AAFC1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2B10-667E-4981-8111-8B12EBC5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F035-384B-4671-943B-3FE69899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3182-2CC1-4227-9C08-C1C6136E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F268-E4A5-49ED-8F51-0801C519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19E-AFFD-408F-8EC1-C2F35E9B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8C0-BF40-4A43-B3C1-5DC692CC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4A4E-E6DF-45B8-A91C-BFDE23AE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428-1FE6-47F4-82EA-02F28701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B51-7DF8-49CC-B0FF-16B28349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C08-ABE7-465A-B5CD-9C56686A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A2E0-2E3C-4FC2-80DA-D0DD5B2D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ADDA-2B9D-42B6-B048-E3001F78A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9D9C-C0D2-42C9-852E-4E2BF6BE9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dding Behav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vious class definitions have passively maintained attrib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tive behavior invol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quences of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oices between alternative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etition of one or more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ements inside method bod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FBF-5F1C-4507-B5A9-018F637735D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 Concate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addition operator has a further use, when one of its operands is a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eate a new String that is the concatenation of its operan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"big"+"apple"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reate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"bigapple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non-String operand is converted to a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"version "+1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reates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"version 10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06B0-32BA-436F-801A-64C5B1E500E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Char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Java, a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ccupies 16 b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va based on the Unicode character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racter literals enclosed between single quote characters: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'A', '9', '!'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r values may be stored in integer variables, but not vice-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2695-C1AA-43EF-A0E6-1AFEC81272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Con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licit Type Con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ger to floating point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ss-precise value converted to more-precise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imitive Type Che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ore-precise value may not be used where a less-precise type is requi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, cannot store a double value into an int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E93B-3BF7-4198-8953-79417191A99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imitive Type Ca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normal type checking rules may be subverted by using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a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ype name written between parenthe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x = (int) 3.1415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sts usually involve loss of information, so may be ris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07E-012D-49EB-AF4A-DF8238B58D1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bined Assignment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 and assignment are comm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alance = balance+amou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d assignment operators exist for all the binary arithmetic operat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rk *= scalingFact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86A-8039-492C-87FB-27EADE0C201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ading Input Using SimpleIn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impleInpu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a class to simplify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ading Numerical Val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extInt, nextDou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ading Str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extLine, next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ading Boolean Val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extBoolea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ading Data from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437E-6749-49F3-A418-5738CB437D6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ct behavior often involves sequences of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ndard arithmetic operations are avail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der of precedence must be conside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ype compatibility rules must be obey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ast permits normal type rules to be bro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52D-6D6A-4170-8322-D4AD27D40A7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tting Things in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sks commonly involve performing a sequence of 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irst do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Then do t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inally do the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rolling a Shi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ove, setCourse, move, repor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FCD8-2934-4CCE-96DC-EA8B039FA7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 and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rders make no s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hip cannot be moved before it has been constru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orders may have different eff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l your old car. Pay the money into a bank. Write a check to buy a new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check to buy a new car. Sell your old car. Pay the money into a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218-E5DD-492C-B78E-881D6CB7BC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 and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often matters when actions are dependent upon the state of some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osits and withdrawals affect the state of a bank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ning fossil fuel affects the environment in which individuals l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F8E-C64B-421E-91F0-6B9A9E7E05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icit and Implicit State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ors names are chosen to show that they have explicit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F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methods have implicit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itly affects a ship’s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6EA-BCA3-4986-BD0D-3858000651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rithmetic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ions involving numerical data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yte 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int, long, sh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, flo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s for addition, subtraction, negation, multiplication and div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results for integer and floating point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F92-65F5-4ED4-B351-6E518A2367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Addition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240" y="1752480"/>
            <a:ext cx="8105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PennyBankAccoun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redit the account with the given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credit(long amoun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Find out current bal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 currentBalance = getBalanc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dd in the amount to be credi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rrentBalance = currentBalance+amou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et the attribute from the new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Balance(currentBalanc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732-8DBA-4261-ADCE-20F1A7A24BF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ultiplication and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operators are: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* /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between integers results in trun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/3 gives a result of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between floating point numb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0/3.0 gives a result of 1.66666666666666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us (%) gives remainder after div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%3 gives a result of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E71-A6E8-4CA8-BC2F-07D33925EB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rder of Prece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governing order of evaluation in a multi-operator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 take precedence over opera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ication and di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 and subt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to right for equal precedence opera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2611-9DE5-47F6-B0ED-4F4AB1C370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dcterms:modified xsi:type="dcterms:W3CDTF">1999-10-09T09:10:12Z</dcterms:modified>
  <cp:revision>14</cp:revision>
  <dc:subject/>
  <dc:title>Adding Sequential Behavior</dc:title>
</cp:coreProperties>
</file>