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6D25-DFE0-4BE5-888D-0D2F9476C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4FF3-1FEA-49AE-BF85-9C23BB8F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FE9B-D447-4E51-9139-514A34999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DC11-5DAA-41B0-A959-A05BEF2AC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24B8-CED8-470E-80A0-115890B85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368F-1C9C-44AD-91CE-961F914C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A174E-79E6-480A-B9AE-0F5E7A91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92EC2-C2CF-4E01-87DD-772CD71D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B645-E2E9-4606-BAF8-A63AC98E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761E-FE77-423B-8DD7-FF2A63BE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BC94E-0411-435D-9D9C-601C8F98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ECDA-C34B-48BD-BC1B-50A03B39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D42F-6DE7-47E6-BE10-490032AD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8C72-40B5-4546-AB18-7A88F6B5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B771-D972-49C8-9938-6641227E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85BAD-F99A-4A60-9B42-9B7787932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6947-5E5F-4636-9F2C-CC2F52D31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56C8-6C51-4F31-AC6B-C1F6588D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580E-CCE0-4953-8DDD-8C7079FD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79C4-79F7-4FE5-89BA-215EB9CCE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B7D6-E1D2-4E27-924C-1BF91988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ED71-94E0-4A5A-B2E5-994C0B62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A948-E727-4083-A9BC-49BFB5C7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FDB6-A77C-4EA6-A6B5-4A2E7579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548E-6366-43A0-8EB4-0FDAB9516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OP with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s, Bytes, and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5D5A-B74B-4BE1-AB6A-B2559045D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petition of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petition of statements is a further common facet of everyday life and object behavi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peat every day: Get up; have breakfast; go off to work; have lunch; do more work; have an evening meal; relax; go to b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Java has three types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oo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for repet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while, do, fo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Repeti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6ABF-B9EF-4302-921F-CBC7111AEAC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crement and Decr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as a shorthand for add-one-to and subtract-one-fro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lue = value+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lue +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lue++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fix and postfix for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+val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-val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lue--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Repeti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1921-2489-4E79-A451-3B4CC4FD85E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 For Loop to Print a Sequ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9120" y="1940040"/>
            <a:ext cx="8105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printNumbers(int maximum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nt nextToPrint = 1; nextToPrint &lt;= maximu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xtToPrint++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(nextToPrint+"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3440" y="4479840"/>
            <a:ext cx="7237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the loop variable declara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 sit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ble is not available outside the lo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Repeti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50F7-9666-4F85-BE75-6F8F9AC11BC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tional Header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expressions in a for loop's header are opt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ission of the middle expression (the condition) creates a potentially infinite lo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wo outer expressions do not have to be explicitly concerned with loop contr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usually are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Repeti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1B19-6E0D-47CE-B410-0DAFC9B25C2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Loop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41720" y="2117880"/>
            <a:ext cx="4142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Countdow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 ; n &gt;= 0; n--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Print forev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nt n = 0; ; n++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Repeti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DC45-CF61-4F6F-A5B4-45EC8C58B21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Comma Op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6200" y="1649520"/>
            <a:ext cx="734328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Use isPrime to count the number of pr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numbers from 2 to ma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int countPrimes(int max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numPrimes, possib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numPrimes = 0, possible =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sible &lt;= ma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sible++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isPrime(possible)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Primes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numPrim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Repeti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3C69-83D8-468B-9AF1-7A848F1D8E4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de Blocks and Sc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bodies of control structures define a further scope lev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lass 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thod 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trol structure 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ariables may be defined within ea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ope of a variable is limited to its defining blo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Repeti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BBCE-3033-46BA-B916-7FE996B5A9D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ized Definition and 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65400" y="1828800"/>
            <a:ext cx="61243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x, 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Statements using x and 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x &gt; y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Swap the values held in x and 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Hold onto the value of 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temp = 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Copy y's value into 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Copy into y the old value of 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 = te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Repeti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22EC-94BB-4E64-8316-B0D677FFD2E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al Variables and Arg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odifier may be used to indicate a constant 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inal int DOZEN = 12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inal double NUMDEGREES = 360.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ppercase names commonly used for special val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rmal naming used simply for optimiz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Repeti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7A04-FA2C-4098-B7E5-C84EF58126B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Fields and Constru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inal field must be initializ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its declaration,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in all of its class's construc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in an initializer blo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ke a method without a bo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uninitialized final field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lank final vari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Repeti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2867-66F5-46B9-AE14-CD7CC9B11E1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atic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nly available as fields of a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thod variables cannot be stat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monly used to provide global access to constant values of significa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ublic static final int Jan = 1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c variables exist independently of inst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stances share the same static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Repeti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0561-1AF4-4968-9AA9-3A2A3C419D2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While L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3429000"/>
            <a:ext cx="6858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(condition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Repeat multiple stat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167652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led by a Boolean expr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ware of its (syntactic) similarity to the simple if stat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Repeti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744F-4EB8-4704-BCA2-E41A1F6D3F5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atic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so known a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class method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c methods are invoked through the name of their containing clas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ouble rand = Math.random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static method may not access non static members of its containing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ic methods exist independently of inst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Repeti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D72E-BFAC-4FFE-922F-415722DCC0C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Java's three loops provide for different styles of repet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loops often used for bounded repet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ditional and loop statement bodies introduce a further level of sco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ariables may be defined within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c variables and methods exist independently from any in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Repeti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DC1A-EAD9-42D8-9F3C-AA3714DEA86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ing Salt to So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38520" y="2133720"/>
            <a:ext cx="7343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saltTheSoup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(there isn't enough salt in the soup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a pinch of sal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36720" y="4224240"/>
            <a:ext cx="736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that the number of pinches added is arbitrary and var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Repeti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F1A6-1A8D-405F-8476-EC50DB0896C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ting a Sequ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44440" y="1954080"/>
            <a:ext cx="719136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Print the numbers 1 to maxim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printNumbers(int maximum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nextToPrint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(nextToPrint &lt;= maximum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(nextToPrint+"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Get ready to print the next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xtToPrint +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Repeti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3C3B-B6CB-49C5-8CFA-FC8533C98FF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ing Input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9120" y="1940040"/>
            <a:ext cx="79531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Input keyboard = new SimpleInpu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rChartMinder minder = new BarChartMinder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BarChart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terminatingValue = -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Please input the values, use "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rminatingValue+" to finish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value = keyboard.next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(value != terminatingValu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inder.addToChart(val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 = keyboard.next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Repeti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E239-8A1F-4BBF-9FCA-DB99DC20315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Do L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6200" y="1736640"/>
            <a:ext cx="5362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Repeat multiple stat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while(conditio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46280" y="4160880"/>
            <a:ext cx="755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that the statements in the body of the loop are always executed at least 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the final semicolon, which is requ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Repeti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3B75-1E59-4A4F-A11E-9A752C6A59A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ting a Sequ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36440" y="1905120"/>
            <a:ext cx="7191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printNumbers(int maximum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nextToPrint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(nextToPrint+"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Get ready to print the next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xtToPrint +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(nextToPrint &lt;= maxim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Repeti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8732-2A25-42DB-8D21-FD6E71F247C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For L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repeat statements a fixed number of ti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ree teaspoons of sug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ck twice and then give the passw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very often wi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lle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objects - see later chap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in effect to the while lo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Repeti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7507-85E7-491F-AD51-9AB36B4F369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r-Loop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2057400"/>
            <a:ext cx="7648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Repeat multiple stat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nitialization; condition; post-body updat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Statements to be repe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1360" y="4537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4743360"/>
            <a:ext cx="8169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ly used with increment and decrement opera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Repeti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05A4-F174-4E82-A94D-0F3A9A48778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7T11:23:09Z</dcterms:created>
  <dc:creator>David J. Barnes</dc:creator>
  <dc:description/>
  <dc:language>en-US</dc:language>
  <cp:lastModifiedBy>David J. Barnes</cp:lastModifiedBy>
  <cp:lastPrinted>1999-09-27T15:14:59Z</cp:lastPrinted>
  <dcterms:modified xsi:type="dcterms:W3CDTF">2000-01-18T16:31:02Z</dcterms:modified>
  <cp:revision>21</cp:revision>
  <dc:subject/>
  <dc:title>Adding Repetitive Behavior</dc:title>
</cp:coreProperties>
</file>