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727-6BA6-45E7-8F0E-42C7E14E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D1B-4B4C-484A-BAE4-45B713D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5A3-F8DA-49EA-BA6A-150DFB85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AAF-7ACA-40BD-9472-3C126EA0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EF5B-DE53-4225-AC1B-AF04E2A2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7A22-9713-4A06-9EED-2BA2C306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62E-6F34-40CB-9E4F-DAB3DFB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8C2E-10B1-44AB-879C-EB5C321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3FDD-B54A-42D1-AFB5-2D12244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12C-1C96-49FB-B481-6E8D878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270-36C4-49BF-B9B4-CEFCD8D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9FD-C263-4CA0-B24E-6057A6C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965-97FD-4235-B5D6-55B1976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E0F-7CB1-4EED-AFCB-AF7BEC1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DE3-A326-4392-B30D-C45B0B0C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BE0A-E0FF-4110-A20B-04B99BFA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291A-36F8-4A09-AA15-58DF350B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864-5DE9-4FAF-80CD-9808C2E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DB2-BC57-435A-BC35-1DD60EB2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229-9886-4F15-ABFC-007DE6C5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20F-11BD-484E-99E0-304BA430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55C-09B5-4F1E-AAD4-25E266C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036-1215-4670-9808-1006B1F0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2DD-83EB-41CD-B6AE-A246273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054-5787-4A02-8BF1-5602773AB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CD3-FDC6-4640-9457-E954062C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State and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a set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on, course,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name, balance, trans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 set of values is the object’s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state: on/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 state: chemical process cont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butes defin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FA1-8578-447B-B86F-6C353AD1FB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methods have a return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getMessag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with a return type have a return statement in their bod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ess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follow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assed back to the method ca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063-83AE-41F7-9B06-B71CDAF5CC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of a class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t lea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freely accessible from anywhere in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nerally choose to manipulate an attribute only through its associated accessor and mut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vention is not followed by all auth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C83-75ED-4FA9-95C6-012B6F8D16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type in a return statement must match the return type of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an actual argument must match the type of the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the right-hand side of an expression must match the variable’s type on the lef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000-AE8F-4C73-B459-E408A3886A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, double, 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, float, long, 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-types have no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a primitive type, but occurs frequ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5E0-EAFF-4236-BAEB-0AE00A4824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Swit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0" y="2041560"/>
            <a:ext cx="6276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with a boolean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imple on/off s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hether the switch is on o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witch is off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2AF-A145-44C9-BDC0-B823AC7CB2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ublic Interface of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1828800"/>
            <a:ext cx="498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oolean isThe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DB0-9E51-496D-B48E-E3D7E1BDFC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ridg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08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0320" y="1581120"/>
            <a:ext cx="484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get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oid setOn(boolean o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 =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6B9-3CB5-4268-A5C1-A287E1C970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ublic interface of a class should reflect real-world 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witchOn, switchOf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ra methods required to bridge between public interface and privat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sors and mutators may b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object may invoke its ow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952-D35D-441A-A8B9-2584A26A3D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guarding the state of an object is of primary impo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 bibliophile’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attributes can be guarded by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can be denied or granted to objects of other classes,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C0D-56A3-4072-9E53-88E504C121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apsul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oes not enforce privacy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ation for all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ver attribute values may be important because of knock-on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id  range for an attribute may change as other elements of the state ar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process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E91-C62B-40C4-8BD6-2E4A2B1163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and Complex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ttributes mean potentially more complex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often inter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 band and valid frequency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keep class definitions as simpl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up large classes into smaller collaborati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5B7-CDC2-4EFF-AD49-59ED8B5366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provide outside access to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available from all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harmless for primitive type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accessor limits availability to other objects of the sam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implementation details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ED5-A878-4982-A985-4D3E6E7FCC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for external modification of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are required with vi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mutator potentially allows obj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classes to alter th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body could make checks to ensure validity of m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8EF-2022-49E0-8EB2-4516DE019C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1752480"/>
            <a:ext cx="5361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Fiel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void setField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814-F0A2-4A49-9584-2CBBF5C13A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- Initiali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should start its existence in a valid and consisten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to achieve this a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is never used to receive messages from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d automatically as part of an object’s cre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979-E4B7-4593-B943-2CD2827F84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2092320"/>
            <a:ext cx="6428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imple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Temperature(double 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erature =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tempera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29E-A0AA-418F-9520-F7904B7A53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with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186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98108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efaultT = 293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default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490-AA97-4401-83B7-0432ABE8BB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Controll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9120" y="2092320"/>
            <a:ext cx="810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controllers using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 constr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ler control1 = new Controller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2 = new Controller(27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0FD-D33C-4209-BD33-D9583F4C642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loaded Constructors -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20760" y="1905120"/>
            <a:ext cx="688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must be the first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6D5-996A-4815-80D4-EFC77171C0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ntifi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 used, so far,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s of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al argument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or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el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9B6-C6E6-4292-9CDE-9000C62E1D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e a method, look for a matching method variable or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matching method or field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nother class in the current context (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imported pack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default class (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3CA-F463-4995-9271-054229C1C7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utline of a Class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3581280"/>
            <a:ext cx="6200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class called Class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el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ader and clas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s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nd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9A4-FC67-4002-8342-818BCB2C5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s capture the behavior and attributes of typica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modeled by metho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 modeled by fiel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helps to encapsulate object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provide access to objec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31D-B3E2-4A8B-B5C4-F17D5EBF4D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can be written to follow a commo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nitialization is provided through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may tak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an identifier depends upon the context in which i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088-847A-4582-AB23-78947444FA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an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and fields may be arrang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end to list methods befor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describe the behavior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variables (most comm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29D-D057-4BB7-904B-D58151D83E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and Class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(object) has its own copy of the instanc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of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tion in one instance does not affect another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stances share a class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ed via one instance, changed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B38-D149-4427-9A26-44322AA5DD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4520" y="1905120"/>
            <a:ext cx="73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e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two new SimpleNot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y for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Note milk = new SimpleNote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mming = new SimpleNo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‘Write’ a message on one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k.setMessage("We need more milk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heck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milk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5DC-1990-4467-9887-AF6C1631B0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880" y="1801800"/>
            <a:ext cx="78004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to represent a sticky note,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ld be stuck to a wall, do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frigerator, etc. This simplified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just stores the message and provide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o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mit the methods for simpli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C64-AC43-4E07-ACEF-5BDBB634A2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s of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7440" y="1731960"/>
            <a:ext cx="6078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Return what the messag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getMessag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mess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ange the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Message(String m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= 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177-7C83-4B01-B061-4126E99CC4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on Types of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ccess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return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ut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hange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l argum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9D3-30EF-48FB-89A3-DF740EAE87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3T07:52:10Z</cp:lastPrinted>
  <dcterms:modified xsi:type="dcterms:W3CDTF">1999-10-21T16:13:44Z</dcterms:modified>
  <cp:revision>25</cp:revision>
  <dc:subject/>
  <dc:title>Defining Classes</dc:title>
</cp:coreProperties>
</file>