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0A9-5066-4503-A71A-D5CD10B7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A06-6B8B-4304-A060-1D34E8C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907-5AE4-4B51-B8CA-A5D20196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0C8-AFF7-4298-A5E0-3DB5A10A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6D08-8501-406E-A3E3-652B3AE9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79D-6B14-4728-9669-F9837D6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6418-C5A0-4096-A406-4088825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55B9-ED4D-48A4-89B9-2643FEA3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06B5-F0C3-47C7-8149-6ADA24F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F2C6-E207-444A-95D9-352680E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06E-62B7-4A4D-80D4-764889C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B6B-8CCC-4A17-9167-ACF78DC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D72-B85C-4173-A810-363DB5B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F15-76ED-4711-B152-DAA74B1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74B5-B814-48AC-B8E2-9088D77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38B-3DA3-4302-8548-6FEC11E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CB1C-D683-4E14-9DF8-CD6C4EB5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F03-5EEE-4034-972C-21D577D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6DC-9C67-48DB-B970-33C6F623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6B2-9FA9-4748-B61D-157A8AB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77D-0111-4B34-8181-DDC07A42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0C1-8BD5-40C6-9AF0-4466B4D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1E5-D3E1-4AE6-BFDA-9D436705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2DC-215D-4E23-88FB-01D6260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B08B-10D0-45C8-AF8C-DA6C1BF41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832-50B4-486B-940C-33530479F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grouped into hierarchical named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classes may be used by quoting their fully qualified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.LinkedList list = new java.util.LinkedLis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lly qualified names are rather unwiel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0C1-F76C-4DA8-8C28-54A70A4E78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Buff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ing-like objects that are mu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d for building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ut of multipl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ze is dynamic and un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369-CCD1-489D-8312-9B2B83BD09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an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5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formatInt(int number,int widt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space for the full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ffer formattedIn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Buffer(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ppend a string version of th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append(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w many extra spaces are requi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paces = width-formattedInt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space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insert(0,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rmattedInt.toStr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FAE-4A03-46D5-8668-028A1E56DF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ca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and cultures often have their own conventions for information forma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cy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ousands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cimal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ces captured by instances of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9B9-0F89-4D79-B65E-C20A50C563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92320"/>
            <a:ext cx="810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howLocale(Locale lo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Languag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Nam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DisplayVarian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ISO3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ISO3Langu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600" y="4861080"/>
            <a:ext cx="749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ed States, English, English (United Stat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A,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D51-66AB-4C34-AE3F-143258C065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mber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" y="1660680"/>
            <a:ext cx="810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umberFormat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 formatt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.getNumberInst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aximumFractionDigits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inimumIntegerDigits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CA3-3575-4E2E-BC63-3FF590FBD6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e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182880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btain a Date object for the current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now = new 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Use the default format for the current loc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Format formatter = DateFormat.getDateInstan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Default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monstrate the FULL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matter = DateFormat.getDateInstance(DateFormat.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Full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0200" y="472428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: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ll: Friday,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486-B295-4338-BAA8-5B8CC073E1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grouped into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imported from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.lang package provides utility classe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e-specific information can be used to format numbers, dat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5A8-561B-4FD7-B5AE-45AE56C3A9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nother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.util.Array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ed class names may be used unqual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the names are imported, not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E5A-F267-449D-BBBF-DBB842F319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167652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Mari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NumberForm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Observ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4343400"/>
            <a:ext cx="725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, classes belong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named 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introduce further scope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02-835C-4D3E-98B8-0F1E649779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t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ackage is always implicitly im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 consists entirely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s an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ver construct a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contains many useful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rig. functions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1A6-AFCC-4579-8AB4-04CFBE2CF5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tring literal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Identical literals have the same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metho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t, equals, length, startsWith, toLow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806-8E7C-428A-8F59-58C37E89E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mpar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ways to compare tw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, equals, equalsIgnore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es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 equ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str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ly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 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91E-C634-4349-BECE-0B73C6D7A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mutabilit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construct new strings out of existing strings, e.g.,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tring objects are immutable, we always obtain a new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oun = "dog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un += "s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end, conc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FC6-29B4-4480-8193-AB70DC0647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s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1752480"/>
            <a:ext cx="825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Spaces(String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s.indexOf(' 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xOf returns -1 on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index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found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next just after the last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s.indexOf(' ',index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AC9-6824-4F33-A4FA-1538B5163F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s from Primitiv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assignment is ille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32; // Forb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type conversion is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"+n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the static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String.valueOf(nu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724-537C-4185-9674-6ACF4AEB04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2-07T10:24:35Z</dcterms:modified>
  <cp:revision>19</cp:revision>
  <dc:subject/>
  <dc:title>Package and Utility Classes</dc:title>
</cp:coreProperties>
</file>