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80D-F779-4BD1-BA99-6FECB158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83B-4B47-4150-934F-4B8E297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6EE-D022-47A6-AD08-1E66BBFD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2D4-FF06-4D4E-B674-DC49DB1A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226-1391-44C0-94C5-BE99BCAD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3E2E-FC52-4B5A-BD03-F4D4BFF1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C38E-A48E-4DFB-8034-C842C20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F878-4B59-4141-B0AC-54CB1738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5762-3B64-4FC3-A906-3C783F9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ED4-9D4C-42C1-86A5-BFE2C92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27D-8A82-4922-87D0-636FFAB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049-4D50-423F-9854-BC371AED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26A-749B-4E38-915C-4A8D40D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952-5EBF-4E1D-A690-4039FC6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4F3-DA96-456A-A76A-CF08D7B4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5A10-7F26-4899-8DE2-3EF38B4A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21C6-937A-4E89-9447-3F2B4410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89B-2197-4649-85E0-31F9921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49E-75C9-4C39-BA54-60202324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51F-0668-4ECA-8178-A3B4BB23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CBA-0709-403D-84B7-8B8A6ED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BF0-F22C-4241-9224-450B08E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9E5-1EF6-4D1E-BA24-3EF9297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E12-9E41-45CD-BC80-C0F0AE3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6F8-FBC8-4579-9E63-81B72172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AFAC-D958-4F2E-9B85-5216B601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ing objects to choose between different courses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forms of choice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ion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Logic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993-48D1-41FA-A13E-1E0710AB76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40040"/>
            <a:ext cx="749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amount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how much is currentl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+= 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33C-8E00-4829-8884-C5A6CDC0E5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terna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 if statement allows the dependent statements to be either executed or not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ometimes wish to choose between two alternative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f-else statement makes thi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DAD-E845-42A8-B776-235A7D9AA9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1360" y="1584360"/>
            <a:ext cx="5667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lect between multiple-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DC8-5AA3-4825-998B-265B5C3E45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in if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1905120"/>
            <a:ext cx="688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C if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BA5-D569-4224-9172-815EF5C64B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B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C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executed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C1F-21F8-480F-BD2B-D71843FA23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Two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6200" y="2193840"/>
            <a:ext cx="749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type two integers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 = reader.nextInt(), y = reader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x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y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7AB-8F13-4664-80F7-D59AB9A9B9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sted I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6920" y="1625760"/>
            <a:ext cx="292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y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E94-6516-4760-9CDB-152C321A0D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ing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0320" y="1905120"/>
            <a:ext cx="307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593-E044-4DF1-8D8D-83421B7305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Expression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operators allow two arithmetic expressions to be com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more complex conditions need to be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ll parts of a multi-expression condition are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t least one part of a multi-expression condition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2D5-1A6C-4763-8F16-B85397DB54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Boolean Log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63640" y="2230560"/>
          <a:ext cx="5627880" cy="386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30560"/>
                    <a:ext cx="56278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98-57E1-4B57-AFA9-3660F041C08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line sequences are insufficient to solve most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 nearly empty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we need gas, then fill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1E8-9CA2-498A-98F4-00422FE7C0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And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And Operator (&amp;&amp;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&amp;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AEC-5923-4C1C-8269-C5956D477C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== y) &amp;&amp; (y ==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, y and z are equa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&amp;&amp;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Both values are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C34-C670-415C-882C-9E795D53A2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Or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Or Operator (| |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|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7CE-B0C9-4041-8ADB-41C5C74834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&lt; y) || (x &lt;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 is not the larges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||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t least one is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329-AC5C-4E54-90BD-879DBCD2B0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No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41720" y="3413160"/>
            <a:ext cx="490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b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!account.isOverdrawn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mit the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720" y="1766880"/>
            <a:ext cx="751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s the value of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137-9599-4F45-BE65-996E9CF8D3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Boolean expression to choose between alterna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ition ? expr1 : exp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in assignment and retur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arger = (x &gt;= y)? x :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(n &lt; 0)? -n : 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F4B-66C6-4A75-ADE8-60BB0FB361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imple if-statement allows an optional sequence of statements to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f-else statement allows a choice between two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al and Logical operators allow Boolean expressions to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F11-5B69-4A1F-8E7E-40F671EF58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stion is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dition is che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endent actions are only performed if the answer is Y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ndition is 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dependent actions are performed, and sometimes they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59D-914F-47FF-B350-7BF6553763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login name from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matching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the password matches the login name, then grant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7B8-D7AC-45A0-A59D-4D96A9A8CA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mple Choic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41720" y="1981080"/>
            <a:ext cx="490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a single state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pending upon cond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DD8-47A1-4904-8B14-A1892A88AC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guarding the dependent statements is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lean expression can have only two possibl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values are completely different from Java's numerical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534-D2B4-4467-922D-769B63FF25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65400" y="17524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560" y="4429080"/>
            <a:ext cx="437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B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3FF-6EB4-4834-8BEE-CC61D00D4F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2000" y="2298600"/>
          <a:ext cx="6908760" cy="29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298600"/>
                    <a:ext cx="690876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960-C1D6-4AAF-B80F-D5172CCCA9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040" y="2092320"/>
            <a:ext cx="642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Speed(double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change the speed if i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ot too hi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s &lt;= getMaximumSpeed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A56-0753-481E-A8DC-4D36717F2C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0:12:09Z</cp:lastPrinted>
  <dcterms:modified xsi:type="dcterms:W3CDTF">1999-11-29T11:45:48Z</dcterms:modified>
  <cp:revision>18</cp:revision>
  <dc:subject/>
  <dc:title>Adding Selective Behavior</dc:title>
</cp:coreProperties>
</file>