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1AB8-28B0-4F17-BCDE-1E1262E5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7DAA-CB8B-4C11-9209-AFF20E77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AD38-1417-47B3-8984-F85965CB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7379-398B-4F58-A231-1308F1DD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F681-9915-4F81-A224-549AB8E1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C7E5-0F53-4FCF-9BEA-CD26A913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51DD-560E-4AD2-8F92-9ED6C352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9A2A-DBD3-4B34-B9B5-A7071EE2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09D9-146F-4CB6-818D-1A715B9F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AE90-7894-4748-99BD-2B43B2D1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E0E9-44F2-4418-810B-4D39DBC3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BEE5-5164-45BB-ACE6-02DFDD31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ACAC-BF03-4BD9-B6A5-FF2DD138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3FB3-45F1-4EA2-8154-A42524A8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9E30-2F31-4463-908A-74C9721D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8195-0C4A-4DE9-A648-352FAE3A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4A02-374B-4322-9C4F-43092206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7790-7FDA-421B-93B3-3ED80C49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5540-ABAA-4DD8-B254-7E94AE65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760A-CDDA-472D-B463-12FB68EB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CC44-E64D-4CB6-A72B-F1348A87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9C5C-249B-487E-9385-DB330E8B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3397-F4B3-45BA-813F-E5E38CE7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C9D3-14D8-467D-BBAC-3A5826FD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0E4A-28D0-4054-A981-9401CDCBD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06DA-CE1C-4D7B-9FE3-1A1A4FEE4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put-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lex issue in programming language desi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rface to the outsid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must be accommodated as transparently as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 sets, end-of-line, path separators, endian-iss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ers, Writers and Stre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81D4-F011-454E-89DB-F7A7900487C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ed Reader and Wri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51920" y="1808280"/>
            <a:ext cx="7313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leReader in = new FileReader(infil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ufferedReader reader = new BufferedReader(i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leWriter out = new FileWriter(outfil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ufferedWriter writer = new BufferedWriter(ou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ader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riter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tch(FileNotFoundException 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ystem.out.println(e.getMessag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tch(IOException 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ystem.out.println(e.getMessag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E431-A836-45C2-8B49-D28C1C1E82C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-by-Line Cop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9880" y="1981080"/>
            <a:ext cx="7495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ufferedReader reader = new BufferedReader(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ad the first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 line = reader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null returned on EO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(line != null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rite the whole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riter.write(lin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dd the newline charac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riter.new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ad the next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 = reader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9D73-E735-4D8D-8EFC-9A115CB6587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ea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classes that deliver input as a stream of raw bytes, or write raw by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fferedInputStream, DataInputStream, FileInput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fferedOutputStream, DataOutputStre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Output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ir read and write methods tak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yte[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ather th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har[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5B7-7EAC-44DB-A42D-86A8B63A4B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eam Readers and Wri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putStreamRea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utput-StreamWri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ridge the div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file encodings suppor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ed from an appropriate Stre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/Write operations are deleg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/Write operations take char arg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wrap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stem.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w InputStreamReader(System.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5ECF-193A-414C-88CD-5FD4645254F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and Wri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ften want objects to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sist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ross program r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storage methods on a per-class basis is inefficient and error-pr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greed binary format is necessary for port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 control is impor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ation: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bjectInputStre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bjectOutputStre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37EB-CA22-4E38-A9EA-F089B634908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StreamTokeni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ed from a Reader, to which i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leg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s input  reque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multi-character numbers or str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T_NUMBER, TT_WORD, TT_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ly designed with programming language translation in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7726-DED1-4F58-9D7F-323C4E332C3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d in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lits strings into separate String tok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imiter characters are user settable  (whitespace by defaul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also return delimiters if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boolean hasMoreToke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String nextToken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4FBD-88A9-4FB1-8B3D-8AECAE149C6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4960" y="1889280"/>
            <a:ext cx="7953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 line = in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(line != null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Tokenizer tokenizer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StringTokenizer(line,",;:.\"' \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(tokenizer.hasMoreTokens(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 word = tokenizer.nextToke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Print the next wo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ystem.out.println(wor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 = in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1FA8-1F06-4FC9-BAB8-8C108521B87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-Output is usually difficult to perform in a platform-independent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age provides the required independ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supplies details of external 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Reader and Writer classes for text 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40CD-3848-4243-A785-289F8464ABE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Buffered classes for input-output efficien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tream classes when access to binary data i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 Reader/Writer classes form a bridge between streams and readers and wri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useful for breaking up textual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607D-6751-4750-8B8A-43AF4B0355F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ack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es that provide an insulation lay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hides file system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er and Writer classes perform mapping to and from Unic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classes deliver raw byte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le objects may be read and written eas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6ED5-8F06-490B-9133-973FE1CF377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represent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stract path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s both files and directories (folder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, parent directory, size, permi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 takes the file’s n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 info = new File("Letter.tx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xception thrown if the file does not ex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A42E-BFFC-4867-90EA-D3F4C5FE72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s of 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49520" y="1854360"/>
            <a:ext cx="7724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le info = new File("Letter.txt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info.exists(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ystem.out.println("Size of "+info.getName()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" is "+info.length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info.isDirectory(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ystem.out.println("The file is a directory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info.canRead(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ystem.out.println("The file is readable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info.canWrite(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ystem.out.println("The file is writeable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DA03-1276-41B2-B34F-B1DFFB1FE18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3200" y="6091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FileRead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FileWri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wo main classes for reading and writ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le is opened when its name is passed to their construc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s should be closed (vi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hen finished wi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ir read and write methods deal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[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43E6-995B-473D-8E83-5D194ACDB0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ing and Closing a 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10000" y="1731960"/>
            <a:ext cx="7587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Try to open the f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eReader inputFile = new FileReader(filena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Process the file's cont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Close the file now that it is finished wi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File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tch(FileNotFoundException 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Unable to open "+filena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tch(IOException 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The file could not be read or clo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Unable to process "+filena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F392-8CDE-45C5-B850-28C1E3211FD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ing a Text 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84160" y="1660680"/>
            <a:ext cx="7343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copyFile(FileReader inputFi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leWriter outputF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OExcep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bufferSize = 102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har[] buffer = new char[buffer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ad the first chunk of charac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umberRead = inputFile.read(buff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(numberRead &gt; 0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rite out what was re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outputFile.write(buffer,0,numberRea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umberRead = inputFile.read(buff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outputFile.flush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44E5-C174-4201-A551-4E8A03D25DA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Single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1400" y="168588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copyFile(FileReader inputFile,FileWriter outputFil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Read the first charac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nextChar = inputFile.read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Have we reached the end of fil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le(nextChar != -1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utputFile.write(nextCha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Read the next charac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xtChar = inputFile.read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utputFile.flush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tch(IOException 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ystem.out.println("Unable to copy a file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8A3E-F02C-4850-9367-380D08D0985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put-Output Bottlen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-output is generally a slow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 and network access are often invol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ngle large read/write probably takes little more time than a small read/wr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ffered classes bundle multiple read/write operations into fe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more than is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ay writing until more is rea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D8E-EA2B-4A0F-8776-0AE084A685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dcterms:modified xsi:type="dcterms:W3CDTF">1999-10-09T09:07:51Z</dcterms:modified>
  <cp:revision>20</cp:revision>
  <dc:subject/>
  <dc:title>Input-Output</dc:title>
</cp:coreProperties>
</file>