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3CD-5CEF-42EE-B616-D8538F05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250-B6B8-492D-A077-DCCBA6DA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B49-241E-4151-B7AA-8D2740BE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810-5D5E-4C81-9F97-06C58F80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D4F-A9DF-4559-93B3-FF08ED58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D922-CBE8-4170-8834-69BDE407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F3D9-6F93-488E-B1DC-5CC6D31E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34A8-F82F-4660-BCDB-79CD22DF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7089-E97C-4012-AF71-9FC7DC61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7022-5DF6-40D5-A766-6F0AB42A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E3DA-137B-4ECD-98AC-24F35EF4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75B-0CCE-4A58-B533-4355D2CA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1E00-7CA9-4923-A209-2C7388D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AF40-9433-4205-93AB-30D2587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17A3-34E6-4CB8-ADB4-948B82BA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8B29-7FBC-4ECF-9A78-2389DF6F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90DE-6E60-4AC5-96A3-B072F5C7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EBB-527D-4642-937C-89F4E06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135-A4E2-4147-A23E-79F82611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9B4-E532-411D-8236-2607E9FD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87D-BEC2-45E7-B311-AF465638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70A-E4B6-46A6-8AAD-4A0B4A53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AC2-823F-418C-ABF5-6BEC311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A06-A249-41AA-840C-43E970C7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7C5-9447-493B-8FEE-89D7E92EE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A8A0-306A-4FCB-9466-8D061A182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nheritance in contrast to interfac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polymorphism in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damental feature of OO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OO languages much of their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acility that supports code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FF2-707E-4B85-B8F1-2B1D066515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terController Sup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65400" y="1676520"/>
            <a:ext cx="444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Heater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switchO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On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switchOff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On(fal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isO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get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FDF-3863-4686-88E8-E981CB5A87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HeaterContro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1447920"/>
            <a:ext cx="8547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final int DefaultLevel = 16, ..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nt getLevel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getHeater().getTemperatur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setLevel(int level) throw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(MinLevel &lt;= level) &amp;&amp; (level &lt;= MaxLevel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Heater().setTemperature(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RuntimeException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Illegal level setting: "+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FDF-1113-4764-8C1D-7E7CC2A7C71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ariableController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9120" y="1704960"/>
            <a:ext cx="80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like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eaterControll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7600" y="2955960"/>
            <a:ext cx="795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ariableController v = new VariableControll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rm up the 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.switch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v.getLevel() == v.MinLeve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.setLevel(v.DefaultLeve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e room is warm enough - switch the heate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.switchOf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4BB-E161-4279-B0B0-4EA78BC607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 class object may be used anywhere that an object of its super class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is with interfaces and their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210-23F2-4351-B48C-4D7701CD61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-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/super class often characterized in this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ater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ship is on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necessarily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D63-0186-44BE-9E47-B0B1222022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A versus Has-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linguistic con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sponsible for inappropriate class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C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C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vel at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ater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5B5-C179-43F7-B1C7-8547D2F972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ppropriat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casts and Upca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 for Speci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Similarity of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Initialization and Super Class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C58-C92B-40D1-8B86-7BE60AA975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ppropriate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240" y="1635120"/>
            <a:ext cx="7191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ort java.util.Rand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nappropriate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Die extends Rando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turn an integer in the range 1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ro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range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Use the inherited nextInt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1+nextInt(ran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600" y="5135400"/>
            <a:ext cx="77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ava.util.Stack extends java.util.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97E-7DD7-4C79-8DB0-B0E93452D5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per Di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8120" y="1558800"/>
            <a:ext cx="7191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ort java.util.Rand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Di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turn an integer in the range 1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ro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range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1+getRand().nextInt(ran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Random getRand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ra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Random rand = new Rando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65E-9F23-40BA-A13D-44475B03BE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may extend only a singl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may implement multipl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extending a singl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may extend multipl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 ParentTeacher extends Parent, Tea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615-3F32-48F6-9C05-74AE81C28B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within a problem domain are often closely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is often hierarch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 - Parent -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- Child/Child (sibling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go Ship, Passenger Ship, Ferry, Dingh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0F1-9655-4DE9-86E2-55E0C6BB25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casts and Up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182880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terminology relates to the inheritance hierarchy: up or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360" y="3260880"/>
            <a:ext cx="8321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Explicit downcas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wncast: Object -&gt;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s = (String) iterator.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mplicit up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ariableController v = new VariableController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Upcast: HC &lt;- V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eaterController h =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D94-8EA5-4224-9904-E40694E8F8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for Spec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es are often more specialized versions of their sup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io.LineNumber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permarket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lable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extended to add a sell-by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PerishableItem extends Sellable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has everything (and mor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069-9A31-40D9-B8B6-A013F9CBC2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LoanI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4160" y="188928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LoanIte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getTitle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it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getAccessionNumb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accession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 title, accession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D89-C0F7-4EE6-9054-0763380D006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Bo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ub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7080" y="2575080"/>
            <a:ext cx="551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Book extends LoanIte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getNumPages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umPag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llow for multiple auth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[] autho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int numPag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6840" y="170640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f authors and length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D0E-0C1C-4F58-9EC8-29FAF04C04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MusicC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ub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3840" y="163044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f artists and track numbers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7080" y="2514600"/>
            <a:ext cx="551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usicCD extends LoanIte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getNumTracks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umTrack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llow for multiple ar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[] arti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int numTrack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EE3-03AF-48DA-948E-8BC265128EB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Simi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usic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similar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't be tempted to meld them into a singl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changes difficult to include sensib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playing time, for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al similarity more 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80A-A482-483E-AD6A-1FD755E5D3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 Class Init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er class elements of a sub class object must be properly initial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/off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 class elements initialized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 class constructor selection is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passing must be arr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EFC-0654-4445-A553-EC79604C3F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 Class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9000" y="1295280"/>
            <a:ext cx="8257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Bookmark implements Serializ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kmark(String url,String titl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url = ur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Title(tit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nnotatedBookmark extends Bookmar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nnotatedBookmark(String url,String tit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descrip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per(url,tit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Description(descrip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583-621A-4FD7-BC62-8A1F3FD8B61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 Class Construc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called as first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-arg super class constructor called by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error if the super class does not have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las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y constructor have a default no-arg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158-A235-436F-82D9-1B5B27564B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No-Arg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600" y="1676520"/>
            <a:ext cx="841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ariableController(int initialLevel) throws ...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tLevel(initial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Implicit extension of Object super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HeaterController extends 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Default (implicit) no-arg constru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Controller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(Implic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FF0-B3C3-4D30-8DAE-CEFB7F88EC6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each new class from scr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'do-it-all'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'type' field to select behavi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g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D34-0A40-4581-9CA2-A4FC0F6B44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Exception Sub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vial sub class implem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functionality often not 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onstructor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provide more detailed typing for exception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E88-0673-4164-A896-5632A60E8B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HeaterLevel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" y="1932120"/>
            <a:ext cx="786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HeaterLevelException extend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LevelException(String messag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Pass on the error message to the super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messa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LevelExcepti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3EB-E21B-4665-8CA7-AAFBFA8C649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Sub Class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9240" y="3243240"/>
            <a:ext cx="854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setLevel(int level) throws HeaterLevel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(level &lt; MinLevel) || (level &gt; MaxLevel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HeaterLevelException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Illegal level setting: "+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040" y="1905120"/>
            <a:ext cx="83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-defined exception class instances are thrown and caught in the usual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ABE-2AC4-46C5-A440-C85315F65F8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Contr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 means we need to revisit issues of access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ights does a sub class have over its super class me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in one package might extend classes defined else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93E-C085-41CE-A1C7-D5E6C9E288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Control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is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is class o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es have no r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access is whole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is package plus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F72-8DC0-4F54-AB7A-CB793D1837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85320" y="76320"/>
            <a:ext cx="45698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generatio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Grandpar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int getTop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o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setTop(int t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op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vate int to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Parent extends Grandpar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int getMiddle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tected void setMiddle(int m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iddle = 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vate int mid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B7E-D21C-43C0-9BF0-17224F6604A3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ltimate super class of all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default versions of common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, toString, getClass, hash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l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84D-259B-46C4-ADAF-2EF0E8666E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Object Behav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ference e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class@hashCode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for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compu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sh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n identical c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0FF-8591-450D-B5FD-DEDFC87C28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560" y="3260880"/>
            <a:ext cx="734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Obje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toString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getClass().getName()+"@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ger.toHexString(hashCod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640" y="17524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d, by default, in contexts requiring a String in place of an object re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00A-BF68-45E2-A859-DBF281F563A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specializations often need to modify super class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behavi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mimics reference equality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creat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allow 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ep 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9E7-8F57-40F0-8633-D2E270A426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ly a lot of du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uarantees that an object will not be used inappropria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out inappropriate use is potentially tr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34D-C381-4DE6-AB8B-51B497509C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51120" y="457200"/>
            <a:ext cx="74959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Poi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ring toString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"("+getX()+","+getY()+"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boolean equals(Object o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(o == this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 if(o == null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 if(o instanceof Point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 p = (Point) 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getX() == p.getX() &amp;&amp; getY() == p.ge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F26-17C9-4F96-85BC-902EC873E1FE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on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ype and arguments must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version must not be less vi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regarded in matching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exceptions in sub class must be compatible with those in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version may throw n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FB4-F655-4BFD-946A-4AF4F838E19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always arrive at the outermost layer for non-privat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ermost matching method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s generate efficient code to handle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ner version may be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AC1-C119-4833-BBAE-93153A15961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the Super Class Version of a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6200" y="2346480"/>
            <a:ext cx="719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method(int arg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nvoke the closest super class 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per.method(ar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A27-896E-4353-87DA-B8333203DB4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ge of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from usage of super in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used from anywhere within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sible to select the nearest version from an inner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FD9-2DCE-49FD-856E-F5CDF21C4E4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tions on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den method may not b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signatures must have identical name, return type, argume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version may be more vi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version's exceptions must be a subset of those thrown by super clas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1D3-0ED1-4B56-9DF0-A42D083B6C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 of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for Brea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version adds its own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for Ch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 class version called if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for Restri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super class version mod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11B-1D85-4177-9294-B419B9DB230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for Brea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4440" y="1808280"/>
            <a:ext cx="8273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int DefaultLevel = 16, ..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switchOn() throw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!isOn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tLevel(Default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HeaterLevel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RuntimeException(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.switch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6C7-9FE0-44E7-A080-E1C940AE231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for Ch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" y="1447920"/>
            <a:ext cx="7953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yCommandProcessor extends CommandProcess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process(String command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command.equals(myCommand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keAc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e were able to resp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uper.process(comman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e command I know how to respond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 myCommand = "...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B46-78D8-491F-8485-F58482D4F51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for Rest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9960" y="150336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ChessPie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validMove(Move m, Board b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m.getFrom().equals(m.getTo(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hessPiece target = b.getPieceAt(m.getTo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target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 if(target.getColor() == getColor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4BB-705F-4257-AA7C-7F1348D618D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T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9520" y="1447920"/>
            <a:ext cx="772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a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Possible types of bo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int CargoShip = 0, PassengerShip = 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erry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at(int typ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.type = 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loadCargo(Cargo c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getType() != PassengerShip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366-775C-439F-9BEF-56A62C97C0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53000" y="762120"/>
            <a:ext cx="6901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Rook extends ChessPie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Rook(int color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co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validMove(Move m,Board board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!super.validMove(m,boar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m.colDistance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board.clearPath(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 if(m.rowDistance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board.clearPath(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C0F-9266-4036-BF9E-4658D2178BAD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 Class Behavior and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overridden in a sub class will be invoked from within the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excep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static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duplicated in a sub class are not accessed from within the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through methods overridden in the sub class, such as accessors and mut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94F-6EA6-43FB-854A-F492F0BDF0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lasses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defined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sub cla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final class String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done to protect complex internal state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defined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not be overrid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D6D-3BD3-44F1-883A-A210001A4D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re promising altern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behavior defined in delegat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st classes relay common-behavior messages to a delegat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sts define their own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the I/O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7AE-BCCC-46E9-8CB0-E5AD6D1D80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12760" y="365040"/>
            <a:ext cx="5667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argoShi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argoShip(String nam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hip = new Ship(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setCourse(double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Ship().setCourse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loadCargo(Cargo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ddCargo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Ship getShip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h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hip sh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D33-FCE0-4F2A-AA1F-74A6BF2A955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elements in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ive elements in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uplicate method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havior from sup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aware of their own type without the need for tag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1F9-9847-4B2C-91D9-FA610C8A24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ety of heating control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(shared) func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r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func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s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/off time peri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y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386-7202-41DD-9414-BD05CA0060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6T17:38:23Z</cp:lastPrinted>
  <dcterms:modified xsi:type="dcterms:W3CDTF">2000-03-14T14:29:12Z</dcterms:modified>
  <cp:revision>24</cp:revision>
  <dc:subject/>
  <dc:title>Class Inheritance</dc:title>
</cp:coreProperties>
</file>