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9EF-9094-415C-A893-B343417F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C0B-E4D5-450E-9124-A8E3BDE6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F54-CDB6-45F3-BFB8-850721F7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727-49BB-48DE-887F-F7D014A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504B-4C30-4061-A0FF-1142C54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AF20-0634-4C8B-952A-292B5A5C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D040-8C58-4D29-B817-6355AF0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326B-86A1-40B5-A1EA-84483DEE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1409-C278-4D3C-A0B2-701AD12B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7C44-DA12-4FF5-BECE-6FF4373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7854-9AF5-4F23-B2EC-9682F75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977-AB79-4261-9E4A-74DE2E7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E97B-38EC-4996-86D9-813EE54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1F15-8587-4B10-BBB1-B6B3E9E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95DA-C085-48C7-A9E1-4179AC35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FD9E-01CA-4E0A-A119-4D25B3D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A724-C52A-41A1-ACD9-16B02190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54F-00B7-406C-8ABD-715D2618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010-94DB-4B09-B658-62061F5A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1F2-7949-4852-8BCB-A1D15CC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889-AA6C-4C22-B6B5-9908E00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703-E2AD-4BDB-B588-2E6CC8C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B54-A6F6-41B6-9E52-DA1A257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FFE-5528-46BF-8648-8F9B12A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F45-DAFE-4013-B603-E9084941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3175-2634-4EA9-8F32-D29356111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features offered by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offered by more than on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underlying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rnally in an identical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pt separat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7CA-0153-471D-878D-13427ABBAF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" y="1889280"/>
            <a:ext cx="8562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te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has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next() throws NoSuchElemen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) throws IllegalStateExcep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supportedOperation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Enumera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hasMoreElement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 nextElement(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oSuchElemen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0AE-33FD-4FC1-86E6-93F1B0DB2A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266688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Compar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mpareTo(Object o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Cas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Compa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mpare(Object o1,Object o2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Cas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8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implementing classes can be sor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1B8-69AB-4F2D-BDBD-D45FCBCFDF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Fil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name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360" y="2819520"/>
            <a:ext cx="84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FileFil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hould the given path name be accep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accept(File path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FilenameFil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hould name in directory be accep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accept(File directory,String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760" y="2011320"/>
            <a:ext cx="58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cceptable/required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594-C7E8-4C1A-915A-69547E5BCC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Interfac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t as a marke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mmon in GUI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resolution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method names or field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49B-9465-4892-8B0E-F01B091057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methods with different argument lis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methods with identical headers have a single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has to be meaningful for both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 lists must be reduced to the common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field names must be qual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11D-A9E9-4DD6-9142-19702B57BA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mpty interface to support persistenc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ct ser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objects are manipulated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elds are not ser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tern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finer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1E3-B087-439C-A8B3-9F1EF29028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ontains only method signatures (headers) and/or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re al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static 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ually implemented by multipl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morphism allows any implementing instances to be typed as the interfac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5BB-343D-4403-A83D-68AEB19826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allows the dynamic type of an object to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without methods are often used to collect related constant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mpty interface may be used as a m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 interfaces, e.g.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A00-BC25-4BC7-B4BB-17E72D8025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everyda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heaters, TVs, VC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terface definitions are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he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efini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839-A6F2-4935-B834-5C083E4FCC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fac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680" y="182880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VC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loadTape(String tap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e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au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sto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f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re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Statu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final int PLAYING  = 0, PAUSED 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OPPED  = 2, FORWARD = 3, BACKWARD = 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OTAPE 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0C1-D7E2-4274-9DBF-AD854382DD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an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5040" y="1828800"/>
            <a:ext cx="5362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oFrillsVCR implements VC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ejec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getStatus() != NOTA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Status(NOTAP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E42-1FF4-437A-BA64-0251EFC709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 definitions are not repeated in defin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unqualified in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 accessible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the interface n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CR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 implementing class n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FrillsVCR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 instance referenc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eap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428-3726-4831-A221-138CB8AAEE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ain reasons for creating an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 on the number of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may add further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laying speed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not part of th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9C6-BA5C-48BB-BEC9-68EA9199B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knows about a particular interface may interact with an object of any of the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not know about additional functional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ariable playing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, and a cast provide access to class-specif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2BB-0CB0-4F0D-9324-1442E93A9B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anceof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040" y="1965240"/>
            <a:ext cx="871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VideoTes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boolean testVCR(VCR video,String ta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video instanceof UpMarketVCR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est its extra fe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MarketVCR betterVCR = (UpMarketVCR) vide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Play at twice the normal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etterVCR.setSpeed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B2C-5830-4D29-A69C-E2ECE12BC0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withou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120" y="1859040"/>
            <a:ext cx="64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ng point for related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575080"/>
            <a:ext cx="78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ieceName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final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wn = 0, Rook = 1, Knight = 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shop = 3, Queen = 4, King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4357800"/>
            <a:ext cx="76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to enumerated types, but no type che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94000" y="501336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piece = PieceNames.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badPiece = piece+1; // Non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84D-19F5-4A68-B36B-E02A6E6B35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5T08:50:17Z</cp:lastPrinted>
  <dcterms:modified xsi:type="dcterms:W3CDTF">2000-03-13T13:08:28Z</dcterms:modified>
  <cp:revision>19</cp:revision>
  <dc:subject/>
  <dc:title>Interfaces</dc:title>
</cp:coreProperties>
</file>