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6AC-6CD4-4AEF-8682-4413621E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F78-7F5F-4382-8944-0C34FC1D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BAB-E739-4958-ADB7-A18EBB2F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AE1-D11D-425F-8B4E-EE90AD2C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5101-E682-41E9-A195-47F2B301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F659-BF8B-4BAD-83D0-D7C8AC1A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A0DC-003B-444B-B2F1-447A4C13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72A7-1EC8-48D0-BB70-D8517C69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6A46-5D0F-4970-AB8C-601A9770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74D6-DEA7-4BB3-9725-5EF777FF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CEC-D806-4036-8D45-F918A195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8EA-8437-4851-962F-849C7424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5DA8-6815-4B10-B8BB-B160563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AEB8-4DAA-42B0-B162-986BFA73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C99A-8B70-48F7-898B-1663E668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B37C-CC99-4CDA-8B3D-F09F1D79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DF40-EDC0-4C6C-BC4D-C2B16BF0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2A5-7FB2-495C-8D46-357A7A93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CF4-91A6-405B-A86A-10C8E130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79C-26EC-4794-AFB1-2542BBBE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0E7-5F60-4D60-ACD7-E0C98E61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EAE-62C0-4A63-B5B8-2CFEC964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7CB-2D97-4614-AE9E-3797AB14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836-D754-4D40-9418-250B04E5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8FA7-D65C-4CE0-9DAE-B86A32C28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A8C4-1E21-486A-BE48-0D2D96DF9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So Much for So Litt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want to use computers to solve complex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x problems require powerful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werful programming languages have more rules than simpler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F85-4F1F-4608-9B6B-0567F5C2A9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ing a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5400" y="2209680"/>
            <a:ext cx="67338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illustration of ship mo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3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k the ship to mo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73F-2B47-41E6-A60D-D606C538D6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ssing Arguments with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s convey implicit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ip uses its own internal state to res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essages need to be accompanied by further explicit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course to 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speed to 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9AF-59E1-487D-AD60-DE5C20028C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9080" y="1828800"/>
            <a:ext cx="6886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4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k it to change course, mov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ort its new se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setCourse(9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204-2DF2-4A82-BAB7-DF8B97C99F0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eiving Re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communication often requires a re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im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any free berths in the por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quare-root of 2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we can request information from a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store the answer some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19A-9EB0-4255-A024-74029453A5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ing a Ship’s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6680" y="1600200"/>
            <a:ext cx="703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hipMain5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a variable to hold the sp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currentSpe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sk the ship what its current speed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urrentSpeed = argo.getSpee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Increase the ship's sp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setSpeed(currentSpeed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066-D773-4B59-8496-B25C566406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bles and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nd objects are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ay refer to a singl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variables may refer to the same object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ay be switched from one object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nit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FC2-4941-4684-87D9-A0925A820A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Main Method'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hoose never to create an object of the main method’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approach is not followed by many other autho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ain method i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tic metho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 methods have special properties that we shall explore in du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69B-CECF-44A4-A03D-D5A023AE00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-O problem solving involves identifying classes, objects and object inte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maintain state and exhibit class-defined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ances of the same class behave in simila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ssage passing illustrates object inter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351-6613-4A63-9B5B-3670883D69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may contain additional information: in the form of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sult may be returned as the result of a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nd objects are dist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switch between different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may be simultaneously referred to by different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09A-3D6F-4FA8-9898-C14EDF8FF1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are Object-Oriented Langu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 an O-O view of problem sol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categorized into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interact with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s hav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s maintain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havior and state are intimately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reuse is facilit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C71-292E-41B3-AE12-4D5FEDCF3D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he Operation of a 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and objects in the scen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ips moving in an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o and associated transpor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engers, vehicles, car p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stoms officers, pil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pects of the natural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414-344F-456F-9585-3EDFD4A333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ons in the 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of cargo between ship and d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engers embarking and disemba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ilot joining or leaving a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hip requesting permission to e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ather affecting ship mov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DCF-901C-4C67-AF42-2281798F5C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lass definition provides a description of a typical object within that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argoShi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ssengerFer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ndividual object is a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i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tributes store an object’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27F-1B15-49CB-8C30-9F6EA871E1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ght capture the common characteristics of ocean l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MS Tita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MS Olymp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be two instances of that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efinition is like a blueprint or temp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, size, pattern might vary, but instances of the same class come from the same m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0A5-864B-4833-B994-883E3E4FDA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eating a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0480" y="2030400"/>
            <a:ext cx="7343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illustration of object cre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ine a method variable to refe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Ship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struct a new Ship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860-CEAE-4331-AF07-34DC82D563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 Interac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between peo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: “I am going to a par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“What is the tim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/Request: “Please buy me some gu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communicate in simila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messages to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or/Agent, Client/Server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EAF-1A42-42B9-8EEA-61FBCE06F0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nding a Message to a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0480" y="2030400"/>
            <a:ext cx="73436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illustration of message se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ine a method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ake it refer to a new Ship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k the ship to report its posi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urse and spe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B3E-F0F5-4A7A-9216-78ED6931F0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1T15:06:56Z</cp:lastPrinted>
  <dcterms:modified xsi:type="dcterms:W3CDTF">1999-10-09T09:09:30Z</dcterms:modified>
  <cp:revision>11</cp:revision>
  <dc:subject/>
  <dc:title>Creating and Using Objects</dc:title>
</cp:coreProperties>
</file>