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FBC-B8A9-4DEF-97BC-7C961D26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7D3-2800-4443-853A-542B481B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D2E-E6C2-42D6-BBB3-B5B3A163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5D2-6376-4FE7-980F-3B0C3647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30E-0EC4-4BF5-A0C5-5F1841AF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800C-97DD-4965-A4D1-75894AA6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91AC-4268-4F0B-9121-54125AF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B5A0-D058-447F-B7D7-492EF0E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AA98-5528-45C2-8304-7B441C2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4C92-CAC5-4C5D-AAFD-4BA4859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005A-266A-4E8D-A7E0-FFB761D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D98-2F37-4146-86A4-B0604108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212-2F57-434F-BEC4-5A99E9A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64D-05F3-4643-8E83-B156B60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E12-2C42-4F50-9637-89F1452C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C99A-0417-4766-BD37-C9ECE3DD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9722-386F-4951-B4CD-8F6FF7E1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287-814B-4356-BF77-9492C41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C0C-A592-47B9-9808-18ED923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DF2-3202-4A1C-8071-DB303AB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7F8-9995-4810-A52C-16911CA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16E-FEDC-4824-AB7D-E3232B8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6E3-5121-4E1F-8193-1CAE7EE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4EE-E9A2-4D25-8CE7-1C3F58D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33C-2F1A-4D78-BF90-3C13EE4A9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750-C596-4F42-A9D4-4E95B3C37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and 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wi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nested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0CF-3768-44A9-8B73-62B5D4C160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ing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ention might b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nique attribute - database lock or open file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ufficient to omit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 classes might implemen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hould throw an exce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9E5-3967-45E5-A93A-6B81631A76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clon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360" y="1828800"/>
            <a:ext cx="8562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t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ly prevent sub class cl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CloneNotSupported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CloneNotSupportedException("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8FA-DCAC-4F3D-82C2-E88174D653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Nested Classes (aka Nested Top-Level Classes!?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h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w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A45-3021-4756-90EE-81A05CB0F9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36840" y="633240"/>
            <a:ext cx="795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Class constants for basic temper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inLevel = 5, MaxLevel 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n illegal temperature level has been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class HeaterLevel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The attached heater's current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3CB-2CA7-4134-86AB-250DF7F9731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Nested Class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 has a qualified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.HeaterLevel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.class file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$HeaterLevelException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name used outside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VariableController.HeaterLevel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128-560D-4DD2-9F6E-AB0960AD2D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tatic neste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nly exist within the context of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losing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have static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ccess private members of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10D-C939-4361-81E8-7D08EE673C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fulfill distinct roles in suppor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ordinate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mon in supporting GU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A56-A6FF-4AEA-A423-6998FCA666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ordinate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break up a 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subordinate sub-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logging a ship's mov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enclosing class less clut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D72-8387-4176-AB6A-8624FF67ED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9600" y="209520"/>
            <a:ext cx="7998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LoggingShip extends SimpleShip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mov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ger().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ShipLo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void 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osition p = new Position(getX(),getY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().add(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positionLo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LinkedList positionLog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ShipLog logger = new Ship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D5F-E8B8-4286-AE5C-0ACA26AFB34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ng an object’s data to outsid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ly of the internal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a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llection of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501-C3A1-43C3-BFB5-393DB59208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not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methods: just a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in interfac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no meaningful exis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elements used by defining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C12-8294-485A-8168-6E640F1F69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960" y="388800"/>
            <a:ext cx="7861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dd(double 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Numbers().add(new Double(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get(int index) th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dexOutOfBounds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ouble d = (Double) getNumbers().get(ind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d.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numItem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Numbers().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Number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umb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LinkedList numbers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741-D4FB-4FCB-919A-916BBC7D615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8760" y="190440"/>
            <a:ext cx="822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getPositive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Positi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Positi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xtPosition() &gt;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 throws NoSuchElement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nextPosi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 &gt;= 0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bject o = getNumbers().ge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Index(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218-EBCD-4FE3-A47D-8B98E444A71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ted within any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only be created from within that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visibility modifier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access the method’s final variables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250-A27A-45B3-AF8E-4DD9E3612E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5960" y="511200"/>
            <a:ext cx="731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bo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int nextPosi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getInde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howMany = numItem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i &lt; howMan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(i) &gt;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Abo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B60-9A58-4E9B-A24F-D259FAA1022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classes often do not require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implement an interface or extend a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finition and creation are closely lin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9DB-FB4A-4743-A1BC-B1061095CF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99640" y="1076400"/>
            <a:ext cx="731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Iterato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8D5-5427-44FD-9D35-E3708355639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 in GU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2280" y="1609560"/>
            <a:ext cx="717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Picture extends J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ainer contents = getContentPa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dd a button to quit th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Button quit = new JButton("Qui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t.addActionListener(new ActionListen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ctionPerformed(Action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ents.add(quit,"South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146-60B1-400D-AB20-259EACE63A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1523880"/>
            <a:ext cx="786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Out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Midd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nd 'Outer.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nermo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, 'Middle.this' and 'Outer.thi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nermost i = new Innermo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Middle m = new Midd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CA3-7860-49ED-A1DF-058572684F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re incomplete and must be sub classed to b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offer an alternative to interfaces where partial implementation is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implement cloning by implement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FE4-E88B-473D-B2FA-62A1E15BA1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 may be static nested classes or inn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 instances always exist within the contex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have access to the private members of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are useful for fulfilling a range of roles within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DD5-1D60-4A38-88C3-FD73E12DA7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tract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404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class Number implements Serializ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int 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long long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double 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float floa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yte byte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hort short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CFD-02A2-4564-BCAC-4EA8D4C9F5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common interface for multiple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implementations v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 classes, depends on type of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042-04E3-4EE6-8F61-5D47BEC5C8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680" y="190512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Double extends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(double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value =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probably involves loss of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float floatValu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float) double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lue being wrap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double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32C-D324-4CD0-8AA4-AB6A0E92B8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instantiations have no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ssPie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er cla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n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provide additional or overriding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D93-A565-479C-8402-9C2FC9EF1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 or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methods are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do not have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void the need to define duplicat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ing an abstract class prevents extension of a second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A2A-9FC4-4112-AE03-189F2FFEF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classes inherit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urns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often pref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(empty)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ace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6AF-E8AF-441B-B44B-AB8A0986B9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Cloneable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175248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oint implements 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 shallow co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clo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(CloneNotSupported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is should never hap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Error("Cloning error: "+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822-AD80-4560-ADA7-B7794B34F3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12:56:15Z</cp:lastPrinted>
  <dcterms:modified xsi:type="dcterms:W3CDTF">1999-10-09T09:08:40Z</dcterms:modified>
  <cp:revision>19</cp:revision>
  <dc:subject/>
  <dc:title>Abstract and Nested Classes</dc:title>
</cp:coreProperties>
</file>