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69C-852A-40DB-B35C-C1A184DF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222-E1CD-4246-959A-1FE6806C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029-E69B-4D29-BDDB-315BF24E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F271-E635-4726-9BCF-EF35AC8E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F412-07F3-4001-A2E4-F4713084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79F0-292E-4FDD-93EB-C53B50C6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F6D4-7762-4012-8162-A34A79C2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CA05-7031-4702-B8A6-65B34BEF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A0DB-905A-4FEF-97ED-29941C85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DB44-CCD5-4D39-B8C0-7CCC450C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F4A0-3AD8-4CE7-B3B5-A2838696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795-BA7D-4012-9AFB-554C4611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5BD3-F057-42FD-B02F-10FA2EF8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75A1-0AB1-4D1E-87D5-38AC025E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F50C-C3F7-4DB5-92A4-FA6F78A7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7207-C65F-49CD-8497-7FDBA4AE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7ECD-0ACA-4608-A8AE-5BBC190B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327-E1E2-44CD-A31A-CB61F7F9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45B8-331D-4498-ABB0-6970AEAE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AC3-55B4-4126-93DC-32E9FD9A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9DDB-8041-4655-9CFE-8103937F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49E9-BBED-4A18-A567-ECF64C3A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C52-7911-4A27-B725-90B6961E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891-B82E-444F-9E37-EF510A65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9BF8-C0F5-4B2E-831C-FBA4961EF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7F0B-70C8-4F4D-9FB5-E8EEF91A9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inheritance in contrast to interface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ve polymorphism in com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ndamental feature of OO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OO languages much of their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acility that supports code re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CAE-2EC7-4786-BECF-5010B91AC89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terController Super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65400" y="1676520"/>
            <a:ext cx="4447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HeaterControll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switchOn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On(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switchOff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On(fals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isOn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get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B76-C45F-4C1F-820D-955BA9454F3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ing HeaterContro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7280" y="1447920"/>
            <a:ext cx="8547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VariableController extends HeaterControll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static final int DefaultLevel = 16, ..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int getLevel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getHeater().getTemperatur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setLevel(int level) throws Runtime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(MinLevel &lt;= level) &amp;&amp; (level &lt;= MaxLevel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etHeater().setTemperature(leve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row new RuntimeException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"Illegal level setting: "+leve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BCE1-79A3-4071-A6F4-7CAF6E5051B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ariableController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9120" y="1704960"/>
            <a:ext cx="80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like a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VariableControll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HeaterControll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7600" y="2955960"/>
            <a:ext cx="7953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ariableController v = new VariableControll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rm up the ro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.switch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v.getLevel() == v.MinLeve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.setLevel(v.DefaultLeve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The room is warm enough - switch the heater o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.switchOff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979E-8AC3-402E-A4D2-C9B534EFA63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 class object may be used anywhere that an object of its super class i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this with interfaces and their implementing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E1C-988E-44E4-BA84-8ECD1933D4E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s-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/super class often characterized in this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iableControl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eaterControl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ship is one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necessarily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AAA-EB53-441E-8931-1CBBB6862C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A versus Has-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on linguistic confu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sponsible for inappropriate class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CData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Li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CData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iableContro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vel at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iableContro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eaterContro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15F0-EF1F-41AB-8D9B-02C4520D1A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in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ppropriate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casts and Upca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 for Specia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al Similarity of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of Initialization and Super Class Constru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108-9BFB-4A46-B2B0-8EEB3A37F76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appropriate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240" y="1635120"/>
            <a:ext cx="7191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ort java.util.Rando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Inappropriate 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Die extends Random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turn an integer in the range 1.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roll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range = 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Use the inherited nextInt meth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1+nextInt(ran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600" y="5135400"/>
            <a:ext cx="77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ava.util.Stack extends java.util.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19B3-A581-475F-83D3-7F53B7A4FBA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roper Di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8120" y="1558800"/>
            <a:ext cx="7191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ort java.util.Rando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Di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turn an integer in the range 1.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roll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range = 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1+getRand().nextInt(ran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tected Random getRand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ra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Random rand = new Random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994-5526-4313-856F-F40E56307F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may extend only a singl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may implement multiple 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extending a singl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 may extend multiple 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face ParentTeacher extends Parent, Tea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F2B2-BF1E-47FE-BFC6-C6E6056872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within a problem domain are often closely rel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lationship is often hierarch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dparent - Parent - Ch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 - Child/Child (sibling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go Ship, Passenger Ship, Ferry, Dinghy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201-D318-402F-9869-CA5A7DADD2C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wncasts and Upca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280" y="1828800"/>
            <a:ext cx="801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terminology relates to the inheritance hierarchy: up or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360" y="3260880"/>
            <a:ext cx="8321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Explicit downcas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Downcast: Object -&gt; St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s = (String) iterator.nex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Implicit upc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ariableController v = new VariableController 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Upcast: HC &lt;- V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HeaterController h = v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0840-60CF-4469-9926-187F446AAE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 for Speci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es are often more specialized versions of their super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io.LineNumber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permarket'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llable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extended to add a sell-by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PerishableItem extends Sellable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 has everything (and mor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6862-0B09-4D72-9BB5-91C69F3F7ED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LoanI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36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84160" y="1889280"/>
            <a:ext cx="749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LoanItem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getTitle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tit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getAccessionNumber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accession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String title, accession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153-75BF-46B9-8E75-0EE62EC974F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Boo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ub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7080" y="2575080"/>
            <a:ext cx="551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Book extends LoanItem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getNumPages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umPag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llow for multiple auth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String[] autho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int numPag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06840" y="1706400"/>
            <a:ext cx="63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of authors and length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AFB-CA94-4832-8930-876F877E68F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MusicC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ub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3840" y="1630440"/>
            <a:ext cx="73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of artists and track numbers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7080" y="2514600"/>
            <a:ext cx="551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usicCD extends LoanItem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getNumTracks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umTrack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llow for multiple art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String[] arti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int numTrack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8BF-0B28-4710-98EE-EDFA87A0A9C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al Simila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usic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ve similar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't be tempted to meld them into a singl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changes difficult to include sensib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 playing time, for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al similarity more relev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21A-899E-4B06-BEF7-51040AA20AD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 Class Initi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per class elements of a sub class object must be properly initializ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iableControl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/off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 class elements initialized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 class constructor selection is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 passing must be arrang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384-6DFA-47EC-8C10-52DF2C93854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er Class Co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9000" y="1295280"/>
            <a:ext cx="8257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Bookmark implements Serializab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kmark(String url,String titl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is.url = ur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Title(titl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AnnotatedBookmark extends Bookmark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nnotatedBookmark(String url,String tit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descrip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per(url,titl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Description(descrip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BEE1-714A-4A15-9D9B-7989BF73282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er Class Construction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called as first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-arg super class constructor called by defa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class error if the super class does not have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class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y constructor have a default no-arg con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0B78-F590-46B0-8CDD-DCB7D776947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No-Arg Constru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3600" y="1676520"/>
            <a:ext cx="8410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VariableController extends HeaterControll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ariableController(int initialLevel) throws ...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etLevel(initialLeve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Implicit extension of Object super c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HeaterController extends 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Default (implicit) no-arg construc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HeaterController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(Implic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7E53-AD0A-4210-9921-53F0161C6C7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s to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each new class from scr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'do-it-all'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'type' field to select behavi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agg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ADE-9DAC-4CD5-9E39-174A02D83C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Exception Sub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vial sub class implemen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functionality often not ad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constructors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provide more detailed typing for exception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EC4-67E5-4E87-B690-7AC5ADC99BC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HeaterLevel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" y="1932120"/>
            <a:ext cx="7861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HeaterLevelException extends Runtime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HeaterLevelException(String messag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Pass on the error message to the super c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per(messag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HeaterLevelExceptio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626-662B-4E86-850F-8263DD258DC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wing Sub Class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9240" y="3243240"/>
            <a:ext cx="854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setLevel(int level) throws HeaterLevel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(level &lt; MinLevel) || (level &gt; MaxLevel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row new HeaterLevelException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"Illegal level setting: "+leve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040" y="1905120"/>
            <a:ext cx="832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-defined exception class instances are thrown and caught in the usual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9126-53C1-47F4-A112-E6DEDF916D7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Contro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 means we need to revisit issues of access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rights does a sub class have over its super class memb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in one package might extend classes defined elsew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53B-E93B-456B-8673-F201CBD4281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Control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cess is glob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cess is class on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classes have no righ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access is whole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cess is package plus sub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ABC7-41F3-4831-9610-6DD810506D7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85320" y="76320"/>
            <a:ext cx="456984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generation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Grandpare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int getTop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o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setTop(int t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op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ivate int to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Parent extends Grandpare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int getMiddle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mid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tected void setMiddle(int m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iddle = 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ivate int mid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27E7-0A71-4AB7-9673-7AF831EDC104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ltimate super class of all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s default versions of common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, toString, getClass, hash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ed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l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2DD2-6CC1-4C1D-9A17-3E7EA4FA6A3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Object Behav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ference equ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"class@hashCode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et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for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 compu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sh 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n identical c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25F-76E3-45AD-8D4F-85DEEE396D2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560" y="3260880"/>
            <a:ext cx="7343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Objec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toString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getClass().getName()+"@"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ger.toHexString(hashCod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3640" y="175248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ked, by default, in contexts requiring a String in place of an object re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4ED-091F-4537-A4E7-B8A52B6A0A2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rid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 specializations often need to modify super class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fault behavior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ly mimics reference equality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ly creat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allow 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t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ep 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D5A-702E-4996-BB07-15DAE5FA88C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ly a lot of du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guarantees that an object will not be used inappropria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ing out inappropriate use is potentially tric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BC8-E20F-43DF-B198-56A4DCB6BC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51120" y="457200"/>
            <a:ext cx="74959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Poi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ring toString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"("+getX()+","+getY()+"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boolean equals(Object o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(o == this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lse if(o == null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lse if(o instanceof Point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oint p = (Point) 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getX() == p.getX() &amp;&amp; getY() == p.getY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885-602E-40DC-8FA9-01FE14B9D01C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on Overr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ype and arguments must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 version must not be less vi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sregarded in matching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ed exceptions in sub class must be compatible with those in sup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class version may throw n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5B8-DE67-436C-BB96-DA235A16A70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always arrive at the outermost layer for non-private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utermost matching method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s generate efficient code to handle se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ner version may be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97DB-FBEC-426B-96EC-E8A1AF8D4B8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ng the Super Class Version of a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6200" y="2346480"/>
            <a:ext cx="719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method(int arg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Invoke the closest super class ver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per.method(ar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CB8-651F-4269-80D4-4DE7855269A0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age of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ct from usage of super in constru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used from anywhere within a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possible to select the nearest version from an inner l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795-1A52-4E4C-B70B-DA0C63931C1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rictions on Overr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ridden method may not b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signatures must have identical name, return type, argument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gument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 version may be more vi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class version's exceptions must be a subset of those thrown by super clas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70D5-0C78-4FEA-9243-83E0C084396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yles of Overr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riding for Bread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class version adds its own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riding for Ch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 class version called if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riding for Restri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of super class version modif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D4F-05ED-4B73-8E70-7860BC6DCA5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riding for Bread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4440" y="1808280"/>
            <a:ext cx="8273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VariableController extends HeaterControll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static int DefaultLevel = 16, ..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switchOn() throws Runtime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!isOn(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etLevel(DefaultLeve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tch(HeaterLevelException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row new RuntimeException(e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per.switchO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E5E6-9CCA-462A-BA90-555472ED49F4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riding for Ch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" y="1447920"/>
            <a:ext cx="7953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yCommandProcessor extends CommandProcess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process(String command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command.equals(myCommand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keActi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e were able to respo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uper.process(comman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The command I know how to respond 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String myCommand = "...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0D9-F57C-4895-91F3-F5320BD6AA4A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riding for Rest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9960" y="1503360"/>
            <a:ext cx="786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ChessPiec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boolean validMove(Move m, Board b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m.getFrom().equals(m.getTo(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hessPiece target = b.getPieceAt(m.getTo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target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 if(target.getColor() == getColor(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6E9-7614-4218-ABC8-1128BD61FD70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Ta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9520" y="1447920"/>
            <a:ext cx="7724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a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Possible types of bo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static int CargoShip = 0, PassengerShip = 1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erry =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Boat(int typ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is.type = 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loadCargo(Cargo c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getType() != PassengerShip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0D0-10A8-4166-9E6E-2EBF9661973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53000" y="762120"/>
            <a:ext cx="69015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Rook extends ChessPiec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Rook(int color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per(col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boolean validMove(Move m,Board board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!super.validMove(m,board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m.colDistance()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board.clearPath(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 if(m.rowDistance()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board.clearPath(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205-6942-4C0E-9BD4-83D17F4D3066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er Class Behavior and Overr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overridden in a sub class will be invoked from within the sup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 except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static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duplicated in a sub class are not accessed from within the sup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through methods overridden in the sub class, such as accessors and mut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AA6-3F48-4CB2-85D7-5DFA29C6AE2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lasses and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defined a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not be sub cla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final class String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done to protect complex internal state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defined a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not be overrid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D8D-5763-4D77-A3CC-1C5E79B3FF5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re promising altern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behavior defined in delegat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st classes relay common-behavior messages to a delegate attrib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sts define their own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the I/O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D9A-8E15-4976-9E73-A74C55BB77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12760" y="365040"/>
            <a:ext cx="56671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CargoShip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argoShip(String nam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hip = new Ship(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setCourse(double c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Ship().setCourse(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loadCargo(Cargo c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ddCargo(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Ship getShip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h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final Ship sh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A74F-CB98-4B71-9F60-578002F96BD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elements in sup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ctive elements in sub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duplicate method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clas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havior from sup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are aware of their own type without the need for tagg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6F8-E967-48D1-89C3-405908551D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ety of heating controll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(shared) function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or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function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 se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/off time peri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y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lass Inherit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69FF-6703-4785-94A1-44634B62A9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10-06T17:38:23Z</cp:lastPrinted>
  <dcterms:modified xsi:type="dcterms:W3CDTF">2000-03-14T14:29:12Z</dcterms:modified>
  <cp:revision>24</cp:revision>
  <dc:subject/>
  <dc:title>Class Inheritance</dc:title>
</cp:coreProperties>
</file>