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2948-426F-49D6-A535-62C266B46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3783-37D1-4B2F-8901-C88E78DAC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8526-8CFE-4702-8207-5B5289D68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047D-E841-4A33-B103-A60612AE8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5DAD9-4658-43E5-B416-69E48127C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FB229-6F0E-4EA5-901B-DE67488FF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79B89-6CD1-4131-A778-C08B7FAB8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28B82-E186-4EF9-82EA-7DA30E43D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C79BE-3BB9-491C-870D-85E89574E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D38E0-422A-4F82-BDE3-9C47AB91F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CA753-BF6B-44E7-A0BF-F9C02BA8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0D64-E27F-408C-BC1B-A4D10D38F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C294C-1667-4D7A-976B-90FDBF354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B9084-1A31-4547-BB0A-1098A2BDA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2B23F-7C6F-46B4-9D44-7DF1F325D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ACCA4-314D-4041-B979-620FFAED6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E7111-4DD9-4472-A075-900B7E082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8BFB-B7F5-4F2B-BF8D-410BD095A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8EA5-A34D-4DD8-8E4F-12A4EA86E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0442-197B-42AC-88B8-B702900FE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A2AC-A12B-4DC2-BB2D-518432E24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5C8C-B33F-4029-94E3-43F8D8A7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55A2-4F90-40DC-9A9D-D098C5A3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5363-3F73-494F-AD9B-CAADB9ADB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99BC9-99EF-40E6-ACB7-4036AB024A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OOP with 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s, Bytes, and 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4C1CB-7503-48E1-B04F-128DB4C211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stract and Nested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stract clas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omplete abstract clas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te abstract clas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ison with interfa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sted Clas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c nested clas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ner clas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stract and Nested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DEC8-FDD5-4CF6-962C-625C43A7A75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venting Clo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evention might be necess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unique attribute - database lock or open file refer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ot sufficient to omit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Cloneabl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b classes might implement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clon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hould throw an excep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oneNotSupportedExcep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stract and Nested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E37F-CB3D-443C-AEF6-F9DEBE2AEE3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Unclonable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6360" y="1828800"/>
            <a:ext cx="85629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NotCloneabl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Explicitly prevent sub class clon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Object clone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hrows CloneNotSupportedException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hrow new CloneNotSupportedException("...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stract and Nested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0317-2AD5-4144-A9AE-9EDCD362330D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sted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c Nested Classes (aka Nested Top-Level Classes!?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to show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rong coupl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tween two clas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VariableControll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HeaterLevelExcep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stract and Nested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66BC-216A-4135-A18A-4C5EBB8C4CE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36840" y="633240"/>
            <a:ext cx="79531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VariableController extends HeaterControlle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// Class constants for basic temperatu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static final int DefaultLevel = 16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inLevel = 5, MaxLevel = 3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// An illegal temperature level has been se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static class HeaterLevelEx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xtends RuntimeException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HeaterLevelException(String message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uper(messag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// The attached heater's current lev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int getLevel(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stract and Nested Classe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32CC-D6A2-4342-8242-6D5323D4692A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ic Nested Class Na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sted class has a qualified na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ariableController.HeaterLevelEx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te .class file crea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ariableController$HeaterLevelException.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lified name used outside the enclosing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atch(VariableController.HeaterLevelException 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stract and Nested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15DD-F2FC-4A00-8CF7-F9633479973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ner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-static nested clas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ances only exist within the context of 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nclosing obj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not have static memb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access private members of the enclosing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stract and Nested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98F7-EA8C-4944-8C96-593B3E1A360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ner Class Ro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to fulfill distinct roles in support of an enclosing obj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ordinate inner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retational inner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 inner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onymous inner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y common in supporting GU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stract and Nested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B1E7-9785-4233-812C-7EA23A286C8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ordinate Inner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to break up a single large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 subordinate sub-tas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, logging a ship's mov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eps enclosing class less clutte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stract and Nested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7458-2F0E-488E-B574-A1531D98E96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69600" y="209520"/>
            <a:ext cx="79988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class LoggingShip extends SimpleShip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move(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uper.mov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getLogger().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rotected class ShipLo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rotected void log(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osition p = new Position(getX(),getY(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getLog().add(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rotected LinkedList getLog(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positionLo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rivate LinkedList positionLog = new LinkedLis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rivate final ShipLog logger = new Ship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stract and Nested Classe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E51B-4954-45DD-8391-2E9927B53F6E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pretational Inner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preting an object’s data to outside obj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pendently of the internal represen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tera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numer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mplement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ataValu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a collection of numb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stract and Nested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5321-74B3-4F23-8C4E-C2DBDA8817C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stract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has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abstra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efi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ances may not be construc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omplete methods: just a head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 ha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bstra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efi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 in interface defini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s have no meaningful exist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elements used by defining sub clas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stract and Nested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17BF-BE41-4B82-B042-8746EEC21BC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69960" y="388800"/>
            <a:ext cx="78616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class DataValue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add(double d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getNumbers().add(new Double(d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double get(int index) thro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dexOutOfBoundsException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Double d = (Double) getNumbers().get(ind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d.doubleValu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int numItems(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getNumbers().siz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rotected LinkedList getNumbers(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number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rivate final LinkedList numbers = new LinkedLis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stract and Nested Classe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FBA4-BC69-4FDC-8937-B8069B6862BA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518760" y="190440"/>
            <a:ext cx="82274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class DataValue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Iterator getPositives(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new PositiveSelector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rotected class PositiveSelector implements Iterato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boolean hasNext(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nextPosition() &gt;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Object next() throws NoSuchElementException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i = nextPosition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(i &gt;= 0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Object o = getNumbers().get(i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etIndex(i+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lse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hrow new NoSuchElementException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stract and Nested Classe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EDD4-A6A2-4CE0-B7EB-0FC9704E3864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Inner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lass defined within a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mitted within any bloc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ances may only be created from within that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visibility modifier is u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ances may access the method’s final variables and argu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stract and Nested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65F0-3037-441A-B5D4-45888137B5E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975960" y="511200"/>
            <a:ext cx="7313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class DataValue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Iterator selectAbove(final double limit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AboveSelector implements Iterato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rotected int nextPosition(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i = getIndex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int howMany = numItems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while(i &lt; howMany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(get(i) &gt; limit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++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-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new AboveSelector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stract and Nested Classe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9D08-099E-4D22-A267-274F19D84793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nymous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l classes often do not require a na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hey implement an interface or extend a super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definition and creation are closely link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stract and Nested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DB2A-9FB3-430E-B1BC-22A2B0EFD1A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899640" y="1076400"/>
            <a:ext cx="7313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class DataValue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Iterator selectAbove(final double limit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new Iterator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boolean hasNext(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Object next(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stract and Nested Classe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1334-0925-443D-AC2B-516887DF3BFB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nymous Classes in GUI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52280" y="1609560"/>
            <a:ext cx="7175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mport java.awt.event.*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class Picture extends JFram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ntainer contents = getContentPan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// Add a button to quit the applic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JButton quit = new JButton("Quit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quit.addActionListener(new ActionListener(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actionPerformed(ActionEvent e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ystem.exit(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ntents.add(quit,"South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stract and Nested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0E50-A5DC-4D15-9514-FAA018AEF7A3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ner Classes and </a:t>
            </a:r>
            <a:r>
              <a:rPr b="0" lang="en-US" sz="4400" spc="-1" strike="noStrike">
                <a:solidFill>
                  <a:srgbClr val="000000"/>
                </a:solidFill>
                <a:latin typeface="Courier New"/>
              </a:rPr>
              <a:t>th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12720" y="1523880"/>
            <a:ext cx="78616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Oute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'this' accessible from he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Middl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'this' and 'Outer.this' accessible from he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Innermos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'this', 'Middle.this' and 'Outer.this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accessible from he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Innermost i = new Innermos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Middle m = new Middl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stract and Nested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747B-A1AD-4005-A4CC-C8CF89651FB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stract classes are incomplete and must be sub classed to be usefu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stract classes offer an alternative to interfaces where partial implementation is usefu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es implement cloning by implementing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lone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terf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stract and Nested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C1E8-6527-4930-9610-7BF207AAB9F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ew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sted classes may be static nested classes or inner clas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ner class instances always exist within the context of an enclosing obj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ner classes have access to the private members of their enclosing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ner classes are useful for fulfilling a range of roles within their enclosing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stract and Nested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2A61-30EB-4CF9-A8C6-3B16E6F6EC9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bstract </a:t>
            </a:r>
            <a:r>
              <a:rPr b="0" lang="en-US" sz="4400" spc="-1" strike="noStrike">
                <a:solidFill>
                  <a:srgbClr val="000000"/>
                </a:solidFill>
                <a:latin typeface="Courier New"/>
              </a:rPr>
              <a:t>Numb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34040" y="1731960"/>
            <a:ext cx="7587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abstract class Number implements Serializabl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abstract int intValu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abstract long longValu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abstract double doubleValu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abstract float floatValu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byte byteValue(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short shortValue(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stract and Nested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5811-FC64-417C-B1A2-8B23E55792E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complete Abstract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a common interface for multiple sub clas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 class implementations v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loatVal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umb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b classes, depends on type of attribu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stract and Nested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91ED-4D06-4182-A427-BCD81D64C30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ub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2680" y="1905120"/>
            <a:ext cx="84103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class Double extends Number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Double(double value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.value = val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This probably involves loss of inform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float floatValue(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(float) doubleValu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The value being wrapp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 final double val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stract and Nested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8D9F-F4FC-4DBD-BA1C-46E3A8583C8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te Abstract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abstract metho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ependent instantiations have no mea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hessPie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per class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Knigh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 classes provide additional or overriding functiona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stract and Nested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0E38-AC42-40CF-8FD1-491F5AEDE1D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stract Class or Interfac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face methods are abstra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faces do not have construct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stract classes avoid the need to define duplicate method bod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e inheri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ding an abstract class prevents extension of a second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stract and Nested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CDC5-9FED-4E5A-AFE6-EEA82AE7B2B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 Clo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l classes inherit a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clon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turns an identical c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shallow cop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by defaul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deep cop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often prefer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(empty)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Cloneabl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nterface must be implemen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CloneNotSupportedEx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stract and Nested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3EE1-7F64-47AD-A590-C4FDB8CFC5F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 Cloneable Poi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31880" y="1752480"/>
            <a:ext cx="76482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Point implements Cloneabl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Object clone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ry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A shallow cop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uper.clon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tch(CloneNotSupportedException e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This should never happen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hrow new Error("Cloning error: "+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stract and Nested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C2DE-8F7A-4F3C-8840-B0E43AE4DC4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7T11:23:09Z</dcterms:created>
  <dc:creator>David J. Barnes</dc:creator>
  <dc:description/>
  <dc:language>en-US</dc:language>
  <cp:lastModifiedBy>David J. Barnes</cp:lastModifiedBy>
  <cp:lastPrinted>1999-10-05T12:56:15Z</cp:lastPrinted>
  <dcterms:modified xsi:type="dcterms:W3CDTF">1999-10-09T09:08:40Z</dcterms:modified>
  <cp:revision>19</cp:revision>
  <dc:subject/>
  <dc:title>Abstract and Nested Classes</dc:title>
</cp:coreProperties>
</file>