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812-AD34-4F25-9888-511FE5B9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5BF-9574-4721-885D-3942DE62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448-F2B0-4EA6-A3BD-688D3114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E2F-C689-4E35-984B-C90BF2F4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DC05-537E-4B5B-B844-3B3DDEBE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F2B3-DB2D-4302-9FFA-3B4B1F49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93BB-0E1D-4C6A-B9B2-C5DDFE10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0157-8796-4333-A0B2-92462B49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C12C-B0C3-419C-B350-A2040C2A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21CB-CC4F-4025-B1C3-34E0DD99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3921-DA83-4C50-8395-4A038BE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1F4-9323-49BC-A0A6-6670D7C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90D2-1DA1-4B0D-9EBD-34A991D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8083-10E6-4ACA-8841-E6FA7EFC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5FCC-6AD5-4F71-9841-4DD9AF37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0747-71CA-457A-A9CB-1C40F5A5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088A-8FCD-4870-8EF4-A6BA2936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3E1-133D-4804-9E91-7EB9E880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CC2-BC5B-4B5B-A76E-9BC3A4C2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615-F534-46A2-A1BD-59CB337A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6C3-0D3F-451E-9548-8A90DAA1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E57-13A3-414D-BB09-4152C49C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9A2-EAD7-4973-A488-7FE898F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D55-D30B-4580-9A5C-550252A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C975-65C6-4632-97A1-AFEA997DD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OP with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, Bytes, an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C14A-6C81-4AC3-AF5E-841594260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programs well is a challe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ftware engine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programs to solve ever more complex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lps to bridge the gap between a problem and its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D8F-1CB5-4116-85E9-890C913DC7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Level Programming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U instruction sets are low-level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programming languages represent attempts to make writing program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gol, BASIC, C, C++, COBOL, FORTRAN, Java, Pascal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ED4-BB47-43D9-8963-C3C52D8997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’s Ance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a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reimplementation of C++ in the early 1990s by James Gos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ded for intelligent consumer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k became Java in 199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 and Security of primary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nently suitable for We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 powerful language in its own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786-E348-4734-9694-82CDB96A65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-level languages provi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gh-level language program must be translated into low-level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a program’s por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d versions may differ in subtle ways on different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E18-7615-46D1-AA66-BC47040EFD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's Approach to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implementation on different machines is rigidly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defined to be run o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rtual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VM is an imaginary CPU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are translated to bytecodes by the Java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ed program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903-D9B5-4044-BCC9-092B92D9B2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bit has a value of either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yte is 8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PU repeats the fetch-execut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PU has its own instruction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-level languages must be trans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are translated into bytecodes for a Java Virtual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49A-9D48-4D61-9088-53F22935A6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Model of a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Processing Unit (CPU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 Memory (RA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drives, keyboard, mouse, prin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-and-Fe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 mana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648-B0BE-4731-BC04-3D779F55FA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-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y Dig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value of either 0 o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ety of hardware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, light level, magnetic fiel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damental building block for model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6D5-1DDA-4A78-955B-22D6E45BC5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Bits to Model Real-Life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s allow us to model real-worl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bits model four door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bits model eight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values represent impossibl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(models) should not enter impossible or inconsistent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868-48F4-4E42-9F62-C7C6B40577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bits is known as a b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byte can represent 256 different patte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and software often deal with bytes rather than single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 Megabytes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Gigabytes of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byte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170-E0F3-4870-BEC0-350F3677B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Powers of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24 (K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5,536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8,576 (Me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073,741,824 (Gi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099,511,627,776 (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A6B-B714-4752-B392-2551E27FE1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entral Processing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utational heart of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PU obeys its 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ructions are usually si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often only run on a CPU with a particular instruction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programs are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11A-1E9E-44FF-A4AC-7DF4F1B448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etch-Execu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lessly repeated by the CP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ch the next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instruction just fe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structions are fetched from the computer’s fast-acces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 cou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dentifies the next i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ncremented between each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DD3-2573-472B-8325-2886D7769E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pping and Repeat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tch-execute cycle will perform an infinite linear sequence of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often want to repeat some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often want to skip some instr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chieved by modifying the program counter’s cont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ters which instruction is fetched n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ts, Bytes, and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AFA-F907-41EC-85D2-07B0E4EFC4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OP with Java, David J. Bar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1:23:09Z</dcterms:created>
  <dc:creator>David J. Barnes</dc:creator>
  <dc:description/>
  <dc:language>en-US</dc:language>
  <cp:lastModifiedBy>David J. Barnes</cp:lastModifiedBy>
  <cp:lastPrinted>1999-09-20T09:07:15Z</cp:lastPrinted>
  <dcterms:modified xsi:type="dcterms:W3CDTF">1999-10-25T10:17:59Z</dcterms:modified>
  <cp:revision>15</cp:revision>
  <dc:subject/>
  <dc:title>Bits, Bytes, and Java</dc:title>
</cp:coreProperties>
</file>