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41E-2E7B-4770-8587-2CE25404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73F-5997-4890-882D-4DD79B8C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5CE-F187-46FD-8842-BA192A9D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F84-CD39-4B5D-BFB7-C34BDC59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1132-6B08-492A-A0F8-1858E37C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A96D-1F45-4DDF-84E2-C5403237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7D9F-2498-48EE-91A9-0EA92BD2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F59A-ACFF-458F-B699-51916BEA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CDD7-58D2-4BEE-815B-4E6F830A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E47D-DF13-4C22-A7EA-085E760F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62F7-3FD3-4B29-A6A7-7E1F7039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465-DD27-4026-814D-67D7E6CC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41B3-D738-46DE-AC77-36EE3B62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CE6F-87BA-486B-BA1B-8B95A820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C1FF-5898-495F-95FF-71B8E148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8766-A790-4E09-B750-765B78DE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B86F-2163-4324-B73E-74187DBC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3A2-09C3-459A-BC7F-B18C80A6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7ED-7244-41C0-8012-F1BD724D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BC3-4B83-4790-96F1-AACD6217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CFB-146D-4FE2-9DAD-4512CB4D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D3E-626A-4A74-987D-2E990057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F2F-0FBC-4266-99DB-0040469F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A2C-274C-4742-A413-E60BEDD6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1DED-A1D4-4E7D-A58E-65423AA69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ADE2-D676-4370-A5EF-AF2050EB0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petition of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etition of statements is a further common facet of everyday life and object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eat every day: Get up; have breakfast; go off to work; have lunch; do more work; have an evening meal; relax; go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 has three types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repet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while, do, fo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EB4-B25E-4FE2-BC76-0885213411E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crement and Dec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s a shorthand for add-one-to and subtract-one-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 = value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 +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ix and postfix for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+val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-val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44A-88D0-4C86-BD1E-EDF3D9161A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For Loop to Print a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9120" y="1940040"/>
            <a:ext cx="810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rintNumbers(int maximum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nextToPrint = 1; nextToPrint &lt;= maxim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ToPrint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extToPrint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3440" y="4479840"/>
            <a:ext cx="723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e loop variable declar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si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is not available outside th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0E8-2C1E-47B4-854E-651469D974E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onal Heade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xpressions in a for loop's header are opt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ission of the middle expression (the condition) creates a potentially infinite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outer expressions do not have to be explicitly concerned with loop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usually are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7C0-606F-4C9E-ACDF-8C8BF301EA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Loop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41720" y="2117880"/>
            <a:ext cx="4142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untd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 ; n &gt;= 0; n--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rint fore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n = 0; ; n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422-2100-47EA-8084-84F120B142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Comma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6200" y="1649520"/>
            <a:ext cx="73432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Use isPrime to count the number of pr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numbers from 2 to m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countPrimes(int max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umPrimes, possib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numPrimes = 0, possible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sible &lt;=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sible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isPrime(possible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Primes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umPrim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356-9B4D-4EB1-AF22-8177E201E6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de Blocks and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odies of control structures define a further scope lev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od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 structur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ables may be defined within e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ope of a variable is limited to its defining bl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2DE-5313-4E35-8971-771DF3B12E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ized Definition and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65400" y="1828800"/>
            <a:ext cx="6124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tatements using x and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x &gt; y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wap the values held in x and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Hold onto the value of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emp =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py y's value into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py into y the old value of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380-2328-4ED4-93A6-306348756A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al Variables and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odifier may be used to indicate a constant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inal int DOZEN = 1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inal double NUMDEGREES = 360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percase names commonly used for special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rmal naming used simply for optim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E41-BB1E-44CD-822F-D10806A43D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ields and 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nal field must be initializ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ts declaration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ll of its class's constru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n initializer bl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a method without a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uninitialized final field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lank final vari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83D-20CD-4FCD-9C5E-C8F7AACB30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c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ly available as fields of a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od variables cannot be sta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only used to provide global access to constant values of signific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static final int Jan = 1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c variables exist independently of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tances share the same static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805-1C46-43BB-B76B-A6341A188DB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342900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peat multiple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6765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ed by a Boole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are of its (syntactic) similarity to the simple if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9A4-47D0-46DD-A237-6638C41AF2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c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known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lass method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c methods are invoked through the name of their containing cla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ouble rand = Math.random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tatic method may not access non static members of its containing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c methods exist independently of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D07-3C06-48CA-832B-1639EA63E6F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's three loops provide for different styles of re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loops often used for bounded re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ditional and loop statement bodies introduce a further level of sc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riables may be defined within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c variables and methods exist independently from any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D7A-7E02-427D-9382-5DF1765A15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ng Salt to S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8520" y="2133720"/>
            <a:ext cx="73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altTheSoup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there isn't enough salt in the soup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a pinch of sa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36720" y="4224240"/>
            <a:ext cx="736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e number of pinches added is arbitrary and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DE5-5D73-44B8-9233-F0904CE2BD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ting a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4440" y="1954080"/>
            <a:ext cx="71913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rint the numbers 1 to maxim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rintNumbers(int maximum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extToPrint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nextToPrint &lt;= maximum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extToPrint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Get ready to print the nex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ToPrint +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400-7C40-4BE8-8F7D-E0D3E371B7F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Inpu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9120" y="1940040"/>
            <a:ext cx="7953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Input keyboard = new SimpleInpu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ChartMinder minder = new BarChartMinder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BarChar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erminatingValue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Please input the values, use "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rminatingValue+" to finish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value = keyboard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value != terminatingVal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der.addToChart(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= keyboard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8EF-CFE9-472E-BB8E-EF8681ABFB6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Do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6200" y="1736640"/>
            <a:ext cx="5362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peat multiple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(condi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416088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e statements in the body of the loop are always executed at least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e final semicolon, which i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343-7F79-4C0A-8C71-957CA29207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ting a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36440" y="1905120"/>
            <a:ext cx="7191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rintNumbers(int maximum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extToPrint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nextToPrint+"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Get ready to print the nex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ToPrint +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nextToPrint &lt;= maxim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32C-0C26-4F68-A0EB-F7D549D28E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For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repeat statements a fixed number of ti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ree teaspoons of sug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ck twice and then give the pas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very often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objects - see later chap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in effect to the while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9FB-0D46-4A4B-B4A5-79BD894265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r-Loop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057400"/>
            <a:ext cx="764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peat multiple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itialization; condition; post-body updat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tatements to be repe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360" y="453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74336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ly used with increment and decrement ope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Repeti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652-50D8-409B-AAB1-E9D4817B231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7T15:14:59Z</cp:lastPrinted>
  <dcterms:modified xsi:type="dcterms:W3CDTF">2000-01-18T16:31:02Z</dcterms:modified>
  <cp:revision>21</cp:revision>
  <dc:subject/>
  <dc:title>Adding Repetitive Behavior</dc:title>
</cp:coreProperties>
</file>