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789-5E4A-403E-B43F-E6FA3B09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74D-A368-430D-B5F9-7E4E93D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494-8BD2-440B-9C40-A75A8974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AC2-D97A-4DB6-B6DC-A3DB5227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1E6-5717-4E96-B80C-3F65903C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CA29-5DDB-4F5B-BBF9-E2AE30F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2923-A6A1-44E5-8143-B5CB49B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2E63-570C-49EE-A527-A3A8843C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9BB-203C-48CF-922C-A9C3042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571C-0A61-4F91-BCAE-B3B0985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47A0-AA00-4E60-955B-4A3D3EC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F6C-51CC-48A1-A845-16654729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CAF3-E5EE-4909-8D2B-2A8B6CB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5EDD-0F78-40CF-B046-F21A105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977C-0166-492A-972A-499A88D1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578E-BD47-4656-A9ED-3492764A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305-F34B-4CF4-8E5C-AF22C0CB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3A0-3447-482E-B964-464ECE5C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844-C0D7-40E9-8A33-A837D327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091-0CBB-4CDD-8874-0DEAD0E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727-1DA7-44C3-9D1E-E4D1449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AD2-A191-4903-A4FF-2815F32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AE9-4796-4FD4-8BC4-A38BB69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F1A-943A-4E0F-A80B-4D66CFC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D63E-7BEC-4BD7-BF9E-D56C98B94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04A5-6301-4D75-9F34-613374D9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features offered by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offered by more than on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underlying implem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rnally in an identical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pt separat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469-9B22-4C3C-BD2D-333E27D39A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" y="1889280"/>
            <a:ext cx="856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te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next() throws 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) throws IllegalStateExcep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supportedOperation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Enumera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hasMoreElemen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  nextElement(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SuchElemen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2AC-A183-4AE7-9D5F-13397E06F6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266688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To(Object o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Compa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mpare(Object o1,Object o2) th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Cast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8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implementing classes can be sor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637-7B36-4C4E-B3C7-ECA7AFE7EB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Fil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name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360" y="2819520"/>
            <a:ext cx="84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the given path name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path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FilenameFil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hould name in directory be accep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accept(File directory,String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760" y="2011320"/>
            <a:ext cx="58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cceptable/required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3EE-6ADA-432D-A201-7627282283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terfac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t as a marke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Multipl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mmon in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resolution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method names or field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D20-E027-4B38-92F2-A01D767B92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different argument lis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methods with identical headers have a singl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s to be meaningful for both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 lists must be reduced to the common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field names must be qual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D53-AB44-4DFD-8EE5-C164D7D667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to support persistenc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 ser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objects are manipulated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elds are not ser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tern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finer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815-1F2B-44B9-B143-A4ED9A8979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ontains only method signatures (headers) and/or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al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ually implemented by multipl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morphism allows any implementing instances to be typed as the interfac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519-824D-4C8D-BBED-566A754936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allows the dynamic type of an object to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without methods are often used to collect related constant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mpty interface may be used as a m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 interfaces, 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962-BC8C-406B-9C37-17A54124F8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heaters, TVs, VC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terface definitions are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he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efini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DAF-308E-443F-9F33-EDF94E202F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fac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680" y="182880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loadTape(String tap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pau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sto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f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re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getStatu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 PLAYING  = 0, PAUSED 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OPPED  = 2, FORWARD = 3, BACKWARD = 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OTAPE 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F9D-C979-4BC9-95B2-575A504A0D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an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5040" y="1828800"/>
            <a:ext cx="5362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oFrillsVCR implements VC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oolean ejec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getStatus() != NO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Status(NOTAP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861-9A58-4AD4-8425-AEEA4966EE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 definitions are not repeated in defin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unqualified in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 accessible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the interface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mplementing class n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FrillsVCR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 instance referenc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eap.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810-772E-481F-B38A-B14DC4E0A0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ain reasons for creating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 on the number of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may add further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laying speed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not part of th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F2E-BC59-446D-96B4-7A19735362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knows about a particular interface may interact with an object of any of the implementing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not know about additional functiona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ariable playing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, and a cast provide access to class-specif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971-1023-4044-8564-79649CBBBF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anceof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040" y="1965240"/>
            <a:ext cx="871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VideoTes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vate boolean testVCR(VCR video,String ta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video instanceof UpMarketVCR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est its extra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MarketVCR betterVCR = (UpMarketVCR) vide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lay at twice the normal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etterVCR.setSpeed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FD9-9FE6-4F86-90E0-E71CA06D9B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withou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120" y="1859040"/>
            <a:ext cx="64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ng point for related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575080"/>
            <a:ext cx="78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ieceName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final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wn = 0, Rook = 1, Knight = 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shop = 3, Queen = 4, King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4357800"/>
            <a:ext cx="76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enumerated types, but no type che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94000" y="501336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piece = PieceNames.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badPiece = piece+1; // Non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062-557A-4BFC-9E5A-FDECBC4C80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5T08:50:17Z</cp:lastPrinted>
  <dcterms:modified xsi:type="dcterms:W3CDTF">2000-03-13T13:08:28Z</dcterms:modified>
  <cp:revision>19</cp:revision>
  <dc:subject/>
  <dc:title>Interfaces</dc:title>
</cp:coreProperties>
</file>