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F6E-9236-4846-A84B-309BBF17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CC6-481E-41FD-B0F7-14EDD032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B66-B462-4EA8-B6C4-C21A9BAC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382-FF5B-44BF-85AD-61741BF2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329-FA89-472E-A1AD-6BBC349F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E10F-601B-4E00-92D7-9020F62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4E7-8C03-4D02-851D-29191CA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EDF7-1205-4337-B0D6-E0A10B8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962-F9C9-4413-8B50-F34A46C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7842-567D-4AC4-9DEB-666A0F85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FD7-79AF-4FA9-9999-278ED51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9C5-2D91-46CC-9353-1F9FF3CD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AE30-1183-46D3-9BB0-F10AE43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82D-736B-4C78-9E59-8B61F17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EC1B-F557-471E-A11C-6E9A6C4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CB00-B10B-4812-9AA1-AE782CD9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2024-55BD-4872-817E-216425EE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F4B-7B29-4D72-AF66-DD548EC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35F-60D3-4993-8892-1ABDF4B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C11-9858-4FC2-BA39-1E10235C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C10-0D48-4BD8-8E30-E99C38E9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71B-F231-42D5-8FD2-9E51637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845-8228-45AD-A692-2825FF20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76A-8D08-4836-89BF-E4160A5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24F2-2103-4478-AF6B-E15A63B94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1833-189D-4145-A70F-C53054047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Related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need to group together related item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s in a p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ps in a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wo distinct fac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size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-size collection class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162-C25E-42C8-A771-AFD37F6329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Initialize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9880" y="1828800"/>
            <a:ext cx="74959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suitName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pades", "Hearts", "Diamonds", "Club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[] vertice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0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0,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arlyRainfall y2k = new YearlyRainfal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int[]{10,10,8,8,6,4,4,0,4,4,7,10,}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F70-0FC1-467D-B971-F6370F3AC4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For Loops with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" y="1965240"/>
            <a:ext cx="79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totalRainFa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btain the data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[] monthlyValues = getRainf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Rai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Months = monthlyValue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month = 0; month &lt; numMonths; month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Rain += monthlyValues[month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otalRa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768-A1AF-4ED4-B635-EE8902E4128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over an Array in 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920" y="227016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InReverse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double[] numbers = getMark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ndex = numbers.length-1; index &gt;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--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umbers[index]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1CA-5349-496D-BFC0-A94C1D522D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1676520"/>
            <a:ext cx="8258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Seats = 1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status of seats in a the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rue means the seat is free, false means occup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boolean[] seatStatus = new boolean[numSea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l seats are free to start wi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numSeat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atStatus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87692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initializers are available to initialize static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252-E229-4A15-BDC5-160676D277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Method Array Arg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access command line argument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PrintArguments x 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y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z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laced in the main method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no arguments, the length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F7F-F792-4DD4-BE55-C6218DD931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ommand Line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6360" y="2057400"/>
            <a:ext cx="8410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LookupWord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ssaryManager glossar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Glossary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 = 0; n &lt; args.length; n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Looking up "+args[n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ssary.definition(args[n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1DA-2DAD-44E4-BCC1-7319C892A7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7720" y="1878120"/>
            <a:ext cx="76485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a copy of the Point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Points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Points = p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 = new Point[numPoin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from p to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arraycopy(p,0,points,0,numPoint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DBF-E54E-4263-9E43-1F6EB226E7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n Unsorted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need to search an array for a particular item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is often un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might or might not b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must be taken not to search beyond the end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decide how to return a foun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63B-9E3C-4E2C-BF31-A978FEB008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with Multiple Ret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1940040"/>
            <a:ext cx="7800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ndex = 0; index &lt; number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e did not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2B0-50AB-4AB8-B190-0B2F185AA6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with a Singl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0480" y="166068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foun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index &lt; numbers.length) &amp;&amp; !found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n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und ? index :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99B-ED0E-487E-9268-55C8C58182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That Arrays So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6320" y="1609560"/>
            <a:ext cx="758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meanMonthlyRainfall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getJan()+getFeb()+getMar()+getApr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May()+getJun()+getJul()+getAug()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p()+getOct()+getNov()+getDec())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Month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Ja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Ja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Jan, Feb, Mar, Apr, May, Ju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l, Aug, Sep, Oct, Nov, D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03E-DF38-46B6-B7FB-38E15D4546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ray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static methods for manipulating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arch for a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are the contents of two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ill an array with a particular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ort the contents of an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4EF-8C22-4F06-BCE7-6B540A95F3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multiple dimensions are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grid, for a board game such as ch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cube structur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dimensional arrays are regarded as being arrays of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tangular structures are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7F8-DAC1-404E-A762-CA0DA40509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D Array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120" y="17366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Rows = 10, numCols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[] matrix = new double[numRows][numCol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[] grid = new double[numRows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row = 0; row &lt; grid.length; row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d[row] = new double[numCol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[] hiddenWord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d', 'g', 'i', 'b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e', 'i', 'u', 'm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't', 'a', 's', 'a'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C6F-BA91-408C-ADDA-3057AE6BFA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Rectangular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7680" y="194004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umRows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triangle = new int[numRows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row = 0; row &lt; numRows; row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angle[row] = new int[row+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pascalsTriangle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2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1,3,3,1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3D1-B5EC-43F2-80AD-89921DD044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Contro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fines several further statements that affect a program's flow of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eak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may als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be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arely use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337-1C29-4D20-8C89-AB0D68FCC9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expression is used to select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labels are integer constant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ault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a no-match o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s mark statements to be executed on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is used to end a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20C-151E-47B3-9967-9D13440A18D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itch Statemen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6600" y="1600200"/>
            <a:ext cx="8273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enuAction(char choic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(choic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d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i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e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'h'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known command: "+choi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FC8-AAEE-4F50-B580-408D46F0CCB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k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1736640"/>
            <a:ext cx="8562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indexOf(int[] numbers,int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notPresent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foun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dex = 0; index &lt; numbers.length; index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numbers[index] == 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un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eave now - before index is increm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und ? index : notPres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33B-7594-4020-82BD-6F04C004AD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inu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4520" y="1523880"/>
            <a:ext cx="719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kipPrinting(int x, int y, int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um = 1; num &lt;= 100; num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x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y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num % z) =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one isn't divisible by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E85-DD27-441F-B40A-EEF009DFEB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may be preceded by a lab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entif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s may be the target of break and continue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oto statement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ifies breaking out of deeply nested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eature should be used with ca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FFE-FFD9-4B83-BA98-A65E79797D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for Primitive-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920" y="182880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xed size of the rainfall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n attribute to hold the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rainfall = new int [numMonth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60" y="4373640"/>
            <a:ext cx="8125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 bracket notation is distinctive of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[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5A2-DE4C-455F-87F5-835C40DFEC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ke it possible to group related items in a singl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's length is fixed on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y have multiple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witch, Break and Continue statements provide further flow control cap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ed statements should be used sparing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51C-FE0B-4DDB-AED2-71AD96C3B84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fo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680" y="1828800"/>
            <a:ext cx="841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dG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re are four distinct suits in this g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Suits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array for the names of the distinct s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[] suitNames = new String[numSui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297320"/>
            <a:ext cx="7940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: No String objects are created. Only a container for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ocation is initializ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E6C-82F0-4E29-B441-470122D5B3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L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an array is fixed on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ray object h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ividual elements of an array are always indexed from zero to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B97-967E-45D7-BF26-DE4D48E57B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173664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ore the rainfall figure for Janu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infall[0] = 3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mpare the December and November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rainfall[11] &gt; rainfall[10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December was wetter than Novemb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rrect an error of 1 millimeter in March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infall[2]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25E-CBD0-43D3-95DF-A62A4DE7C1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ors for Arra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920" y="17114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YearlyRainfal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turn a reference to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[] getRainfall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pendent copy not return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ainfa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xed size of the rainfall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int numMonths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n attribute to hold the month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ainfall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rainfall = new int [numMonth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746-2FB2-4DF5-BEE4-70B11F81A6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s for Arra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1360" y="1812960"/>
            <a:ext cx="658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olyli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lyline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oints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Points(Point[] 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p 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pendent copy not tak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Point[] point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52A-5E5D-4799-B49B-9AB5511922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600" y="1600200"/>
            <a:ext cx="780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ssignmentMoni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ifferentially weight the ass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[] assignmentWeight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, 2, 1, 5,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final int numAssignments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mentWeight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6320" y="4495680"/>
            <a:ext cx="37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ng semicol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final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rays and Further Contro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A14-2B8C-46BF-98B2-F8ACE8866C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9T12:47:07Z</cp:lastPrinted>
  <dcterms:modified xsi:type="dcterms:W3CDTF">2000-01-26T14:45:29Z</dcterms:modified>
  <cp:revision>27</cp:revision>
  <dc:subject/>
  <dc:title>Arrays and Further Control Structures</dc:title>
</cp:coreProperties>
</file>