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47E-BD74-4424-B5DF-0690355C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9DF-B677-4544-8C01-D74EDF3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40A-5310-492D-9A42-D4625A1F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8B7-A0DF-4ACF-A9A0-A7CF930E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266C-D933-4D1D-9147-20B995EF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623-6BF1-4C56-ABA1-6EE8DB42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8BCF-BB9E-4122-8EEF-6EFA3FD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60E-5AE1-4641-8180-E3A92FC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F511-5FFD-4256-B6B3-56BEB18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DF9-A724-4303-8C0C-0DCC65B2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04F0-F147-4E33-B184-F2C8DE1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B9F-1A3A-45C1-851C-E3532A26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3C0-3C03-4530-9370-03F9171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08DF-429B-4E70-8DD9-0D20597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7510-1C9A-4147-97F7-E900E69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C2C-C3E7-49D3-B1E2-B7E4252A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D0F6-13BA-491B-B229-1DC0B0FE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4A9-4F02-40FD-8A53-4B667E7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DF1-AF76-435D-AC9B-80B9E43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E24-AE20-4C5D-802A-D6BD9C81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E13-D4CA-4D85-99A9-7E82655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BAC-8068-4B4B-A69A-2BF6643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D84-1B83-4FD4-9914-14740A8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C59-446C-4390-9973-942306E5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4F2-C9C1-49BF-8D5B-9FEEFDEFA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2A43-AB8B-42E7-9A8A-718E514B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ing objects to choose between different courses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forms of choice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ion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Logical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151-866A-4EED-98A4-7622FB0BE2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940040"/>
            <a:ext cx="749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amount &gt;= 0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how much is currentl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+= 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FC6-B767-4F67-9414-3B28F9127F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terna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 if statement allows the dependent statements to be either executed or not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ometimes wish to choose between two alternative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f-else statement makes thi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57A-ECBA-4E37-B9A1-EA34D258E0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1360" y="1584360"/>
            <a:ext cx="5667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lect between multiple-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0DF-CD56-43D7-B40D-3394B077C7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in if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1905120"/>
            <a:ext cx="688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C if condition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-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FD8-33C7-4ACE-8643-8C29127346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B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 C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executed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61D-75B6-4793-AB42-AB01212576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Two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6200" y="2193840"/>
            <a:ext cx="749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Please type two integers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 = reader.nextInt(), y = reader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x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y+" is the larg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E18-D553-45C3-AECA-684FA4FA60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sted If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6920" y="1625760"/>
            <a:ext cx="292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y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x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y &gt;= z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D1B-A9F9-4E77-8155-136B7380F1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ing if-els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0320" y="1905120"/>
            <a:ext cx="307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34A-110C-4B69-8385-046FA52A08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Expression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operators allow two arithmetic expressions to be com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more complex conditions need to be t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ll parts of a multi-expression condition are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at at least one part of a multi-expression condition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1D6-EE96-4E4B-89DB-9A6970B335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Boolean Log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63640" y="2230560"/>
          <a:ext cx="5627880" cy="386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30560"/>
                    <a:ext cx="56278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FA2-DA96-4116-8992-1477532713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line sequences are insufficient to solve most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k nearly empty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 in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we need gas, then fill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ive to the super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08D-CC67-4A73-AFC3-972795545B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And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And Operator (&amp;&amp;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&amp;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46A-DD24-4F11-A435-A48D5340BE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== y) &amp;&amp; (y ==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, y and z are equa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&amp;&amp;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Both values are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091-F8BA-4FC4-8881-1394AFAE7C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Or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gical-Or Operator (| |) is a short-circuit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s left operand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operan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y-evaluating version (|)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eran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if both operand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523-54B3-480B-9A2A-BB8DB3BD71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wo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5320" y="2041560"/>
            <a:ext cx="810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x &lt; y) || (x &lt; z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x is not the larges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(a &lt; 0) || (b &lt; 0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t least one is negativ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EAC-4B51-4E9D-84BA-482F6B26AA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ogical-No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41720" y="3413160"/>
            <a:ext cx="490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b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!account.isOverdrawn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mit the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720" y="1766880"/>
            <a:ext cx="751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s the value of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3F5-A3C2-4965-B36D-73C1C3E364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Boolean expression to choose between alternativ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ition ? expr1 : exp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in assignment and retur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arger = (x &gt;= y)? x :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(n &lt; 0)? -n : 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4FF-D683-482D-89CB-06622B5394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imple if-statement allows an optional sequence of statements to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f-else statement allows a choice between two sets of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al and Logical operators allow Boolean expressions to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C4D-D7DE-4043-9AFE-98B7B6441F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stion is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dition is che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endent actions are only performed if the answer is Y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ndition is 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dependent actions are performed, and sometimes they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F50-E1D7-4EDA-AE75-99A8E7177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login name from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est a matching pas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the password matches the login name, then grant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CC7-FDCB-407A-AB10-C69FCE95D7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mple Choic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41720" y="1981080"/>
            <a:ext cx="490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a single state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pending upon cond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erform multiple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AA9-5D79-40E4-B2F9-68FFDF7E86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guarding the dependent statements is a Boole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lean expression can have only two possibl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values are completely different from Java's numerical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3BA-8B7C-480D-B759-1D081B2FBB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65400" y="17524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conditi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perform B if condition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perform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-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560" y="4429080"/>
            <a:ext cx="437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sequ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B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5FC-CF7E-4608-94C0-CAA9DFA80E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2000" y="2298600"/>
          <a:ext cx="6908760" cy="29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298600"/>
                    <a:ext cx="690876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B31-4DE1-4B9F-9C47-0A296B659D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040" y="2092320"/>
            <a:ext cx="642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Speed(double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nly change the speed if i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not too hi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s &lt;= getMaximumSpeed(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d =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lective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72F-1E0A-4A99-A0CB-C050241B48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7T10:12:09Z</cp:lastPrinted>
  <dcterms:modified xsi:type="dcterms:W3CDTF">1999-11-29T11:45:48Z</dcterms:modified>
  <cp:revision>18</cp:revision>
  <dc:subject/>
  <dc:title>Adding Selective Behavior</dc:title>
</cp:coreProperties>
</file>