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E0F-8A85-40E6-B6FA-AB7D00A0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C4A-0EBE-4B38-BE43-5D08205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49A-3138-43D6-AC36-81E36ACA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C7A-1B55-4493-B9B1-3B363B6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1ED-2BE9-4739-96CF-3EDEC594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CAB-B735-41AA-A366-2DAFA917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A583-A15A-45D6-87B9-E574058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FF5-3367-47B4-979A-8C976FD5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DC6E-F3D9-4AFE-94A6-26E22B0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D5F-FEE1-4B93-9570-1966F7AD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9417-208B-44E3-8234-57AEFFC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05C-5FBB-4DB3-9EC6-635DFD4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F102-9430-4ADE-AF8B-F66A91A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385B-FDC4-4E14-8564-4743063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7A0-25C9-4C10-A97D-802AC76C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3D66-6265-4657-AFF5-37CCE154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E2A-ED08-4C8B-B674-1ADCFFA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78C-52BC-4200-8911-4061DEE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887-BBA4-47A4-B0D0-4D9868C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29C-185E-489E-927F-2A08268B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884-1910-4BF0-8D9F-B74E674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711-33BE-42C5-A533-4FCBA36F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8B-D63F-4931-A3A7-E32DEC9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818-9A6C-4253-8DAC-4543D6F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365D-D308-4FC6-876A-FF35E50CF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F1F-7CD9-4551-B164-560A6687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ng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ious class definitions have passively maintained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e behavior 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s of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oices between alternativ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etition of one or mor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ements inside method bo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65-DC7A-4AF9-BF01-1E82E53D32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 Concate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ition operator has a further use, when one of its operands is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a new String that is the concatenation of its opera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"+"apple"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bigappl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non-String operand is converted to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"+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version 10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BCB-4736-4534-BC99-5AED6A08F6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ha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ava,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ccupies 16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based on the Unicode character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acter literals enclosed between single quote characters: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'A', '9', '!'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 values may be stored in integer variables, but not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E18-F65D-4ACA-8D24-D3182DAD5D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icit Type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er to floating point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-precise value converted to more-precis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itive Type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ore-precise value may not be used where a less-precise type is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, cannot store a double value into an i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EFA-D6A8-4868-850D-FC68A9CD29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mitive Type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ormal type checking rules may be subverted by using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ype name written between paren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x = (int) 3.1415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sts usually involve loss of information, so may be ri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B68-283A-4D27-AA25-279C327159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and assignment are comm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= balance+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assignment operators exist for all the binary arithmetic opera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rk *= scalingFac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D06-AF1C-4CF5-86C1-BDDBB44C8B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ading Input Using Simple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impleInpu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a class to simplify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Numerical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Int, nextDou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Line, next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Boolean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xtBoole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 Data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EE7-5A0E-4ABA-B56C-1768BC29C4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 behavior often involves sequences of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arithmetic operation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er of precedence must be consid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compatibility rules must be obe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ast permits normal type rules to be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310-606C-487C-B020-BD6ED2A0F4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tting Things i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s commonly involve performing a sequence of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rst do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hen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ly do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ling a 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ove, setCourse, move, rep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D04-69EC-4847-AB85-470ED130C7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ders make no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p cannot be moved before it has been con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rders may have different 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your old car. Pay the money into a bank. Write a check to buy a new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check to buy a new car. Sell your old car. Pay the money into a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8C5-430A-47F9-B2EF-EBA4AA93B2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and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ten matters when actions are dependent upon the state of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s and withdrawals affect the state of a bank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fossil fuel affects the environment in which individuals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B82-3D72-4D94-8EBA-41D9BC150E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and Implicit Stat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ors names are chosen to show that they have ex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 have implicit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ly affects a ship’s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765-3652-4417-87B7-3DF9BE914A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s involving numerical data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int, long,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, flo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for addition, subtraction, negation, multiplication and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results for integer and floating poi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673-2D5B-4908-9C0C-42875D05EE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Additio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240" y="1752480"/>
            <a:ext cx="8105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ennyBankAccoun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dit the account with the given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credit(long amoun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nd out current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currentBalance = getBal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dd in the amount to be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Balance = currentBalance+am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t the attribute from the new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Balance(current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0E0-4CC1-4458-9E13-D17643DF82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operators are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/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integers results in trun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3 gives a result of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between floating point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0/3.0 gives a result of 1.66666666666666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us (%) gives remainder after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3 gives a result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BBE-C221-4B30-A916-549B1EF546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der of Prece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governing order of evaluation in a multi-operator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 take precedence over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 and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and sub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to right for equal precedence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ing Sequential Behavi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E67-420B-4F3B-9256-14D9324241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10:12Z</dcterms:modified>
  <cp:revision>14</cp:revision>
  <dc:subject/>
  <dc:title>Adding Sequential Behavior</dc:title>
</cp:coreProperties>
</file>