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738-AFD3-4283-9C6A-39B01903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472-EDCA-4317-9E89-E499BF67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901-15A9-4AEA-B1A6-E997BD10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DDD-FD6F-4C26-BF45-F4238C31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5695-29FB-4927-9CA9-16365D65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3D51-9C3F-4702-9706-2E06D74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BEC2-531C-4E3C-BE32-D7EC7873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EAC2-50C9-47A9-922B-D6813D10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1761-AD7A-485C-B9E8-A35A03E1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D98B-6B0D-4EEC-948A-0E35031C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F6A5-6E25-49E1-B7A5-72404CC9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7B4-8251-4952-A554-C9C378A6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9F63-302C-4D5D-A018-EBA40E2B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C4B3-B875-41A0-8DC9-3C37F18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7F85-B8E2-4855-A49F-3D53B5F7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2287-D101-4ECE-BC2C-435DE6B4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13D5-227C-4AD6-A108-3DDE3439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8A1-B171-4A34-A328-4ECF5BC9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C40-6A66-4C33-BF72-3904CCCF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AB8-5743-4535-A0AB-669B89C8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203-707A-4CAB-BB7E-487FB087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65C-F1D4-4703-87D0-422C33D3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5D0-21CE-43E9-8FD9-ED5F567B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B2D-8A99-447F-8C10-09A2345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8147-BEC9-4FFE-86AC-8DC32D806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6BC0-DCAE-46A3-94EF-BFBF65C8D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 State and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maintain a set of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on, course,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unt name, balance, trans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rent set of values is the object’s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e state: on/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x state: chemical process contro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ributes defined by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738-352F-442B-B9C7-93E3AB2415A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ho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 methods have a return ty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getMessag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with a return type have a return statement in their bod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messa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follow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assed back to the method ca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9A7-A4E3-48E0-8771-EE1DB9F1F8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of a class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ass sc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t lea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freely accessible from anywhere in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nerally choose to manipulate an attribute only through its associated accessor and mut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nvention is not followed by all auth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775-BCBD-4A30-85D6-197EF24277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Compat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ression type in a return statement must match the return type of the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an actual argument must match the type of the formal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the right-hand side of an expression must match the variable’s type on the lef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EEB-0379-4391-93EE-99A33FB9CB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primitiv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, char, double, 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primitiv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, float, long, sh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-types have no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a primitive type, but occurs frequ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A3D-AFEE-428F-AEE1-1DCC1431C3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impleSwitc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4800" y="2041560"/>
            <a:ext cx="6276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class with a boolean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simple on/off s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impleSwitch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ethod definitions go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Whether the switch is on o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switch is off by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boolean on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B45-2A4D-4CFC-87CF-06413A789C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Public Interface of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62240" y="1828800"/>
            <a:ext cx="498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impleSwitch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urn the switch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witch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witchOff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boolean isTheSwitch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36E-1CA2-4EA9-A8BE-52D4F8B64B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ridg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508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0320" y="1581120"/>
            <a:ext cx="484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impleSwitch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urn the switch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witch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On(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boolean getO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oid setOn(boolean o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 = 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boolean on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B7C-FE52-4C43-B967-46B6808987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ublic interface of a class should reflect real-world u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witchOn, switchOf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ra methods required to bridge between public interface and private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ssors and mutators may be su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object may invoke its own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FCD-DF1D-4B1C-9C83-E87E969EC7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guarding the state of an object is of primary impor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a bibliophile’s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attributes can be guarded by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can be denied or granted to objects of other classes, 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81B-5531-4D5A-8060-9FAAA01FE4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apsula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oes not enforce privacy by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ation for all attrib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over attribute values may be important because of knock-on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id  range for an attribute may change as other elements of the state are 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plant process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ori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2F4-8784-4F6F-857E-C1B7AE7716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and Complexi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ttributes mean potentially more complex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values are often inter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ve band and valid frequency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keep class definitions as simple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up large classes into smaller collaborating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8FA-D3C3-4B9F-9A65-3BBA5AEDAB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or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ly provide outside access to a privat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accessor available from all oth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accessor harmless for primitive type attrib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accessor limits availability to other objects of the sam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s implementation details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E65-42C2-49C4-925A-15957C37D2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or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sary for external modification of a privat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are required with vi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mutator potentially allows objec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ther classes to alter th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body could make checks to ensure validity of m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9C3-105A-4941-95F3-30186C3198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9080" y="1752480"/>
            <a:ext cx="5361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Field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void setField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FCD-ACC3-4525-A511-83E9A5E922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ors - Initializ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should start its existence in a valid and consistent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used to achieve this a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uctor is never used to receive messages from oth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d automatically as part of an object’s cre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C1D-17A9-45DB-96C2-DC86DC9E5D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-Arg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17680" y="2092320"/>
            <a:ext cx="6428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imple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impleControll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293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Temperature(double 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erature =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double tempera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41E-F334-4793-8BCE-650A2174BD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ors with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7680" y="186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1981080"/>
            <a:ext cx="612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defaultT = 293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default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double initial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initia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0E4-D2B2-4D8B-86EE-4140C68EF5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Controll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9120" y="2092320"/>
            <a:ext cx="8105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ntrollerMain3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controllers using the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ifferent constru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roller control1 = new Controller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rol2 = new Controller(275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273-FDCE-4196-BBA2-DA70AAE0D98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verloaded Constructors -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20760" y="1905120"/>
            <a:ext cx="6886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ntrol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must be the first stat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293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ntroller(double initial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Temperature(initia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FD2-EBEA-4D2E-96FB-33EABEA95B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ntifi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ers used, so far,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s of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al argument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or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variable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el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F51-F3D1-4B66-9B5A-639DE40790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e a method, look for a matching method variable or formal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 matching method or field within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nother class in the current context (cur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imported pack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 default class (e.g.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FBC-0464-4A9B-B00E-DC285FEA42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utline of a Class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20760" y="3581280"/>
            <a:ext cx="6200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ine a class called Class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ethod definitions go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eld definitions go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eader and class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s 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and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DD6-4E4E-4155-84D1-49E81AD495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efinitions capture the behavior and attributes of typica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 modeled by method defin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 modeled by field defin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helps to encapsulate object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 and mutator methods provide access to object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5BA-74CC-4FFE-B206-6B49E197EA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 and mutator methods can be written to follow a common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nitialization is provided through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may take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ing of an identifier depends upon the context in which it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382-BC3A-483A-BA89-515CAAD8EC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and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and fields may be arranged in an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end to list methods before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describe the behavior of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ar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variables (most comm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040-65E5-4B50-9324-DF34576CFA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 and Class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tance (object) has its own copy of the instanc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 of 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ation in one instance does not affect another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stances share a class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ed via one instance, changed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ECE-A83E-47BD-9764-7D42AC63AB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the SimpleNot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4520" y="1905120"/>
            <a:ext cx="734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teMain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two new SimpleNot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ady for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Note milk = new SimpleNote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mming = new SimpleNot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‘Write’ a message on one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lk.setMessage("We need more milk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heck the 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milk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BFB-27CA-49AB-9575-9769490F8B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880" y="1801800"/>
            <a:ext cx="780048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class to represent a sticky note,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uld be stuck to a wall, doo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frigerator, etc. This simplified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just stores the message and provides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o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impleNot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mit the methods for simpli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variable used to store the 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e note is blank to start wi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 message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1ED-962F-4E0A-8F42-5BAF0C3058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hods of the SimpleNot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7440" y="1731960"/>
            <a:ext cx="6078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impleNot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Return what the messag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 getMessag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messa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hange the mess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Message(String m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= 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e variable used to store the tex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e note is blank to start wi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F6D-ED58-4391-9C73-4CD18A0B19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on Types of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ccess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returns the value of its associated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turn typ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matching the type of the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Mess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uta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hanges the value of its associated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has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ormal argum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matching the type of the attrib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fining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014-FE82-42DE-8036-A074823E40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3T07:52:10Z</cp:lastPrinted>
  <dcterms:modified xsi:type="dcterms:W3CDTF">1999-10-21T16:13:44Z</dcterms:modified>
  <cp:revision>25</cp:revision>
  <dc:subject/>
  <dc:title>Defining Classes</dc:title>
</cp:coreProperties>
</file>