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D39-FB57-4173-83BD-0E8FB4D2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A78-23A9-4F25-BF1C-5EFCF154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ED7-F68D-45FF-9BE6-80CEECF6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2A2-7AAA-439C-9292-EE9AC240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0382-7487-486B-BB48-B8D6A548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9E9D-3A1A-44C9-A0F4-BE2AC1B9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77B9-D6B4-4240-9869-7BD192FA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9815-84A7-43DD-9493-7775E5BE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C0EE-F2BE-423F-AF9D-A8B9325D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8579-475F-4145-9798-25E78DDB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7DFC-92C3-40D6-A650-980773D0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B67-7FD1-40E2-8100-7AC8155D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442F-4534-4B7D-AB1C-92D64CAC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B3A9-1E58-4B63-BAB9-3970ACE3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967F-47C2-4198-9863-586324FE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B80B-825A-4355-85CE-DF61CA3B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9ED9-0B0B-41F3-A86C-0D259975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4B6-B134-4F4B-B7FF-89D45016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0DC-89A6-4998-84B3-41225143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700-A73C-4593-B477-4BDC658F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DC4-13BB-43A1-95CE-C51B2EF8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0CA-3E1E-43EB-B581-321B7C12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0BA-799A-4232-878E-204C362C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16D-FD11-4FE7-AE9A-E2C68A3A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7417-20D3-4503-8837-395960D9E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2BD7-B20A-4D2D-9241-B00F7D315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put-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lex issue in programming language de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face to the outsid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must be accommodated as transparently a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sets, end-of-line, path separators, endian-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ers, Writers and Stre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47F-70C0-47F5-814C-19D8CC1DAFB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ed Reader and Wri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51920" y="1808280"/>
            <a:ext cx="7313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leReader in = new FileReader(infi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fferedReader reader = new BufferedReader(i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leWriter out = new FileWriter(outfi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fferedWriter writer = new BufferedWriter(ou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ader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riter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tch(FileNotFound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e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tch(IO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e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00E2-6499-4DEC-8141-EFE461C8EBB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-by-Line Cop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9880" y="1981080"/>
            <a:ext cx="749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ufferedReader reader = new BufferedReader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ad the first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line = reader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null returned on EO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(line != nu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rite the whol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riter.write(lin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dd the newline charac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riter.new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ad the next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 = reader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0D2-0B91-4E6D-A6BD-7D1434F487A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ea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classes that deliver input as a stream of raw bytes, or write raw by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fferedInputStream, DataInputStream, FileIn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fferedOutputStream, DataOutputStre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Output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read and write methods tak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yte[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ther th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har[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03B-5151-4B7D-8D36-B6F29F7398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am Readers and Wri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putStreamR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utput-StreamWr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ridge the div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file encodings suppo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ed from an appropriate Str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/Write operations are deleg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/Write operations take char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wrap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 InputStreamReader(System.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ED0-EF09-46CB-9561-FA4FD6B7D3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and Wri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ften want objects to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ross program r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storage methods on a per-class basis is inefficient and error-pr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greed binary format is necessary for port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 control is impor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tion: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07A-CC66-4EF0-A052-73967ADF0D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StreamTokeni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ed from a Reader, to which i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leg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s input  requ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multi-character numbers or st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T_NUMBER, TT_WORD, TT_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ly designed with programming language translation in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C253-2C59-47BE-8956-D95DB434728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i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its strings into separate String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miter characters are user settable  (whitespace by defaul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also return delimiters if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boolean hasMoreToke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ring nextToken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0DC-2F09-4267-9E0D-133AC7742C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4960" y="1889280"/>
            <a:ext cx="7953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line = in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(line != nu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Tokenizer tokenizer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StringTokenizer(line,",;:.\"' \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(tokenizer.hasMoreTokens(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word = tokenizer.nextToke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Print the next w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ystem.out.println(wor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 = in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8AF-1474-405A-AD1E-08A139C8FD7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-Output is usually difficult to perform in a platform-independen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 provides the required 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supplies details of external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ader and Writer classes for text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6D4-B32E-449B-BD63-0209DB721E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Buffered classes for input-output effici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tream classes when access to binary data i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 Reader/Writer classes form a bridge between streams and readers and wri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eful for breaking up textual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B238-F455-41CF-B40B-25748D2025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that provide an insulation l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hides file system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er and Writer classes perform mapping to and from Uni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classes deliver raw byt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le objects may be read and written eas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836B-90C6-477A-9635-F5604BDF8A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represent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stract path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s both files and directories (folde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, parent directory, size, permi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 takes the file’s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 info = new File("Letter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xception thrown if the file does not ex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14B-2A42-44A9-BD61-394E7302DD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of 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9520" y="1854360"/>
            <a:ext cx="7724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le info = new File("Letter.tx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info.exists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"Size of "+info.getName()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" is "+info.length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info.isDirectory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"The file is a directory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info.canRead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"The file is readable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(info.canWrite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"The file is writeable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D895-6F72-4A97-9CFF-9CD675836D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200" y="6091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Read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leWri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main classes for reading and wri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is opened when its name is passed to their constru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 should be closed (vi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n finished wi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read and write methods deal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[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897-70C7-4472-B52E-3932F47FC8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ing and Closing a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0000" y="1731960"/>
            <a:ext cx="7587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ry to open the f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Reader inputFile = new FileReader(file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Process the file's cont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Close the file now that it is finished wi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File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(FileNotFound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Unable to open "+file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(IO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he file could not be read or clo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Unable to process "+file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8F2-2301-4A15-A40E-2DA1C0F5C4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a Text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84160" y="1660680"/>
            <a:ext cx="734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copyFile(FileReader inputFi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leWriter outputF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bufferSize = 102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har[] buffer = new char[buffer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ad the first chunk of charac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umberRead = inputFile.read(buff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(numberRead &gt;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rite out what was re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utputFile.write(buffer,0,numberRea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umberRead = inputFile.read(buff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utputFile.flus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ED5-3A36-4A74-A6BC-2FF347387AD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Single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1400" y="16858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copyFile(FileReader inputFile,FileWriter outputFil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Read the first charac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nextChar = inputFile.rea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Have we reached the end of fi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le(nextChar != -1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File.write(nextCha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/ Read the next charac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xtChar = inputFile.rea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File.flush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tch(IOException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"Unable to copy a file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90A-F92C-4A9F-8BF0-7563FCCB95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put-Output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-output is generally a slow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 and network access are often inv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large read/write probably takes little more time than a small read/wr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ed classes bundle multiple read/write operations into fe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more than is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ay writing until more is rea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put-Outp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073-11D7-4F85-9225-8F49A73DE0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dcterms:modified xsi:type="dcterms:W3CDTF">1999-10-09T09:07:51Z</dcterms:modified>
  <cp:revision>20</cp:revision>
  <dc:subject/>
  <dc:title>Input-Output</dc:title>
</cp:coreProperties>
</file>