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38EE-4378-47C6-A6B4-9EDF4324C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F2A0-6528-449A-BB46-1D3F7BC49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2DF9-9ED2-4CD3-B502-C56A43EB5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2DDB-3CA7-4AF8-923B-65539B13A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C50F8-02E0-49E3-8078-923D7E1F1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F1E57-ECE0-4F23-9BC5-02427602D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A69D9-6E24-484A-933A-0578E7B41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76551-AAD2-4ED0-B39C-5C3BB9E4B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5F6A2-14D8-4F4B-A247-C892199CD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8E80C-286A-47F4-80E9-20EE4149A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8A3E8-94EB-495D-87D6-8CD689E3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26F1-E950-465B-8092-43008448D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B1972-E6D9-471F-BB92-6D429149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7D3F2-D004-4D31-B12B-D94D49E0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E25F4-E5A9-4832-B136-68639B2A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E4158-82AD-4F94-9B4D-E14C1E3BD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5FDB2-C2A4-4090-A092-E58FE3D75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5D44-A42C-4ABB-B409-93F76BFA2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7122-0939-428D-B0C3-BF94B51DA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5D1A-978D-45BD-B08F-67858635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D495-44CE-4120-B2F2-B0E4AF842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47DB-D2C5-474E-81F9-F5B3ABB9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B03A-0C0A-4808-B3C0-51F71320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2B86-E3ED-43D1-86C1-1D06F265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B864B-F46F-4A39-B947-44CAF16E0A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OOP with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s, Bytes, and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6CF48-B439-4A93-B128-8ACC19C09A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tting Past the Compi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compiler is responsible for checking that programs obey a language’s ru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yntax err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mantic err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ogical errors could still get throug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gical errors only manifest themselves at run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mon Program Compon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91E9-260A-4877-AE2F-5282A85BFF7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undamental Language El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served Words (over 4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dentifi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ok similar to reserved w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urly Brackets - always in pai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68480" y="4343400"/>
            <a:ext cx="6886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Nothing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mon Program Compon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C7CF-D090-4ECB-9947-211463A39FF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Simple Structure of a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ethods have a header and a bod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body contains declarations and stat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Main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program’s starting poi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mal arguments between parenthe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mon Program Compon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54C9-6C61-4412-8563-CC0C96539DC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ite 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ly for human read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te space only required between identifiers and reserved wo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Nothing{public static void main(String[]args){}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nt to show program struc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y to be consist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mon Program Compon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4CB0-C6F3-4F2F-937A-0D741D8F8FF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irely for human readers; ignored by the compil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forms in Jav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A single line com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* The text of a multi-line comment may be spread over several lines.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** Javadoc multi-line comments contain program documentation directives.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mon Program Compon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6A09-BF62-4856-81D6-C72A90C04F0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piling and Running A Simple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89080" y="2819520"/>
            <a:ext cx="68860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A program to print "hello, world"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Hello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hello, world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e in the fil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ello.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mon Program Compon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F121-40DF-418B-B55E-FB863B6E5EB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Edit-Compile-Run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reate the file,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Hello.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ile (using JavaSoft’s SDK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javac Hello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Edit to correct errors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n using the bytecode interpre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java He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dit and repeat until satisfi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mon Program Compon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3107-85D0-4CD9-9F50-6657F1810E7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Bytecode F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Java compiler creates per-class bytecode fi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bytecode file has a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.clas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uffi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Hello.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same bytecode file may be run on any machine with a bytecode interpreter, without recompil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mon Program Compon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06E3-9038-4079-AFA7-564A035EAEC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ilers apply stringent checks to the text of a progr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rogram may not be run until it compi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rogram starts running from its main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rogram is compiled with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java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mpiled program is run with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jav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mon Program Compon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A03F-0FAB-410F-85FE-2FC8DF453CF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7T11:23:09Z</dcterms:created>
  <dc:creator>David J. Barnes</dc:creator>
  <dc:description/>
  <dc:language>en-US</dc:language>
  <cp:lastModifiedBy>David J. Barnes</cp:lastModifiedBy>
  <dcterms:modified xsi:type="dcterms:W3CDTF">1999-10-09T09:09:06Z</dcterms:modified>
  <cp:revision>9</cp:revision>
  <dc:subject/>
  <dc:title>Common Program Components</dc:title>
</cp:coreProperties>
</file>