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101-A27E-4464-BE4E-BF4EA4A6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A1-D208-44AA-9AC9-E3107CF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0AE-C785-4449-934A-198AFAA5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5E7-FC70-42E5-A8CD-475EED8A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FCC9-C050-4244-AA03-756DD8EC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B504-D185-4EFE-9716-4DEA0AA3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A5C1-FEB4-4F30-A00E-56D066DA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C475-6EE9-4877-A98C-71CD829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C7F7-8366-40CD-B336-9484171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07ED-4B2D-448C-B975-90BCA22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7EA-79B7-42F3-BFC6-96BB34E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297-9A38-45B2-981E-C7C013A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D01-544C-4CB7-A82E-A9C78BE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88DC-1925-42D2-9812-950AB94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F26-905B-4F6E-92D6-40D0DDFD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723-994B-4718-928C-84FDBFA1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82C3-BE56-48C3-AA15-C254046C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944-C455-4F4D-8E1A-655B620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FBD-C8A9-44EA-90F0-989BB83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23C-701A-4975-B83C-BAFB792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3E5-5CFB-42EE-81A1-E15B8CF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A48-5844-4023-A110-58BE0BE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3AF-9708-4271-9043-0DA3CCC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185-10A3-48D9-9C2B-27B233C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BDFE-AABF-4918-B185-D6408F71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5F4B-8EBC-4B85-A315-CFBC8DF95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Flexible Siz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and Object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ng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FBE-A423-4720-9F1F-0A92A3CEEB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rapp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classes cannot hold primitive-typ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ust be wrapped i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has a wrapp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acter, Double, 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Value, double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parsing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0E3-299F-46CB-9984-C2E797B200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52640" y="1889280"/>
            <a:ext cx="612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um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wrapper = new Integer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.add(wrapp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rt the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ections.sort(li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391-FD0D-4966-8CBE-77656347C8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through 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00" y="1782720"/>
            <a:ext cx="52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use integer ind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36800" y="2651040"/>
            <a:ext cx="764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Items = nameList.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Item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(String) nameList.get(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1911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ould be inefficient for a LinkedList, because it does not store its items in a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870-1217-40D3-BAA5-7130FE30F4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fficient iteration over an arbitrary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7680" y="3108240"/>
            <a:ext cx="612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 names = nameList.itera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ames.hasNext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who = (String) names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who.startsWith("X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.re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961-48F2-455F-A0F4-235A38B7C6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its efficient retrieval of data from random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often more ord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In, First-Out (FIFO)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-In, First-Out (LIFO)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well suited to supporting such specialized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CB8-3A3E-40D1-BFB5-B1D268FF8E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every-day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queues, traffic jams, cafe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h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 at the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list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move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50A-2174-408B-B48D-9B06DABB84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720" y="17524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Queue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nex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Queue().removeFir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queue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074-5304-4F21-8740-73F31C781B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common in everyda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ys in a restaurant, cards in a discard p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ime stack, recursiv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at tail (push), remove from tail (po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terface to Queue, but different semant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8B7-1797-4FC6-8D4E-9884521430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interface of Card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166068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a card to the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dd(Card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tack().ad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move (and return) the last c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ard next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Card) getStack().removeLa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collection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LinkedList stack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739-2276-42DE-BD40-B34D9B96F8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 and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ommonly available for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ample of inappropriat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 Queue and Stack classes easily created for oth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ic types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F37-0D69-4720-A7B5-92EDDB0921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Size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applications, the required size for a collection may be unpredictable 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hand (bounded but vari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s to a radio phone-in (unbound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ngers on a ferry (unbounded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not always suitable for holding such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116-14AB-40CC-8609-BCC44D3D9C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recursion - often accid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ed recursion.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solutions to divide-and-conque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641-D523-49E7-B8D8-B12E3EE09A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or Egg conundr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rtioning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hit me, he hit me first, she did, he did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ary spi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 prices to cover higher wages, raise wages to cover higher pric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6E2-63F1-4235-B3E4-4B0C2B2057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cken or Eg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9360" y="2590920"/>
            <a:ext cx="612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hich came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chickenOrEgg(String whic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out.println(whi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which.equals("Chicken"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Egg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ickenOrEgg("Chicke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960" y="17064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invokes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9BA-8240-42C3-9AD1-020C8D5C7D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240" y="1658880"/>
            <a:ext cx="854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chickenOrEgg("Chicken")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   chickenOrEgg("Egg"), which prints Egg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 chickenOrEgg("Chicken"), which prints Chicken and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" y="344808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finite sequence of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9080" y="4114800"/>
            <a:ext cx="67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ever reached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 of print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1F9-792D-47CB-B1D5-FDC1D21FF6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calls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 calls method Z, and method Z calls method A before it ha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spot potenti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2A-9119-434F-86A1-4D4A940AAB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ing Infinite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can also be in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inating condition is never trigg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must be an 'escape route'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-recursive path through a recursiv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limit on the depth of the recu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54A-D406-430C-A35D-A73D93C183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mited Recursiv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6440" y="1752480"/>
            <a:ext cx="5972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quencePrint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long limit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&lt; limi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uencePrint(n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nd: "+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2200" y="432756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End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0C1-4178-464B-A4DE-BD27CCB9E20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736640"/>
            <a:ext cx="6429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long factorial(long 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(non-recursive) ba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 * factorial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466740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cannot be applied until the recursion unwi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9A0-6028-4947-B316-798579A9A6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 and Conqu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 problems often involve recursive 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data set can often be broken down quickly into smaller sub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chnique is applied recursively to each sub-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verall technique is applied recursively to a single sub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000-B364-4F94-81C9-073987E92C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812960"/>
            <a:ext cx="642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the mid-po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the target element is too big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the target element is too sma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again to the 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 have fou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9400" y="521172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Try again' implies making a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8BE-7EFD-4054-9F84-D6BE39F754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Unsui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er array might arbitrarily limit th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large array will waste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ight be no guarantees that it will not overflow, any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create a new array if the old one fill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notifying ali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DFB-F465-4511-B9F6-575C2639BE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0960" y="58752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indexOf(int[] numbers, int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ch-part-to-examin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no-more-items-lef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dex = find-the-mid-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value &g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righ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if(value &lt; numbers[index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Of(numbers,value,left-hand-si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19B-A388-4EE4-8357-D4FF869266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oblems require flexible coll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ording to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ast when retrieving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rapper classes to store primi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erate through a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6D7-6032-47C5-ADBF-489EF01C42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classes often form the basis for further special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ue and Stack are the most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is an alternative to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may be directly or indirectly recur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ing infinite recursion requires a non-recursive 'escape route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FC4-36E1-44F8-84EE-B03164C068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solutions often involve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is one example of a divide-and-conquer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5A7-1720-4089-BADF-32DBB6B658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 Collectio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classes,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and contract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asted space, no arbitrary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hold objects, not primi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solve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099-10D9-4795-870E-3646A1A8F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List for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7600" y="1889280"/>
            <a:ext cx="749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RadioShow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names of call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ArrayList callers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8840" y="4495680"/>
            <a:ext cx="800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an equivalent array decl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callers = new String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07E-7604-44F9-8D33-D243946613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Lis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in a collection `lose' their id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n index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...size()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List defin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, get, set, 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items are automatically 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tem's index might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pacity grows auto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minimize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124-DDF7-43D3-9CB8-85A0AA193D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and Obje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both a dynamic type and a static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'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the variable used to ref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treat everything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generally passive, not needing to interact with the items they co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054-23D5-4D90-84D0-A2431F779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720" y="17524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ing an object usually requires a c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9080" y="2606760"/>
            <a:ext cx="68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rrayList callers = getCaller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the first caller (compilation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380988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cannot tell that the object is a String, so an explicit cast is nee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9080" y="516564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caller = (String) callers.ge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D27-F370-4A70-B3C6-9C3C79F0AF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ilar interface to Array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, clear, get, indexOf, remove,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direct access to first and last items in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 getLast, removeFirst, add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able for data structures, e.g., stacks and que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llection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6F7-5C47-499B-8D8A-9A4BF98167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10-02T14:56:21Z</cp:lastPrinted>
  <dcterms:modified xsi:type="dcterms:W3CDTF">2000-02-09T10:11:49Z</dcterms:modified>
  <cp:revision>25</cp:revision>
  <dc:subject/>
  <dc:title>Collection Classes</dc:title>
</cp:coreProperties>
</file>