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F02-44BF-4B39-9E3A-F15A0BD3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A3D-31A4-4DB3-8340-0BDDEDA9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9D1-DCAF-461F-BCB3-D4319799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F5E-A06B-45D5-B051-696000DD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265E-7840-417D-ABB5-74EF58F2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B460-16BE-4BF2-A5FC-B08CEB12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8C08-1278-4C60-8BF8-E1A7D1DB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6E95-08E6-4908-8587-AF71832F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0746-A720-4323-AABB-67D251A0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E310-27FD-4426-BFB5-78BD170A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3DDF-6119-42DE-8A9A-EAE3C7A3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04F-6619-44AA-B5D8-5E49EBC2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752D-C1AB-4EC4-B76F-803297DC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43E8-0884-418B-A897-A555D839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A2A0-48EB-4648-B72F-64815F85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D8D9-D7C1-43E2-B0D2-DE1BA232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DB78-9BC8-46B9-80C3-D8A3DC91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048-670E-4FFD-A1C2-28F7CCBF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7E5-67EC-4477-86E7-7DB18FAB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976-2E71-41FD-BD42-36846FA7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C2B-496C-463F-93EC-D8A70C48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114-D0D9-4C14-9B91-256FBD70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94D-9F1E-4219-9869-6FFDEFB0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E91-9D0B-4135-A55F-DC27C25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4DD5-480D-4865-9518-38F12E051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725D-D42D-4FBA-A2A0-E87C2FBF0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may be grouped into hierarchical named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classes may be used by quoting their fully qualified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.LinkedList list = new java.util.LinkedLis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lly qualified names are rather unwiel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17A-DEC0-4185-8DFC-73FE64FA769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ingBuffer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ing-like objects that are mu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d for building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ut of multiple pie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ze is dynamic and unlim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100-1CA2-4561-B19D-3C3FC72025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 an Inte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4520" y="1736640"/>
            <a:ext cx="764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ring formatInt(int number,int width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space for the full wid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Buffer formattedInt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Buffer(wid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ppend a string version of th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dInt.append(numb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How many extra spaces are requi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paces = width-formattedInt.leng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 = 0; i &lt; spaces; i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dInt.insert(0,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ormattedInt.toString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875-D25B-40BD-8BE2-96D77CC4AE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ca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ries and cultures often have their own conventions for information forma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cy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ousands sepa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cimal sepa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ces captured by instances of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a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077-E6E0-4ADD-A12A-8B5129147D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092320"/>
            <a:ext cx="810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howLocale(Locale lo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DisplayCountry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DisplayLanguage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DisplayName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loc.getDisplayVarian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oc.getISO3Country()+",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loc.getISO3Langu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600" y="4861080"/>
            <a:ext cx="749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ted States, English, English (United States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A, 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0D3-7176-4BD8-BC6A-5E9427EE6E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mber For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" y="1660680"/>
            <a:ext cx="8105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tex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umberFormatMain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Format formatte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Format.getNumberInstan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setMaximumFractionDigits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runcated PI = 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format(Math.PI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setMinimumIntegerDigits(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runcated PI = 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ter.format(Math.PI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9C8-E1C5-4491-A27D-33928440A3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ate For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9040" y="1828800"/>
            <a:ext cx="786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btain a Date object for the current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 now = new 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Use the default format for the current loc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Format formatter = DateFormat.getDateInstan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Default: "+formatter.format(now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monstrate the FULL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matter = DateFormat.getDateInstance(DateFormat.F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Full: "+formatter.format(now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0200" y="472428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ault: May 1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ll: Friday, May 1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8C1-2767-4ADD-80ED-A7536FCE99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may be grouped into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may be imported from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ava.lang package provides utility classes,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tringBuff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cale-specific information can be used to format numbers, dat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101-82DF-4BA4-BD0A-8B81ACAE97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ing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another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mport java.util.Array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orted class names may be used unqualif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rrayList list = new ArrayLis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ly the names are imported, not 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FD4-C99C-42A3-8B11-6B9BA0894F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eating a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2760" y="167652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Mariti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text.NumberForma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util.Observ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4880" y="4343400"/>
            <a:ext cx="725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efault, classes belong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named pack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introduce further scope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256-8621-4637-B42E-C4107C720A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Math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ed in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ackage is always implicitly imp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lass consists entirely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s and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never construct a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contains many useful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rig. functions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090-C353-49FB-8289-DAAACF2406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ing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defined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tring literal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ance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Identical literals have the same object 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method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At, equals, length, startsWith, toLower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6CD-55C0-4D3B-A1F3-FB36E1369D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 Compar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ways to compare two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eTo, equals, equalsIgnore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est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 equa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str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nly gi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 e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FAF-5E15-49B0-86D4-83DCD70052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Immutability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construct new strings out of existing strings, e.g., us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tring objects are immutable, we always obtain a new ins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noun = "dog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oun += "s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ppend, conc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A0F-54C0-4DEE-BA25-C397CEFDE0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sing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" y="1752480"/>
            <a:ext cx="8258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untSpaces(String 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Look for the fir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 = s.indexOf(' 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indexOf returns -1 on fail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index &g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We found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+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Look for the next just after the last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 = s.indexOf(' ',index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767-DA87-4380-BEB9-40C07A03C9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s from Primitiv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assignment is illeg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32; // Forb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it type conversion is comm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""+nu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the static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ue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String.valueOf(nu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ckages and Utility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D87-5DA9-46D6-B206-59F992914B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2-07T10:24:35Z</dcterms:modified>
  <cp:revision>19</cp:revision>
  <dc:subject/>
  <dc:title>Package and Utility Classes</dc:title>
</cp:coreProperties>
</file>