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3F6-373A-4241-BB58-41D7133C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B9D-E896-41C9-8CA4-FD8DF098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552-07F1-4271-944E-B5B6AD5F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1AC-5722-4259-8930-81609866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B2C6-C1FD-4F5E-8216-96007602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0364-8D1E-4CDC-A4B5-9206C4C5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33F0-9652-473F-B048-B482C9EF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BEFD-4285-4472-90FB-C6E04945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6D71-B608-4660-8932-68257393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599-F596-4893-88BC-6F8E4AB8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DF84-D86B-4A88-A7C2-C875717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933-DE91-4BB1-B9E3-51A5AD0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7397-0FB7-45AF-92FE-D4F7216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1C72-1056-4BD6-B9FE-A553A3F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13C1-0CDA-45A9-BA31-B8385EF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5565-3970-495A-8EEB-F2CE69C7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B62E-1C05-41E5-9112-97FE2BF2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A96-2700-460D-A8CD-6EAD8C32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FDE-BDDF-49BA-9621-486AE1D1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4D3-7AC6-4A2A-8323-A4F80D91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B9B-92B6-44BF-A831-8153E174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F5B-6C94-497D-B177-D3AC572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365-7E15-4F10-8597-0D390C9B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5F9-5CD1-4558-852F-5395165E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206-AD70-4D3A-8AD8-B8BA7C874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D063-2C4B-4891-9783-249F5E05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ing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Construction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ror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ly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D28-55A9-407D-95CF-46438CCCA57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that is not caught or handled will result in immediate program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ing an exception means we might be able to fix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a slower speed for the 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's try statement provides an exception handling (catching) mech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930-D365-436E-9687-7F07878648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y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2520" y="1600200"/>
            <a:ext cx="73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ngs could go wrong within thi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omething went wr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70D-DC33-4F65-AC38-A6691113A1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0" y="196524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struction could f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speed = 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ting a new speed could f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setSpeed(spe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Runtime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F00-B6A4-4B0D-BB0D-47467A7ACB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cipat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65040" y="1889280"/>
            <a:ext cx="5514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protected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IndexOutOfBounds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Arithmetic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Runtime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765-E290-4818-BA3D-D5FBD25B99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t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s for checked and unchecked exceptions diff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hecked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ed to the caller if there is no local hand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handled locally, or propagated via an explicit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039-FC27-4A6B-9F1C-91CCC27E01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hrow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5400" y="204156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method() throws 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otected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artial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throw the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A53-49B6-4D11-A2CE-D35E351D42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 defin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epresenting a particularly serious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rom which recovery is im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stance, an out-of-memory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aringly, and as a last re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exceptions, and plan for their re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DDA-D81B-4238-9472-EB4A7823D2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ly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8480" y="1660680"/>
            <a:ext cx="6124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metho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2 might throw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T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(Exception 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616-2F6F-4434-99B8-3150D6C6E3B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ten Used to Clos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82160" y="1752480"/>
            <a:ext cx="662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Reader inFile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Writer outFile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 = new FileReader(sour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= new FileWriter(destination,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inFile != nul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outFile != nul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CA7-4C57-484E-8582-2AF9B8AA4D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might be asked to perform inappropriate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often does not know how to respond in such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allow an object to leave the caller to sort out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is either checked or unche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D50-4480-43F8-950F-40E85880BA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'The World Outside'' is potentially hos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blic interface allows external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exceptional cond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move a ship that is mo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book a seat in a full thea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ing faster than the local speed li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al condition is based on the Ship's context, rather than its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8C2-CFA5-4FD6-AA1E-02CD69920C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may be caught and handled, or propag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aught (unhandled) exceptions result in premature program term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ally clause provides an always-executed route out of a try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the catch clause or finally clause may be o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727-4DC7-414C-B6B0-ACD1977CA9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int an error mess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rminate the progra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lently ignore the reque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quest anyw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a modified or faked a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quest a correction interactive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the wrong answ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an error indic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1F3-5611-4BB2-87F2-AC40566A9C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wing a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's standard 'error indication' is an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s represented by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Cas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45A-5F89-468D-B03D-FE59B79A76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040" y="1635120"/>
            <a:ext cx="7953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ncheckedMain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erminate the whole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just can't cope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0800" y="4156200"/>
            <a:ext cx="822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ception in thread "main" java.lang.RuntimeExcep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just can't co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Throwable.&lt;init&gt;(Throwable.java:7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Exception.&lt;init&gt;(Exception.java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java.lang.RuntimeException.&lt;init&gt;(RuntimeException.java:4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 UncheckedMain2.main(UncheckedMain2.java: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136-F3BC-4BE5-B317-8DDD29CA4E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objects hav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getMessag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printStackTrac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ring toStrin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ethods are used when an exception is caught, to provide diagnostic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3FB-3BCE-4F02-8959-61864D4E9B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s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9960" y="1870200"/>
            <a:ext cx="786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Speed(double s) throws Runtime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heck the validity of the requ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Math.abs(s) &gt; maximumSpeed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oo fast. Don't proc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RuntimeException("Speed "+s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is beyond the maximum of "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imumSpee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ed =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9CC-D452-48F5-A18C-9570B7B5C2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onstruction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1965240"/>
            <a:ext cx="8258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irc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ircle(double r) throws Runtime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r &l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RuntimeExcepti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e radius must be positive: "+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us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93E-0574-47B0-A33B-CB60D0C4EA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hecked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hecked do not require a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hecked do not have to be 'caught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ed 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ed do require a throws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ed do have to be dealt with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cep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8D1-6FA5-410C-B354-7CC8A30517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2000-02-24T08:39:30Z</dcterms:modified>
  <cp:revision>18</cp:revision>
  <dc:subject/>
  <dc:title>Exceptions</dc:title>
</cp:coreProperties>
</file>