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9EE5-792C-4755-9559-63DD9DE1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FB9-9DCB-4C62-93E9-97C3ED79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2D4-E9EC-485C-BC43-73778DB5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6AB9-053B-4F39-955D-FC66A959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60F0-32D2-4801-A570-EE2D6C2E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03AA-F07F-413E-9AE8-56589073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D387-8ABD-42C3-B0D3-E0527821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273C-F006-4A39-90E8-863F6DAF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82ED-5769-4C98-AE18-4A8E75A5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B006-598E-460F-8F19-D846B4CC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94C9-A898-4BF5-87C8-F3C82A7B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801D-0B59-4314-A49D-4B39427D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48BC-B769-4D8E-9ECD-F62D028D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259E-C2D3-4776-9A67-A5FE641C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40A5-4639-4CB9-8534-92F494F2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0504-39A8-4F15-93BF-0597DD62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AFD5-4D17-4004-A666-1A39F5B6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ACA-D652-45E1-94D7-D40F515A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023-6C66-4D03-9538-DDF4D6D8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629A-0CDE-4EFC-9C3B-3C1CC62A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3EC-6AB7-4FF5-8961-0BA78ADB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383B-410F-488B-9A3F-870CD08D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779-222B-432F-8E50-1337501D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B554-731A-4D4A-B600-7D017444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6DFB-E7E6-4DBF-BDBB-FEDEB0FD8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FD4B-8D28-4748-8B04-359F7F38A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y So Much for So Litt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want to use computers to solve complex 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lex problems require powerful programming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werful programming languages have more rules than simpler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005-4ADE-414A-AA5F-B546D81A536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ing a 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65400" y="2209680"/>
            <a:ext cx="67338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n illustration of ship mov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hipMain3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p argo = new Shi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sk the ship to mo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mov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E257-99FE-44A3-BD8C-20001F9CE27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ssing Arguments with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p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sages convey implicit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ip uses its own internal state to resp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messages need to be accompanied by further explicit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course to .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speed to .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CB9-763C-4311-98C3-7E529D2D4D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ng Arg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89080" y="1828800"/>
            <a:ext cx="6886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hipMain4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p argo = new Shi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repor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mov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sk it to change course, mov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port its new sett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setCourse(9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mov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repor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183-A082-4BF9-8063-8FB8AD34E8A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eiving Rep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communication often requires a re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time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re any free berths in the port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square-root of 2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, we can request information from a 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ften store the answer some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865-84FB-4CA1-8387-D50C1A9D36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esting a Ship’s Sp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76680" y="1600200"/>
            <a:ext cx="703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hipMain5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ip argo = new Ship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o.repor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Define a variable to hold the spe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currentSpee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Ask the ship what its current speed 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urrentSpeed = argo.getSpee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Increase the ship's spe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o.setSpeed(currentSpeed+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o.mov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o.repor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143-3E32-43D3-8B4C-A356538A50A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ariables and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and objects are diff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able may refer to a single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variables may refer to the same object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able may be switched from one object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able may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nitial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15EF-DAB3-4E17-B893-F72965D998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Main Method's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hoose never to create an object of the main method’s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approach is not followed by many other author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main method i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tic metho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ic methods have special properties that we shall explore in due cou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D8F4-CC54-4B26-AE8E-476F2832887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-O problem solving involves identifying classes, objects and object inter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jects maintain state and exhibit class-defined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stances of the same class behave in similar 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ssage passing illustrates object inter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81CE-86CB-4347-B52F-DB584BCD43A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may contain additional information: in the form of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sult may be returned as the result of a mes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and objects are distin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switch between different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bject may be simultaneously referred to by different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A90A-710A-4623-B337-E1B80FFBBC5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are Object-Oriented Languag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pport an O-O view of problem solv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jects categorized into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jects interact with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jects have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jects maintain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havior and state are intimately rel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reuse is facilit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7D7-1646-4E4C-BE9E-A0725EED89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he Operation of a 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asses and objects in the scen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hips moving in and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go and associated transpor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ssengers, vehicles, car pa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stoms officers, pilo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pects of the natural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1535-EFAB-4A45-AFED-5BD8DAEC31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actions in the 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of cargo between ship and d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engers embarking and disembar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ilot joining or leaving a 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hip requesting permission to en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ather affecting ship mov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BC0-5DF4-42CD-A144-96B1F235A4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lass definition provides a description of a typical object within that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argoShi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ssengerFerr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individual object is an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a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finition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tributes store an object’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743-7FB6-4E41-89D0-BC1BA074BA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nd Inst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i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ght capture the common characteristics of ocean li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MS Titan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MS Olymp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be two instances of that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definition is like a blueprint or temp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, size, pattern might vary, but instances of the same class come from the same m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AD81-7315-4B2D-867E-D484799470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eating an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60480" y="2030400"/>
            <a:ext cx="73436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n illustration of object cre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hipMain1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efine a method variable to refer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 Ship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p arg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nstruct a new Ship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 = new Shi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B57-C545-442A-860D-2D30C38CABE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bject Interac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between peo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: “I am going to a party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“What is the time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/Request: “Please buy me some gum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communicate in similar 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 messages to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or/Agent, Client/Server relationsh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2111-7C74-48AB-A9B5-E04DE817EA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nding a Message to a 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60480" y="2030400"/>
            <a:ext cx="734364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n illustration of message sen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hipMain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efine a method var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Make it refer to a new Ship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p argo = new Shi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sk the ship to report its posi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urse and spe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o.repor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ing and Using Objec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4F8-FDF4-4903-A5D3-1860810B153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09-21T15:06:56Z</cp:lastPrinted>
  <dcterms:modified xsi:type="dcterms:W3CDTF">1999-10-09T09:09:30Z</dcterms:modified>
  <cp:revision>11</cp:revision>
  <dc:subject/>
  <dc:title>Creating and Using Objects</dc:title>
</cp:coreProperties>
</file>