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55C0-AEA3-4B64-8CFD-C4673663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364E-6054-49B2-AB22-30778040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C162-2017-45EC-894F-A7C2F16A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58DC-9FD4-4BF0-8B3D-30E1C0C8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4398-0C3B-4926-A07F-B322408D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6619-F641-4310-B9B8-69E2AA80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2166-230D-40BD-9A55-148AEA8C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E60C-EF2C-45FE-982E-1FD45F1D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5CB1-4FAC-4DFD-A165-4025A020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EB58-AD45-4F0F-B144-D17EB917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16A9-DC82-4D24-A60F-E0792340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33D1-0EFB-42D8-BF10-DD1385E0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9F5E-AEB0-4218-B904-58DA8F007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7617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Corresponding Regions in Euler Dia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ohn Howse, </a:t>
            </a:r>
            <a:r>
              <a:rPr b="0" lang="en-GB" sz="3200" spc="-1" strike="noStrike">
                <a:solidFill>
                  <a:srgbClr val="ff3300"/>
                </a:solidFill>
                <a:latin typeface="Times New Roman"/>
              </a:rPr>
              <a:t>Gem Staplet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Jean Flow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John Tay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9933"/>
                </a:solidFill>
                <a:latin typeface="Times New Roman"/>
              </a:rPr>
              <a:t>Visual Modelling Grou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9933"/>
                </a:solidFill>
                <a:latin typeface="Times New Roman"/>
              </a:rPr>
              <a:t>University of Brighton, U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http://www.it.brighton.ac.uk/research/vm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C587-69D0-459A-8324-0C2B7A73F8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in identifies the shaded regions as correspon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venneg" descr=""/>
          <p:cNvPicPr/>
          <p:nvPr/>
        </p:nvPicPr>
        <p:blipFill>
          <a:blip r:embed="rId1"/>
          <a:stretch/>
        </p:blipFill>
        <p:spPr>
          <a:xfrm>
            <a:off x="2057400" y="3352680"/>
            <a:ext cx="5183280" cy="176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EE17-E472-45C4-953E-ED06E7A6FB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mmer identifies the shaded regions as correspon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introexamplesimplecorresponding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552636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B905-AAC8-4756-B72B-A7EA0F39A0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formal Syntax and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tary Euler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ff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Labels, denoted </a:t>
            </a:r>
            <a:r>
              <a:rPr b="0" i="1" lang="en-GB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(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syntax%20euler" descr=""/>
          <p:cNvPicPr/>
          <p:nvPr/>
        </p:nvPicPr>
        <p:blipFill>
          <a:blip r:embed="rId1"/>
          <a:stretch/>
        </p:blipFill>
        <p:spPr>
          <a:xfrm>
            <a:off x="5791320" y="2286000"/>
            <a:ext cx="2085840" cy="1666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1992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D2F8-A11E-48D0-8FC2-189C5139F2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formal Syntax and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tary Euler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bels, denoted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ff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Z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syntax%20euler" descr=""/>
          <p:cNvPicPr/>
          <p:nvPr/>
        </p:nvPicPr>
        <p:blipFill>
          <a:blip r:embed="rId1"/>
          <a:stretch/>
        </p:blipFill>
        <p:spPr>
          <a:xfrm>
            <a:off x="5791320" y="2295360"/>
            <a:ext cx="2085840" cy="1667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1992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05720" y="33526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Zo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72200" y="2819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Zon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8077320" y="3352680"/>
                <a:ext cx="279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8001000" y="2362320"/>
                <a:ext cx="392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 flipH="1">
            <a:off x="7543800" y="35053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7010280" y="2666880"/>
            <a:ext cx="99072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8C23-3B81-4EAB-BAEF-10F85C12AA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formal Syntax and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tary Euler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bels, denoted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Z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ff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Reg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syntax%20euler" descr=""/>
          <p:cNvPicPr/>
          <p:nvPr/>
        </p:nvPicPr>
        <p:blipFill>
          <a:blip r:embed="rId1"/>
          <a:stretch/>
        </p:blipFill>
        <p:spPr>
          <a:xfrm>
            <a:off x="5791320" y="2295360"/>
            <a:ext cx="2085840" cy="1667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01992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05720" y="33526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o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72200" y="2819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on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8077320" y="3352680"/>
                <a:ext cx="279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8001000" y="2362320"/>
                <a:ext cx="392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 flipH="1">
            <a:off x="7543800" y="35053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010280" y="2666880"/>
            <a:ext cx="99072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B563-2844-419D-B950-63D39FA37F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formal Syntax and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tary Euler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bels, denoted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Z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g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ff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A Venn diagram is an Euler diagram containing all possible z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syntax%20euler" descr=""/>
          <p:cNvPicPr/>
          <p:nvPr/>
        </p:nvPicPr>
        <p:blipFill>
          <a:blip r:embed="rId1"/>
          <a:stretch/>
        </p:blipFill>
        <p:spPr>
          <a:xfrm>
            <a:off x="5791320" y="2295360"/>
            <a:ext cx="2085840" cy="1667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1992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05720" y="33526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o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2819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on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8077320" y="3352680"/>
                <a:ext cx="279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8001000" y="2362320"/>
                <a:ext cx="392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 flipH="1">
            <a:off x="7543800" y="35053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010280" y="2666880"/>
            <a:ext cx="99072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EF62-1773-49CE-B64E-068ACB37FA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formal Syntax and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tary Euler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743200"/>
            <a:ext cx="754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s denote,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ossibly 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’ zones denote the empty 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B957-C211-4746-ADC5-886FA25F60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diagram has one ‘missing’ zone,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agram asserts that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352680" y="2590920"/>
                <a:ext cx="671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676520" y="4419720"/>
                <a:ext cx="2286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7" name="introexampleeulerdiagram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2819160" cy="19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245A-B404-41C2-87A6-5F67357E5C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formal Syntax and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und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ound diagram is a set of unitary diagrams taken in disj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compound" descr=""/>
          <p:cNvPicPr/>
          <p:nvPr/>
        </p:nvPicPr>
        <p:blipFill>
          <a:blip r:embed="rId1"/>
          <a:stretch/>
        </p:blipFill>
        <p:spPr>
          <a:xfrm>
            <a:off x="1752480" y="4000680"/>
            <a:ext cx="5602320" cy="1714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809880" y="47242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2BC0-F2FE-4A42-AE2B-F484F37ECB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formal Syntax and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ulti-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multi-diagram is a set of compound diagrams taken in conj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32040" y="4086360"/>
            <a:ext cx="7449840" cy="1704960"/>
            <a:chOff x="932040" y="4086360"/>
            <a:chExt cx="7449840" cy="1704960"/>
          </a:xfrm>
        </p:grpSpPr>
        <p:pic>
          <p:nvPicPr>
            <p:cNvPr id="125" name="multi" descr=""/>
            <p:cNvPicPr/>
            <p:nvPr/>
          </p:nvPicPr>
          <p:blipFill>
            <a:blip r:embed="rId1"/>
            <a:stretch/>
          </p:blipFill>
          <p:spPr>
            <a:xfrm>
              <a:off x="932040" y="4086360"/>
              <a:ext cx="7449840" cy="17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989080" y="4876920"/>
              <a:ext cx="533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D653-9185-48AE-859F-32DD139EC0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 correspondence re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a correspondence relation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has been done bef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formal syntax and semantics of Euler diagr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responding regions in Venn diagr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responding regions in Euler diagr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7269-E7F8-4760-B628-00DA4330C9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formal Syntax and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n disjunction: cannot deduce B is emp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conjunct%20disjunct%20eg" descr=""/>
          <p:cNvPicPr/>
          <p:nvPr/>
        </p:nvPicPr>
        <p:blipFill>
          <a:blip r:embed="rId1"/>
          <a:stretch/>
        </p:blipFill>
        <p:spPr>
          <a:xfrm>
            <a:off x="1828800" y="2352600"/>
            <a:ext cx="5562720" cy="1685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90920" y="4103640"/>
                <a:ext cx="71100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⊆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562720" y="4064040"/>
                <a:ext cx="1168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4114800" y="3124080"/>
            <a:ext cx="7621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158E-1289-4BCB-A08A-1B70F21EE5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formal Syntax and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isjunction: cannot deduce B is emp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n conjunction: B is emp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conjunct%20disjunct%20eg" descr=""/>
          <p:cNvPicPr/>
          <p:nvPr/>
        </p:nvPicPr>
        <p:blipFill>
          <a:blip r:embed="rId1"/>
          <a:stretch/>
        </p:blipFill>
        <p:spPr>
          <a:xfrm>
            <a:off x="1828800" y="2352600"/>
            <a:ext cx="5562720" cy="1685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590920" y="4103640"/>
                <a:ext cx="71100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⊆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562720" y="4064040"/>
                <a:ext cx="1168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8903-EB9A-47DE-901D-2DDF0F77B6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enn Diagram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Zonal regions: they have represent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which we call a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l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corresponding%20zrs" descr=""/>
          <p:cNvPicPr/>
          <p:nvPr/>
        </p:nvPicPr>
        <p:blipFill>
          <a:blip r:embed="rId1"/>
          <a:stretch/>
        </p:blipFill>
        <p:spPr>
          <a:xfrm>
            <a:off x="1752480" y="2752560"/>
            <a:ext cx="5621400" cy="1667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581280" y="5486400"/>
                <a:ext cx="9781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3" name=""/>
          <p:cNvGrpSpPr/>
          <p:nvPr/>
        </p:nvGrpSpPr>
        <p:grpSpPr>
          <a:xfrm>
            <a:off x="3809880" y="2971800"/>
            <a:ext cx="1371600" cy="533160"/>
            <a:chOff x="3809880" y="2971800"/>
            <a:chExt cx="1371600" cy="533160"/>
          </a:xfrm>
        </p:grpSpPr>
        <p:sp>
          <p:nvSpPr>
            <p:cNvPr id="144" name=""/>
            <p:cNvSpPr/>
            <p:nvPr/>
          </p:nvSpPr>
          <p:spPr>
            <a:xfrm>
              <a:off x="3809880" y="35049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86200" y="29718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rase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762120" y="175248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haded regions corresp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A0E7-B086-4643-8DB6-96497BC61B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gebra of Spl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li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pair of sets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such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648320" y="2133720"/>
                <a:ext cx="671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162920" y="2133720"/>
                <a:ext cx="1218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∩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1" name="corresponding%20zrs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5621400" cy="166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68A1-84C4-4D1D-B537-0C17F6A462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gebra of Spl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l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 of set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uch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lits for the two shaded zones in d1 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and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lit for the shaded zone in d2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648320" y="1828800"/>
                <a:ext cx="671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086600" y="1828800"/>
                <a:ext cx="1219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∩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6" name="corresponding%20zrs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5621040" cy="1666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939960" y="5181480"/>
                <a:ext cx="1269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895480" y="5181480"/>
                <a:ext cx="1270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858000" y="5715000"/>
                <a:ext cx="990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1A23-56BE-45A1-9017-A7F8B00CC7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gebra of Spl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a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to be ‘the same as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495680" y="1981080"/>
                <a:ext cx="12574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476440" y="2057400"/>
                <a:ext cx="12574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438280" y="2590920"/>
                <a:ext cx="9781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65" name=""/>
          <p:cNvGrpSpPr/>
          <p:nvPr/>
        </p:nvGrpSpPr>
        <p:grpSpPr>
          <a:xfrm>
            <a:off x="762120" y="3514680"/>
            <a:ext cx="8140680" cy="1666800"/>
            <a:chOff x="762120" y="3514680"/>
            <a:chExt cx="8140680" cy="1666800"/>
          </a:xfrm>
        </p:grpSpPr>
        <p:pic>
          <p:nvPicPr>
            <p:cNvPr id="166" name="corresponding%20zrs" descr=""/>
            <p:cNvPicPr/>
            <p:nvPr/>
          </p:nvPicPr>
          <p:blipFill>
            <a:blip r:embed="rId1"/>
            <a:stretch/>
          </p:blipFill>
          <p:spPr>
            <a:xfrm>
              <a:off x="2133720" y="3514680"/>
              <a:ext cx="5621040" cy="1666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7924680" y="3920760"/>
                  <a:ext cx="978120" cy="50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⟨"/>
                          <m:endChr m:val="⟩"/>
                        </m:dPr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A</m:t>
                              </m:r>
                            </m:e>
                          </m:d>
                          <m:r>
                            <m:t xml:space="preserve">,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B</m:t>
                              </m:r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762120" y="3514680"/>
                  <a:ext cx="125712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⟨"/>
                          <m:endChr m:val="⟩"/>
                        </m:dPr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A</m:t>
                              </m:r>
                            </m:e>
                          </m:d>
                          <m:r>
                            <m:t xml:space="preserve">,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B</m:t>
                              </m:r>
                              <m:r>
                                <m:t xml:space="preserve">,</m:t>
                              </m:r>
                              <m:r>
                                <m:t xml:space="preserve">C</m:t>
                              </m:r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762120" y="4428720"/>
                  <a:ext cx="125712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⟨"/>
                          <m:endChr m:val="⟩"/>
                        </m:dPr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,</m:t>
                              </m:r>
                              <m:r>
                                <m:t xml:space="preserve">C</m:t>
                              </m:r>
                            </m:e>
                          </m:d>
                          <m:r>
                            <m:t xml:space="preserve">,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B</m:t>
                              </m:r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2057400" y="3819240"/>
              <a:ext cx="53352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057400" y="4352400"/>
              <a:ext cx="76212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6324120" y="4200120"/>
              <a:ext cx="16002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590920" y="5435640"/>
                <a:ext cx="3911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</m:d>
                    <m:r>
                      <m:t xml:space="preserve">+</m:t>
                    </m:r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C5AB-D4C6-48C2-98BA-736EF67DB5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gebra of Spl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roduction of a la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133720" y="2679840"/>
          <a:ext cx="531000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679840"/>
                    <a:ext cx="531000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912C-37EB-4BEE-AE88-733CAEAC52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gebra of Spl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roduction of a la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wa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133720" y="2666880"/>
                <a:ext cx="53100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A</m:t>
                    </m:r>
                    <m:r>
                      <m:t xml:space="preserve">∉</m:t>
                    </m:r>
                    <m:r>
                      <m:t xml:space="preserve">P</m:t>
                    </m:r>
                    <m:r>
                      <m:t xml:space="preserve">∪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P</m:t>
                        </m:r>
                        <m:r>
                          <m:t xml:space="preserve">∪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∪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438280" y="3809880"/>
                <a:ext cx="39117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</m:d>
                    <m:r>
                      <m:t xml:space="preserve">+</m:t>
                    </m:r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8022-B5ED-48C2-95BB-51E1603B6BD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gebra of Spl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roduction of a la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wa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             an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introduc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obt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052720" y="2666880"/>
                <a:ext cx="5473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∉</m:t>
                    </m:r>
                    <m:r>
                      <m:t xml:space="preserve">P</m:t>
                    </m:r>
                    <m:r>
                      <m:t xml:space="preserve">∪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P</m:t>
                        </m:r>
                        <m:r>
                          <m:t xml:space="preserve">∪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∪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438280" y="3809880"/>
                <a:ext cx="39117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</m:d>
                    <m:r>
                      <m:t xml:space="preserve">+</m:t>
                    </m:r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447920" y="4419720"/>
                <a:ext cx="990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352680" y="4419720"/>
                <a:ext cx="1016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324160" y="5283360"/>
                <a:ext cx="45972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</m:d>
                    <m:r>
                      <m:t xml:space="preserve">+</m:t>
                    </m:r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A3D2-950E-445F-8CBA-58E7CEFE97A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gebra of Spl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uta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ocia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element is idempo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922-C1E1-4699-A97A-D0FD317DFE9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 Euler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diagram asse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295280" y="3276720"/>
                <a:ext cx="25909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" name="introexampleeulerdiagram" descr=""/>
          <p:cNvPicPr/>
          <p:nvPr/>
        </p:nvPicPr>
        <p:blipFill>
          <a:blip r:embed="rId1"/>
          <a:stretch/>
        </p:blipFill>
        <p:spPr>
          <a:xfrm>
            <a:off x="5029200" y="2371680"/>
            <a:ext cx="3200400" cy="197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3323-D2B1-4D10-91EE-8F7DCCE54C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pping Regions to Spl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fine a function from regions to spli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3300"/>
                </a:solidFill>
                <a:latin typeface="Times New Roman"/>
              </a:rPr>
              <a:t>zones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108320" y="3009960"/>
          <a:ext cx="207036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08320" y="3009960"/>
                    <a:ext cx="207036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D981-E59C-4190-8D93-0DB2CB7C607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Corresponding Zonal Reg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function from regions to spli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ne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eg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962520" y="2854440"/>
                <a:ext cx="289548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914640" y="4419720"/>
                <a:ext cx="2686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z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sub>
                      <m:sup/>
                      <m:e>
                        <m:r>
                          <m:t xml:space="preserve"> </m:t>
                        </m:r>
                        <m:r>
                          <m:t xml:space="preserve">ρ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C8BF-4568-43F5-84A6-51F681E8AE5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Corresponding Zonal Reg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Zonal region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r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r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rresponding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and only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responding zonal regions represent the same se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352680" y="3124080"/>
                <a:ext cx="2590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zr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ρ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zr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0FA6-7863-4FC0-B47C-EAA832AFE68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two shaded zonal regions are correspo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438280" y="5105520"/>
                <a:ext cx="388620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zr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ρ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zr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05" name="corresponding%20zrs%20eg" descr=""/>
          <p:cNvPicPr/>
          <p:nvPr/>
        </p:nvPicPr>
        <p:blipFill>
          <a:blip r:embed="rId1"/>
          <a:stretch/>
        </p:blipFill>
        <p:spPr>
          <a:xfrm>
            <a:off x="2209680" y="3048120"/>
            <a:ext cx="4973760" cy="17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2FEB-7648-4ECF-A96B-FAB5E1C429B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rresponding Reg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regions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, ar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rresponding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responding regions represent the same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048120" y="3200400"/>
                <a:ext cx="2400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ρ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0727-2A49-44BB-AAE9-D3182EE4038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regions are correspo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corresponding%20region%20eg" descr=""/>
          <p:cNvPicPr/>
          <p:nvPr/>
        </p:nvPicPr>
        <p:blipFill>
          <a:blip r:embed="rId1"/>
          <a:stretch/>
        </p:blipFill>
        <p:spPr>
          <a:xfrm>
            <a:off x="2057400" y="2895480"/>
            <a:ext cx="4973760" cy="1704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352680" y="4876920"/>
                <a:ext cx="21211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</m:d>
                    <m:r>
                      <m:t xml:space="preserve">+</m:t>
                    </m:r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8EBA-9901-46DB-8062-9BCAA9CC38D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rresponding Reg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heor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respondence relation is 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ce relation on regions of Ven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gr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51C6-11D3-447E-BDDA-9A0B993D6E6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Eule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haded zone in d2 is missing from d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context of d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euler%20eg%20slide%2017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621400" cy="173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143000" y="4952880"/>
                <a:ext cx="1511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∅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A059-4D35-4E74-8920-D5B59242CE5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text of a Unitary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d1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euler%20eg%20slide%2018" descr=""/>
          <p:cNvPicPr/>
          <p:nvPr/>
        </p:nvPicPr>
        <p:blipFill>
          <a:blip r:embed="rId1"/>
          <a:stretch/>
        </p:blipFill>
        <p:spPr>
          <a:xfrm>
            <a:off x="1752480" y="1924200"/>
            <a:ext cx="5621400" cy="173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628640" y="4648320"/>
                <a:ext cx="622476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∅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E99E-B1EF-4E80-BBC5-C7067551AC0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regions in d2 correspond to the shaded reg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euler%20eg%20slide%2020a" descr=""/>
          <p:cNvPicPr/>
          <p:nvPr/>
        </p:nvPicPr>
        <p:blipFill>
          <a:blip r:embed="rId1"/>
          <a:stretch/>
        </p:blipFill>
        <p:spPr>
          <a:xfrm>
            <a:off x="1523880" y="3352680"/>
            <a:ext cx="59263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9C0D-7451-49EA-8295-EE06AEC20EF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haded regions are correspon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venneg" descr=""/>
          <p:cNvPicPr/>
          <p:nvPr/>
        </p:nvPicPr>
        <p:blipFill>
          <a:blip r:embed="rId1"/>
          <a:stretch/>
        </p:blipFill>
        <p:spPr>
          <a:xfrm>
            <a:off x="1981080" y="3191040"/>
            <a:ext cx="5183280" cy="176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FA6B-DB10-4B4D-92D4-4E859C2F33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uggested 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is corre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both corre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752480" y="1828800"/>
            <a:ext cx="5639040" cy="3686040"/>
            <a:chOff x="1752480" y="1828800"/>
            <a:chExt cx="5639040" cy="3686040"/>
          </a:xfrm>
        </p:grpSpPr>
        <p:pic>
          <p:nvPicPr>
            <p:cNvPr id="229" name="euler%20eg%20slide%2020a" descr=""/>
            <p:cNvPicPr/>
            <p:nvPr/>
          </p:nvPicPr>
          <p:blipFill>
            <a:blip r:embed="rId1"/>
            <a:stretch/>
          </p:blipFill>
          <p:spPr>
            <a:xfrm>
              <a:off x="1752480" y="1828800"/>
              <a:ext cx="5621400" cy="17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euler%20eg%20slide%2020b" descr=""/>
            <p:cNvPicPr/>
            <p:nvPr/>
          </p:nvPicPr>
          <p:blipFill>
            <a:blip r:embed="rId2"/>
            <a:stretch/>
          </p:blipFill>
          <p:spPr>
            <a:xfrm>
              <a:off x="5143680" y="3809880"/>
              <a:ext cx="2247840" cy="17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971800" y="2666880"/>
              <a:ext cx="289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95480" y="2819520"/>
              <a:ext cx="304812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26C3-0AF0-4A9A-8F1C-2DC8B4FCD65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is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only deduce that the shaded zone in the bottom diagram represents the empty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048120" y="1676520"/>
            <a:ext cx="5867280" cy="4787640"/>
            <a:chOff x="3048120" y="1676520"/>
            <a:chExt cx="5867280" cy="4787640"/>
          </a:xfrm>
        </p:grpSpPr>
        <p:sp>
          <p:nvSpPr>
            <p:cNvPr id="236" name=""/>
            <p:cNvSpPr/>
            <p:nvPr/>
          </p:nvSpPr>
          <p:spPr>
            <a:xfrm>
              <a:off x="5638680" y="167652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Compound diag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3048120" y="2133720"/>
              <a:ext cx="5867280" cy="4330440"/>
              <a:chOff x="3048120" y="2133720"/>
              <a:chExt cx="5867280" cy="4330440"/>
            </a:xfrm>
          </p:grpSpPr>
          <p:sp>
            <p:nvSpPr>
              <p:cNvPr id="238" name=""/>
              <p:cNvSpPr/>
              <p:nvPr/>
            </p:nvSpPr>
            <p:spPr>
              <a:xfrm>
                <a:off x="6248520" y="2743200"/>
                <a:ext cx="9903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3048120" y="2133720"/>
                <a:ext cx="5867280" cy="4330440"/>
                <a:chOff x="3048120" y="2133720"/>
                <a:chExt cx="5867280" cy="4330440"/>
              </a:xfrm>
            </p:grpSpPr>
            <p:pic>
              <p:nvPicPr>
                <p:cNvPr id="240" name="euler%20eg%20slide%202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724280" y="2133720"/>
                  <a:ext cx="4191120" cy="43304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41" name=""/>
                <p:cNvGrpSpPr/>
                <p:nvPr/>
              </p:nvGrpSpPr>
              <p:grpSpPr>
                <a:xfrm>
                  <a:off x="3048120" y="3276720"/>
                  <a:ext cx="5562360" cy="2641320"/>
                  <a:chOff x="3048120" y="3276720"/>
                  <a:chExt cx="5562360" cy="2641320"/>
                </a:xfrm>
              </p:grpSpPr>
              <mc:AlternateContent>
                <mc:Choice xmlns:a14="http://schemas.microsoft.com/office/drawing/2010/main" Requires="a14">
                  <p:sp>
                    <p:nvSpPr>
                      <p:cNvPr id="242" name=""/>
                      <p:cNvSpPr txBox="1"/>
                      <p:nvPr/>
                    </p:nvSpPr>
                    <p:spPr>
                      <a:xfrm>
                        <a:off x="3048120" y="5410080"/>
                        <a:ext cx="1257120" cy="5079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B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C</m:t>
                                    </m:r>
                                  </m:e>
                                </m:d>
                                <m:r>
                                  <m:t xml:space="preserve">,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</m:d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243" name=""/>
                  <p:cNvSpPr/>
                  <p:nvPr/>
                </p:nvSpPr>
                <p:spPr>
                  <a:xfrm>
                    <a:off x="4343400" y="5638680"/>
                    <a:ext cx="2438280" cy="152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4952880" y="3276720"/>
                    <a:ext cx="0" cy="3808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610480" y="3276720"/>
                    <a:ext cx="0" cy="3808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5486400" y="4952880"/>
                    <a:ext cx="457200" cy="304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>
                    <a:off x="7695720" y="4800600"/>
                    <a:ext cx="381240" cy="3808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269A-ADEB-4F05-9EAE-6FC7F71CF71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is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rrec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91520" y="289548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zone may be non-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6400800" y="2514240"/>
            <a:ext cx="990720" cy="609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038480" y="3352680"/>
            <a:ext cx="457200" cy="45720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3429000"/>
            <a:ext cx="533160" cy="3049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447920" y="1800360"/>
            <a:ext cx="5638320" cy="3686040"/>
            <a:chOff x="1447920" y="1800360"/>
            <a:chExt cx="5638320" cy="3686040"/>
          </a:xfrm>
        </p:grpSpPr>
        <p:pic>
          <p:nvPicPr>
            <p:cNvPr id="255" name="euler%20eg%20slide%2020a" descr=""/>
            <p:cNvPicPr/>
            <p:nvPr/>
          </p:nvPicPr>
          <p:blipFill>
            <a:blip r:embed="rId1"/>
            <a:stretch/>
          </p:blipFill>
          <p:spPr>
            <a:xfrm>
              <a:off x="1447920" y="1800360"/>
              <a:ext cx="5621040" cy="17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euler%20eg%20slide%2020b" descr=""/>
            <p:cNvPicPr/>
            <p:nvPr/>
          </p:nvPicPr>
          <p:blipFill>
            <a:blip r:embed="rId2"/>
            <a:stretch/>
          </p:blipFill>
          <p:spPr>
            <a:xfrm>
              <a:off x="4838760" y="3781440"/>
              <a:ext cx="2247480" cy="17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2666880" y="2638440"/>
              <a:ext cx="289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0560" y="2791080"/>
              <a:ext cx="304776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6477120" y="3886200"/>
            <a:ext cx="914400" cy="609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A65F-9217-4EB3-88C6-FE48A0A19BE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Context of a Compound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splits associated with the intersection of the shaded zones in the component diagrams is called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compound dia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048120" y="3962520"/>
                <a:ext cx="23619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304920" y="53341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plit in the context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D942-9D35-4776-B8CA-778D051E489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35816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duce that 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ssing zones represent the empty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952880" y="1752480"/>
            <a:ext cx="3733920" cy="4572000"/>
            <a:chOff x="4952880" y="1752480"/>
            <a:chExt cx="3733920" cy="4572000"/>
          </a:xfrm>
        </p:grpSpPr>
        <p:sp>
          <p:nvSpPr>
            <p:cNvPr id="267" name=""/>
            <p:cNvSpPr/>
            <p:nvPr/>
          </p:nvSpPr>
          <p:spPr>
            <a:xfrm>
              <a:off x="5791320" y="175248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3300"/>
                  </a:solidFill>
                  <a:latin typeface="Times New Roman"/>
                </a:rPr>
                <a:t>Multi-diag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4952880" y="2133720"/>
              <a:ext cx="3733920" cy="4190760"/>
              <a:chOff x="4952880" y="2133720"/>
              <a:chExt cx="3733920" cy="4190760"/>
            </a:xfrm>
          </p:grpSpPr>
          <p:pic>
            <p:nvPicPr>
              <p:cNvPr id="269" name="euler%20eg%20slide%2023" descr=""/>
              <p:cNvPicPr/>
              <p:nvPr/>
            </p:nvPicPr>
            <p:blipFill>
              <a:blip r:embed="rId1"/>
              <a:stretch/>
            </p:blipFill>
            <p:spPr>
              <a:xfrm>
                <a:off x="4952880" y="2133720"/>
                <a:ext cx="3733920" cy="419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5105520" y="3276720"/>
                <a:ext cx="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381880" y="3276720"/>
                <a:ext cx="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486400" y="487692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7620120" y="4724280"/>
                <a:ext cx="45720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E784-8B8C-4601-B64E-ABD5E4D3715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2120" y="42667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solutions are corr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0120" y="35053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zone is 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905120" y="2133720"/>
            <a:ext cx="5638320" cy="3686040"/>
            <a:chOff x="1905120" y="2133720"/>
            <a:chExt cx="5638320" cy="3686040"/>
          </a:xfrm>
        </p:grpSpPr>
        <p:pic>
          <p:nvPicPr>
            <p:cNvPr id="278" name="euler%20eg%20slide%2020a" descr=""/>
            <p:cNvPicPr/>
            <p:nvPr/>
          </p:nvPicPr>
          <p:blipFill>
            <a:blip r:embed="rId1"/>
            <a:stretch/>
          </p:blipFill>
          <p:spPr>
            <a:xfrm>
              <a:off x="1905120" y="2133720"/>
              <a:ext cx="5621040" cy="17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euler%20eg%20slide%2020b" descr=""/>
            <p:cNvPicPr/>
            <p:nvPr/>
          </p:nvPicPr>
          <p:blipFill>
            <a:blip r:embed="rId2"/>
            <a:stretch/>
          </p:blipFill>
          <p:spPr>
            <a:xfrm>
              <a:off x="5295960" y="4114800"/>
              <a:ext cx="2247480" cy="17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3124080" y="2971800"/>
              <a:ext cx="289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47760" y="3124440"/>
              <a:ext cx="304776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 flipH="1" flipV="1">
            <a:off x="7009920" y="2971440"/>
            <a:ext cx="685800" cy="609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6933960" y="4267080"/>
            <a:ext cx="68580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4A50-856F-430C-B4B1-29B0967DDDA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The Context of a Multi-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5341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set of splits associated with the union of the shaded zones in the component diagrams is called th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multi-dia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y split in the context of a multi-diagram i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zer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D13F-8E4B-4BF5-9DED-7B79900DE05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gebra of Spl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2666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tex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143160" y="1828800"/>
                <a:ext cx="5702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89" name=""/>
          <p:cNvGrpSpPr/>
          <p:nvPr/>
        </p:nvGrpSpPr>
        <p:grpSpPr>
          <a:xfrm>
            <a:off x="3124080" y="2666880"/>
            <a:ext cx="3276720" cy="3733920"/>
            <a:chOff x="3124080" y="2666880"/>
            <a:chExt cx="3276720" cy="3733920"/>
          </a:xfrm>
        </p:grpSpPr>
        <p:pic>
          <p:nvPicPr>
            <p:cNvPr id="290" name="euler%20eg%20slide%2023" descr=""/>
            <p:cNvPicPr/>
            <p:nvPr/>
          </p:nvPicPr>
          <p:blipFill>
            <a:blip r:embed="rId1"/>
            <a:stretch/>
          </p:blipFill>
          <p:spPr>
            <a:xfrm>
              <a:off x="3124080" y="2666880"/>
              <a:ext cx="327672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3258000" y="3684960"/>
              <a:ext cx="0" cy="27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32960" y="3684960"/>
              <a:ext cx="0" cy="27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92080" y="5110920"/>
              <a:ext cx="468000" cy="33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5464440" y="4974840"/>
              <a:ext cx="401040" cy="40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190B-3F33-4F80-B815-7B38ECE54C5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gebra of Spl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contex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62720" y="3048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ntroducing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4266720" y="3657600"/>
            <a:ext cx="1295640" cy="762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4000320" y="3161520"/>
            <a:ext cx="228600" cy="2895840"/>
          </a:xfrm>
          <a:custGeom>
            <a:avLst/>
            <a:gdLst>
              <a:gd name="textAreaLeft" fmla="*/ 0 w 228600"/>
              <a:gd name="textAreaRight" fmla="*/ 82440 w 22860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64"/>
                </a:lnTo>
                <a:cubicBezTo>
                  <a:pt x="10800" y="9864"/>
                  <a:pt x="16200" y="10764"/>
                  <a:pt x="21600" y="10764"/>
                </a:cubicBezTo>
                <a:cubicBezTo>
                  <a:pt x="16200" y="10764"/>
                  <a:pt x="10800" y="11664"/>
                  <a:pt x="10800" y="1256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143160" y="2031840"/>
                <a:ext cx="5702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839880" y="4724280"/>
                <a:ext cx="6856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∅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∅</m:t>
                        </m:r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C309-DAF3-4129-B3ED-6A9846A4939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gebra of Spl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198108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contex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48520" y="33526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dding 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705720" y="3962520"/>
            <a:ext cx="838080" cy="7617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143160" y="2031840"/>
                <a:ext cx="5702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839880" y="4724280"/>
                <a:ext cx="6856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∅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∅</m:t>
                        </m:r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 flipV="1">
            <a:off x="7772400" y="2590920"/>
            <a:ext cx="228600" cy="838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E1FB-E277-4A18-9865-29E775C7504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haded regions are correspon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introexamplesimplecorresponding" descr=""/>
          <p:cNvPicPr/>
          <p:nvPr/>
        </p:nvPicPr>
        <p:blipFill>
          <a:blip r:embed="rId1"/>
          <a:stretch/>
        </p:blipFill>
        <p:spPr>
          <a:xfrm>
            <a:off x="1752480" y="3152880"/>
            <a:ext cx="5867640" cy="180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68E0-8063-4E84-81FD-19064FBA97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euler%20eg%20slide%204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621040" cy="17334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 flipV="1">
            <a:off x="5638680" y="3124080"/>
            <a:ext cx="838440" cy="1067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057400" y="2819520"/>
            <a:ext cx="533520" cy="1371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05120" y="56386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se sums of splits are equal in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1447920" y="4495680"/>
                <a:ext cx="6856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∅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∅</m:t>
                        </m:r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d>
                      <m:dPr>
                        <m:begChr m:val="⟨"/>
                        <m:endChr m:val="⟩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 rot="5400000">
            <a:off x="1981080" y="3885840"/>
            <a:ext cx="152280" cy="106704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32"/>
                </a:lnTo>
                <a:cubicBezTo>
                  <a:pt x="10800" y="9932"/>
                  <a:pt x="5400" y="10832"/>
                  <a:pt x="0" y="10832"/>
                </a:cubicBezTo>
                <a:cubicBezTo>
                  <a:pt x="5400" y="10832"/>
                  <a:pt x="10800" y="11732"/>
                  <a:pt x="10800" y="1263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5523840" y="2095200"/>
            <a:ext cx="152640" cy="4496040"/>
          </a:xfrm>
          <a:custGeom>
            <a:avLst/>
            <a:gdLst>
              <a:gd name="textAreaLeft" fmla="*/ 97560 w 152640"/>
              <a:gd name="textAreaRight" fmla="*/ 153000 w 152640"/>
              <a:gd name="textAreaTop" fmla="*/ 117000 h 4496040"/>
              <a:gd name="textAreaBottom" fmla="*/ 4379040 h 449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32"/>
                </a:lnTo>
                <a:cubicBezTo>
                  <a:pt x="10800" y="9932"/>
                  <a:pt x="5400" y="10832"/>
                  <a:pt x="0" y="10832"/>
                </a:cubicBezTo>
                <a:cubicBezTo>
                  <a:pt x="5400" y="10832"/>
                  <a:pt x="10800" y="11732"/>
                  <a:pt x="10800" y="1263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799-FF25-455F-8598-FF917648B0D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rresponding Reg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1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regions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, ar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rresponding in context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and only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2895480" y="3581280"/>
                <a:ext cx="21337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ρ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609480" y="449568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2560" indent="-52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ulo the context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3323-D661-4C5B-A730-5687D9E3737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multi-diagram has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shaded regions correspon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324480" y="1905120"/>
                <a:ext cx="15624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∅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25" name=""/>
          <p:cNvGrpSpPr/>
          <p:nvPr/>
        </p:nvGrpSpPr>
        <p:grpSpPr>
          <a:xfrm>
            <a:off x="1219320" y="2924280"/>
            <a:ext cx="7278120" cy="1724040"/>
            <a:chOff x="1219320" y="2924280"/>
            <a:chExt cx="7278120" cy="1724040"/>
          </a:xfrm>
        </p:grpSpPr>
        <p:pic>
          <p:nvPicPr>
            <p:cNvPr id="326" name="change%20context%20eg%202a" descr=""/>
            <p:cNvPicPr/>
            <p:nvPr/>
          </p:nvPicPr>
          <p:blipFill>
            <a:blip r:embed="rId1"/>
            <a:stretch/>
          </p:blipFill>
          <p:spPr>
            <a:xfrm>
              <a:off x="6268680" y="2943360"/>
              <a:ext cx="2228760" cy="17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change%20context%20eg" descr=""/>
            <p:cNvPicPr/>
            <p:nvPr/>
          </p:nvPicPr>
          <p:blipFill>
            <a:blip r:embed="rId2"/>
            <a:stretch/>
          </p:blipFill>
          <p:spPr>
            <a:xfrm>
              <a:off x="1219320" y="2924280"/>
              <a:ext cx="474480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D571-F2A7-4147-BE6C-CDFBA0E0EE4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Times New Roman"/>
              </a:rPr>
              <a:t>However, removing d2 affects the con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multi-diagram has an empty con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shaded regions </a:t>
            </a:r>
            <a:r>
              <a:rPr b="0" lang="en-GB" sz="3200" spc="-1" strike="noStrike">
                <a:solidFill>
                  <a:srgbClr val="ff3300"/>
                </a:solidFill>
                <a:latin typeface="Times New Roman"/>
              </a:rPr>
              <a:t>no longe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orrespond.</a:t>
            </a:r>
            <a:r>
              <a:rPr b="0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change%20context%20eg%203" descr=""/>
          <p:cNvPicPr/>
          <p:nvPr/>
        </p:nvPicPr>
        <p:blipFill>
          <a:blip r:embed="rId1"/>
          <a:stretch/>
        </p:blipFill>
        <p:spPr>
          <a:xfrm>
            <a:off x="1770120" y="2771640"/>
            <a:ext cx="5602320" cy="172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1263-2438-4AD2-AC4D-65E5CC1444E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Euler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5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Times New Roman"/>
              </a:rPr>
              <a:t>Theor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iven a fixed context, the correspondence relation is an </a:t>
            </a:r>
            <a:r>
              <a:rPr b="0" lang="en-GB" sz="3200" spc="-1" strike="noStrike">
                <a:solidFill>
                  <a:srgbClr val="339933"/>
                </a:solidFill>
                <a:latin typeface="Times New Roman"/>
              </a:rPr>
              <a:t>equivalence rel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n regions of Euler diagr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15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13BD-BFAC-4CB8-8593-6157EF18395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respondence relation on regions in Euler diagrams wit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label s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hown this relation is an equivalence re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neralises work by Shin and Hamm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6E7F-847E-4AD3-8EE7-83A205788A3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haded regions are correspon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ntro" descr=""/>
          <p:cNvPicPr/>
          <p:nvPr/>
        </p:nvPicPr>
        <p:blipFill>
          <a:blip r:embed="rId1"/>
          <a:stretch/>
        </p:blipFill>
        <p:spPr>
          <a:xfrm>
            <a:off x="1846440" y="3143160"/>
            <a:ext cx="6002280" cy="18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9762-F067-4EA9-A59D-4EBDD9C738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shaded regions are</a:t>
            </a:r>
            <a:r>
              <a:rPr b="0" lang="en-GB" sz="3200" spc="-1" strike="noStrike">
                <a:solidFill>
                  <a:srgbClr val="ff3300"/>
                </a:solidFill>
                <a:latin typeface="Times New Roman"/>
              </a:rPr>
              <a:t> not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respon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lide6eg" descr=""/>
          <p:cNvPicPr/>
          <p:nvPr/>
        </p:nvPicPr>
        <p:blipFill>
          <a:blip r:embed="rId1"/>
          <a:stretch/>
        </p:blipFill>
        <p:spPr>
          <a:xfrm>
            <a:off x="1752480" y="2771640"/>
            <a:ext cx="5602320" cy="172404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1676520" y="3581280"/>
            <a:ext cx="6095880" cy="2547000"/>
            <a:chOff x="1676520" y="3581280"/>
            <a:chExt cx="6095880" cy="2547000"/>
          </a:xfrm>
        </p:grpSpPr>
        <p:sp>
          <p:nvSpPr>
            <p:cNvPr id="62" name=""/>
            <p:cNvSpPr/>
            <p:nvPr/>
          </p:nvSpPr>
          <p:spPr>
            <a:xfrm>
              <a:off x="1676520" y="4572000"/>
              <a:ext cx="2590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his region may contain </a:t>
              </a: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‘some C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181480" y="4572000"/>
              <a:ext cx="2590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his region contains </a:t>
              </a: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‘no C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3124080" y="3581280"/>
              <a:ext cx="0" cy="1067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638680" y="3581280"/>
              <a:ext cx="0" cy="1067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1AA2-CB3A-4C9C-9BE5-7CDC01F6D0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y do we need a correspondence rel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we can reason diagrammat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al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UML no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 diagr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of software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work at the diagrammatic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8B25-14A3-4A9A-AF1B-FDA5A53943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evious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erpart relation on regions in Venn dia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nd and complete reasoning rules in Venn-Peirce dia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erpart relation on minimal regions in Euler diagrams with 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same label se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nd and complete reasoning rules for a simple Euler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DFBC-6537-477B-80B4-A99CF79C6B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1:07:47Z</dcterms:created>
  <dc:creator>ges9</dc:creator>
  <dc:description/>
  <dc:language>en-US</dc:language>
  <cp:lastModifiedBy>John Taylor</cp:lastModifiedBy>
  <cp:lastPrinted>2002-04-05T13:11:05Z</cp:lastPrinted>
  <dcterms:modified xsi:type="dcterms:W3CDTF">2002-04-08T07:43:08Z</dcterms:modified>
  <cp:revision>62</cp:revision>
  <dc:subject/>
  <dc:title>Corresponding Regions in Euler Diagrams</dc:title>
</cp:coreProperties>
</file>