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9.wmf" ContentType="image/x-wmf"/>
  <Override PartName="/ppt/media/image3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796088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190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338120" indent="3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31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31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31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r" pos="758016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r" pos="758016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777B128-BFA5-44ED-88EF-ED996FE387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966080" y="414360"/>
          <a:ext cx="45396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66080" y="414360"/>
                    <a:ext cx="45396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1.wmf"/><Relationship Id="rId37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14400"/>
            <a:ext cx="77724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On diagram tokens and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John Howse,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ernando Molina,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John Tay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isual Modell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iversity of Brigh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www.it.brighton.ac.uk/research/v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n-Joo Sh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re Dame/Y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19320"/>
            <a:ext cx="7848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999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yntactic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2999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90920" y="3160800"/>
          <a:ext cx="4033800" cy="30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160800"/>
                    <a:ext cx="4033800" cy="30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219320"/>
            <a:ext cx="7848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999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yntactic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2999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90920" y="3124080"/>
          <a:ext cx="4033800" cy="30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124080"/>
                    <a:ext cx="403380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219320"/>
            <a:ext cx="7848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999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yntactic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2999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0" y="2666880"/>
          <a:ext cx="4524480" cy="31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666880"/>
                    <a:ext cx="4524480" cy="31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19320"/>
            <a:ext cx="7848720" cy="43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999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Zones and reg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ubset of the set of contour la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non-empty set of z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2999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79760" y="3935520"/>
          <a:ext cx="26017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3935520"/>
                    <a:ext cx="26017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965920" y="3346560"/>
          <a:ext cx="1806480" cy="27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5920" y="3346560"/>
                    <a:ext cx="180648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219320"/>
            <a:ext cx="8153280" cy="29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upl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219320"/>
            <a:ext cx="815328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upl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is a finite set of contour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219320"/>
            <a:ext cx="815328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upl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 finite set of contour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is the boundary contour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219320"/>
            <a:ext cx="815328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upl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 finite set of contour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boundary contour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2</a:t>
            </a:r>
            <a:r>
              <a:rPr b="0" i="1" lang="en-US" sz="2800" spc="-1" strike="noStrike" u="sng" baseline="32000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is the set of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219320"/>
            <a:ext cx="815328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upl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 finite set of contour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boundary contour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i="1" lang="en-US" sz="2800" spc="-1" strike="noStrike" u="sng" baseline="32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set of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is the set of shaded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219320"/>
            <a:ext cx="815328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upl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 finite set of contour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boundary contour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i="1" lang="en-US" sz="2800" spc="-1" strike="noStrike" u="sng" baseline="32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set of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set of shaded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219320"/>
            <a:ext cx="7696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81080"/>
            <a:ext cx="76960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spcAft>
                <a:spcPts val="14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between sentential and diagrammatic represent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4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-token distinction – more significant in diagrammatic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4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ler diagrams – two-tier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349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of two-tier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matic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219320"/>
            <a:ext cx="8077320" cy="25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u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2004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t doesn’t seem very diagrammat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34340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ler diagra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, essentially,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ebra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219320"/>
            <a:ext cx="815328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1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ken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440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crete 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‘diagram drawn in the plan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44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44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0" y="2743200"/>
          <a:ext cx="4524480" cy="31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43200"/>
                    <a:ext cx="4524480" cy="31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219320"/>
            <a:ext cx="815328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1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ken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440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crete 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‘diagram drawn in the plan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44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m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2401"/>
              </a:spcBef>
              <a:spcAft>
                <a:spcPts val="1199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nite se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imple closed curves in th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imple closed curve in the plane (usually a rectang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144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219320"/>
            <a:ext cx="81532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ken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contours must ‘intersect nicel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s intersect transvers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ontour intersects each other an even number of times (possibly 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wo contours have a point in common without crossing at tha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5800" y="4597560"/>
            <a:ext cx="7467120" cy="1574640"/>
            <a:chOff x="685800" y="4597560"/>
            <a:chExt cx="7467120" cy="1574640"/>
          </a:xfrm>
        </p:grpSpPr>
        <p:grpSp>
          <p:nvGrpSpPr>
            <p:cNvPr id="169" name=""/>
            <p:cNvGrpSpPr/>
            <p:nvPr/>
          </p:nvGrpSpPr>
          <p:grpSpPr>
            <a:xfrm>
              <a:off x="2346480" y="4597560"/>
              <a:ext cx="5806440" cy="1574640"/>
              <a:chOff x="2346480" y="4597560"/>
              <a:chExt cx="5806440" cy="1574640"/>
            </a:xfrm>
          </p:grpSpPr>
          <p:graphicFrame>
            <p:nvGraphicFramePr>
              <p:cNvPr id="170" name=""/>
              <p:cNvGraphicFramePr/>
              <p:nvPr/>
            </p:nvGraphicFramePr>
            <p:xfrm>
              <a:off x="5256000" y="4597560"/>
              <a:ext cx="2896920" cy="1574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56000" y="4597560"/>
                        <a:ext cx="2896920" cy="1574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2" name=""/>
              <p:cNvGraphicFramePr/>
              <p:nvPr/>
            </p:nvGraphicFramePr>
            <p:xfrm>
              <a:off x="2346480" y="4670640"/>
              <a:ext cx="2530080" cy="1430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346480" y="4670640"/>
                        <a:ext cx="2530080" cy="1430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74" name=""/>
            <p:cNvSpPr/>
            <p:nvPr/>
          </p:nvSpPr>
          <p:spPr>
            <a:xfrm>
              <a:off x="68580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Avoi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219320"/>
            <a:ext cx="815328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29196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ken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spcAft>
                <a:spcPts val="195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omponent of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650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me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00400" y="1828800"/>
          <a:ext cx="147492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828800"/>
                    <a:ext cx="14749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2768760"/>
          <a:ext cx="444816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768760"/>
                    <a:ext cx="44481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0" y="3789360"/>
          <a:ext cx="4246560" cy="245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789360"/>
                    <a:ext cx="424656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219320"/>
            <a:ext cx="81532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29196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ken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spcAft>
                <a:spcPts val="195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omponent of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650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me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650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29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v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00400" y="1828800"/>
          <a:ext cx="147492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828800"/>
                    <a:ext cx="14749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09480" y="2768760"/>
          <a:ext cx="444816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768760"/>
                    <a:ext cx="44481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703600" y="4159080"/>
          <a:ext cx="4078080" cy="19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3600" y="4159080"/>
                    <a:ext cx="407808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219320"/>
            <a:ext cx="815328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ken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Zones and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intersec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with a compon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2919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non-empty set of zon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657600" y="2819520"/>
          <a:ext cx="1474920" cy="83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819520"/>
                    <a:ext cx="147492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219320"/>
            <a:ext cx="8458200" cy="50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ken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crete 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u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finite set of plane contours (simple closed cur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boundary plane cont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set of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et of shaded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et of contour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 bijection labelling the con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0447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219320"/>
            <a:ext cx="815328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uler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upl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 finite set of contour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boundary contour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i="1" lang="en-US" sz="2800" spc="-1" strike="noStrike" u="sng" baseline="32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set of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the set of shaded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1383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19320"/>
            <a:ext cx="784872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124080" y="990720"/>
          <a:ext cx="4524480" cy="31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990720"/>
                    <a:ext cx="4524480" cy="31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09480" y="5334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72428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8487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25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ugmented with shading to represent empty sets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57400" y="2868480"/>
            <a:ext cx="4114800" cy="2925360"/>
            <a:chOff x="2057400" y="2868480"/>
            <a:chExt cx="4114800" cy="2925360"/>
          </a:xfrm>
        </p:grpSpPr>
        <p:graphicFrame>
          <p:nvGraphicFramePr>
            <p:cNvPr id="51" name=""/>
            <p:cNvGraphicFramePr/>
            <p:nvPr/>
          </p:nvGraphicFramePr>
          <p:xfrm>
            <a:off x="2884320" y="2868480"/>
            <a:ext cx="260208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84320" y="2868480"/>
                      <a:ext cx="260208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2057400" y="533412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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219320"/>
            <a:ext cx="784872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u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124080" y="990720"/>
          <a:ext cx="4524480" cy="31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990720"/>
                    <a:ext cx="4524480" cy="31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85800" y="4876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icture really represents a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cr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gram; that is, a diagram drawn in th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066680"/>
            <a:ext cx="807732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ay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ncr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1500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stant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751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751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751"/>
              </a:spcAft>
              <a:tabLst>
                <a:tab algn="l" pos="0"/>
                <a:tab algn="l" pos="190512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*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800600" y="1536840"/>
          <a:ext cx="3621240" cy="25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36840"/>
                    <a:ext cx="36212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2193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crete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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map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84680" y="3473280"/>
            <a:ext cx="7131600" cy="366120"/>
            <a:chOff x="1084680" y="3473280"/>
            <a:chExt cx="7131600" cy="366120"/>
          </a:xfrm>
        </p:grpSpPr>
        <p:sp>
          <p:nvSpPr>
            <p:cNvPr id="227" name=""/>
            <p:cNvSpPr/>
            <p:nvPr/>
          </p:nvSpPr>
          <p:spPr>
            <a:xfrm>
              <a:off x="8069400" y="3473280"/>
              <a:ext cx="14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84680" y="3473280"/>
              <a:ext cx="14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229400" y="3473280"/>
              <a:ext cx="6844320" cy="366120"/>
              <a:chOff x="1229400" y="3473280"/>
              <a:chExt cx="6844320" cy="36612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5650200" y="3473280"/>
                <a:ext cx="2423520" cy="366120"/>
                <a:chOff x="5650200" y="3473280"/>
                <a:chExt cx="2423520" cy="3661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650200" y="3473280"/>
                  <a:ext cx="146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{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793120" y="3473280"/>
                  <a:ext cx="2280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oncrete diagram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1229400" y="3473280"/>
                <a:ext cx="2230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stract diagram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459240" y="3473280"/>
              <a:ext cx="14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559320" y="2681280"/>
            <a:ext cx="1981080" cy="795240"/>
            <a:chOff x="3559320" y="2681280"/>
            <a:chExt cx="1981080" cy="795240"/>
          </a:xfrm>
        </p:grpSpPr>
        <p:sp>
          <p:nvSpPr>
            <p:cNvPr id="236" name=""/>
            <p:cNvSpPr/>
            <p:nvPr/>
          </p:nvSpPr>
          <p:spPr>
            <a:xfrm>
              <a:off x="5378400" y="3333600"/>
              <a:ext cx="162000" cy="14292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102" y="90"/>
                  </a:moveTo>
                  <a:lnTo>
                    <a:pt x="0" y="77"/>
                  </a:lnTo>
                  <a:lnTo>
                    <a:pt x="20" y="63"/>
                  </a:lnTo>
                  <a:lnTo>
                    <a:pt x="35" y="44"/>
                  </a:lnTo>
                  <a:lnTo>
                    <a:pt x="45" y="23"/>
                  </a:lnTo>
                  <a:lnTo>
                    <a:pt x="50" y="0"/>
                  </a:lnTo>
                  <a:lnTo>
                    <a:pt x="102" y="9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59320" y="3117960"/>
              <a:ext cx="1890720" cy="358560"/>
            </a:xfrm>
            <a:custGeom>
              <a:avLst/>
              <a:gdLst/>
              <a:ahLst/>
              <a:rect l="l" t="t" r="r" b="b"/>
              <a:pathLst>
                <a:path w="1191" h="226">
                  <a:moveTo>
                    <a:pt x="0" y="226"/>
                  </a:moveTo>
                  <a:lnTo>
                    <a:pt x="50" y="190"/>
                  </a:lnTo>
                  <a:lnTo>
                    <a:pt x="100" y="157"/>
                  </a:lnTo>
                  <a:lnTo>
                    <a:pt x="150" y="127"/>
                  </a:lnTo>
                  <a:lnTo>
                    <a:pt x="200" y="100"/>
                  </a:lnTo>
                  <a:lnTo>
                    <a:pt x="250" y="77"/>
                  </a:lnTo>
                  <a:lnTo>
                    <a:pt x="302" y="56"/>
                  </a:lnTo>
                  <a:lnTo>
                    <a:pt x="352" y="38"/>
                  </a:lnTo>
                  <a:lnTo>
                    <a:pt x="403" y="25"/>
                  </a:lnTo>
                  <a:lnTo>
                    <a:pt x="453" y="13"/>
                  </a:lnTo>
                  <a:lnTo>
                    <a:pt x="505" y="6"/>
                  </a:lnTo>
                  <a:lnTo>
                    <a:pt x="557" y="2"/>
                  </a:lnTo>
                  <a:lnTo>
                    <a:pt x="609" y="0"/>
                  </a:lnTo>
                  <a:lnTo>
                    <a:pt x="661" y="0"/>
                  </a:lnTo>
                  <a:lnTo>
                    <a:pt x="713" y="6"/>
                  </a:lnTo>
                  <a:lnTo>
                    <a:pt x="764" y="13"/>
                  </a:lnTo>
                  <a:lnTo>
                    <a:pt x="816" y="25"/>
                  </a:lnTo>
                  <a:lnTo>
                    <a:pt x="870" y="38"/>
                  </a:lnTo>
                  <a:lnTo>
                    <a:pt x="922" y="56"/>
                  </a:lnTo>
                  <a:lnTo>
                    <a:pt x="976" y="75"/>
                  </a:lnTo>
                  <a:lnTo>
                    <a:pt x="1029" y="98"/>
                  </a:lnTo>
                  <a:lnTo>
                    <a:pt x="1083" y="125"/>
                  </a:lnTo>
                  <a:lnTo>
                    <a:pt x="1137" y="155"/>
                  </a:lnTo>
                  <a:lnTo>
                    <a:pt x="1191" y="188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75680" y="2681280"/>
              <a:ext cx="151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nstant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559320" y="3909960"/>
            <a:ext cx="1944720" cy="758160"/>
            <a:chOff x="3559320" y="3909960"/>
            <a:chExt cx="1944720" cy="758160"/>
          </a:xfrm>
        </p:grpSpPr>
        <p:sp>
          <p:nvSpPr>
            <p:cNvPr id="240" name=""/>
            <p:cNvSpPr/>
            <p:nvPr/>
          </p:nvSpPr>
          <p:spPr>
            <a:xfrm>
              <a:off x="3559320" y="3909960"/>
              <a:ext cx="164880" cy="13356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0" y="0"/>
                  </a:moveTo>
                  <a:lnTo>
                    <a:pt x="58" y="84"/>
                  </a:lnTo>
                  <a:lnTo>
                    <a:pt x="62" y="61"/>
                  </a:lnTo>
                  <a:lnTo>
                    <a:pt x="71" y="38"/>
                  </a:lnTo>
                  <a:lnTo>
                    <a:pt x="85" y="19"/>
                  </a:lnTo>
                  <a:lnTo>
                    <a:pt x="10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3909960"/>
              <a:ext cx="1846440" cy="285840"/>
            </a:xfrm>
            <a:custGeom>
              <a:avLst/>
              <a:gdLst/>
              <a:ahLst/>
              <a:rect l="l" t="t" r="r" b="b"/>
              <a:pathLst>
                <a:path w="1163" h="180">
                  <a:moveTo>
                    <a:pt x="1163" y="0"/>
                  </a:moveTo>
                  <a:lnTo>
                    <a:pt x="1107" y="30"/>
                  </a:lnTo>
                  <a:lnTo>
                    <a:pt x="1052" y="59"/>
                  </a:lnTo>
                  <a:lnTo>
                    <a:pt x="996" y="84"/>
                  </a:lnTo>
                  <a:lnTo>
                    <a:pt x="942" y="107"/>
                  </a:lnTo>
                  <a:lnTo>
                    <a:pt x="887" y="126"/>
                  </a:lnTo>
                  <a:lnTo>
                    <a:pt x="831" y="142"/>
                  </a:lnTo>
                  <a:lnTo>
                    <a:pt x="775" y="155"/>
                  </a:lnTo>
                  <a:lnTo>
                    <a:pt x="720" y="167"/>
                  </a:lnTo>
                  <a:lnTo>
                    <a:pt x="664" y="174"/>
                  </a:lnTo>
                  <a:lnTo>
                    <a:pt x="608" y="178"/>
                  </a:lnTo>
                  <a:lnTo>
                    <a:pt x="553" y="180"/>
                  </a:lnTo>
                  <a:lnTo>
                    <a:pt x="499" y="178"/>
                  </a:lnTo>
                  <a:lnTo>
                    <a:pt x="443" y="174"/>
                  </a:lnTo>
                  <a:lnTo>
                    <a:pt x="388" y="167"/>
                  </a:lnTo>
                  <a:lnTo>
                    <a:pt x="332" y="157"/>
                  </a:lnTo>
                  <a:lnTo>
                    <a:pt x="276" y="144"/>
                  </a:lnTo>
                  <a:lnTo>
                    <a:pt x="221" y="128"/>
                  </a:lnTo>
                  <a:lnTo>
                    <a:pt x="165" y="109"/>
                  </a:lnTo>
                  <a:lnTo>
                    <a:pt x="111" y="86"/>
                  </a:lnTo>
                  <a:lnTo>
                    <a:pt x="55" y="61"/>
                  </a:lnTo>
                  <a:lnTo>
                    <a:pt x="0" y="32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60640" y="4302000"/>
              <a:ext cx="134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bstr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990720" y="5029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given abstract diagram may have many instan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57150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given concrete diagram has a uniqu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219320"/>
            <a:ext cx="78487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crete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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999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l instantiations of the same abstract abstract diagram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171440" y="2590920"/>
            <a:ext cx="6600600" cy="1423800"/>
            <a:chOff x="1171440" y="2590920"/>
            <a:chExt cx="6600600" cy="1423800"/>
          </a:xfrm>
        </p:grpSpPr>
        <p:graphicFrame>
          <p:nvGraphicFramePr>
            <p:cNvPr id="249" name=""/>
            <p:cNvGraphicFramePr/>
            <p:nvPr/>
          </p:nvGraphicFramePr>
          <p:xfrm>
            <a:off x="1171440" y="2590920"/>
            <a:ext cx="1778040" cy="142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71440" y="2590920"/>
                      <a:ext cx="1778040" cy="14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5993640" y="2590920"/>
            <a:ext cx="1778400" cy="142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93640" y="2590920"/>
                      <a:ext cx="1778400" cy="14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3528000" y="2590920"/>
            <a:ext cx="1962720" cy="141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28000" y="2590920"/>
                      <a:ext cx="1962720" cy="141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5" name=""/>
          <p:cNvSpPr/>
          <p:nvPr/>
        </p:nvSpPr>
        <p:spPr>
          <a:xfrm>
            <a:off x="685800" y="4800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ay these concrete diagrams ar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ype-equival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54100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ype-equivalence allows us to say that different looking diagram tokens are equival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219320"/>
            <a:ext cx="8077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iagrammatic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oncrete diagrams ar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agrammatically equival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re is a ‘contour, label and zone preserving’ homeo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971800" y="3429000"/>
          <a:ext cx="3181320" cy="2220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971800" y="3429000"/>
                    <a:ext cx="31813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19320"/>
            <a:ext cx="8077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iagrammatic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6560" y="1978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iagrammatic equivalence 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type-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838080" y="2819520"/>
            <a:ext cx="7239240" cy="1371240"/>
            <a:chOff x="838080" y="2819520"/>
            <a:chExt cx="7239240" cy="1371240"/>
          </a:xfrm>
        </p:grpSpPr>
        <p:sp>
          <p:nvSpPr>
            <p:cNvPr id="301" name=""/>
            <p:cNvSpPr/>
            <p:nvPr/>
          </p:nvSpPr>
          <p:spPr>
            <a:xfrm>
              <a:off x="838080" y="2819520"/>
              <a:ext cx="7239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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 u="sng">
                  <a:solidFill>
                    <a:srgbClr val="ff3300"/>
                  </a:solidFill>
                  <a:uFillTx/>
                  <a:latin typeface="Times New Roman"/>
                  <a:ea typeface="Times New Roman"/>
                </a:rPr>
                <a:t>C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=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},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, 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Z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= {</a:t>
              </a: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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, {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 baseline="-25000">
                  <a:solidFill>
                    <a:srgbClr val="ff33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}},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Z* = </a:t>
              </a: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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33720" y="3428640"/>
              <a:ext cx="2057400" cy="7621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495680" y="3428640"/>
              <a:ext cx="0" cy="7621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4800240" y="3428640"/>
              <a:ext cx="2057400" cy="7621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143000" y="4419720"/>
            <a:ext cx="6600600" cy="1423800"/>
            <a:chOff x="1143000" y="4419720"/>
            <a:chExt cx="6600600" cy="1423800"/>
          </a:xfrm>
        </p:grpSpPr>
        <p:grpSp>
          <p:nvGrpSpPr>
            <p:cNvPr id="306" name=""/>
            <p:cNvGrpSpPr/>
            <p:nvPr/>
          </p:nvGrpSpPr>
          <p:grpSpPr>
            <a:xfrm>
              <a:off x="1143000" y="4419720"/>
              <a:ext cx="6600600" cy="1423800"/>
              <a:chOff x="1143000" y="4419720"/>
              <a:chExt cx="6600600" cy="1423800"/>
            </a:xfrm>
          </p:grpSpPr>
          <p:graphicFrame>
            <p:nvGraphicFramePr>
              <p:cNvPr id="307" name=""/>
              <p:cNvGraphicFramePr/>
              <p:nvPr/>
            </p:nvGraphicFramePr>
            <p:xfrm>
              <a:off x="1143000" y="4419720"/>
              <a:ext cx="1778040" cy="1423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0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3000" y="4419720"/>
                        <a:ext cx="1778040" cy="142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9" name=""/>
              <p:cNvGraphicFramePr/>
              <p:nvPr/>
            </p:nvGraphicFramePr>
            <p:xfrm>
              <a:off x="5965200" y="4419720"/>
              <a:ext cx="1778400" cy="1423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965200" y="4419720"/>
                        <a:ext cx="1778400" cy="142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1" name=""/>
              <p:cNvGraphicFramePr/>
              <p:nvPr/>
            </p:nvGraphicFramePr>
            <p:xfrm>
              <a:off x="3499560" y="4419720"/>
              <a:ext cx="1962720" cy="1414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499560" y="4419720"/>
                        <a:ext cx="1962720" cy="141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13" name=""/>
            <p:cNvSpPr/>
            <p:nvPr/>
          </p:nvSpPr>
          <p:spPr>
            <a:xfrm flipH="1">
              <a:off x="2819160" y="5181480"/>
              <a:ext cx="6094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257440" y="5181480"/>
              <a:ext cx="6094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1219320"/>
            <a:ext cx="8077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iagrammatic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36560" y="1978200"/>
            <a:ext cx="7315200" cy="459720"/>
            <a:chOff x="736560" y="1978200"/>
            <a:chExt cx="7315200" cy="459720"/>
          </a:xfrm>
        </p:grpSpPr>
        <p:sp>
          <p:nvSpPr>
            <p:cNvPr id="319" name=""/>
            <p:cNvSpPr/>
            <p:nvPr/>
          </p:nvSpPr>
          <p:spPr>
            <a:xfrm>
              <a:off x="736560" y="1978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Diagrammatic equivalence  </a:t>
              </a:r>
              <a:r>
                <a:rPr b="0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type-equiva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389120" y="2087640"/>
              <a:ext cx="76320" cy="30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600200" y="3124080"/>
            <a:ext cx="5059440" cy="2087640"/>
            <a:chOff x="1600200" y="3124080"/>
            <a:chExt cx="5059440" cy="2087640"/>
          </a:xfrm>
        </p:grpSpPr>
        <p:graphicFrame>
          <p:nvGraphicFramePr>
            <p:cNvPr id="322" name=""/>
            <p:cNvGraphicFramePr/>
            <p:nvPr/>
          </p:nvGraphicFramePr>
          <p:xfrm>
            <a:off x="4572000" y="3124080"/>
            <a:ext cx="208764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124080"/>
                      <a:ext cx="208764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"/>
            <p:cNvGraphicFramePr/>
            <p:nvPr/>
          </p:nvGraphicFramePr>
          <p:xfrm>
            <a:off x="1600200" y="3124080"/>
            <a:ext cx="2087640" cy="208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3124080"/>
                      <a:ext cx="208764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219320"/>
            <a:ext cx="8077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iagrammatic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36560" y="1978200"/>
            <a:ext cx="7315200" cy="459720"/>
            <a:chOff x="736560" y="1978200"/>
            <a:chExt cx="7315200" cy="459720"/>
          </a:xfrm>
        </p:grpSpPr>
        <p:sp>
          <p:nvSpPr>
            <p:cNvPr id="330" name=""/>
            <p:cNvSpPr/>
            <p:nvPr/>
          </p:nvSpPr>
          <p:spPr>
            <a:xfrm>
              <a:off x="736560" y="1978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Diagrammatic equivalence  </a:t>
              </a:r>
              <a:r>
                <a:rPr b="0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type-equiva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389120" y="2087640"/>
              <a:ext cx="76320" cy="30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600200" y="3124080"/>
            <a:ext cx="5059440" cy="2087640"/>
            <a:chOff x="1600200" y="3124080"/>
            <a:chExt cx="5059440" cy="2087640"/>
          </a:xfrm>
        </p:grpSpPr>
        <p:graphicFrame>
          <p:nvGraphicFramePr>
            <p:cNvPr id="333" name=""/>
            <p:cNvGraphicFramePr/>
            <p:nvPr/>
          </p:nvGraphicFramePr>
          <p:xfrm>
            <a:off x="4572000" y="3124080"/>
            <a:ext cx="208764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124080"/>
                      <a:ext cx="208764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"/>
            <p:cNvGraphicFramePr/>
            <p:nvPr/>
          </p:nvGraphicFramePr>
          <p:xfrm>
            <a:off x="1600200" y="3124080"/>
            <a:ext cx="2087640" cy="208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3124080"/>
                      <a:ext cx="208764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21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hy make the abstract/concrete disti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2638440"/>
            <a:ext cx="7772400" cy="30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}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= {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}, {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}}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* 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ly diagrammat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agrams ar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agrammatic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(only?) at the concret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219320"/>
            <a:ext cx="80773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hy make the abstract/concrete disti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401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asoning with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2666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 era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e may erase a contour from any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752480" y="3657600"/>
          <a:ext cx="55450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57600"/>
                    <a:ext cx="55450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219320"/>
            <a:ext cx="784872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2400" indent="-660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ntence tokens and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lnSpc>
                <a:spcPct val="100000"/>
              </a:lnSpc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19160" y="2209680"/>
            <a:ext cx="4191120" cy="990720"/>
            <a:chOff x="2819160" y="2209680"/>
            <a:chExt cx="4191120" cy="990720"/>
          </a:xfrm>
        </p:grpSpPr>
        <p:sp>
          <p:nvSpPr>
            <p:cNvPr id="58" name=""/>
            <p:cNvSpPr/>
            <p:nvPr/>
          </p:nvSpPr>
          <p:spPr>
            <a:xfrm>
              <a:off x="3048120" y="243828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different tokens, same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2819160" y="2209680"/>
              <a:ext cx="152640" cy="990720"/>
              <a:chOff x="2819160" y="2209680"/>
              <a:chExt cx="152640" cy="99072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2971800" y="2209680"/>
                <a:ext cx="0" cy="990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2819160" y="220968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2819160" y="320040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819160" y="3962160"/>
            <a:ext cx="4267440" cy="990720"/>
            <a:chOff x="2819160" y="3962160"/>
            <a:chExt cx="4267440" cy="990720"/>
          </a:xfrm>
        </p:grpSpPr>
        <p:grpSp>
          <p:nvGrpSpPr>
            <p:cNvPr id="64" name=""/>
            <p:cNvGrpSpPr/>
            <p:nvPr/>
          </p:nvGrpSpPr>
          <p:grpSpPr>
            <a:xfrm>
              <a:off x="2819160" y="3962160"/>
              <a:ext cx="152640" cy="990720"/>
              <a:chOff x="2819160" y="3962160"/>
              <a:chExt cx="152640" cy="990720"/>
            </a:xfrm>
          </p:grpSpPr>
          <p:sp>
            <p:nvSpPr>
              <p:cNvPr id="65" name=""/>
              <p:cNvSpPr/>
              <p:nvPr/>
            </p:nvSpPr>
            <p:spPr>
              <a:xfrm flipV="1">
                <a:off x="2971800" y="3962160"/>
                <a:ext cx="0" cy="990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2819160" y="396252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819160" y="4952880"/>
                <a:ext cx="1522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124080" y="4267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different types, same mea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219320"/>
            <a:ext cx="80773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hy make the abstract/concrete disti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401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asoning with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2666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 era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e may erase a contour from any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752480" y="3657600"/>
          <a:ext cx="55450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57600"/>
                    <a:ext cx="55450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219320"/>
            <a:ext cx="807732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hy make the abstract/concrete disti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401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asoning with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 era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ken-level problem (Scotto di Luz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219320"/>
            <a:ext cx="807732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hy make the abstract/concrete disti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401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asoning with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 era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ken-level problem (Scotto di Luz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219320" y="3581280"/>
          <a:ext cx="6086520" cy="18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608652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219320"/>
            <a:ext cx="807732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hy make the abstract/concrete disti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401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asoning with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 era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ken-level problem (Scotto di Luz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199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19320" y="3579840"/>
          <a:ext cx="607824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79840"/>
                    <a:ext cx="607824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1219320"/>
            <a:ext cx="8077320" cy="18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hy make the abstract/concrete disti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>
              <a:spcBef>
                <a:spcPts val="2401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asoning with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>
              <a:spcBef>
                <a:spcPts val="2401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 era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51040" y="322596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Aft>
                <a:spcPts val="1500"/>
              </a:spcAft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fficult to formulate at the toke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Aft>
                <a:spcPts val="1500"/>
              </a:spcAft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ore ‘naturally’ formulated at the abstrac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219320"/>
            <a:ext cx="807732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hy make the abstract/concrete disti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401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easoning with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soning rules are most easily formalized at the abstract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362320" y="3505320"/>
          <a:ext cx="3954240" cy="20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505320"/>
                    <a:ext cx="39542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219320"/>
            <a:ext cx="76201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hy make the abstract/concrete disti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401"/>
              </a:spcBef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oftwar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27000" y="2552760"/>
            <a:ext cx="746784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tures on the screen depend on implementing the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cr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ing ‘in the background’ depends on implementing the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stra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algorithms f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ret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stract (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as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1936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anti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abstrac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rete (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212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3668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88840" y="1943280"/>
            <a:ext cx="76201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oken-sensitivity is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n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feature ‘distinguishing’ sentential from diagrammatic represent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re is utility in defining two levels of syntax in developing diagrammatic inference systems and in their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 general aim of this work is to provide the necessary mathematical underpinning for the development of software tools to aid reasoning with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21932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iagram tokens an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re these diagrams ‘the same’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2999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19320" y="2743200"/>
            <a:ext cx="5567400" cy="1687680"/>
            <a:chOff x="1219320" y="2743200"/>
            <a:chExt cx="5567400" cy="1687680"/>
          </a:xfrm>
        </p:grpSpPr>
        <p:graphicFrame>
          <p:nvGraphicFramePr>
            <p:cNvPr id="73" name=""/>
            <p:cNvGraphicFramePr/>
            <p:nvPr/>
          </p:nvGraphicFramePr>
          <p:xfrm>
            <a:off x="1219320" y="2743200"/>
            <a:ext cx="2342520" cy="168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743200"/>
                      <a:ext cx="2342520" cy="16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4443840" y="2743200"/>
            <a:ext cx="2342880" cy="168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43840" y="2743200"/>
                      <a:ext cx="2342880" cy="16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" name=""/>
          <p:cNvSpPr/>
          <p:nvPr/>
        </p:nvSpPr>
        <p:spPr>
          <a:xfrm>
            <a:off x="838080" y="48769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yntacticall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mantically equivalent :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1932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iagram tokens an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re these diagrams ‘the same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16120" y="2590920"/>
            <a:ext cx="7718400" cy="1500120"/>
            <a:chOff x="816120" y="2590920"/>
            <a:chExt cx="7718400" cy="1500120"/>
          </a:xfrm>
        </p:grpSpPr>
        <p:graphicFrame>
          <p:nvGraphicFramePr>
            <p:cNvPr id="82" name=""/>
            <p:cNvGraphicFramePr/>
            <p:nvPr/>
          </p:nvGraphicFramePr>
          <p:xfrm>
            <a:off x="816120" y="2590920"/>
            <a:ext cx="2079360" cy="150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6120" y="2590920"/>
                      <a:ext cx="207936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454800" y="2590920"/>
            <a:ext cx="2079720" cy="150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54800" y="2590920"/>
                      <a:ext cx="207972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3571920" y="2600640"/>
            <a:ext cx="2295360" cy="149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71920" y="2600640"/>
                      <a:ext cx="2295360" cy="149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8" name=""/>
          <p:cNvSpPr/>
          <p:nvPr/>
        </p:nvSpPr>
        <p:spPr>
          <a:xfrm>
            <a:off x="838080" y="428472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yntacticall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ne-grained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quivalence only at semanti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quire transformation rules betwee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21932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iagram tokens an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lnSpc>
                <a:spcPct val="100000"/>
              </a:lnSpc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re these diagrams ‘the same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16120" y="2590920"/>
            <a:ext cx="7718400" cy="1500120"/>
            <a:chOff x="816120" y="2590920"/>
            <a:chExt cx="7718400" cy="1500120"/>
          </a:xfrm>
        </p:grpSpPr>
        <p:graphicFrame>
          <p:nvGraphicFramePr>
            <p:cNvPr id="93" name=""/>
            <p:cNvGraphicFramePr/>
            <p:nvPr/>
          </p:nvGraphicFramePr>
          <p:xfrm>
            <a:off x="816120" y="2590920"/>
            <a:ext cx="2079360" cy="150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6120" y="2590920"/>
                      <a:ext cx="207936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6454800" y="2590920"/>
            <a:ext cx="2079720" cy="150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54800" y="2590920"/>
                      <a:ext cx="207972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3571920" y="2600640"/>
            <a:ext cx="2295360" cy="149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71920" y="2600640"/>
                      <a:ext cx="2295360" cy="149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" name=""/>
          <p:cNvSpPr/>
          <p:nvPr/>
        </p:nvSpPr>
        <p:spPr>
          <a:xfrm>
            <a:off x="838080" y="428472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yntactically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arse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ff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nable to capture obvious visual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7432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2400" indent="-660240">
              <a:spcBef>
                <a:spcPts val="15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oken-insens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spcBef>
                <a:spcPts val="15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essentially)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371600"/>
            <a:ext cx="7848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2400" indent="-660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iagram tokens an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spcAft>
                <a:spcPts val="814"/>
              </a:spcAft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ntential systems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agrammatic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038480"/>
            <a:ext cx="2514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27432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2400" indent="-660240">
              <a:spcBef>
                <a:spcPts val="15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oken-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2400" indent="-660240">
              <a:spcBef>
                <a:spcPts val="1500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usually) non-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righton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0164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91440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tokens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19320"/>
            <a:ext cx="7848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ype-syntax of Eul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2999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How can we describe formally the following diagram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2999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1905120"/>
                <a:tab algn="l" pos="24796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0" y="2743200"/>
          <a:ext cx="4524480" cy="31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43200"/>
                    <a:ext cx="4524480" cy="31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5T00:11:20Z</dcterms:created>
  <dc:creator>John Taylor</dc:creator>
  <dc:description/>
  <dc:language>en-US</dc:language>
  <cp:lastModifiedBy>John Taylor</cp:lastModifiedBy>
  <cp:lastPrinted>2002-04-12T11:59:51Z</cp:lastPrinted>
  <dcterms:modified xsi:type="dcterms:W3CDTF">2002-04-12T11:59:57Z</dcterms:modified>
  <cp:revision>240</cp:revision>
  <dc:subject/>
  <dc:title>Simple spider diagrams</dc:title>
</cp:coreProperties>
</file>