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553-3BC2-4CBC-8293-AF2D8EFA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A52-0BF4-4C74-A370-E8815B74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866-9E40-421B-8C4F-6B4D92DF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46A-8311-4A8B-8A33-5C654FEE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93D-AA40-4521-AF93-45097636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26A-CA2D-4635-A682-520D986B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A9C-3875-40B0-9DBC-93533CA6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FE2-C913-4D4D-B553-3025F125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B25-7670-489C-ADE4-AB2FE1D3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9B0-697D-4745-A7F0-40FCE10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73C-A0B8-4715-9518-335AC47B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98E-DC7F-40F1-9907-9D472911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2F56-95F1-4665-AB37-9FD7CFAC7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46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Comic Sans MS"/>
              </a:rPr>
              <a:t>A visual framewor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Comic Sans MS"/>
              </a:rPr>
              <a:t>modelling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Comic Sans MS"/>
              </a:rPr>
              <a:t>heterogeneous no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an Flower, John Howse, John Tay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Visual Modelling Group, University of Brigh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uart Kent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University of K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asoning with diagrams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PSRC grant number:  GR/R635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3680" y="1647720"/>
            <a:ext cx="7791480" cy="34005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000" y="1763640"/>
            <a:ext cx="7453080" cy="2394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ing no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33520" y="1826280"/>
            <a:ext cx="6913440" cy="2212200"/>
            <a:chOff x="533520" y="1826280"/>
            <a:chExt cx="6913440" cy="2212200"/>
          </a:xfrm>
        </p:grpSpPr>
        <p:sp>
          <p:nvSpPr>
            <p:cNvPr id="198" name=""/>
            <p:cNvSpPr/>
            <p:nvPr/>
          </p:nvSpPr>
          <p:spPr>
            <a:xfrm>
              <a:off x="533520" y="2209680"/>
              <a:ext cx="3581280" cy="1828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84520" y="182772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m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25560" y="342792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984400" y="3319560"/>
              <a:ext cx="208080" cy="220680"/>
              <a:chOff x="2984400" y="3319560"/>
              <a:chExt cx="208080" cy="220680"/>
            </a:xfrm>
          </p:grpSpPr>
          <p:sp>
            <p:nvSpPr>
              <p:cNvPr id="202" name=""/>
              <p:cNvSpPr/>
              <p:nvPr/>
            </p:nvSpPr>
            <p:spPr>
              <a:xfrm>
                <a:off x="3088440" y="3319560"/>
                <a:ext cx="0" cy="22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84400" y="342972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01680" y="3337560"/>
                <a:ext cx="156240" cy="1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3013200" y="3337560"/>
                <a:ext cx="156240" cy="1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635200" y="2878200"/>
              <a:ext cx="208080" cy="220680"/>
              <a:chOff x="2635200" y="2878200"/>
              <a:chExt cx="208080" cy="220680"/>
            </a:xfrm>
          </p:grpSpPr>
          <p:sp>
            <p:nvSpPr>
              <p:cNvPr id="207" name=""/>
              <p:cNvSpPr/>
              <p:nvPr/>
            </p:nvSpPr>
            <p:spPr>
              <a:xfrm>
                <a:off x="2739240" y="2878200"/>
                <a:ext cx="0" cy="22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35200" y="298836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652480" y="2896200"/>
                <a:ext cx="156240" cy="1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2664000" y="2896200"/>
                <a:ext cx="156240" cy="1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4495680" y="2208240"/>
              <a:ext cx="2951280" cy="1828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77880" y="18262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um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41760" y="2579760"/>
              <a:ext cx="3166920" cy="419040"/>
            </a:xfrm>
            <a:custGeom>
              <a:avLst/>
              <a:gdLst/>
              <a:ahLst/>
              <a:rect l="l" t="t" r="r" b="b"/>
              <a:pathLst>
                <a:path w="1995" h="264">
                  <a:moveTo>
                    <a:pt x="0" y="264"/>
                  </a:moveTo>
                  <a:cubicBezTo>
                    <a:pt x="353" y="145"/>
                    <a:pt x="706" y="26"/>
                    <a:pt x="1038" y="13"/>
                  </a:cubicBezTo>
                  <a:cubicBezTo>
                    <a:pt x="1370" y="0"/>
                    <a:pt x="1682" y="91"/>
                    <a:pt x="1995" y="18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75120" y="3014640"/>
              <a:ext cx="2458800" cy="419040"/>
            </a:xfrm>
            <a:custGeom>
              <a:avLst/>
              <a:gdLst/>
              <a:ahLst/>
              <a:rect l="l" t="t" r="r" b="b"/>
              <a:pathLst>
                <a:path w="1995" h="264">
                  <a:moveTo>
                    <a:pt x="0" y="264"/>
                  </a:moveTo>
                  <a:cubicBezTo>
                    <a:pt x="353" y="145"/>
                    <a:pt x="706" y="26"/>
                    <a:pt x="1038" y="13"/>
                  </a:cubicBezTo>
                  <a:cubicBezTo>
                    <a:pt x="1370" y="0"/>
                    <a:pt x="1682" y="91"/>
                    <a:pt x="1995" y="18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33920" y="3268800"/>
              <a:ext cx="128520" cy="115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19840" y="2816280"/>
              <a:ext cx="128520" cy="115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53160" y="2638440"/>
              <a:ext cx="2136600" cy="10684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59440" y="222156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mber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76640" y="2558880"/>
              <a:ext cx="1569960" cy="12877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011320" y="4221000"/>
            <a:ext cx="5599080" cy="632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10600" y="431244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mbership numbers are between 0 and 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m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nary templa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tative connectiv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y conn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63640" y="4259160"/>
            <a:ext cx="2395440" cy="1738440"/>
            <a:chOff x="863640" y="4259160"/>
            <a:chExt cx="2395440" cy="1738440"/>
          </a:xfrm>
        </p:grpSpPr>
        <p:sp>
          <p:nvSpPr>
            <p:cNvPr id="225" name=""/>
            <p:cNvSpPr/>
            <p:nvPr/>
          </p:nvSpPr>
          <p:spPr>
            <a:xfrm>
              <a:off x="863640" y="4259160"/>
              <a:ext cx="2395440" cy="1738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82520" y="4465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46240" y="5081400"/>
              <a:ext cx="836640" cy="6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03280" y="4546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79600" y="5149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071800" y="2378160"/>
            <a:ext cx="2395440" cy="1738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290680" y="2584440"/>
            <a:ext cx="1800360" cy="1220400"/>
            <a:chOff x="2290680" y="2584440"/>
            <a:chExt cx="1800360" cy="1220400"/>
          </a:xfrm>
        </p:grpSpPr>
        <p:sp>
          <p:nvSpPr>
            <p:cNvPr id="232" name=""/>
            <p:cNvSpPr/>
            <p:nvPr/>
          </p:nvSpPr>
          <p:spPr>
            <a:xfrm>
              <a:off x="2290680" y="258444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54400" y="320004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9120" y="3036600"/>
              <a:ext cx="393480" cy="16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951520" y="4219560"/>
            <a:ext cx="2257200" cy="1739880"/>
            <a:chOff x="5951520" y="4219560"/>
            <a:chExt cx="2257200" cy="1739880"/>
          </a:xfrm>
        </p:grpSpPr>
        <p:sp>
          <p:nvSpPr>
            <p:cNvPr id="236" name=""/>
            <p:cNvSpPr/>
            <p:nvPr/>
          </p:nvSpPr>
          <p:spPr>
            <a:xfrm>
              <a:off x="5951520" y="48610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611760" y="4219560"/>
              <a:ext cx="1596960" cy="1739880"/>
              <a:chOff x="6611760" y="4219560"/>
              <a:chExt cx="1596960" cy="173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611760" y="4219560"/>
                <a:ext cx="1596960" cy="1738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921360" y="48150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08680" y="48006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387920" y="4221360"/>
                <a:ext cx="0" cy="17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5081760" y="2401920"/>
            <a:ext cx="2395440" cy="1738440"/>
            <a:chOff x="5081760" y="2401920"/>
            <a:chExt cx="2395440" cy="1738440"/>
          </a:xfrm>
        </p:grpSpPr>
        <p:grpSp>
          <p:nvGrpSpPr>
            <p:cNvPr id="243" name=""/>
            <p:cNvGrpSpPr/>
            <p:nvPr/>
          </p:nvGrpSpPr>
          <p:grpSpPr>
            <a:xfrm>
              <a:off x="5081760" y="2401920"/>
              <a:ext cx="2395440" cy="1738440"/>
              <a:chOff x="5081760" y="2401920"/>
              <a:chExt cx="2395440" cy="1738440"/>
            </a:xfrm>
          </p:grpSpPr>
          <p:sp>
            <p:nvSpPr>
              <p:cNvPr id="244" name=""/>
              <p:cNvSpPr/>
              <p:nvPr/>
            </p:nvSpPr>
            <p:spPr>
              <a:xfrm>
                <a:off x="5081760" y="2401920"/>
                <a:ext cx="2395440" cy="17384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300640" y="2608560"/>
                <a:ext cx="836640" cy="604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264360" y="3224160"/>
                <a:ext cx="836640" cy="605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621400" y="26892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597720" y="329256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126120" y="2829240"/>
              <a:ext cx="463680" cy="36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90680" y="2513160"/>
            <a:ext cx="1800360" cy="1373040"/>
            <a:chOff x="2290680" y="2513160"/>
            <a:chExt cx="1800360" cy="1373040"/>
          </a:xfrm>
        </p:grpSpPr>
        <p:sp>
          <p:nvSpPr>
            <p:cNvPr id="251" name=""/>
            <p:cNvSpPr/>
            <p:nvPr/>
          </p:nvSpPr>
          <p:spPr>
            <a:xfrm>
              <a:off x="2290680" y="2584440"/>
              <a:ext cx="836640" cy="605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54400" y="3200400"/>
              <a:ext cx="836640" cy="605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29120" y="3036960"/>
              <a:ext cx="393480" cy="1634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14520" y="251316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16160" y="32814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48120" y="3117960"/>
              <a:ext cx="39348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414520" y="2460600"/>
            <a:ext cx="1538280" cy="1496880"/>
            <a:chOff x="2414520" y="2460600"/>
            <a:chExt cx="1538280" cy="1496880"/>
          </a:xfrm>
        </p:grpSpPr>
        <p:sp>
          <p:nvSpPr>
            <p:cNvPr id="258" name=""/>
            <p:cNvSpPr/>
            <p:nvPr/>
          </p:nvSpPr>
          <p:spPr>
            <a:xfrm>
              <a:off x="2414520" y="251280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16160" y="328104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48120" y="3117600"/>
              <a:ext cx="393480" cy="1634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29000" y="24606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35160" y="335268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76480" y="3065400"/>
              <a:ext cx="474840" cy="2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529000" y="2417760"/>
            <a:ext cx="1342800" cy="1611360"/>
            <a:chOff x="2529000" y="2417760"/>
            <a:chExt cx="1342800" cy="1611360"/>
          </a:xfrm>
        </p:grpSpPr>
        <p:sp>
          <p:nvSpPr>
            <p:cNvPr id="265" name=""/>
            <p:cNvSpPr/>
            <p:nvPr/>
          </p:nvSpPr>
          <p:spPr>
            <a:xfrm>
              <a:off x="2529000" y="246096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35160" y="335304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76480" y="3065760"/>
              <a:ext cx="513000" cy="3157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19360" y="2417760"/>
              <a:ext cx="836640" cy="6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82880" y="34243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19320" y="3027600"/>
              <a:ext cx="28908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619360" y="2417760"/>
            <a:ext cx="1100160" cy="1611360"/>
            <a:chOff x="2619360" y="2417760"/>
            <a:chExt cx="1100160" cy="1611360"/>
          </a:xfrm>
        </p:grpSpPr>
        <p:sp>
          <p:nvSpPr>
            <p:cNvPr id="272" name=""/>
            <p:cNvSpPr/>
            <p:nvPr/>
          </p:nvSpPr>
          <p:spPr>
            <a:xfrm>
              <a:off x="2619360" y="2417760"/>
              <a:ext cx="836640" cy="605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2880" y="342432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95560" y="2994120"/>
              <a:ext cx="327240" cy="4446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62280" y="2422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59040" y="341964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179880" y="3032280"/>
              <a:ext cx="1440" cy="38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530440" y="2422440"/>
            <a:ext cx="1254240" cy="1601640"/>
            <a:chOff x="2530440" y="2422440"/>
            <a:chExt cx="1254240" cy="1601640"/>
          </a:xfrm>
        </p:grpSpPr>
        <p:sp>
          <p:nvSpPr>
            <p:cNvPr id="279" name=""/>
            <p:cNvSpPr/>
            <p:nvPr/>
          </p:nvSpPr>
          <p:spPr>
            <a:xfrm>
              <a:off x="2762280" y="242244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59040" y="341928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179880" y="3022560"/>
              <a:ext cx="1440" cy="3873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48040" y="24415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30440" y="3385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970000" y="3046320"/>
              <a:ext cx="35388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282760" y="2441520"/>
            <a:ext cx="1739880" cy="1549080"/>
            <a:chOff x="2282760" y="2441520"/>
            <a:chExt cx="1739880" cy="1549080"/>
          </a:xfrm>
        </p:grpSpPr>
        <p:sp>
          <p:nvSpPr>
            <p:cNvPr id="286" name=""/>
            <p:cNvSpPr/>
            <p:nvPr/>
          </p:nvSpPr>
          <p:spPr>
            <a:xfrm>
              <a:off x="2948040" y="244152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30440" y="338580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65320" y="3041280"/>
              <a:ext cx="363600" cy="3589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86000" y="24937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2760" y="33289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941200" y="3093840"/>
              <a:ext cx="344520" cy="23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182680" y="2494080"/>
            <a:ext cx="1992600" cy="1439280"/>
            <a:chOff x="2182680" y="2494080"/>
            <a:chExt cx="1992600" cy="1439280"/>
          </a:xfrm>
        </p:grpSpPr>
        <p:sp>
          <p:nvSpPr>
            <p:cNvPr id="293" name=""/>
            <p:cNvSpPr/>
            <p:nvPr/>
          </p:nvSpPr>
          <p:spPr>
            <a:xfrm>
              <a:off x="3186000" y="249408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2760" y="332892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870280" y="3089160"/>
              <a:ext cx="425520" cy="2822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38640" y="260316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82680" y="318132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012840" y="3103200"/>
              <a:ext cx="30636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130480" y="2603520"/>
            <a:ext cx="2158920" cy="1182240"/>
            <a:chOff x="2130480" y="2603520"/>
            <a:chExt cx="2158920" cy="1182240"/>
          </a:xfrm>
        </p:grpSpPr>
        <p:sp>
          <p:nvSpPr>
            <p:cNvPr id="300" name=""/>
            <p:cNvSpPr/>
            <p:nvPr/>
          </p:nvSpPr>
          <p:spPr>
            <a:xfrm>
              <a:off x="3338640" y="260352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82680" y="318132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936880" y="3060360"/>
              <a:ext cx="458640" cy="2538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52760" y="271296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30480" y="296676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960640" y="3041280"/>
              <a:ext cx="496800" cy="22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130480" y="2712960"/>
            <a:ext cx="2220840" cy="858600"/>
            <a:chOff x="2130480" y="2712960"/>
            <a:chExt cx="2220840" cy="858600"/>
          </a:xfrm>
        </p:grpSpPr>
        <p:sp>
          <p:nvSpPr>
            <p:cNvPr id="307" name=""/>
            <p:cNvSpPr/>
            <p:nvPr/>
          </p:nvSpPr>
          <p:spPr>
            <a:xfrm>
              <a:off x="3452760" y="271296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0480" y="296676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912760" y="3008160"/>
              <a:ext cx="615960" cy="2826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14680" y="29034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73320" y="280008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2993760" y="3128400"/>
              <a:ext cx="525240" cy="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2160720" y="2620800"/>
            <a:ext cx="2190600" cy="1163520"/>
            <a:chOff x="2160720" y="2620800"/>
            <a:chExt cx="2190600" cy="1163520"/>
          </a:xfrm>
        </p:grpSpPr>
        <p:sp>
          <p:nvSpPr>
            <p:cNvPr id="314" name=""/>
            <p:cNvSpPr/>
            <p:nvPr/>
          </p:nvSpPr>
          <p:spPr>
            <a:xfrm>
              <a:off x="3514680" y="2901600"/>
              <a:ext cx="836640" cy="605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60720" y="2801880"/>
              <a:ext cx="85068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2908080" y="3127320"/>
              <a:ext cx="696600" cy="316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71600" y="2620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78240" y="31795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3094200" y="3012840"/>
              <a:ext cx="282240" cy="30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265480" y="2487600"/>
            <a:ext cx="1947600" cy="1449000"/>
            <a:chOff x="2265480" y="2487600"/>
            <a:chExt cx="1947600" cy="1449000"/>
          </a:xfrm>
        </p:grpSpPr>
        <p:sp>
          <p:nvSpPr>
            <p:cNvPr id="321" name=""/>
            <p:cNvSpPr/>
            <p:nvPr/>
          </p:nvSpPr>
          <p:spPr>
            <a:xfrm>
              <a:off x="3376440" y="317808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65480" y="2620800"/>
              <a:ext cx="85068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3103200" y="3022200"/>
              <a:ext cx="297000" cy="3265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28920" y="24876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01920" y="3331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3218040" y="3089160"/>
              <a:ext cx="134640" cy="23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m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nary templa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tative connectiv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y conn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3640" y="4259160"/>
            <a:ext cx="2395440" cy="173844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2520" y="4465800"/>
            <a:ext cx="836640" cy="60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46240" y="5081760"/>
            <a:ext cx="836640" cy="60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71800" y="2378160"/>
            <a:ext cx="2395440" cy="1738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290680" y="2584440"/>
            <a:ext cx="1800360" cy="1220400"/>
            <a:chOff x="2290680" y="2584440"/>
            <a:chExt cx="1800360" cy="1220400"/>
          </a:xfrm>
        </p:grpSpPr>
        <p:sp>
          <p:nvSpPr>
            <p:cNvPr id="334" name=""/>
            <p:cNvSpPr/>
            <p:nvPr/>
          </p:nvSpPr>
          <p:spPr>
            <a:xfrm>
              <a:off x="2290680" y="258444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54400" y="320004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29120" y="3036600"/>
              <a:ext cx="393480" cy="16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6611760" y="4219560"/>
            <a:ext cx="1597320" cy="17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88280" y="4221000"/>
            <a:ext cx="0" cy="1738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81760" y="2401920"/>
            <a:ext cx="2395440" cy="173844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00640" y="2608200"/>
            <a:ext cx="836640" cy="60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64360" y="3224160"/>
            <a:ext cx="836640" cy="60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26120" y="2828880"/>
            <a:ext cx="463680" cy="36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290680" y="2513160"/>
            <a:ext cx="1800360" cy="1373040"/>
            <a:chOff x="2290680" y="2513160"/>
            <a:chExt cx="1800360" cy="1373040"/>
          </a:xfrm>
        </p:grpSpPr>
        <p:sp>
          <p:nvSpPr>
            <p:cNvPr id="344" name=""/>
            <p:cNvSpPr/>
            <p:nvPr/>
          </p:nvSpPr>
          <p:spPr>
            <a:xfrm>
              <a:off x="2290680" y="2584440"/>
              <a:ext cx="836640" cy="605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4400" y="3200400"/>
              <a:ext cx="836640" cy="605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129120" y="3036960"/>
              <a:ext cx="393480" cy="1634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14520" y="251316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16160" y="32814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48120" y="3117960"/>
              <a:ext cx="39348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2414520" y="2460600"/>
            <a:ext cx="1538280" cy="1496880"/>
            <a:chOff x="2414520" y="2460600"/>
            <a:chExt cx="1538280" cy="1496880"/>
          </a:xfrm>
        </p:grpSpPr>
        <p:sp>
          <p:nvSpPr>
            <p:cNvPr id="351" name=""/>
            <p:cNvSpPr/>
            <p:nvPr/>
          </p:nvSpPr>
          <p:spPr>
            <a:xfrm>
              <a:off x="2414520" y="251280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16160" y="328104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48120" y="3117600"/>
              <a:ext cx="393480" cy="1634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29000" y="24606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35160" y="335268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76480" y="3065400"/>
              <a:ext cx="474840" cy="2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529000" y="2417760"/>
            <a:ext cx="1342800" cy="1611360"/>
            <a:chOff x="2529000" y="2417760"/>
            <a:chExt cx="1342800" cy="1611360"/>
          </a:xfrm>
        </p:grpSpPr>
        <p:sp>
          <p:nvSpPr>
            <p:cNvPr id="358" name=""/>
            <p:cNvSpPr/>
            <p:nvPr/>
          </p:nvSpPr>
          <p:spPr>
            <a:xfrm>
              <a:off x="2529000" y="246096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35160" y="335304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76480" y="3065760"/>
              <a:ext cx="513000" cy="3157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19360" y="2417760"/>
              <a:ext cx="836640" cy="6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882880" y="34243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19320" y="3027600"/>
              <a:ext cx="28908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619360" y="2417760"/>
            <a:ext cx="1100160" cy="1611360"/>
            <a:chOff x="2619360" y="2417760"/>
            <a:chExt cx="1100160" cy="1611360"/>
          </a:xfrm>
        </p:grpSpPr>
        <p:sp>
          <p:nvSpPr>
            <p:cNvPr id="365" name=""/>
            <p:cNvSpPr/>
            <p:nvPr/>
          </p:nvSpPr>
          <p:spPr>
            <a:xfrm>
              <a:off x="2619360" y="2417760"/>
              <a:ext cx="836640" cy="605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82880" y="342432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95560" y="2994120"/>
              <a:ext cx="327240" cy="4446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62280" y="2422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59040" y="341964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179880" y="3032280"/>
              <a:ext cx="1440" cy="38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30440" y="2422440"/>
            <a:ext cx="1254240" cy="1601640"/>
            <a:chOff x="2530440" y="2422440"/>
            <a:chExt cx="1254240" cy="1601640"/>
          </a:xfrm>
        </p:grpSpPr>
        <p:sp>
          <p:nvSpPr>
            <p:cNvPr id="372" name=""/>
            <p:cNvSpPr/>
            <p:nvPr/>
          </p:nvSpPr>
          <p:spPr>
            <a:xfrm>
              <a:off x="2762280" y="242244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59040" y="341928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3179880" y="3022560"/>
              <a:ext cx="1440" cy="3873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48040" y="24415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30440" y="3385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970000" y="3046320"/>
              <a:ext cx="35388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282760" y="2441520"/>
            <a:ext cx="1739880" cy="1549080"/>
            <a:chOff x="2282760" y="2441520"/>
            <a:chExt cx="1739880" cy="1549080"/>
          </a:xfrm>
        </p:grpSpPr>
        <p:sp>
          <p:nvSpPr>
            <p:cNvPr id="379" name=""/>
            <p:cNvSpPr/>
            <p:nvPr/>
          </p:nvSpPr>
          <p:spPr>
            <a:xfrm>
              <a:off x="2948040" y="244152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30440" y="338580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965320" y="3041280"/>
              <a:ext cx="363600" cy="3589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86000" y="24937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82760" y="33289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941200" y="3093840"/>
              <a:ext cx="344520" cy="23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182680" y="2494080"/>
            <a:ext cx="1992600" cy="1439280"/>
            <a:chOff x="2182680" y="2494080"/>
            <a:chExt cx="1992600" cy="1439280"/>
          </a:xfrm>
        </p:grpSpPr>
        <p:sp>
          <p:nvSpPr>
            <p:cNvPr id="386" name=""/>
            <p:cNvSpPr/>
            <p:nvPr/>
          </p:nvSpPr>
          <p:spPr>
            <a:xfrm>
              <a:off x="3186000" y="249408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82760" y="332892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870280" y="3089160"/>
              <a:ext cx="425520" cy="2822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38640" y="260316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82680" y="318132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012840" y="3103200"/>
              <a:ext cx="30636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0480" y="2603520"/>
            <a:ext cx="2158920" cy="1182240"/>
            <a:chOff x="2130480" y="2603520"/>
            <a:chExt cx="2158920" cy="1182240"/>
          </a:xfrm>
        </p:grpSpPr>
        <p:sp>
          <p:nvSpPr>
            <p:cNvPr id="393" name=""/>
            <p:cNvSpPr/>
            <p:nvPr/>
          </p:nvSpPr>
          <p:spPr>
            <a:xfrm>
              <a:off x="3338640" y="260352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82680" y="318132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2936880" y="3060360"/>
              <a:ext cx="458640" cy="2538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52760" y="271296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30480" y="296676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960640" y="3041280"/>
              <a:ext cx="496800" cy="22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130480" y="2712960"/>
            <a:ext cx="2220840" cy="858600"/>
            <a:chOff x="2130480" y="2712960"/>
            <a:chExt cx="2220840" cy="858600"/>
          </a:xfrm>
        </p:grpSpPr>
        <p:sp>
          <p:nvSpPr>
            <p:cNvPr id="400" name=""/>
            <p:cNvSpPr/>
            <p:nvPr/>
          </p:nvSpPr>
          <p:spPr>
            <a:xfrm>
              <a:off x="3452760" y="271296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0480" y="296676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912760" y="3008160"/>
              <a:ext cx="615960" cy="2826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14680" y="29034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73320" y="280008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2993760" y="3128400"/>
              <a:ext cx="525240" cy="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160720" y="2620800"/>
            <a:ext cx="2190600" cy="1163520"/>
            <a:chOff x="2160720" y="2620800"/>
            <a:chExt cx="2190600" cy="1163520"/>
          </a:xfrm>
        </p:grpSpPr>
        <p:sp>
          <p:nvSpPr>
            <p:cNvPr id="407" name=""/>
            <p:cNvSpPr/>
            <p:nvPr/>
          </p:nvSpPr>
          <p:spPr>
            <a:xfrm>
              <a:off x="3514680" y="2901600"/>
              <a:ext cx="836640" cy="605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60720" y="2801880"/>
              <a:ext cx="85068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2908080" y="3127320"/>
              <a:ext cx="696600" cy="316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71600" y="2620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78240" y="31795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094200" y="3012840"/>
              <a:ext cx="282240" cy="30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2265480" y="2487600"/>
            <a:ext cx="1947600" cy="1449000"/>
            <a:chOff x="2265480" y="2487600"/>
            <a:chExt cx="1947600" cy="1449000"/>
          </a:xfrm>
        </p:grpSpPr>
        <p:sp>
          <p:nvSpPr>
            <p:cNvPr id="414" name=""/>
            <p:cNvSpPr/>
            <p:nvPr/>
          </p:nvSpPr>
          <p:spPr>
            <a:xfrm>
              <a:off x="3376440" y="317808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65480" y="2620800"/>
              <a:ext cx="85068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3103200" y="3022200"/>
              <a:ext cx="297000" cy="3265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28920" y="24876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01920" y="3331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3218040" y="3089160"/>
              <a:ext cx="134640" cy="23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m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nary templa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tative connectiv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y conn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63640" y="4259160"/>
            <a:ext cx="2395440" cy="173844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82520" y="4465800"/>
            <a:ext cx="836640" cy="604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046240" y="5081760"/>
            <a:ext cx="836640" cy="604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71800" y="2378160"/>
            <a:ext cx="2395440" cy="1738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290680" y="2584440"/>
            <a:ext cx="1800360" cy="1220400"/>
            <a:chOff x="2290680" y="2584440"/>
            <a:chExt cx="1800360" cy="1220400"/>
          </a:xfrm>
        </p:grpSpPr>
        <p:sp>
          <p:nvSpPr>
            <p:cNvPr id="427" name=""/>
            <p:cNvSpPr/>
            <p:nvPr/>
          </p:nvSpPr>
          <p:spPr>
            <a:xfrm>
              <a:off x="2290680" y="258444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54400" y="320004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29120" y="3036600"/>
              <a:ext cx="393480" cy="16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6611760" y="4219560"/>
            <a:ext cx="1597320" cy="173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88280" y="4221000"/>
            <a:ext cx="0" cy="1738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81760" y="2401920"/>
            <a:ext cx="2395440" cy="173844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00640" y="2608200"/>
            <a:ext cx="836640" cy="604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264360" y="3224160"/>
            <a:ext cx="836640" cy="604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26120" y="2828880"/>
            <a:ext cx="463680" cy="36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2290680" y="2513160"/>
            <a:ext cx="1800360" cy="1373040"/>
            <a:chOff x="2290680" y="2513160"/>
            <a:chExt cx="1800360" cy="1373040"/>
          </a:xfrm>
        </p:grpSpPr>
        <p:sp>
          <p:nvSpPr>
            <p:cNvPr id="437" name=""/>
            <p:cNvSpPr/>
            <p:nvPr/>
          </p:nvSpPr>
          <p:spPr>
            <a:xfrm>
              <a:off x="2290680" y="2584440"/>
              <a:ext cx="836640" cy="605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54400" y="3200400"/>
              <a:ext cx="836640" cy="605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29120" y="3036960"/>
              <a:ext cx="393480" cy="1634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14520" y="251316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16160" y="32814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48120" y="3117960"/>
              <a:ext cx="39348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414520" y="2460600"/>
            <a:ext cx="1538280" cy="1496880"/>
            <a:chOff x="2414520" y="2460600"/>
            <a:chExt cx="1538280" cy="1496880"/>
          </a:xfrm>
        </p:grpSpPr>
        <p:sp>
          <p:nvSpPr>
            <p:cNvPr id="444" name=""/>
            <p:cNvSpPr/>
            <p:nvPr/>
          </p:nvSpPr>
          <p:spPr>
            <a:xfrm>
              <a:off x="2414520" y="251280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16160" y="328104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48120" y="3117600"/>
              <a:ext cx="393480" cy="1634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29000" y="24606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35160" y="335268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76480" y="3065400"/>
              <a:ext cx="474840" cy="2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529000" y="2417760"/>
            <a:ext cx="1342800" cy="1611360"/>
            <a:chOff x="2529000" y="2417760"/>
            <a:chExt cx="1342800" cy="1611360"/>
          </a:xfrm>
        </p:grpSpPr>
        <p:sp>
          <p:nvSpPr>
            <p:cNvPr id="451" name=""/>
            <p:cNvSpPr/>
            <p:nvPr/>
          </p:nvSpPr>
          <p:spPr>
            <a:xfrm>
              <a:off x="2529000" y="246096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35160" y="335304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76480" y="3065760"/>
              <a:ext cx="513000" cy="3157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619360" y="2417760"/>
              <a:ext cx="836640" cy="6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82880" y="34243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19320" y="3027600"/>
              <a:ext cx="28908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619360" y="2417760"/>
            <a:ext cx="1100160" cy="1611360"/>
            <a:chOff x="2619360" y="2417760"/>
            <a:chExt cx="1100160" cy="1611360"/>
          </a:xfrm>
        </p:grpSpPr>
        <p:sp>
          <p:nvSpPr>
            <p:cNvPr id="458" name=""/>
            <p:cNvSpPr/>
            <p:nvPr/>
          </p:nvSpPr>
          <p:spPr>
            <a:xfrm>
              <a:off x="2619360" y="2417760"/>
              <a:ext cx="836640" cy="605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82880" y="342432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95560" y="2994120"/>
              <a:ext cx="327240" cy="4446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62280" y="2422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59040" y="341964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3179880" y="3032280"/>
              <a:ext cx="1440" cy="38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530440" y="2422440"/>
            <a:ext cx="1254240" cy="1601640"/>
            <a:chOff x="2530440" y="2422440"/>
            <a:chExt cx="1254240" cy="1601640"/>
          </a:xfrm>
        </p:grpSpPr>
        <p:sp>
          <p:nvSpPr>
            <p:cNvPr id="465" name=""/>
            <p:cNvSpPr/>
            <p:nvPr/>
          </p:nvSpPr>
          <p:spPr>
            <a:xfrm>
              <a:off x="2762280" y="242244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59040" y="341928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3179880" y="3022560"/>
              <a:ext cx="1440" cy="3873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48040" y="24415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30440" y="3385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2970000" y="3046320"/>
              <a:ext cx="35388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282760" y="2441520"/>
            <a:ext cx="1739880" cy="1549080"/>
            <a:chOff x="2282760" y="2441520"/>
            <a:chExt cx="1739880" cy="1549080"/>
          </a:xfrm>
        </p:grpSpPr>
        <p:sp>
          <p:nvSpPr>
            <p:cNvPr id="472" name=""/>
            <p:cNvSpPr/>
            <p:nvPr/>
          </p:nvSpPr>
          <p:spPr>
            <a:xfrm>
              <a:off x="2948040" y="244152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30440" y="338580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965320" y="3041280"/>
              <a:ext cx="363600" cy="3589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86000" y="24937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282760" y="33289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2941200" y="3093840"/>
              <a:ext cx="344520" cy="23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182680" y="2494080"/>
            <a:ext cx="1992600" cy="1439280"/>
            <a:chOff x="2182680" y="2494080"/>
            <a:chExt cx="1992600" cy="1439280"/>
          </a:xfrm>
        </p:grpSpPr>
        <p:sp>
          <p:nvSpPr>
            <p:cNvPr id="479" name=""/>
            <p:cNvSpPr/>
            <p:nvPr/>
          </p:nvSpPr>
          <p:spPr>
            <a:xfrm>
              <a:off x="3186000" y="249408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82760" y="332892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70280" y="3089160"/>
              <a:ext cx="425520" cy="2822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338640" y="260316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82680" y="318132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012840" y="3103200"/>
              <a:ext cx="30636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130480" y="2603520"/>
            <a:ext cx="2158920" cy="1182240"/>
            <a:chOff x="2130480" y="2603520"/>
            <a:chExt cx="2158920" cy="1182240"/>
          </a:xfrm>
        </p:grpSpPr>
        <p:sp>
          <p:nvSpPr>
            <p:cNvPr id="486" name=""/>
            <p:cNvSpPr/>
            <p:nvPr/>
          </p:nvSpPr>
          <p:spPr>
            <a:xfrm>
              <a:off x="3338640" y="260352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82680" y="318132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2936880" y="3060360"/>
              <a:ext cx="458640" cy="2538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52760" y="271296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0480" y="296676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960640" y="3041280"/>
              <a:ext cx="496800" cy="22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130480" y="2712960"/>
            <a:ext cx="2220840" cy="858600"/>
            <a:chOff x="2130480" y="2712960"/>
            <a:chExt cx="2220840" cy="858600"/>
          </a:xfrm>
        </p:grpSpPr>
        <p:sp>
          <p:nvSpPr>
            <p:cNvPr id="493" name=""/>
            <p:cNvSpPr/>
            <p:nvPr/>
          </p:nvSpPr>
          <p:spPr>
            <a:xfrm>
              <a:off x="3452760" y="271296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130480" y="296676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2912760" y="3008160"/>
              <a:ext cx="615960" cy="2826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514680" y="29034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73320" y="280008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2993760" y="3128400"/>
              <a:ext cx="525240" cy="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160720" y="2620800"/>
            <a:ext cx="2190600" cy="1163520"/>
            <a:chOff x="2160720" y="2620800"/>
            <a:chExt cx="2190600" cy="1163520"/>
          </a:xfrm>
        </p:grpSpPr>
        <p:sp>
          <p:nvSpPr>
            <p:cNvPr id="500" name=""/>
            <p:cNvSpPr/>
            <p:nvPr/>
          </p:nvSpPr>
          <p:spPr>
            <a:xfrm>
              <a:off x="3514680" y="2901600"/>
              <a:ext cx="836640" cy="605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60720" y="2801880"/>
              <a:ext cx="85068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2908080" y="3127320"/>
              <a:ext cx="696600" cy="316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71600" y="2620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378240" y="31795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3094200" y="3012840"/>
              <a:ext cx="282240" cy="30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3376440" y="3178080"/>
            <a:ext cx="836640" cy="604800"/>
          </a:xfrm>
          <a:prstGeom prst="rect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65480" y="2620800"/>
            <a:ext cx="850680" cy="605160"/>
          </a:xfrm>
          <a:prstGeom prst="rect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3103200" y="3022200"/>
            <a:ext cx="297000" cy="3272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28920" y="2487600"/>
            <a:ext cx="836640" cy="604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01920" y="3332160"/>
            <a:ext cx="836640" cy="604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218040" y="3088800"/>
            <a:ext cx="134640" cy="23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m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nary templa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tative connectiv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y conn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863640" y="4259160"/>
            <a:ext cx="2395440" cy="1738440"/>
            <a:chOff x="863640" y="4259160"/>
            <a:chExt cx="2395440" cy="1738440"/>
          </a:xfrm>
        </p:grpSpPr>
        <p:sp>
          <p:nvSpPr>
            <p:cNvPr id="515" name=""/>
            <p:cNvSpPr/>
            <p:nvPr/>
          </p:nvSpPr>
          <p:spPr>
            <a:xfrm>
              <a:off x="863640" y="4259160"/>
              <a:ext cx="2395440" cy="1738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82520" y="4465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46240" y="5081400"/>
              <a:ext cx="836640" cy="6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03280" y="4546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79600" y="5149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2071800" y="2378160"/>
            <a:ext cx="2395440" cy="1738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290680" y="2584440"/>
            <a:ext cx="1800360" cy="1220400"/>
            <a:chOff x="2290680" y="2584440"/>
            <a:chExt cx="1800360" cy="1220400"/>
          </a:xfrm>
        </p:grpSpPr>
        <p:sp>
          <p:nvSpPr>
            <p:cNvPr id="522" name=""/>
            <p:cNvSpPr/>
            <p:nvPr/>
          </p:nvSpPr>
          <p:spPr>
            <a:xfrm>
              <a:off x="2290680" y="258444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254400" y="320004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29120" y="3036600"/>
              <a:ext cx="393480" cy="16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951520" y="4219560"/>
            <a:ext cx="2257200" cy="1739880"/>
            <a:chOff x="5951520" y="4219560"/>
            <a:chExt cx="2257200" cy="1739880"/>
          </a:xfrm>
        </p:grpSpPr>
        <p:sp>
          <p:nvSpPr>
            <p:cNvPr id="526" name=""/>
            <p:cNvSpPr/>
            <p:nvPr/>
          </p:nvSpPr>
          <p:spPr>
            <a:xfrm>
              <a:off x="5951520" y="48610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6611760" y="4219560"/>
              <a:ext cx="1596960" cy="1739880"/>
              <a:chOff x="6611760" y="4219560"/>
              <a:chExt cx="1596960" cy="1739880"/>
            </a:xfrm>
          </p:grpSpPr>
          <p:sp>
            <p:nvSpPr>
              <p:cNvPr id="528" name=""/>
              <p:cNvSpPr/>
              <p:nvPr/>
            </p:nvSpPr>
            <p:spPr>
              <a:xfrm>
                <a:off x="6611760" y="4219560"/>
                <a:ext cx="1596960" cy="1738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21360" y="48150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708680" y="48006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87920" y="4221360"/>
                <a:ext cx="0" cy="17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2" name=""/>
          <p:cNvGrpSpPr/>
          <p:nvPr/>
        </p:nvGrpSpPr>
        <p:grpSpPr>
          <a:xfrm>
            <a:off x="5081760" y="2401920"/>
            <a:ext cx="2395440" cy="1738440"/>
            <a:chOff x="5081760" y="2401920"/>
            <a:chExt cx="2395440" cy="1738440"/>
          </a:xfrm>
        </p:grpSpPr>
        <p:grpSp>
          <p:nvGrpSpPr>
            <p:cNvPr id="533" name=""/>
            <p:cNvGrpSpPr/>
            <p:nvPr/>
          </p:nvGrpSpPr>
          <p:grpSpPr>
            <a:xfrm>
              <a:off x="5081760" y="2401920"/>
              <a:ext cx="2395440" cy="1738440"/>
              <a:chOff x="5081760" y="2401920"/>
              <a:chExt cx="2395440" cy="1738440"/>
            </a:xfrm>
          </p:grpSpPr>
          <p:sp>
            <p:nvSpPr>
              <p:cNvPr id="534" name=""/>
              <p:cNvSpPr/>
              <p:nvPr/>
            </p:nvSpPr>
            <p:spPr>
              <a:xfrm>
                <a:off x="5081760" y="2401920"/>
                <a:ext cx="2395440" cy="17384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300640" y="2608560"/>
                <a:ext cx="836640" cy="604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264360" y="3224160"/>
                <a:ext cx="836640" cy="605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21400" y="26892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597720" y="329256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6126120" y="2829240"/>
              <a:ext cx="463680" cy="36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2290680" y="2513160"/>
            <a:ext cx="1800360" cy="1373040"/>
            <a:chOff x="2290680" y="2513160"/>
            <a:chExt cx="1800360" cy="1373040"/>
          </a:xfrm>
        </p:grpSpPr>
        <p:sp>
          <p:nvSpPr>
            <p:cNvPr id="541" name=""/>
            <p:cNvSpPr/>
            <p:nvPr/>
          </p:nvSpPr>
          <p:spPr>
            <a:xfrm>
              <a:off x="2290680" y="2584440"/>
              <a:ext cx="836640" cy="605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54400" y="3200400"/>
              <a:ext cx="836640" cy="605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29120" y="3036960"/>
              <a:ext cx="393480" cy="1634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14520" y="251316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16160" y="32814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48120" y="3117960"/>
              <a:ext cx="39348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2414520" y="2460600"/>
            <a:ext cx="1538280" cy="1496880"/>
            <a:chOff x="2414520" y="2460600"/>
            <a:chExt cx="1538280" cy="1496880"/>
          </a:xfrm>
        </p:grpSpPr>
        <p:sp>
          <p:nvSpPr>
            <p:cNvPr id="548" name=""/>
            <p:cNvSpPr/>
            <p:nvPr/>
          </p:nvSpPr>
          <p:spPr>
            <a:xfrm>
              <a:off x="2414520" y="251280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16160" y="328104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48120" y="3117600"/>
              <a:ext cx="393480" cy="1634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529000" y="24606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35160" y="335268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76480" y="3065400"/>
              <a:ext cx="474840" cy="2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529000" y="2417760"/>
            <a:ext cx="1342800" cy="1611360"/>
            <a:chOff x="2529000" y="2417760"/>
            <a:chExt cx="1342800" cy="1611360"/>
          </a:xfrm>
        </p:grpSpPr>
        <p:sp>
          <p:nvSpPr>
            <p:cNvPr id="555" name=""/>
            <p:cNvSpPr/>
            <p:nvPr/>
          </p:nvSpPr>
          <p:spPr>
            <a:xfrm>
              <a:off x="2529000" y="246096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35160" y="335304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76480" y="3065760"/>
              <a:ext cx="513000" cy="3157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619360" y="2417760"/>
              <a:ext cx="836640" cy="6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82880" y="34243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19320" y="3027600"/>
              <a:ext cx="28908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619360" y="2417760"/>
            <a:ext cx="1100160" cy="1611360"/>
            <a:chOff x="2619360" y="2417760"/>
            <a:chExt cx="1100160" cy="1611360"/>
          </a:xfrm>
        </p:grpSpPr>
        <p:sp>
          <p:nvSpPr>
            <p:cNvPr id="562" name=""/>
            <p:cNvSpPr/>
            <p:nvPr/>
          </p:nvSpPr>
          <p:spPr>
            <a:xfrm>
              <a:off x="2619360" y="2417760"/>
              <a:ext cx="836640" cy="605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82880" y="342432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995560" y="2994120"/>
              <a:ext cx="327240" cy="4446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62280" y="2422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759040" y="341964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3179880" y="3032280"/>
              <a:ext cx="1440" cy="38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530440" y="2422440"/>
            <a:ext cx="1254240" cy="1601640"/>
            <a:chOff x="2530440" y="2422440"/>
            <a:chExt cx="1254240" cy="1601640"/>
          </a:xfrm>
        </p:grpSpPr>
        <p:sp>
          <p:nvSpPr>
            <p:cNvPr id="569" name=""/>
            <p:cNvSpPr/>
            <p:nvPr/>
          </p:nvSpPr>
          <p:spPr>
            <a:xfrm>
              <a:off x="2762280" y="242244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59040" y="341928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179880" y="3022560"/>
              <a:ext cx="1440" cy="3873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48040" y="24415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30440" y="3385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970000" y="3046320"/>
              <a:ext cx="35388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282760" y="2441520"/>
            <a:ext cx="1739880" cy="1549080"/>
            <a:chOff x="2282760" y="2441520"/>
            <a:chExt cx="1739880" cy="1549080"/>
          </a:xfrm>
        </p:grpSpPr>
        <p:sp>
          <p:nvSpPr>
            <p:cNvPr id="576" name=""/>
            <p:cNvSpPr/>
            <p:nvPr/>
          </p:nvSpPr>
          <p:spPr>
            <a:xfrm>
              <a:off x="2948040" y="244152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30440" y="338580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965320" y="3041280"/>
              <a:ext cx="363600" cy="3589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86000" y="24937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82760" y="33289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2941200" y="3093840"/>
              <a:ext cx="344520" cy="23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182680" y="2494080"/>
            <a:ext cx="1992600" cy="1439280"/>
            <a:chOff x="2182680" y="2494080"/>
            <a:chExt cx="1992600" cy="1439280"/>
          </a:xfrm>
        </p:grpSpPr>
        <p:sp>
          <p:nvSpPr>
            <p:cNvPr id="583" name=""/>
            <p:cNvSpPr/>
            <p:nvPr/>
          </p:nvSpPr>
          <p:spPr>
            <a:xfrm>
              <a:off x="3186000" y="249408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282760" y="332892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2870280" y="3089160"/>
              <a:ext cx="425520" cy="2822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338640" y="260316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182680" y="318132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3012840" y="3103200"/>
              <a:ext cx="30636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2130480" y="2603520"/>
            <a:ext cx="2158920" cy="1182240"/>
            <a:chOff x="2130480" y="2603520"/>
            <a:chExt cx="2158920" cy="1182240"/>
          </a:xfrm>
        </p:grpSpPr>
        <p:sp>
          <p:nvSpPr>
            <p:cNvPr id="590" name=""/>
            <p:cNvSpPr/>
            <p:nvPr/>
          </p:nvSpPr>
          <p:spPr>
            <a:xfrm>
              <a:off x="3338640" y="260352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82680" y="318132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936880" y="3060360"/>
              <a:ext cx="458640" cy="2538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452760" y="271296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130480" y="296676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2960640" y="3041280"/>
              <a:ext cx="496800" cy="22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130480" y="2712960"/>
            <a:ext cx="2220840" cy="858600"/>
            <a:chOff x="2130480" y="2712960"/>
            <a:chExt cx="2220840" cy="858600"/>
          </a:xfrm>
        </p:grpSpPr>
        <p:sp>
          <p:nvSpPr>
            <p:cNvPr id="597" name=""/>
            <p:cNvSpPr/>
            <p:nvPr/>
          </p:nvSpPr>
          <p:spPr>
            <a:xfrm>
              <a:off x="3452760" y="271296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30480" y="2966760"/>
              <a:ext cx="83664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2912760" y="3008160"/>
              <a:ext cx="615960" cy="2826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14680" y="29034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73320" y="280008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2993760" y="3128400"/>
              <a:ext cx="525240" cy="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2160720" y="2620800"/>
            <a:ext cx="2190600" cy="1163520"/>
            <a:chOff x="2160720" y="2620800"/>
            <a:chExt cx="2190600" cy="1163520"/>
          </a:xfrm>
        </p:grpSpPr>
        <p:sp>
          <p:nvSpPr>
            <p:cNvPr id="604" name=""/>
            <p:cNvSpPr/>
            <p:nvPr/>
          </p:nvSpPr>
          <p:spPr>
            <a:xfrm>
              <a:off x="3514680" y="2901600"/>
              <a:ext cx="836640" cy="605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60720" y="2801880"/>
              <a:ext cx="850680" cy="604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2908080" y="3127320"/>
              <a:ext cx="696600" cy="316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71600" y="2620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378240" y="317952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3094200" y="3012840"/>
              <a:ext cx="282240" cy="30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265480" y="2487600"/>
            <a:ext cx="1947600" cy="1449000"/>
            <a:chOff x="2265480" y="2487600"/>
            <a:chExt cx="1947600" cy="1449000"/>
          </a:xfrm>
        </p:grpSpPr>
        <p:sp>
          <p:nvSpPr>
            <p:cNvPr id="611" name=""/>
            <p:cNvSpPr/>
            <p:nvPr/>
          </p:nvSpPr>
          <p:spPr>
            <a:xfrm>
              <a:off x="3376440" y="3178080"/>
              <a:ext cx="83664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265480" y="2620800"/>
              <a:ext cx="850680" cy="604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3103200" y="3022200"/>
              <a:ext cx="297000" cy="3265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28920" y="24876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01920" y="33318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 flipV="1">
              <a:off x="3218040" y="3089160"/>
              <a:ext cx="134640" cy="23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2774160" y="6129720"/>
            <a:ext cx="51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ema : Connectives </a:t>
            </a:r>
            <a:r>
              <a:rPr b="0" lang="en-US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m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ary 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rnary templa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133640" y="4200480"/>
            <a:ext cx="2395440" cy="1738440"/>
            <a:chOff x="1133640" y="4200480"/>
            <a:chExt cx="2395440" cy="1738440"/>
          </a:xfrm>
        </p:grpSpPr>
        <p:sp>
          <p:nvSpPr>
            <p:cNvPr id="621" name=""/>
            <p:cNvSpPr/>
            <p:nvPr/>
          </p:nvSpPr>
          <p:spPr>
            <a:xfrm>
              <a:off x="1133640" y="4200480"/>
              <a:ext cx="2395440" cy="1738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01760" y="435600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087640" y="5162400"/>
              <a:ext cx="836640" cy="6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73280" y="4487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49600" y="5091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97320" y="442764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3718080" y="4200480"/>
            <a:ext cx="2395440" cy="1738440"/>
            <a:chOff x="3718080" y="4200480"/>
            <a:chExt cx="2395440" cy="1738440"/>
          </a:xfrm>
        </p:grpSpPr>
        <p:sp>
          <p:nvSpPr>
            <p:cNvPr id="628" name=""/>
            <p:cNvSpPr/>
            <p:nvPr/>
          </p:nvSpPr>
          <p:spPr>
            <a:xfrm>
              <a:off x="3718080" y="4200480"/>
              <a:ext cx="2395440" cy="1738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936960" y="440676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55920" y="521496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57720" y="4487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34040" y="50911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88000" y="4678200"/>
              <a:ext cx="334800" cy="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29280" y="4441680"/>
              <a:ext cx="836640" cy="6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21080" y="4998960"/>
              <a:ext cx="33516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332400" y="4173480"/>
            <a:ext cx="1596960" cy="1751040"/>
            <a:chOff x="6332400" y="4173480"/>
            <a:chExt cx="1596960" cy="1751040"/>
          </a:xfrm>
        </p:grpSpPr>
        <p:sp>
          <p:nvSpPr>
            <p:cNvPr id="637" name=""/>
            <p:cNvSpPr/>
            <p:nvPr/>
          </p:nvSpPr>
          <p:spPr>
            <a:xfrm>
              <a:off x="6332400" y="4173480"/>
              <a:ext cx="1596960" cy="1738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538680" y="4897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326360" y="48830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51520" y="4174920"/>
              <a:ext cx="0" cy="173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364160" y="4186080"/>
              <a:ext cx="0" cy="173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129200" y="1662120"/>
            <a:ext cx="2395440" cy="1738080"/>
            <a:chOff x="4129200" y="1662120"/>
            <a:chExt cx="2395440" cy="1738080"/>
          </a:xfrm>
        </p:grpSpPr>
        <p:sp>
          <p:nvSpPr>
            <p:cNvPr id="643" name=""/>
            <p:cNvSpPr/>
            <p:nvPr/>
          </p:nvSpPr>
          <p:spPr>
            <a:xfrm>
              <a:off x="4129200" y="1662120"/>
              <a:ext cx="2395440" cy="173808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68840" y="1949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645160" y="2552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73640" y="1888920"/>
              <a:ext cx="1955880" cy="12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1958760" y="6129720"/>
            <a:ext cx="67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ema : n-ary Connectives </a:t>
            </a:r>
            <a:r>
              <a:rPr b="0" lang="en-GB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n-ary 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sting tem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to represent P and (Q or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l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746280" y="3335400"/>
            <a:ext cx="3632040" cy="2612880"/>
            <a:chOff x="746280" y="3335400"/>
            <a:chExt cx="3632040" cy="2612880"/>
          </a:xfrm>
        </p:grpSpPr>
        <p:sp>
          <p:nvSpPr>
            <p:cNvPr id="651" name=""/>
            <p:cNvSpPr/>
            <p:nvPr/>
          </p:nvSpPr>
          <p:spPr>
            <a:xfrm>
              <a:off x="746280" y="3335400"/>
              <a:ext cx="3632040" cy="261288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36680" y="3540240"/>
              <a:ext cx="1167840" cy="712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17360" y="4421160"/>
              <a:ext cx="3163680" cy="1278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236600" y="4726080"/>
              <a:ext cx="1090080" cy="711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92160" y="4724640"/>
              <a:ext cx="1090440" cy="711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28840" y="5067360"/>
              <a:ext cx="46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900680" y="3333600"/>
            <a:ext cx="3632040" cy="2612880"/>
            <a:chOff x="4900680" y="3333600"/>
            <a:chExt cx="3632040" cy="2612880"/>
          </a:xfrm>
        </p:grpSpPr>
        <p:sp>
          <p:nvSpPr>
            <p:cNvPr id="658" name=""/>
            <p:cNvSpPr/>
            <p:nvPr/>
          </p:nvSpPr>
          <p:spPr>
            <a:xfrm>
              <a:off x="4900680" y="3333600"/>
              <a:ext cx="3632040" cy="261288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91080" y="3538440"/>
              <a:ext cx="1167840" cy="712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1760" y="4419360"/>
              <a:ext cx="3163680" cy="1278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91000" y="4724280"/>
              <a:ext cx="1090080" cy="711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46560" y="4722840"/>
              <a:ext cx="1090440" cy="711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83240" y="5065560"/>
              <a:ext cx="462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5880240" y="36691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681880" y="4825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280280" y="48520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ssocia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to represent P and (Q and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late-flat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92120" y="3335400"/>
            <a:ext cx="3632040" cy="2612880"/>
            <a:chOff x="492120" y="3335400"/>
            <a:chExt cx="3632040" cy="2612880"/>
          </a:xfrm>
        </p:grpSpPr>
        <p:sp>
          <p:nvSpPr>
            <p:cNvPr id="670" name=""/>
            <p:cNvSpPr/>
            <p:nvPr/>
          </p:nvSpPr>
          <p:spPr>
            <a:xfrm>
              <a:off x="492120" y="3335400"/>
              <a:ext cx="3632040" cy="261288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82520" y="3540240"/>
              <a:ext cx="1168560" cy="712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3560" y="4421160"/>
              <a:ext cx="3164040" cy="1278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82800" y="4726080"/>
              <a:ext cx="1090440" cy="711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38360" y="4724280"/>
              <a:ext cx="1090800" cy="711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4260960" y="4452840"/>
            <a:ext cx="476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979880" y="3332160"/>
            <a:ext cx="3632400" cy="2612880"/>
            <a:chOff x="4979880" y="3332160"/>
            <a:chExt cx="3632400" cy="2612880"/>
          </a:xfrm>
        </p:grpSpPr>
        <p:sp>
          <p:nvSpPr>
            <p:cNvPr id="677" name=""/>
            <p:cNvSpPr/>
            <p:nvPr/>
          </p:nvSpPr>
          <p:spPr>
            <a:xfrm>
              <a:off x="4979880" y="3332160"/>
              <a:ext cx="3632400" cy="261288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570640" y="3537000"/>
              <a:ext cx="1168200" cy="712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70560" y="4722840"/>
              <a:ext cx="1090440" cy="711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026120" y="4721400"/>
              <a:ext cx="1090800" cy="711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oted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to represent P and (Q or R) and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late-flat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60960" y="4452840"/>
            <a:ext cx="476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68720" y="624888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mean Q or R or (P and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92120" y="2975040"/>
            <a:ext cx="3632040" cy="2973240"/>
            <a:chOff x="492120" y="2975040"/>
            <a:chExt cx="3632040" cy="2973240"/>
          </a:xfrm>
        </p:grpSpPr>
        <p:sp>
          <p:nvSpPr>
            <p:cNvPr id="686" name=""/>
            <p:cNvSpPr/>
            <p:nvPr/>
          </p:nvSpPr>
          <p:spPr>
            <a:xfrm>
              <a:off x="492120" y="2975040"/>
              <a:ext cx="3632040" cy="29732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44400" y="4157640"/>
              <a:ext cx="654120" cy="54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90640" y="4173480"/>
              <a:ext cx="2046240" cy="1548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41480" y="4987800"/>
              <a:ext cx="654120" cy="54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33720" y="4975200"/>
              <a:ext cx="654120" cy="54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68360" y="3476520"/>
              <a:ext cx="665280" cy="403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23720" y="3437280"/>
              <a:ext cx="72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38360" y="4295880"/>
              <a:ext cx="665280" cy="403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611080" y="425664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033640" y="3719520"/>
              <a:ext cx="296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2226960" y="4556160"/>
              <a:ext cx="30780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92480" y="4530600"/>
              <a:ext cx="257040" cy="45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1039680" y="3716280"/>
              <a:ext cx="30816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752560" y="3216240"/>
              <a:ext cx="654120" cy="54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033640" y="3384360"/>
              <a:ext cx="708120" cy="12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82640" y="421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54520" y="50328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186000" y="50202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01600" y="32580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929120" y="2973240"/>
            <a:ext cx="3632400" cy="2973600"/>
            <a:chOff x="4929120" y="2973240"/>
            <a:chExt cx="3632400" cy="2973600"/>
          </a:xfrm>
        </p:grpSpPr>
        <p:sp>
          <p:nvSpPr>
            <p:cNvPr id="706" name=""/>
            <p:cNvSpPr/>
            <p:nvPr/>
          </p:nvSpPr>
          <p:spPr>
            <a:xfrm>
              <a:off x="4929120" y="2973240"/>
              <a:ext cx="3632400" cy="29736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81760" y="4156200"/>
              <a:ext cx="653760" cy="544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78480" y="4986360"/>
              <a:ext cx="654120" cy="544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70720" y="4973760"/>
              <a:ext cx="654120" cy="544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5760720" y="3435840"/>
              <a:ext cx="727920" cy="459720"/>
              <a:chOff x="5760720" y="3435840"/>
              <a:chExt cx="727920" cy="459720"/>
            </a:xfrm>
          </p:grpSpPr>
          <p:sp>
            <p:nvSpPr>
              <p:cNvPr id="711" name=""/>
              <p:cNvSpPr/>
              <p:nvPr/>
            </p:nvSpPr>
            <p:spPr>
              <a:xfrm>
                <a:off x="5805360" y="3475080"/>
                <a:ext cx="665280" cy="403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760720" y="3435840"/>
                <a:ext cx="72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6975360" y="4254840"/>
              <a:ext cx="665280" cy="459720"/>
              <a:chOff x="6975360" y="4254840"/>
              <a:chExt cx="665280" cy="459720"/>
            </a:xfrm>
          </p:grpSpPr>
          <p:sp>
            <p:nvSpPr>
              <p:cNvPr id="714" name=""/>
              <p:cNvSpPr/>
              <p:nvPr/>
            </p:nvSpPr>
            <p:spPr>
              <a:xfrm>
                <a:off x="6975360" y="4294080"/>
                <a:ext cx="665280" cy="403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48080" y="4254840"/>
                <a:ext cx="49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>
              <a:off x="6494400" y="3679920"/>
              <a:ext cx="747720" cy="60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6664320" y="4554360"/>
              <a:ext cx="30816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9480" y="4529160"/>
              <a:ext cx="25740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476680" y="3714840"/>
              <a:ext cx="30780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03960" y="3243240"/>
              <a:ext cx="654120" cy="48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485040" y="3382560"/>
              <a:ext cx="707760" cy="12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08840" y="41979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80360" y="50187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12200" y="50058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327440" y="32436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068720" y="3432600"/>
            <a:ext cx="4548600" cy="3276000"/>
            <a:chOff x="4068720" y="3432600"/>
            <a:chExt cx="4548600" cy="3276000"/>
          </a:xfrm>
        </p:grpSpPr>
        <p:grpSp>
          <p:nvGrpSpPr>
            <p:cNvPr id="727" name=""/>
            <p:cNvGrpSpPr/>
            <p:nvPr/>
          </p:nvGrpSpPr>
          <p:grpSpPr>
            <a:xfrm>
              <a:off x="5759280" y="3432600"/>
              <a:ext cx="727920" cy="459720"/>
              <a:chOff x="5759280" y="3432600"/>
              <a:chExt cx="727920" cy="459720"/>
            </a:xfrm>
          </p:grpSpPr>
          <p:sp>
            <p:nvSpPr>
              <p:cNvPr id="728" name=""/>
              <p:cNvSpPr/>
              <p:nvPr/>
            </p:nvSpPr>
            <p:spPr>
              <a:xfrm>
                <a:off x="5804280" y="3471840"/>
                <a:ext cx="664920" cy="403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759280" y="3432600"/>
                <a:ext cx="72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068720" y="6248880"/>
              <a:ext cx="454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ould mean Q or R or (P and 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notate a unary temp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749600" y="2855880"/>
            <a:ext cx="2989080" cy="2149560"/>
            <a:chOff x="1749600" y="2855880"/>
            <a:chExt cx="2989080" cy="2149560"/>
          </a:xfrm>
        </p:grpSpPr>
        <p:sp>
          <p:nvSpPr>
            <p:cNvPr id="734" name=""/>
            <p:cNvSpPr/>
            <p:nvPr/>
          </p:nvSpPr>
          <p:spPr>
            <a:xfrm>
              <a:off x="1749600" y="2855880"/>
              <a:ext cx="2989080" cy="21495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19200" y="3600360"/>
              <a:ext cx="2068560" cy="116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1841400" y="2986200"/>
              <a:ext cx="280440" cy="463320"/>
              <a:chOff x="1841400" y="2986200"/>
              <a:chExt cx="280440" cy="463320"/>
            </a:xfrm>
          </p:grpSpPr>
          <p:sp>
            <p:nvSpPr>
              <p:cNvPr id="737" name=""/>
              <p:cNvSpPr/>
              <p:nvPr/>
            </p:nvSpPr>
            <p:spPr>
              <a:xfrm>
                <a:off x="1841400" y="2986200"/>
                <a:ext cx="1414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1980360" y="2992320"/>
                <a:ext cx="1414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911600" y="3202200"/>
                <a:ext cx="147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2025000" y="31039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89160" y="3997800"/>
              <a:ext cx="7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618840" y="3333600"/>
            <a:ext cx="4806000" cy="2772720"/>
            <a:chOff x="618840" y="3333600"/>
            <a:chExt cx="4806000" cy="2772720"/>
          </a:xfrm>
        </p:grpSpPr>
        <p:sp>
          <p:nvSpPr>
            <p:cNvPr id="743" name=""/>
            <p:cNvSpPr/>
            <p:nvPr/>
          </p:nvSpPr>
          <p:spPr>
            <a:xfrm>
              <a:off x="631800" y="3333600"/>
              <a:ext cx="1182600" cy="1981440"/>
            </a:xfrm>
            <a:custGeom>
              <a:avLst/>
              <a:gdLst/>
              <a:ahLst/>
              <a:rect l="l" t="t" r="r" b="b"/>
              <a:pathLst>
                <a:path w="745" h="1248">
                  <a:moveTo>
                    <a:pt x="32" y="1248"/>
                  </a:moveTo>
                  <a:cubicBezTo>
                    <a:pt x="71" y="1194"/>
                    <a:pt x="259" y="1060"/>
                    <a:pt x="267" y="916"/>
                  </a:cubicBezTo>
                  <a:cubicBezTo>
                    <a:pt x="275" y="772"/>
                    <a:pt x="0" y="534"/>
                    <a:pt x="80" y="381"/>
                  </a:cubicBezTo>
                  <a:cubicBezTo>
                    <a:pt x="160" y="228"/>
                    <a:pt x="457" y="138"/>
                    <a:pt x="74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8840" y="5090400"/>
              <a:ext cx="4806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The quantifier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(e.g. </a:t>
              </a:r>
              <a:r>
                <a:rPr b="0" lang="en-GB" sz="2400" spc="-1" strike="noStrike">
                  <a:solidFill>
                    <a:srgbClr val="0000cc"/>
                  </a:solidFill>
                  <a:latin typeface="Comic Sans MS"/>
                </a:rPr>
                <a:t>for all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0" lang="en-GB" sz="2400" spc="-1" strike="noStrike">
                  <a:solidFill>
                    <a:srgbClr val="0000cc"/>
                  </a:solidFill>
                  <a:latin typeface="Comic Sans MS"/>
                </a:rPr>
                <a:t>there exists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)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3913200" y="2072880"/>
            <a:ext cx="4998960" cy="2135520"/>
            <a:chOff x="3913200" y="2072880"/>
            <a:chExt cx="4998960" cy="2135520"/>
          </a:xfrm>
        </p:grpSpPr>
        <p:sp>
          <p:nvSpPr>
            <p:cNvPr id="746" name=""/>
            <p:cNvSpPr/>
            <p:nvPr/>
          </p:nvSpPr>
          <p:spPr>
            <a:xfrm>
              <a:off x="3913200" y="3565440"/>
              <a:ext cx="1687680" cy="642960"/>
            </a:xfrm>
            <a:custGeom>
              <a:avLst/>
              <a:gdLst/>
              <a:ahLst/>
              <a:rect l="l" t="t" r="r" b="b"/>
              <a:pathLst>
                <a:path w="1233" h="697">
                  <a:moveTo>
                    <a:pt x="1233" y="0"/>
                  </a:moveTo>
                  <a:cubicBezTo>
                    <a:pt x="1169" y="157"/>
                    <a:pt x="1105" y="314"/>
                    <a:pt x="900" y="430"/>
                  </a:cubicBezTo>
                  <a:cubicBezTo>
                    <a:pt x="695" y="546"/>
                    <a:pt x="347" y="621"/>
                    <a:pt x="0" y="69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412240" y="2072880"/>
              <a:ext cx="3499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predic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an expression wh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uth value depe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upon bound variable 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terogeneous no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atural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rst order predicate logic (FO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bject constraint language (OC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raint diagr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ML class diagrams, state charts,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many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ope of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385920" y="2340000"/>
            <a:ext cx="3941640" cy="2933640"/>
            <a:chOff x="385920" y="2340000"/>
            <a:chExt cx="3941640" cy="2933640"/>
          </a:xfrm>
        </p:grpSpPr>
        <p:sp>
          <p:nvSpPr>
            <p:cNvPr id="750" name=""/>
            <p:cNvSpPr/>
            <p:nvPr/>
          </p:nvSpPr>
          <p:spPr>
            <a:xfrm>
              <a:off x="385920" y="2340000"/>
              <a:ext cx="3941640" cy="29336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055520" y="2724120"/>
              <a:ext cx="2982960" cy="22827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77720" y="2470320"/>
              <a:ext cx="280440" cy="463320"/>
              <a:chOff x="477720" y="2470320"/>
              <a:chExt cx="280440" cy="463320"/>
            </a:xfrm>
          </p:grpSpPr>
          <p:sp>
            <p:nvSpPr>
              <p:cNvPr id="753" name=""/>
              <p:cNvSpPr/>
              <p:nvPr/>
            </p:nvSpPr>
            <p:spPr>
              <a:xfrm>
                <a:off x="477720" y="2470320"/>
                <a:ext cx="1414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616680" y="2476440"/>
                <a:ext cx="1414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47920" y="2686320"/>
                <a:ext cx="147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661320" y="258804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1144440" y="2817720"/>
              <a:ext cx="195480" cy="362160"/>
              <a:chOff x="1144440" y="2817720"/>
              <a:chExt cx="195480" cy="362160"/>
            </a:xfrm>
          </p:grpSpPr>
          <p:sp>
            <p:nvSpPr>
              <p:cNvPr id="758" name=""/>
              <p:cNvSpPr/>
              <p:nvPr/>
            </p:nvSpPr>
            <p:spPr>
              <a:xfrm>
                <a:off x="1144440" y="28278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144440" y="317484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333800" y="2817720"/>
                <a:ext cx="0" cy="36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254240" y="2993760"/>
                <a:ext cx="79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1325520" y="28594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224000" y="3705120"/>
              <a:ext cx="1158840" cy="747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23360" y="3854880"/>
              <a:ext cx="9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(x,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662200" y="3214800"/>
              <a:ext cx="1158840" cy="747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56960" y="336456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(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4707000" y="2349360"/>
            <a:ext cx="3941640" cy="2934000"/>
            <a:chOff x="4707000" y="2349360"/>
            <a:chExt cx="3941640" cy="2934000"/>
          </a:xfrm>
        </p:grpSpPr>
        <p:sp>
          <p:nvSpPr>
            <p:cNvPr id="768" name=""/>
            <p:cNvSpPr/>
            <p:nvPr/>
          </p:nvSpPr>
          <p:spPr>
            <a:xfrm>
              <a:off x="4707000" y="2349360"/>
              <a:ext cx="3941640" cy="29340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367320" y="2733840"/>
              <a:ext cx="2108520" cy="17427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4799160" y="2479680"/>
              <a:ext cx="280440" cy="463680"/>
              <a:chOff x="4799160" y="2479680"/>
              <a:chExt cx="280440" cy="463680"/>
            </a:xfrm>
          </p:grpSpPr>
          <p:sp>
            <p:nvSpPr>
              <p:cNvPr id="771" name=""/>
              <p:cNvSpPr/>
              <p:nvPr/>
            </p:nvSpPr>
            <p:spPr>
              <a:xfrm>
                <a:off x="4799160" y="2479680"/>
                <a:ext cx="141480" cy="45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4938120" y="2485800"/>
                <a:ext cx="141480" cy="45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69360" y="2695680"/>
                <a:ext cx="147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4982400" y="259776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6456240" y="2827440"/>
              <a:ext cx="138240" cy="276120"/>
              <a:chOff x="6456240" y="2827440"/>
              <a:chExt cx="138240" cy="276120"/>
            </a:xfrm>
          </p:grpSpPr>
          <p:sp>
            <p:nvSpPr>
              <p:cNvPr id="776" name=""/>
              <p:cNvSpPr/>
              <p:nvPr/>
            </p:nvSpPr>
            <p:spPr>
              <a:xfrm>
                <a:off x="6456240" y="2835000"/>
                <a:ext cx="13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456240" y="3099600"/>
                <a:ext cx="13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90160" y="2827440"/>
                <a:ext cx="0" cy="27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34000" y="2961720"/>
                <a:ext cx="5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634080" y="2815200"/>
              <a:ext cx="2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965840" y="3738600"/>
              <a:ext cx="1158840" cy="747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065200" y="3888360"/>
              <a:ext cx="9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(x,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83280" y="3224160"/>
              <a:ext cx="1158840" cy="747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78040" y="33739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(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39400" y="4362480"/>
            <a:ext cx="2378520" cy="2414880"/>
            <a:chOff x="239400" y="4362480"/>
            <a:chExt cx="2378520" cy="2414880"/>
          </a:xfrm>
        </p:grpSpPr>
        <p:sp>
          <p:nvSpPr>
            <p:cNvPr id="786" name=""/>
            <p:cNvSpPr/>
            <p:nvPr/>
          </p:nvSpPr>
          <p:spPr>
            <a:xfrm>
              <a:off x="1595520" y="4362480"/>
              <a:ext cx="498240" cy="1519200"/>
            </a:xfrm>
            <a:custGeom>
              <a:avLst/>
              <a:gdLst/>
              <a:ahLst/>
              <a:rect l="l" t="t" r="r" b="b"/>
              <a:pathLst>
                <a:path w="314" h="957">
                  <a:moveTo>
                    <a:pt x="0" y="957"/>
                  </a:moveTo>
                  <a:cubicBezTo>
                    <a:pt x="127" y="809"/>
                    <a:pt x="254" y="662"/>
                    <a:pt x="284" y="535"/>
                  </a:cubicBezTo>
                  <a:cubicBezTo>
                    <a:pt x="314" y="408"/>
                    <a:pt x="191" y="284"/>
                    <a:pt x="179" y="195"/>
                  </a:cubicBezTo>
                  <a:cubicBezTo>
                    <a:pt x="167" y="106"/>
                    <a:pt x="189" y="53"/>
                    <a:pt x="21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9400" y="5586120"/>
              <a:ext cx="237852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ound by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re exists y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ua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705920" y="4309920"/>
            <a:ext cx="5123160" cy="2464200"/>
            <a:chOff x="4705920" y="4309920"/>
            <a:chExt cx="5123160" cy="2464200"/>
          </a:xfrm>
        </p:grpSpPr>
        <p:sp>
          <p:nvSpPr>
            <p:cNvPr id="789" name=""/>
            <p:cNvSpPr/>
            <p:nvPr/>
          </p:nvSpPr>
          <p:spPr>
            <a:xfrm>
              <a:off x="4705920" y="5582880"/>
              <a:ext cx="512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 free 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utside the scop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f the existence quantifier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5605560" y="4309920"/>
              <a:ext cx="498240" cy="1519560"/>
            </a:xfrm>
            <a:custGeom>
              <a:avLst/>
              <a:gdLst/>
              <a:ahLst/>
              <a:rect l="l" t="t" r="r" b="b"/>
              <a:pathLst>
                <a:path w="314" h="957">
                  <a:moveTo>
                    <a:pt x="0" y="957"/>
                  </a:moveTo>
                  <a:cubicBezTo>
                    <a:pt x="127" y="809"/>
                    <a:pt x="254" y="662"/>
                    <a:pt x="284" y="535"/>
                  </a:cubicBezTo>
                  <a:cubicBezTo>
                    <a:pt x="314" y="408"/>
                    <a:pt x="191" y="284"/>
                    <a:pt x="179" y="195"/>
                  </a:cubicBezTo>
                  <a:cubicBezTo>
                    <a:pt x="167" y="106"/>
                    <a:pt x="189" y="53"/>
                    <a:pt x="21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ope of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385920" y="2340000"/>
            <a:ext cx="3941640" cy="2933640"/>
            <a:chOff x="385920" y="2340000"/>
            <a:chExt cx="3941640" cy="2933640"/>
          </a:xfrm>
        </p:grpSpPr>
        <p:sp>
          <p:nvSpPr>
            <p:cNvPr id="793" name=""/>
            <p:cNvSpPr/>
            <p:nvPr/>
          </p:nvSpPr>
          <p:spPr>
            <a:xfrm>
              <a:off x="385920" y="2340000"/>
              <a:ext cx="3941640" cy="29336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055520" y="2724120"/>
              <a:ext cx="2982960" cy="22827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477720" y="2470320"/>
              <a:ext cx="280440" cy="463320"/>
              <a:chOff x="477720" y="2470320"/>
              <a:chExt cx="280440" cy="463320"/>
            </a:xfrm>
          </p:grpSpPr>
          <p:sp>
            <p:nvSpPr>
              <p:cNvPr id="796" name=""/>
              <p:cNvSpPr/>
              <p:nvPr/>
            </p:nvSpPr>
            <p:spPr>
              <a:xfrm>
                <a:off x="477720" y="2470320"/>
                <a:ext cx="1414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16680" y="2476440"/>
                <a:ext cx="1414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47920" y="2686320"/>
                <a:ext cx="147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>
              <a:off x="661320" y="258804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1144440" y="2817720"/>
              <a:ext cx="195480" cy="362160"/>
              <a:chOff x="1144440" y="2817720"/>
              <a:chExt cx="195480" cy="362160"/>
            </a:xfrm>
          </p:grpSpPr>
          <p:sp>
            <p:nvSpPr>
              <p:cNvPr id="801" name=""/>
              <p:cNvSpPr/>
              <p:nvPr/>
            </p:nvSpPr>
            <p:spPr>
              <a:xfrm>
                <a:off x="1144440" y="28278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144440" y="317484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333800" y="2817720"/>
                <a:ext cx="0" cy="36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254240" y="2993760"/>
                <a:ext cx="79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1325520" y="28594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224000" y="3705120"/>
              <a:ext cx="1158840" cy="747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23360" y="3854880"/>
              <a:ext cx="9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(x,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62200" y="3214800"/>
              <a:ext cx="1158840" cy="747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56960" y="336456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(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4707000" y="2349360"/>
            <a:ext cx="3941640" cy="2934000"/>
            <a:chOff x="4707000" y="2349360"/>
            <a:chExt cx="3941640" cy="2934000"/>
          </a:xfrm>
        </p:grpSpPr>
        <p:sp>
          <p:nvSpPr>
            <p:cNvPr id="811" name=""/>
            <p:cNvSpPr/>
            <p:nvPr/>
          </p:nvSpPr>
          <p:spPr>
            <a:xfrm>
              <a:off x="4707000" y="2349360"/>
              <a:ext cx="3941640" cy="29340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367320" y="2733840"/>
              <a:ext cx="2108520" cy="17427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799160" y="2479680"/>
              <a:ext cx="280440" cy="463680"/>
              <a:chOff x="4799160" y="2479680"/>
              <a:chExt cx="280440" cy="463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799160" y="2479680"/>
                <a:ext cx="141480" cy="45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4938120" y="2485800"/>
                <a:ext cx="141480" cy="45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869360" y="2695680"/>
                <a:ext cx="147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4982400" y="259776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6456240" y="2827440"/>
              <a:ext cx="138240" cy="276120"/>
              <a:chOff x="6456240" y="2827440"/>
              <a:chExt cx="138240" cy="276120"/>
            </a:xfrm>
          </p:grpSpPr>
          <p:sp>
            <p:nvSpPr>
              <p:cNvPr id="819" name=""/>
              <p:cNvSpPr/>
              <p:nvPr/>
            </p:nvSpPr>
            <p:spPr>
              <a:xfrm>
                <a:off x="6456240" y="2835000"/>
                <a:ext cx="13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456240" y="3099600"/>
                <a:ext cx="13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590160" y="2827440"/>
                <a:ext cx="0" cy="27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534000" y="2961720"/>
                <a:ext cx="5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6634080" y="2815200"/>
              <a:ext cx="2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65840" y="3738600"/>
              <a:ext cx="1158840" cy="747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65200" y="3888360"/>
              <a:ext cx="9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(x,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983280" y="3224160"/>
              <a:ext cx="1158840" cy="747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84880" y="337392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(z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239400" y="4362480"/>
            <a:ext cx="2378520" cy="2414880"/>
            <a:chOff x="239400" y="4362480"/>
            <a:chExt cx="2378520" cy="2414880"/>
          </a:xfrm>
        </p:grpSpPr>
        <p:sp>
          <p:nvSpPr>
            <p:cNvPr id="829" name=""/>
            <p:cNvSpPr/>
            <p:nvPr/>
          </p:nvSpPr>
          <p:spPr>
            <a:xfrm>
              <a:off x="1595520" y="4362480"/>
              <a:ext cx="498240" cy="1519200"/>
            </a:xfrm>
            <a:custGeom>
              <a:avLst/>
              <a:gdLst/>
              <a:ahLst/>
              <a:rect l="l" t="t" r="r" b="b"/>
              <a:pathLst>
                <a:path w="314" h="957">
                  <a:moveTo>
                    <a:pt x="0" y="957"/>
                  </a:moveTo>
                  <a:cubicBezTo>
                    <a:pt x="127" y="809"/>
                    <a:pt x="254" y="662"/>
                    <a:pt x="284" y="535"/>
                  </a:cubicBezTo>
                  <a:cubicBezTo>
                    <a:pt x="314" y="408"/>
                    <a:pt x="191" y="284"/>
                    <a:pt x="179" y="195"/>
                  </a:cubicBezTo>
                  <a:cubicBezTo>
                    <a:pt x="167" y="106"/>
                    <a:pt x="189" y="53"/>
                    <a:pt x="21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39400" y="5586120"/>
              <a:ext cx="237852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ound by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re exists y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ua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705920" y="4309920"/>
            <a:ext cx="5123160" cy="2464200"/>
            <a:chOff x="4705920" y="4309920"/>
            <a:chExt cx="5123160" cy="2464200"/>
          </a:xfrm>
        </p:grpSpPr>
        <p:sp>
          <p:nvSpPr>
            <p:cNvPr id="832" name=""/>
            <p:cNvSpPr/>
            <p:nvPr/>
          </p:nvSpPr>
          <p:spPr>
            <a:xfrm>
              <a:off x="4705920" y="5582880"/>
              <a:ext cx="512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 free 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utside the scop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f the existence quantifier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605560" y="4309920"/>
              <a:ext cx="498240" cy="1519560"/>
            </a:xfrm>
            <a:custGeom>
              <a:avLst/>
              <a:gdLst/>
              <a:ahLst/>
              <a:rect l="l" t="t" r="r" b="b"/>
              <a:pathLst>
                <a:path w="314" h="957">
                  <a:moveTo>
                    <a:pt x="0" y="957"/>
                  </a:moveTo>
                  <a:cubicBezTo>
                    <a:pt x="127" y="809"/>
                    <a:pt x="254" y="662"/>
                    <a:pt x="284" y="535"/>
                  </a:cubicBezTo>
                  <a:cubicBezTo>
                    <a:pt x="314" y="408"/>
                    <a:pt x="191" y="284"/>
                    <a:pt x="179" y="195"/>
                  </a:cubicBezTo>
                  <a:cubicBezTo>
                    <a:pt x="167" y="106"/>
                    <a:pt x="189" y="53"/>
                    <a:pt x="21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ling process includes refin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ol support for switching  no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mantics can be formalised when the entries in inner boxes come from formal no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rmal expressions can be made more readable by using a variety of no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centred no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le and exten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use a variety of no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switch between no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combine no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add new no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soning with diagrams”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variet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textual and diagramm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ol-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nec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&lt;statement A&gt;   </a:t>
            </a: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&lt;statement B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rrent members have distinct membership numb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mbership numbers are between 0 and 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ing no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2264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rrent members have distinct membership numb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mbership numbers are between 0 and 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ing no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mbership numbers are between 0 and 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93680" y="1761120"/>
            <a:ext cx="6913440" cy="2212200"/>
            <a:chOff x="1093680" y="1761120"/>
            <a:chExt cx="6913440" cy="2212200"/>
          </a:xfrm>
        </p:grpSpPr>
        <p:sp>
          <p:nvSpPr>
            <p:cNvPr id="53" name=""/>
            <p:cNvSpPr/>
            <p:nvPr/>
          </p:nvSpPr>
          <p:spPr>
            <a:xfrm>
              <a:off x="1093680" y="2144520"/>
              <a:ext cx="3581280" cy="1828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44680" y="176256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m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85720" y="336276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544560" y="3254400"/>
              <a:ext cx="208080" cy="220680"/>
              <a:chOff x="3544560" y="3254400"/>
              <a:chExt cx="208080" cy="220680"/>
            </a:xfrm>
          </p:grpSpPr>
          <p:sp>
            <p:nvSpPr>
              <p:cNvPr id="57" name=""/>
              <p:cNvSpPr/>
              <p:nvPr/>
            </p:nvSpPr>
            <p:spPr>
              <a:xfrm>
                <a:off x="3648600" y="3254400"/>
                <a:ext cx="0" cy="22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544560" y="336456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561840" y="3272400"/>
                <a:ext cx="156240" cy="1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3573360" y="3272400"/>
                <a:ext cx="156240" cy="1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3195360" y="2813040"/>
              <a:ext cx="208080" cy="220680"/>
              <a:chOff x="3195360" y="2813040"/>
              <a:chExt cx="208080" cy="220680"/>
            </a:xfrm>
          </p:grpSpPr>
          <p:sp>
            <p:nvSpPr>
              <p:cNvPr id="62" name=""/>
              <p:cNvSpPr/>
              <p:nvPr/>
            </p:nvSpPr>
            <p:spPr>
              <a:xfrm>
                <a:off x="3299400" y="2813040"/>
                <a:ext cx="0" cy="22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195360" y="29232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212640" y="2831040"/>
                <a:ext cx="156240" cy="1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3224160" y="2831040"/>
                <a:ext cx="156240" cy="1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5055840" y="2143080"/>
              <a:ext cx="2951280" cy="1828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38040" y="176112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um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01920" y="2514600"/>
              <a:ext cx="3166920" cy="419040"/>
            </a:xfrm>
            <a:custGeom>
              <a:avLst/>
              <a:gdLst/>
              <a:ahLst/>
              <a:rect l="l" t="t" r="r" b="b"/>
              <a:pathLst>
                <a:path w="1995" h="264">
                  <a:moveTo>
                    <a:pt x="0" y="264"/>
                  </a:moveTo>
                  <a:cubicBezTo>
                    <a:pt x="353" y="145"/>
                    <a:pt x="706" y="26"/>
                    <a:pt x="1038" y="13"/>
                  </a:cubicBezTo>
                  <a:cubicBezTo>
                    <a:pt x="1370" y="0"/>
                    <a:pt x="1682" y="91"/>
                    <a:pt x="1995" y="18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35280" y="2949480"/>
              <a:ext cx="2458800" cy="419040"/>
            </a:xfrm>
            <a:custGeom>
              <a:avLst/>
              <a:gdLst/>
              <a:ahLst/>
              <a:rect l="l" t="t" r="r" b="b"/>
              <a:pathLst>
                <a:path w="1995" h="264">
                  <a:moveTo>
                    <a:pt x="0" y="264"/>
                  </a:moveTo>
                  <a:cubicBezTo>
                    <a:pt x="353" y="145"/>
                    <a:pt x="706" y="26"/>
                    <a:pt x="1038" y="13"/>
                  </a:cubicBezTo>
                  <a:cubicBezTo>
                    <a:pt x="1370" y="0"/>
                    <a:pt x="1682" y="91"/>
                    <a:pt x="1995" y="18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080" y="3203640"/>
              <a:ext cx="128520" cy="115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80000" y="2751120"/>
              <a:ext cx="128520" cy="115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13320" y="2573280"/>
              <a:ext cx="2136600" cy="10684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19600" y="21564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mber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36800" y="2493720"/>
              <a:ext cx="1569960" cy="12877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ing no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768760" y="4192920"/>
            <a:ext cx="6067440" cy="2614320"/>
            <a:chOff x="2768760" y="4192920"/>
            <a:chExt cx="6067440" cy="2614320"/>
          </a:xfrm>
        </p:grpSpPr>
        <p:sp>
          <p:nvSpPr>
            <p:cNvPr id="78" name=""/>
            <p:cNvSpPr/>
            <p:nvPr/>
          </p:nvSpPr>
          <p:spPr>
            <a:xfrm>
              <a:off x="2768760" y="4575240"/>
              <a:ext cx="60674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50960" y="419292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um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70680" y="5764320"/>
              <a:ext cx="824040" cy="412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86560" y="530928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mber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04240" y="5495760"/>
              <a:ext cx="103320" cy="1033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34600" y="5519880"/>
              <a:ext cx="102960" cy="1029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71920" y="5285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38280" y="53359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9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57960" y="4781520"/>
              <a:ext cx="771480" cy="714240"/>
            </a:xfrm>
            <a:custGeom>
              <a:avLst/>
              <a:gdLst/>
              <a:ahLst/>
              <a:rect l="l" t="t" r="r" b="b"/>
              <a:pathLst>
                <a:path w="486" h="450">
                  <a:moveTo>
                    <a:pt x="486" y="450"/>
                  </a:moveTo>
                  <a:cubicBezTo>
                    <a:pt x="455" y="268"/>
                    <a:pt x="457" y="118"/>
                    <a:pt x="376" y="59"/>
                  </a:cubicBezTo>
                  <a:cubicBezTo>
                    <a:pt x="295" y="0"/>
                    <a:pt x="78" y="86"/>
                    <a:pt x="0" y="9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14960" y="4745520"/>
              <a:ext cx="174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isLessTh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11720" y="4695840"/>
              <a:ext cx="2419560" cy="1636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100920" y="5629320"/>
              <a:ext cx="771480" cy="714240"/>
            </a:xfrm>
            <a:custGeom>
              <a:avLst/>
              <a:gdLst/>
              <a:ahLst/>
              <a:rect l="l" t="t" r="r" b="b"/>
              <a:pathLst>
                <a:path w="486" h="450">
                  <a:moveTo>
                    <a:pt x="486" y="450"/>
                  </a:moveTo>
                  <a:cubicBezTo>
                    <a:pt x="455" y="268"/>
                    <a:pt x="457" y="118"/>
                    <a:pt x="376" y="59"/>
                  </a:cubicBezTo>
                  <a:cubicBezTo>
                    <a:pt x="295" y="0"/>
                    <a:pt x="78" y="86"/>
                    <a:pt x="0" y="9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42440" y="5888520"/>
              <a:ext cx="188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isMoreTh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70640" y="5067360"/>
              <a:ext cx="2419200" cy="1636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093680" y="1761120"/>
            <a:ext cx="6913440" cy="2212200"/>
            <a:chOff x="1093680" y="1761120"/>
            <a:chExt cx="6913440" cy="2212200"/>
          </a:xfrm>
        </p:grpSpPr>
        <p:sp>
          <p:nvSpPr>
            <p:cNvPr id="93" name=""/>
            <p:cNvSpPr/>
            <p:nvPr/>
          </p:nvSpPr>
          <p:spPr>
            <a:xfrm>
              <a:off x="1093680" y="2144520"/>
              <a:ext cx="3581280" cy="1828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44680" y="176256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m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5720" y="336276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544560" y="3254400"/>
              <a:ext cx="208080" cy="220680"/>
              <a:chOff x="3544560" y="3254400"/>
              <a:chExt cx="208080" cy="220680"/>
            </a:xfrm>
          </p:grpSpPr>
          <p:sp>
            <p:nvSpPr>
              <p:cNvPr id="97" name=""/>
              <p:cNvSpPr/>
              <p:nvPr/>
            </p:nvSpPr>
            <p:spPr>
              <a:xfrm>
                <a:off x="3648600" y="3254400"/>
                <a:ext cx="0" cy="22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44560" y="336456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561840" y="3272400"/>
                <a:ext cx="156240" cy="1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3573360" y="3272400"/>
                <a:ext cx="156240" cy="1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3195360" y="2813040"/>
              <a:ext cx="208080" cy="220680"/>
              <a:chOff x="3195360" y="2813040"/>
              <a:chExt cx="208080" cy="220680"/>
            </a:xfrm>
          </p:grpSpPr>
          <p:sp>
            <p:nvSpPr>
              <p:cNvPr id="102" name=""/>
              <p:cNvSpPr/>
              <p:nvPr/>
            </p:nvSpPr>
            <p:spPr>
              <a:xfrm>
                <a:off x="3299400" y="2813040"/>
                <a:ext cx="0" cy="22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195360" y="29232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12640" y="2831040"/>
                <a:ext cx="156240" cy="1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3224160" y="2831040"/>
                <a:ext cx="156240" cy="1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5055840" y="2143080"/>
              <a:ext cx="2951280" cy="1828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38040" y="176112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um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01920" y="2514600"/>
              <a:ext cx="3166920" cy="419040"/>
            </a:xfrm>
            <a:custGeom>
              <a:avLst/>
              <a:gdLst/>
              <a:ahLst/>
              <a:rect l="l" t="t" r="r" b="b"/>
              <a:pathLst>
                <a:path w="1995" h="264">
                  <a:moveTo>
                    <a:pt x="0" y="264"/>
                  </a:moveTo>
                  <a:cubicBezTo>
                    <a:pt x="353" y="145"/>
                    <a:pt x="706" y="26"/>
                    <a:pt x="1038" y="13"/>
                  </a:cubicBezTo>
                  <a:cubicBezTo>
                    <a:pt x="1370" y="0"/>
                    <a:pt x="1682" y="91"/>
                    <a:pt x="1995" y="18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35280" y="2949480"/>
              <a:ext cx="2458800" cy="419040"/>
            </a:xfrm>
            <a:custGeom>
              <a:avLst/>
              <a:gdLst/>
              <a:ahLst/>
              <a:rect l="l" t="t" r="r" b="b"/>
              <a:pathLst>
                <a:path w="1995" h="264">
                  <a:moveTo>
                    <a:pt x="0" y="264"/>
                  </a:moveTo>
                  <a:cubicBezTo>
                    <a:pt x="353" y="145"/>
                    <a:pt x="706" y="26"/>
                    <a:pt x="1038" y="13"/>
                  </a:cubicBezTo>
                  <a:cubicBezTo>
                    <a:pt x="1370" y="0"/>
                    <a:pt x="1682" y="91"/>
                    <a:pt x="1995" y="18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94080" y="3203640"/>
              <a:ext cx="128520" cy="115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80000" y="2751120"/>
              <a:ext cx="128520" cy="115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13320" y="2573280"/>
              <a:ext cx="2136600" cy="10684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19600" y="21564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mber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36800" y="2493720"/>
              <a:ext cx="1569960" cy="12877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site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positions are built from expressions using connectives </a:t>
            </a:r>
            <a:r>
              <a:rPr b="0" lang="en-GB" sz="2400" spc="-1" strike="noStrike">
                <a:solidFill>
                  <a:srgbClr val="0000cc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>
                <a:solidFill>
                  <a:srgbClr val="0000cc"/>
                </a:solidFill>
                <a:latin typeface="Comic Sans MS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present </a:t>
            </a:r>
            <a:r>
              <a:rPr b="0" lang="en-GB" sz="2400" spc="-1" strike="noStrike">
                <a:solidFill>
                  <a:srgbClr val="0000cc"/>
                </a:solidFill>
                <a:latin typeface="Comic Sans MS"/>
              </a:rPr>
              <a:t>P and Q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agrammatically a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5440" y="3857760"/>
            <a:ext cx="2395440" cy="1738080"/>
            <a:chOff x="55440" y="3857760"/>
            <a:chExt cx="2395440" cy="1738080"/>
          </a:xfrm>
        </p:grpSpPr>
        <p:sp>
          <p:nvSpPr>
            <p:cNvPr id="118" name=""/>
            <p:cNvSpPr/>
            <p:nvPr/>
          </p:nvSpPr>
          <p:spPr>
            <a:xfrm>
              <a:off x="55440" y="3857760"/>
              <a:ext cx="2395440" cy="173808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320" y="4064040"/>
              <a:ext cx="836640" cy="604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8040" y="467964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4720" y="41432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54040" y="47466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691080" y="3857760"/>
            <a:ext cx="2901960" cy="1738080"/>
            <a:chOff x="3691080" y="3857760"/>
            <a:chExt cx="2901960" cy="1738080"/>
          </a:xfrm>
        </p:grpSpPr>
        <p:sp>
          <p:nvSpPr>
            <p:cNvPr id="124" name=""/>
            <p:cNvSpPr/>
            <p:nvPr/>
          </p:nvSpPr>
          <p:spPr>
            <a:xfrm>
              <a:off x="3691080" y="44974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197600" y="3857760"/>
              <a:ext cx="2395440" cy="1738080"/>
              <a:chOff x="4197600" y="3857760"/>
              <a:chExt cx="2395440" cy="173808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4197600" y="3857760"/>
                <a:ext cx="2395440" cy="1738080"/>
                <a:chOff x="4197600" y="3857760"/>
                <a:chExt cx="2395440" cy="1738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197600" y="3857760"/>
                  <a:ext cx="2395440" cy="1738080"/>
                </a:xfrm>
                <a:prstGeom prst="rect">
                  <a:avLst/>
                </a:prstGeom>
                <a:solidFill>
                  <a:srgbClr val="cc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416480" y="4064040"/>
                  <a:ext cx="836640" cy="6044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380200" y="4679640"/>
                  <a:ext cx="836640" cy="6048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646880" y="4143240"/>
                  <a:ext cx="365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596200" y="47466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5254560" y="4516560"/>
                <a:ext cx="54144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1868400" y="3857760"/>
            <a:ext cx="2257200" cy="1739880"/>
            <a:chOff x="1868400" y="3857760"/>
            <a:chExt cx="2257200" cy="1739880"/>
          </a:xfrm>
        </p:grpSpPr>
        <p:sp>
          <p:nvSpPr>
            <p:cNvPr id="134" name=""/>
            <p:cNvSpPr/>
            <p:nvPr/>
          </p:nvSpPr>
          <p:spPr>
            <a:xfrm>
              <a:off x="1868400" y="4499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528640" y="3857760"/>
              <a:ext cx="1596960" cy="1739880"/>
              <a:chOff x="2528640" y="3857760"/>
              <a:chExt cx="1596960" cy="1739880"/>
            </a:xfrm>
          </p:grpSpPr>
          <p:sp>
            <p:nvSpPr>
              <p:cNvPr id="136" name=""/>
              <p:cNvSpPr/>
              <p:nvPr/>
            </p:nvSpPr>
            <p:spPr>
              <a:xfrm>
                <a:off x="2528640" y="3857760"/>
                <a:ext cx="1596960" cy="1738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47880" y="44521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08560" y="44377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04800" y="3859560"/>
                <a:ext cx="0" cy="17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6672240" y="3852720"/>
            <a:ext cx="2395440" cy="1738440"/>
            <a:chOff x="6672240" y="3852720"/>
            <a:chExt cx="2395440" cy="1738440"/>
          </a:xfrm>
        </p:grpSpPr>
        <p:sp>
          <p:nvSpPr>
            <p:cNvPr id="141" name=""/>
            <p:cNvSpPr/>
            <p:nvPr/>
          </p:nvSpPr>
          <p:spPr>
            <a:xfrm>
              <a:off x="6672240" y="3852720"/>
              <a:ext cx="2395440" cy="17384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91480" y="4059360"/>
              <a:ext cx="836640" cy="60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21520" y="41392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651800" y="4827600"/>
              <a:ext cx="836640" cy="604800"/>
              <a:chOff x="7651800" y="4827600"/>
              <a:chExt cx="836640" cy="604800"/>
            </a:xfrm>
          </p:grpSpPr>
          <p:sp>
            <p:nvSpPr>
              <p:cNvPr id="145" name=""/>
              <p:cNvSpPr/>
              <p:nvPr/>
            </p:nvSpPr>
            <p:spPr>
              <a:xfrm>
                <a:off x="7651800" y="4827600"/>
                <a:ext cx="836640" cy="604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68160" y="48945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flipV="1">
              <a:off x="7716960" y="4274640"/>
              <a:ext cx="3985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8061120" y="3997800"/>
              <a:ext cx="727920" cy="459720"/>
              <a:chOff x="8061120" y="3997800"/>
              <a:chExt cx="727920" cy="459720"/>
            </a:xfrm>
          </p:grpSpPr>
          <p:sp>
            <p:nvSpPr>
              <p:cNvPr id="149" name=""/>
              <p:cNvSpPr/>
              <p:nvPr/>
            </p:nvSpPr>
            <p:spPr>
              <a:xfrm>
                <a:off x="8097120" y="4027680"/>
                <a:ext cx="641520" cy="407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061120" y="3997800"/>
                <a:ext cx="72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H="1">
              <a:off x="8180280" y="4422600"/>
              <a:ext cx="169920" cy="39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4760" y="1469880"/>
            <a:ext cx="8950320" cy="53373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79520" y="4043520"/>
            <a:ext cx="6591600" cy="2636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8080" y="1585800"/>
            <a:ext cx="7453080" cy="2394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ing no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44600" y="1648440"/>
            <a:ext cx="6913440" cy="2212200"/>
            <a:chOff x="444600" y="1648440"/>
            <a:chExt cx="6913440" cy="2212200"/>
          </a:xfrm>
        </p:grpSpPr>
        <p:sp>
          <p:nvSpPr>
            <p:cNvPr id="157" name=""/>
            <p:cNvSpPr/>
            <p:nvPr/>
          </p:nvSpPr>
          <p:spPr>
            <a:xfrm>
              <a:off x="444600" y="2031840"/>
              <a:ext cx="3581280" cy="1828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95600" y="164988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m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6640" y="325008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895480" y="3141720"/>
              <a:ext cx="208080" cy="220680"/>
              <a:chOff x="2895480" y="3141720"/>
              <a:chExt cx="208080" cy="220680"/>
            </a:xfrm>
          </p:grpSpPr>
          <p:sp>
            <p:nvSpPr>
              <p:cNvPr id="161" name=""/>
              <p:cNvSpPr/>
              <p:nvPr/>
            </p:nvSpPr>
            <p:spPr>
              <a:xfrm>
                <a:off x="2999520" y="3141720"/>
                <a:ext cx="0" cy="22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895480" y="325188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912760" y="3159720"/>
                <a:ext cx="156240" cy="1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924280" y="3159720"/>
                <a:ext cx="156240" cy="1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546280" y="2700360"/>
              <a:ext cx="208080" cy="220680"/>
              <a:chOff x="2546280" y="2700360"/>
              <a:chExt cx="208080" cy="220680"/>
            </a:xfrm>
          </p:grpSpPr>
          <p:sp>
            <p:nvSpPr>
              <p:cNvPr id="166" name=""/>
              <p:cNvSpPr/>
              <p:nvPr/>
            </p:nvSpPr>
            <p:spPr>
              <a:xfrm>
                <a:off x="2650320" y="2700360"/>
                <a:ext cx="0" cy="22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46280" y="281052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63560" y="2718360"/>
                <a:ext cx="156240" cy="1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575080" y="2718360"/>
                <a:ext cx="156240" cy="1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406760" y="2030400"/>
              <a:ext cx="2951280" cy="1828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88960" y="164844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um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52840" y="2401920"/>
              <a:ext cx="3166920" cy="419040"/>
            </a:xfrm>
            <a:custGeom>
              <a:avLst/>
              <a:gdLst/>
              <a:ahLst/>
              <a:rect l="l" t="t" r="r" b="b"/>
              <a:pathLst>
                <a:path w="1995" h="264">
                  <a:moveTo>
                    <a:pt x="0" y="264"/>
                  </a:moveTo>
                  <a:cubicBezTo>
                    <a:pt x="353" y="145"/>
                    <a:pt x="706" y="26"/>
                    <a:pt x="1038" y="13"/>
                  </a:cubicBezTo>
                  <a:cubicBezTo>
                    <a:pt x="1370" y="0"/>
                    <a:pt x="1682" y="91"/>
                    <a:pt x="1995" y="18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86200" y="2836800"/>
              <a:ext cx="2458800" cy="419040"/>
            </a:xfrm>
            <a:custGeom>
              <a:avLst/>
              <a:gdLst/>
              <a:ahLst/>
              <a:rect l="l" t="t" r="r" b="b"/>
              <a:pathLst>
                <a:path w="1995" h="264">
                  <a:moveTo>
                    <a:pt x="0" y="264"/>
                  </a:moveTo>
                  <a:cubicBezTo>
                    <a:pt x="353" y="145"/>
                    <a:pt x="706" y="26"/>
                    <a:pt x="1038" y="13"/>
                  </a:cubicBezTo>
                  <a:cubicBezTo>
                    <a:pt x="1370" y="0"/>
                    <a:pt x="1682" y="91"/>
                    <a:pt x="1995" y="18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45000" y="3090960"/>
              <a:ext cx="128520" cy="115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30920" y="2638440"/>
              <a:ext cx="128520" cy="115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4240" y="2460600"/>
              <a:ext cx="2136600" cy="10684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70520" y="204372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mber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87720" y="2381040"/>
              <a:ext cx="1569960" cy="12877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679840" y="4015080"/>
            <a:ext cx="6067440" cy="2613960"/>
            <a:chOff x="2679840" y="4015080"/>
            <a:chExt cx="6067440" cy="2613960"/>
          </a:xfrm>
        </p:grpSpPr>
        <p:sp>
          <p:nvSpPr>
            <p:cNvPr id="180" name=""/>
            <p:cNvSpPr/>
            <p:nvPr/>
          </p:nvSpPr>
          <p:spPr>
            <a:xfrm>
              <a:off x="2679840" y="4397400"/>
              <a:ext cx="6067440" cy="22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62040" y="40150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um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81760" y="5586480"/>
              <a:ext cx="824040" cy="412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97640" y="513108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mber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5320" y="5317920"/>
              <a:ext cx="103320" cy="1029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45680" y="5342040"/>
              <a:ext cx="102960" cy="102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3000" y="5106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49360" y="51577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9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69040" y="4603680"/>
              <a:ext cx="771480" cy="713880"/>
            </a:xfrm>
            <a:custGeom>
              <a:avLst/>
              <a:gdLst/>
              <a:ahLst/>
              <a:rect l="l" t="t" r="r" b="b"/>
              <a:pathLst>
                <a:path w="486" h="450">
                  <a:moveTo>
                    <a:pt x="486" y="450"/>
                  </a:moveTo>
                  <a:cubicBezTo>
                    <a:pt x="455" y="268"/>
                    <a:pt x="457" y="118"/>
                    <a:pt x="376" y="59"/>
                  </a:cubicBezTo>
                  <a:cubicBezTo>
                    <a:pt x="295" y="0"/>
                    <a:pt x="78" y="86"/>
                    <a:pt x="0" y="9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26040" y="4567320"/>
              <a:ext cx="174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isLessTh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22800" y="4518000"/>
              <a:ext cx="2419560" cy="1636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012000" y="5450760"/>
              <a:ext cx="771480" cy="713880"/>
            </a:xfrm>
            <a:custGeom>
              <a:avLst/>
              <a:gdLst/>
              <a:ahLst/>
              <a:rect l="l" t="t" r="r" b="b"/>
              <a:pathLst>
                <a:path w="486" h="450">
                  <a:moveTo>
                    <a:pt x="486" y="450"/>
                  </a:moveTo>
                  <a:cubicBezTo>
                    <a:pt x="455" y="268"/>
                    <a:pt x="457" y="118"/>
                    <a:pt x="376" y="59"/>
                  </a:cubicBezTo>
                  <a:cubicBezTo>
                    <a:pt x="295" y="0"/>
                    <a:pt x="78" y="86"/>
                    <a:pt x="0" y="9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53520" y="5710320"/>
              <a:ext cx="188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isMoreTh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720" y="4889520"/>
              <a:ext cx="2419200" cy="1636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2:33:14Z</dcterms:created>
  <dc:creator>Jean Flower</dc:creator>
  <dc:description/>
  <dc:language>en-US</dc:language>
  <cp:lastModifiedBy>Jean Flower</cp:lastModifiedBy>
  <cp:lastPrinted>2002-08-13T11:31:56Z</cp:lastPrinted>
  <dcterms:modified xsi:type="dcterms:W3CDTF">2002-08-28T12:20:54Z</dcterms:modified>
  <cp:revision>10</cp:revision>
  <dc:subject/>
  <dc:title>No Slide Title</dc:title>
</cp:coreProperties>
</file>