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9DC-6DAD-4BDB-9AC8-ABD7804A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F97-EACC-402B-BE80-1AA1252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0D5-7223-4F7E-A0A8-79649EA0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196-A22A-49E1-8EC5-0024163C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578-CA2A-4356-863D-922A230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2B1-D010-4756-A882-9647BE1C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112-2FA8-4CAF-AA7C-D12B21B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BDE-E435-44C8-AA6D-B11DF85B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403-EE8E-4252-8849-8FC54B9C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DCE-195B-4465-9E1F-1F8ABFA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965-4D89-45B3-9002-15FD77D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923-8935-47F2-B878-B9ACB95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DC9-FE8E-46EC-8607-65808C40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it.bton.ac.uk/research/vmg/papers/venn3%20sped%20up.avi" TargetMode="External"/><Relationship Id="rId6" Type="http://schemas.openxmlformats.org/officeDocument/2006/relationships/hyperlink" Target="http://www.it.bton.ac.uk/research/vmg/papers/Ex%206%20sped%20up.avi" TargetMode="External"/><Relationship Id="rId7" Type="http://schemas.openxmlformats.org/officeDocument/2006/relationships/hyperlink" Target="http://www.it.bton.ac.uk/research/vmg/papers/Ex%207%20sped%20up.avi" TargetMode="External"/><Relationship Id="rId8" Type="http://schemas.openxmlformats.org/officeDocument/2006/relationships/hyperlink" Target="file:///Ex%206%20sped%20up.avi" TargetMode="External"/><Relationship Id="rId9" Type="http://schemas.openxmlformats.org/officeDocument/2006/relationships/hyperlink" Target="http://www.it.bton.ac.uk/research/vmg/papers/venn%204%20sped%20up.avi" TargetMode="External"/><Relationship Id="rId10" Type="http://schemas.openxmlformats.org/officeDocument/2006/relationships/hyperlink" Target="file:///venn3%20sped%20up.avi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uler diagrams and layout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tivation/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ing layout met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ults and further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9348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yout metrics for 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91160" y="11732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Flower, Peter Rodgers and Paul M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gram aesthe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ours should be “round” and “smooth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ours should cross transverse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ones should be not too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ours / zones should be of a comparable siz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ll-climbing ite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6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r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a concrete dia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its “quality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ertices and conto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structure is consistent with 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new “quality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gal moves yielding better “quality” - undo move otherw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ructure-chec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122480" y="1557360"/>
            <a:ext cx="1225440" cy="1800360"/>
          </a:xfrm>
          <a:custGeom>
            <a:avLst/>
            <a:gdLst/>
            <a:ahLst/>
            <a:rect l="l" t="t" r="r" b="b"/>
            <a:pathLst>
              <a:path w="772" h="1134">
                <a:moveTo>
                  <a:pt x="0" y="772"/>
                </a:moveTo>
                <a:lnTo>
                  <a:pt x="148" y="0"/>
                </a:lnTo>
                <a:lnTo>
                  <a:pt x="772" y="386"/>
                </a:lnTo>
                <a:lnTo>
                  <a:pt x="435" y="912"/>
                </a:lnTo>
                <a:lnTo>
                  <a:pt x="624" y="1134"/>
                </a:lnTo>
                <a:lnTo>
                  <a:pt x="0" y="7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84200" y="1425600"/>
            <a:ext cx="2140200" cy="795240"/>
          </a:xfrm>
          <a:custGeom>
            <a:avLst/>
            <a:gdLst/>
            <a:ahLst/>
            <a:rect l="l" t="t" r="r" b="b"/>
            <a:pathLst>
              <a:path w="863" h="723">
                <a:moveTo>
                  <a:pt x="0" y="394"/>
                </a:moveTo>
                <a:lnTo>
                  <a:pt x="518" y="723"/>
                </a:lnTo>
                <a:lnTo>
                  <a:pt x="863" y="205"/>
                </a:lnTo>
                <a:lnTo>
                  <a:pt x="164" y="0"/>
                </a:lnTo>
                <a:lnTo>
                  <a:pt x="0" y="3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43160" y="2965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62440" y="1432080"/>
            <a:ext cx="4119480" cy="1931760"/>
            <a:chOff x="3862440" y="1432080"/>
            <a:chExt cx="4119480" cy="1931760"/>
          </a:xfrm>
        </p:grpSpPr>
        <p:sp>
          <p:nvSpPr>
            <p:cNvPr id="162" name=""/>
            <p:cNvSpPr/>
            <p:nvPr/>
          </p:nvSpPr>
          <p:spPr>
            <a:xfrm>
              <a:off x="3862440" y="2347920"/>
              <a:ext cx="12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80000" y="1563840"/>
              <a:ext cx="1225800" cy="1800000"/>
            </a:xfrm>
            <a:custGeom>
              <a:avLst/>
              <a:gdLst/>
              <a:ahLst/>
              <a:rect l="l" t="t" r="r" b="b"/>
              <a:pathLst>
                <a:path w="772" h="1134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134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42080" y="1432080"/>
              <a:ext cx="2139840" cy="79524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829480" y="1038240"/>
            <a:ext cx="2139840" cy="795240"/>
          </a:xfrm>
          <a:custGeom>
            <a:avLst/>
            <a:gdLst/>
            <a:ahLst/>
            <a:rect l="l" t="t" r="r" b="b"/>
            <a:pathLst>
              <a:path w="863" h="723">
                <a:moveTo>
                  <a:pt x="0" y="394"/>
                </a:moveTo>
                <a:lnTo>
                  <a:pt x="518" y="723"/>
                </a:lnTo>
                <a:lnTo>
                  <a:pt x="863" y="205"/>
                </a:lnTo>
                <a:lnTo>
                  <a:pt x="164" y="0"/>
                </a:lnTo>
                <a:lnTo>
                  <a:pt x="0" y="3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00080" y="3652920"/>
            <a:ext cx="2401920" cy="2739960"/>
            <a:chOff x="1000080" y="3652920"/>
            <a:chExt cx="2401920" cy="2739960"/>
          </a:xfrm>
        </p:grpSpPr>
        <p:sp>
          <p:nvSpPr>
            <p:cNvPr id="167" name=""/>
            <p:cNvSpPr/>
            <p:nvPr/>
          </p:nvSpPr>
          <p:spPr>
            <a:xfrm>
              <a:off x="1995480" y="3652920"/>
              <a:ext cx="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0080" y="4592520"/>
              <a:ext cx="1225440" cy="1800360"/>
            </a:xfrm>
            <a:custGeom>
              <a:avLst/>
              <a:gdLst/>
              <a:ahLst/>
              <a:rect l="l" t="t" r="r" b="b"/>
              <a:pathLst>
                <a:path w="772" h="1134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134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2160" y="4460760"/>
              <a:ext cx="2139840" cy="79560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169000" y="5673600"/>
            <a:ext cx="29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ur self-inters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0080" y="4592520"/>
            <a:ext cx="1225440" cy="1447920"/>
          </a:xfrm>
          <a:custGeom>
            <a:avLst/>
            <a:gdLst/>
            <a:ahLst/>
            <a:rect l="l" t="t" r="r" b="b"/>
            <a:pathLst>
              <a:path w="772" h="912">
                <a:moveTo>
                  <a:pt x="0" y="772"/>
                </a:moveTo>
                <a:lnTo>
                  <a:pt x="148" y="0"/>
                </a:lnTo>
                <a:lnTo>
                  <a:pt x="772" y="386"/>
                </a:lnTo>
                <a:lnTo>
                  <a:pt x="435" y="912"/>
                </a:lnTo>
                <a:lnTo>
                  <a:pt x="636" y="863"/>
                </a:lnTo>
                <a:lnTo>
                  <a:pt x="0" y="7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457440" y="3247920"/>
            <a:ext cx="3963960" cy="2845080"/>
            <a:chOff x="3457440" y="3247920"/>
            <a:chExt cx="3963960" cy="2845080"/>
          </a:xfrm>
        </p:grpSpPr>
        <p:sp>
          <p:nvSpPr>
            <p:cNvPr id="173" name=""/>
            <p:cNvSpPr/>
            <p:nvPr/>
          </p:nvSpPr>
          <p:spPr>
            <a:xfrm>
              <a:off x="5019840" y="4292640"/>
              <a:ext cx="1225440" cy="1800360"/>
            </a:xfrm>
            <a:custGeom>
              <a:avLst/>
              <a:gdLst/>
              <a:ahLst/>
              <a:rect l="l" t="t" r="r" b="b"/>
              <a:pathLst>
                <a:path w="772" h="1134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134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7440" y="3247920"/>
              <a:ext cx="1382760" cy="12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81560" y="4160880"/>
              <a:ext cx="2139840" cy="79524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019840" y="4197240"/>
            <a:ext cx="3630960" cy="2327040"/>
            <a:chOff x="5019840" y="4197240"/>
            <a:chExt cx="3630960" cy="2327040"/>
          </a:xfrm>
        </p:grpSpPr>
        <p:sp>
          <p:nvSpPr>
            <p:cNvPr id="177" name=""/>
            <p:cNvSpPr/>
            <p:nvPr/>
          </p:nvSpPr>
          <p:spPr>
            <a:xfrm>
              <a:off x="6138360" y="5698800"/>
              <a:ext cx="251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connected zo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lleg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0360" y="4197240"/>
              <a:ext cx="2139840" cy="79524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9840" y="4290840"/>
              <a:ext cx="1225440" cy="1800360"/>
            </a:xfrm>
            <a:custGeom>
              <a:avLst/>
              <a:gdLst/>
              <a:ahLst/>
              <a:rect l="l" t="t" r="r" b="b"/>
              <a:pathLst>
                <a:path w="772" h="1134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134"/>
                  </a:lnTo>
                  <a:lnTo>
                    <a:pt x="0" y="7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35680" y="4197240"/>
            <a:ext cx="2139840" cy="795600"/>
          </a:xfrm>
          <a:custGeom>
            <a:avLst/>
            <a:gdLst/>
            <a:ahLst/>
            <a:rect l="l" t="t" r="r" b="b"/>
            <a:pathLst>
              <a:path w="863" h="723">
                <a:moveTo>
                  <a:pt x="0" y="394"/>
                </a:moveTo>
                <a:lnTo>
                  <a:pt x="518" y="723"/>
                </a:lnTo>
                <a:lnTo>
                  <a:pt x="863" y="205"/>
                </a:lnTo>
                <a:lnTo>
                  <a:pt x="164" y="0"/>
                </a:lnTo>
                <a:lnTo>
                  <a:pt x="0" y="3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862600" y="1690560"/>
            <a:ext cx="2518920" cy="2106720"/>
            <a:chOff x="5862600" y="1690560"/>
            <a:chExt cx="2518920" cy="2106720"/>
          </a:xfrm>
        </p:grpSpPr>
        <p:sp>
          <p:nvSpPr>
            <p:cNvPr id="182" name=""/>
            <p:cNvSpPr/>
            <p:nvPr/>
          </p:nvSpPr>
          <p:spPr>
            <a:xfrm>
              <a:off x="6698160" y="2971800"/>
              <a:ext cx="168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appea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: illeg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2600" y="1690560"/>
              <a:ext cx="776160" cy="390600"/>
            </a:xfrm>
            <a:custGeom>
              <a:avLst/>
              <a:gdLst/>
              <a:ahLst/>
              <a:rect l="l" t="t" r="r" b="b"/>
              <a:pathLst>
                <a:path w="489" h="246">
                  <a:moveTo>
                    <a:pt x="0" y="108"/>
                  </a:moveTo>
                  <a:lnTo>
                    <a:pt x="96" y="0"/>
                  </a:lnTo>
                  <a:lnTo>
                    <a:pt x="489" y="24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ll-climbing iter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122480" y="1227240"/>
            <a:ext cx="1225440" cy="2020680"/>
          </a:xfrm>
          <a:custGeom>
            <a:avLst/>
            <a:gdLst/>
            <a:ahLst/>
            <a:rect l="l" t="t" r="r" b="b"/>
            <a:pathLst>
              <a:path w="772" h="1273">
                <a:moveTo>
                  <a:pt x="0" y="772"/>
                </a:moveTo>
                <a:lnTo>
                  <a:pt x="148" y="0"/>
                </a:lnTo>
                <a:lnTo>
                  <a:pt x="772" y="386"/>
                </a:lnTo>
                <a:lnTo>
                  <a:pt x="435" y="912"/>
                </a:lnTo>
                <a:lnTo>
                  <a:pt x="624" y="1273"/>
                </a:lnTo>
                <a:lnTo>
                  <a:pt x="0" y="77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4800" y="1370160"/>
            <a:ext cx="1370160" cy="1147680"/>
          </a:xfrm>
          <a:custGeom>
            <a:avLst/>
            <a:gdLst/>
            <a:ahLst/>
            <a:rect l="l" t="t" r="r" b="b"/>
            <a:pathLst>
              <a:path w="863" h="723">
                <a:moveTo>
                  <a:pt x="0" y="394"/>
                </a:moveTo>
                <a:lnTo>
                  <a:pt x="518" y="723"/>
                </a:lnTo>
                <a:lnTo>
                  <a:pt x="863" y="205"/>
                </a:lnTo>
                <a:lnTo>
                  <a:pt x="164" y="0"/>
                </a:lnTo>
                <a:lnTo>
                  <a:pt x="0" y="3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3160" y="26352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05240" y="987480"/>
            <a:ext cx="3632040" cy="2020680"/>
            <a:chOff x="3405240" y="987480"/>
            <a:chExt cx="3632040" cy="2020680"/>
          </a:xfrm>
        </p:grpSpPr>
        <p:sp>
          <p:nvSpPr>
            <p:cNvPr id="189" name=""/>
            <p:cNvSpPr/>
            <p:nvPr/>
          </p:nvSpPr>
          <p:spPr>
            <a:xfrm flipV="1">
              <a:off x="3405240" y="1982880"/>
              <a:ext cx="1434960" cy="44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5440" y="987480"/>
              <a:ext cx="1225440" cy="2020680"/>
            </a:xfrm>
            <a:custGeom>
              <a:avLst/>
              <a:gdLst/>
              <a:ahLst/>
              <a:rect l="l" t="t" r="r" b="b"/>
              <a:pathLst>
                <a:path w="772" h="1273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273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7760" y="1130400"/>
              <a:ext cx="1370160" cy="114768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7920" y="239544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5440" y="987480"/>
              <a:ext cx="1225440" cy="1765080"/>
            </a:xfrm>
            <a:custGeom>
              <a:avLst/>
              <a:gdLst/>
              <a:ahLst/>
              <a:rect l="l" t="t" r="r" b="b"/>
              <a:pathLst>
                <a:path w="772" h="1112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19" y="1112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22720" y="2909880"/>
            <a:ext cx="4273200" cy="2413080"/>
            <a:chOff x="3222720" y="2909880"/>
            <a:chExt cx="4273200" cy="2413080"/>
          </a:xfrm>
        </p:grpSpPr>
        <p:sp>
          <p:nvSpPr>
            <p:cNvPr id="195" name=""/>
            <p:cNvSpPr/>
            <p:nvPr/>
          </p:nvSpPr>
          <p:spPr>
            <a:xfrm>
              <a:off x="3222720" y="2909880"/>
              <a:ext cx="2217600" cy="8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64080" y="3286080"/>
              <a:ext cx="1225800" cy="2021040"/>
            </a:xfrm>
            <a:custGeom>
              <a:avLst/>
              <a:gdLst/>
              <a:ahLst/>
              <a:rect l="l" t="t" r="r" b="b"/>
              <a:pathLst>
                <a:path w="772" h="1273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273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6760" y="3429000"/>
              <a:ext cx="1369800" cy="114768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86560" y="469440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4080" y="3286080"/>
              <a:ext cx="1320840" cy="2036880"/>
            </a:xfrm>
            <a:custGeom>
              <a:avLst/>
              <a:gdLst/>
              <a:ahLst/>
              <a:rect l="l" t="t" r="r" b="b"/>
              <a:pathLst>
                <a:path w="832" h="1283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832" y="1283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674800" y="3235320"/>
            <a:ext cx="2799000" cy="3235320"/>
            <a:chOff x="2674800" y="3235320"/>
            <a:chExt cx="2799000" cy="3235320"/>
          </a:xfrm>
        </p:grpSpPr>
        <p:sp>
          <p:nvSpPr>
            <p:cNvPr id="201" name=""/>
            <p:cNvSpPr/>
            <p:nvPr/>
          </p:nvSpPr>
          <p:spPr>
            <a:xfrm>
              <a:off x="2674800" y="3235320"/>
              <a:ext cx="731880" cy="15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1320" y="4444920"/>
              <a:ext cx="1225440" cy="2021040"/>
            </a:xfrm>
            <a:custGeom>
              <a:avLst/>
              <a:gdLst/>
              <a:ahLst/>
              <a:rect l="l" t="t" r="r" b="b"/>
              <a:pathLst>
                <a:path w="772" h="1273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624" y="1273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03640" y="4587840"/>
              <a:ext cx="1370160" cy="114768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1640" y="585324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51320" y="4444920"/>
              <a:ext cx="1225440" cy="2025720"/>
            </a:xfrm>
            <a:custGeom>
              <a:avLst/>
              <a:gdLst/>
              <a:ahLst/>
              <a:rect l="l" t="t" r="r" b="b"/>
              <a:pathLst>
                <a:path w="772" h="1276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448" y="1276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90400" y="4530600"/>
            <a:ext cx="2606760" cy="2025720"/>
            <a:chOff x="590400" y="4530600"/>
            <a:chExt cx="2606760" cy="2025720"/>
          </a:xfrm>
        </p:grpSpPr>
        <p:sp>
          <p:nvSpPr>
            <p:cNvPr id="207" name=""/>
            <p:cNvSpPr/>
            <p:nvPr/>
          </p:nvSpPr>
          <p:spPr>
            <a:xfrm flipH="1">
              <a:off x="2492280" y="5530680"/>
              <a:ext cx="70488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3080" y="4673520"/>
              <a:ext cx="1369800" cy="114768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400" y="4530600"/>
              <a:ext cx="1225800" cy="2025720"/>
            </a:xfrm>
            <a:custGeom>
              <a:avLst/>
              <a:gdLst/>
              <a:ahLst/>
              <a:rect l="l" t="t" r="r" b="b"/>
              <a:pathLst>
                <a:path w="772" h="1276">
                  <a:moveTo>
                    <a:pt x="0" y="772"/>
                  </a:moveTo>
                  <a:lnTo>
                    <a:pt x="148" y="0"/>
                  </a:lnTo>
                  <a:lnTo>
                    <a:pt x="772" y="386"/>
                  </a:lnTo>
                  <a:lnTo>
                    <a:pt x="435" y="912"/>
                  </a:lnTo>
                  <a:lnTo>
                    <a:pt x="448" y="1276"/>
                  </a:lnTo>
                  <a:lnTo>
                    <a:pt x="0" y="7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3720" y="4699080"/>
              <a:ext cx="1369800" cy="1147680"/>
            </a:xfrm>
            <a:custGeom>
              <a:avLst/>
              <a:gdLst/>
              <a:ahLst/>
              <a:rect l="l" t="t" r="r" b="b"/>
              <a:pathLst>
                <a:path w="863" h="723">
                  <a:moveTo>
                    <a:pt x="0" y="394"/>
                  </a:moveTo>
                  <a:lnTo>
                    <a:pt x="518" y="723"/>
                  </a:lnTo>
                  <a:lnTo>
                    <a:pt x="863" y="205"/>
                  </a:lnTo>
                  <a:lnTo>
                    <a:pt x="164" y="0"/>
                  </a:lnTo>
                  <a:lnTo>
                    <a:pt x="0" y="3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98320" y="582948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s” on contou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ourRoundness 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30040" y="5345280"/>
            <a:ext cx="1447920" cy="1218960"/>
          </a:xfrm>
          <a:prstGeom prst="pentag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67120" y="5345280"/>
            <a:ext cx="1781280" cy="1218960"/>
            <a:chOff x="3867120" y="5345280"/>
            <a:chExt cx="1781280" cy="1218960"/>
          </a:xfrm>
        </p:grpSpPr>
        <p:sp>
          <p:nvSpPr>
            <p:cNvPr id="216" name=""/>
            <p:cNvSpPr/>
            <p:nvPr/>
          </p:nvSpPr>
          <p:spPr>
            <a:xfrm>
              <a:off x="3867120" y="5345280"/>
              <a:ext cx="1447920" cy="1218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3400" y="5692680"/>
              <a:ext cx="1035000" cy="8715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68760" y="5680080"/>
              <a:ext cx="1024200" cy="8622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68480" y="5345280"/>
            <a:ext cx="1671120" cy="1218960"/>
            <a:chOff x="1968480" y="5345280"/>
            <a:chExt cx="1671120" cy="1218960"/>
          </a:xfrm>
        </p:grpSpPr>
        <p:sp>
          <p:nvSpPr>
            <p:cNvPr id="220" name=""/>
            <p:cNvSpPr/>
            <p:nvPr/>
          </p:nvSpPr>
          <p:spPr>
            <a:xfrm>
              <a:off x="1968480" y="5345280"/>
              <a:ext cx="1447560" cy="1218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6720" y="5576760"/>
              <a:ext cx="1172880" cy="98712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1960" y="5535720"/>
              <a:ext cx="1209240" cy="10188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52920" y="1854360"/>
                <a:ext cx="207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690480" y="1577880"/>
            <a:ext cx="6962760" cy="1633680"/>
            <a:chOff x="690480" y="1577880"/>
            <a:chExt cx="6962760" cy="16336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90480" y="2023920"/>
                  <a:ext cx="4314960" cy="8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ourRoundness</m:t>
                      </m:r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contou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sub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911840" y="1577880"/>
                  <a:ext cx="2741400" cy="16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4979880" y="1662120"/>
            <a:ext cx="2625840" cy="1384200"/>
            <a:chOff x="4979880" y="1662120"/>
            <a:chExt cx="2625840" cy="138420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2720" y="1662120"/>
                  <a:ext cx="66672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979880" y="2144880"/>
                  <a:ext cx="262584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 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0" name=""/>
          <p:cNvSpPr/>
          <p:nvPr/>
        </p:nvSpPr>
        <p:spPr>
          <a:xfrm>
            <a:off x="1944720" y="2739960"/>
            <a:ext cx="2347920" cy="2048040"/>
          </a:xfrm>
          <a:custGeom>
            <a:avLst/>
            <a:gdLst/>
            <a:ahLst/>
            <a:rect l="l" t="t" r="r" b="b"/>
            <a:pathLst>
              <a:path w="1479" h="1290">
                <a:moveTo>
                  <a:pt x="0" y="854"/>
                </a:moveTo>
                <a:lnTo>
                  <a:pt x="222" y="304"/>
                </a:lnTo>
                <a:lnTo>
                  <a:pt x="887" y="0"/>
                </a:lnTo>
                <a:lnTo>
                  <a:pt x="748" y="723"/>
                </a:lnTo>
                <a:lnTo>
                  <a:pt x="1479" y="854"/>
                </a:lnTo>
                <a:lnTo>
                  <a:pt x="1093" y="1290"/>
                </a:lnTo>
                <a:lnTo>
                  <a:pt x="0" y="8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14560" y="2838600"/>
            <a:ext cx="2133720" cy="1871640"/>
            <a:chOff x="2014560" y="2838600"/>
            <a:chExt cx="2133720" cy="1871640"/>
          </a:xfrm>
        </p:grpSpPr>
        <p:grpSp>
          <p:nvGrpSpPr>
            <p:cNvPr id="232" name=""/>
            <p:cNvGrpSpPr/>
            <p:nvPr/>
          </p:nvGrpSpPr>
          <p:grpSpPr>
            <a:xfrm>
              <a:off x="2014560" y="3713040"/>
              <a:ext cx="752400" cy="459000"/>
              <a:chOff x="2014560" y="3713040"/>
              <a:chExt cx="752400" cy="459000"/>
            </a:xfrm>
          </p:grpSpPr>
          <p:sp>
            <p:nvSpPr>
              <p:cNvPr id="233" name=""/>
              <p:cNvSpPr/>
              <p:nvPr/>
            </p:nvSpPr>
            <p:spPr>
              <a:xfrm>
                <a:off x="2014560" y="3909960"/>
                <a:ext cx="142920" cy="262080"/>
              </a:xfrm>
              <a:custGeom>
                <a:avLst/>
                <a:gdLst/>
                <a:ahLst/>
                <a:rect l="l" t="t" r="r" b="b"/>
                <a:pathLst>
                  <a:path w="90" h="165">
                    <a:moveTo>
                      <a:pt x="0" y="0"/>
                    </a:moveTo>
                    <a:cubicBezTo>
                      <a:pt x="33" y="15"/>
                      <a:pt x="66" y="30"/>
                      <a:pt x="78" y="57"/>
                    </a:cubicBezTo>
                    <a:cubicBezTo>
                      <a:pt x="90" y="84"/>
                      <a:pt x="81" y="124"/>
                      <a:pt x="72" y="1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2109960" y="3713040"/>
                    <a:ext cx="6570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5" name=""/>
            <p:cNvGrpSpPr/>
            <p:nvPr/>
          </p:nvGrpSpPr>
          <p:grpSpPr>
            <a:xfrm>
              <a:off x="2243160" y="3138480"/>
              <a:ext cx="834840" cy="498600"/>
              <a:chOff x="2243160" y="3138480"/>
              <a:chExt cx="834840" cy="4986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43160" y="3138480"/>
                <a:ext cx="280800" cy="249120"/>
              </a:xfrm>
              <a:custGeom>
                <a:avLst/>
                <a:gdLst/>
                <a:ahLst/>
                <a:rect l="l" t="t" r="r" b="b"/>
                <a:pathLst>
                  <a:path w="177" h="157">
                    <a:moveTo>
                      <a:pt x="0" y="132"/>
                    </a:moveTo>
                    <a:cubicBezTo>
                      <a:pt x="37" y="144"/>
                      <a:pt x="74" y="157"/>
                      <a:pt x="102" y="150"/>
                    </a:cubicBezTo>
                    <a:cubicBezTo>
                      <a:pt x="130" y="143"/>
                      <a:pt x="159" y="115"/>
                      <a:pt x="168" y="90"/>
                    </a:cubicBezTo>
                    <a:cubicBezTo>
                      <a:pt x="177" y="65"/>
                      <a:pt x="166" y="32"/>
                      <a:pt x="15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2394000" y="3238560"/>
                    <a:ext cx="6840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8" name=""/>
            <p:cNvGrpSpPr/>
            <p:nvPr/>
          </p:nvGrpSpPr>
          <p:grpSpPr>
            <a:xfrm>
              <a:off x="2752560" y="2838600"/>
              <a:ext cx="657360" cy="495000"/>
              <a:chOff x="2752560" y="2838600"/>
              <a:chExt cx="657360" cy="495000"/>
            </a:xfrm>
          </p:grpSpPr>
          <p:sp>
            <p:nvSpPr>
              <p:cNvPr id="239" name=""/>
              <p:cNvSpPr/>
              <p:nvPr/>
            </p:nvSpPr>
            <p:spPr>
              <a:xfrm>
                <a:off x="3124080" y="283860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0"/>
                    </a:moveTo>
                    <a:cubicBezTo>
                      <a:pt x="10" y="23"/>
                      <a:pt x="20" y="46"/>
                      <a:pt x="39" y="60"/>
                    </a:cubicBezTo>
                    <a:cubicBezTo>
                      <a:pt x="58" y="74"/>
                      <a:pt x="86" y="80"/>
                      <a:pt x="114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2752560" y="2908440"/>
                    <a:ext cx="65736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41" name=""/>
            <p:cNvGrpSpPr/>
            <p:nvPr/>
          </p:nvGrpSpPr>
          <p:grpSpPr>
            <a:xfrm>
              <a:off x="2986200" y="3570120"/>
              <a:ext cx="839520" cy="428760"/>
              <a:chOff x="2986200" y="3570120"/>
              <a:chExt cx="839520" cy="428760"/>
            </a:xfrm>
          </p:grpSpPr>
          <p:sp>
            <p:nvSpPr>
              <p:cNvPr id="242" name=""/>
              <p:cNvSpPr/>
              <p:nvPr/>
            </p:nvSpPr>
            <p:spPr>
              <a:xfrm>
                <a:off x="2986200" y="3786120"/>
                <a:ext cx="257040" cy="212760"/>
              </a:xfrm>
              <a:custGeom>
                <a:avLst/>
                <a:gdLst/>
                <a:ahLst/>
                <a:rect l="l" t="t" r="r" b="b"/>
                <a:pathLst>
                  <a:path w="162" h="134">
                    <a:moveTo>
                      <a:pt x="105" y="0"/>
                    </a:moveTo>
                    <a:cubicBezTo>
                      <a:pt x="90" y="5"/>
                      <a:pt x="30" y="15"/>
                      <a:pt x="15" y="33"/>
                    </a:cubicBezTo>
                    <a:cubicBezTo>
                      <a:pt x="0" y="51"/>
                      <a:pt x="1" y="91"/>
                      <a:pt x="12" y="108"/>
                    </a:cubicBezTo>
                    <a:cubicBezTo>
                      <a:pt x="23" y="125"/>
                      <a:pt x="61" y="130"/>
                      <a:pt x="81" y="132"/>
                    </a:cubicBezTo>
                    <a:cubicBezTo>
                      <a:pt x="101" y="134"/>
                      <a:pt x="121" y="133"/>
                      <a:pt x="135" y="123"/>
                    </a:cubicBezTo>
                    <a:cubicBezTo>
                      <a:pt x="149" y="113"/>
                      <a:pt x="157" y="85"/>
                      <a:pt x="162" y="7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141720" y="3570120"/>
                    <a:ext cx="6840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44" name=""/>
            <p:cNvGrpSpPr/>
            <p:nvPr/>
          </p:nvGrpSpPr>
          <p:grpSpPr>
            <a:xfrm>
              <a:off x="3375000" y="3959280"/>
              <a:ext cx="773280" cy="425520"/>
              <a:chOff x="3375000" y="3959280"/>
              <a:chExt cx="773280" cy="425520"/>
            </a:xfrm>
          </p:grpSpPr>
          <p:sp>
            <p:nvSpPr>
              <p:cNvPr id="245" name=""/>
              <p:cNvSpPr/>
              <p:nvPr/>
            </p:nvSpPr>
            <p:spPr>
              <a:xfrm>
                <a:off x="4049640" y="4057560"/>
                <a:ext cx="98640" cy="200160"/>
              </a:xfrm>
              <a:custGeom>
                <a:avLst/>
                <a:gdLst/>
                <a:ahLst/>
                <a:rect l="l" t="t" r="r" b="b"/>
                <a:pathLst>
                  <a:path w="62" h="126">
                    <a:moveTo>
                      <a:pt x="14" y="0"/>
                    </a:moveTo>
                    <a:cubicBezTo>
                      <a:pt x="7" y="19"/>
                      <a:pt x="0" y="39"/>
                      <a:pt x="8" y="60"/>
                    </a:cubicBezTo>
                    <a:cubicBezTo>
                      <a:pt x="16" y="81"/>
                      <a:pt x="39" y="103"/>
                      <a:pt x="62" y="1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6" name=""/>
                  <p:cNvSpPr txBox="1"/>
                  <p:nvPr/>
                </p:nvSpPr>
                <p:spPr>
                  <a:xfrm>
                    <a:off x="3375000" y="3959280"/>
                    <a:ext cx="68436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47" name=""/>
            <p:cNvGrpSpPr/>
            <p:nvPr/>
          </p:nvGrpSpPr>
          <p:grpSpPr>
            <a:xfrm>
              <a:off x="3146400" y="4254480"/>
              <a:ext cx="684360" cy="455760"/>
              <a:chOff x="3146400" y="4254480"/>
              <a:chExt cx="684360" cy="455760"/>
            </a:xfrm>
          </p:grpSpPr>
          <p:sp>
            <p:nvSpPr>
              <p:cNvPr id="248" name=""/>
              <p:cNvSpPr/>
              <p:nvPr/>
            </p:nvSpPr>
            <p:spPr>
              <a:xfrm>
                <a:off x="3505320" y="4616280"/>
                <a:ext cx="261720" cy="93960"/>
              </a:xfrm>
              <a:custGeom>
                <a:avLst/>
                <a:gdLst/>
                <a:ahLst/>
                <a:rect l="l" t="t" r="r" b="b"/>
                <a:pathLst>
                  <a:path w="165" h="59">
                    <a:moveTo>
                      <a:pt x="165" y="47"/>
                    </a:moveTo>
                    <a:cubicBezTo>
                      <a:pt x="132" y="23"/>
                      <a:pt x="99" y="0"/>
                      <a:pt x="72" y="2"/>
                    </a:cubicBezTo>
                    <a:cubicBezTo>
                      <a:pt x="45" y="4"/>
                      <a:pt x="22" y="31"/>
                      <a:pt x="0" y="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9" name=""/>
                  <p:cNvSpPr txBox="1"/>
                  <p:nvPr/>
                </p:nvSpPr>
                <p:spPr>
                  <a:xfrm>
                    <a:off x="3146400" y="4254480"/>
                    <a:ext cx="68436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6320" y="10666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ourEdgeLength 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s on contou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15800" y="5264280"/>
            <a:ext cx="5080320" cy="1406880"/>
            <a:chOff x="415800" y="5264280"/>
            <a:chExt cx="5080320" cy="1406880"/>
          </a:xfrm>
        </p:grpSpPr>
        <p:sp>
          <p:nvSpPr>
            <p:cNvPr id="253" name=""/>
            <p:cNvSpPr/>
            <p:nvPr/>
          </p:nvSpPr>
          <p:spPr>
            <a:xfrm>
              <a:off x="415800" y="5264280"/>
              <a:ext cx="1565280" cy="130464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055600" y="5445360"/>
              <a:ext cx="1651680" cy="1225800"/>
              <a:chOff x="2055600" y="5445360"/>
              <a:chExt cx="1651680" cy="122580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2055600" y="5451480"/>
                <a:ext cx="77796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2067840" y="5943960"/>
                <a:ext cx="686160" cy="6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2747520" y="6559560"/>
                <a:ext cx="91764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678120" y="5748480"/>
                <a:ext cx="18000" cy="9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2837880" y="5445360"/>
                <a:ext cx="869400" cy="30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744720" y="5364000"/>
              <a:ext cx="1751400" cy="1163160"/>
              <a:chOff x="3744720" y="5364000"/>
              <a:chExt cx="1751400" cy="11631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3752640" y="5365080"/>
                <a:ext cx="860040" cy="33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744720" y="5705640"/>
                <a:ext cx="91440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649040" y="5825520"/>
                <a:ext cx="599760" cy="70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249520" y="5631120"/>
                <a:ext cx="246600" cy="88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4612680" y="5364000"/>
                <a:ext cx="88200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415120" y="1665360"/>
                <a:ext cx="1461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950760" y="2084400"/>
            <a:ext cx="6865920" cy="1409760"/>
            <a:chOff x="950760" y="2084400"/>
            <a:chExt cx="6865920" cy="140976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723000" y="2089080"/>
                  <a:ext cx="1093680" cy="14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</m:mr>
                        <m:mr>
                          <m:e/>
                        </m:mr>
                      </m:m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950760" y="2084400"/>
                  <a:ext cx="354348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our</m:t>
                      </m:r>
                      <m:r>
                        <m:rPr>
                          <m:lit/>
                          <m:nor/>
                        </m:rPr>
                        <m:t xml:space="preserve">EdgeLength</m:t>
                      </m:r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1944720" y="2739960"/>
            <a:ext cx="2347920" cy="2048040"/>
          </a:xfrm>
          <a:custGeom>
            <a:avLst/>
            <a:gdLst/>
            <a:ahLst/>
            <a:rect l="l" t="t" r="r" b="b"/>
            <a:pathLst>
              <a:path w="1479" h="1290">
                <a:moveTo>
                  <a:pt x="0" y="854"/>
                </a:moveTo>
                <a:lnTo>
                  <a:pt x="222" y="304"/>
                </a:lnTo>
                <a:lnTo>
                  <a:pt x="887" y="0"/>
                </a:lnTo>
                <a:lnTo>
                  <a:pt x="748" y="723"/>
                </a:lnTo>
                <a:lnTo>
                  <a:pt x="1479" y="854"/>
                </a:lnTo>
                <a:lnTo>
                  <a:pt x="1093" y="1290"/>
                </a:lnTo>
                <a:lnTo>
                  <a:pt x="0" y="8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33400" y="2563920"/>
            <a:ext cx="2610000" cy="2334960"/>
            <a:chOff x="1733400" y="2563920"/>
            <a:chExt cx="2610000" cy="2334960"/>
          </a:xfrm>
        </p:grpSpPr>
        <p:sp>
          <p:nvSpPr>
            <p:cNvPr id="272" name=""/>
            <p:cNvSpPr/>
            <p:nvPr/>
          </p:nvSpPr>
          <p:spPr>
            <a:xfrm flipV="1">
              <a:off x="2266920" y="2690640"/>
              <a:ext cx="103356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470320" y="2563920"/>
                  <a:ext cx="24912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733400" y="3340080"/>
                  <a:ext cx="3081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2346480" y="4386240"/>
                  <a:ext cx="2761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021200" y="4422600"/>
                  <a:ext cx="3078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611520" y="3441600"/>
                  <a:ext cx="2761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376440" y="3125880"/>
                  <a:ext cx="276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 flipV="1">
              <a:off x="1876320" y="3209400"/>
              <a:ext cx="34308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9160" y="4167360"/>
              <a:ext cx="1719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733920" y="4143240"/>
              <a:ext cx="60948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57560" y="3824280"/>
              <a:ext cx="11286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205080" y="2752200"/>
              <a:ext cx="2192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405320" y="1471680"/>
                <a:ext cx="27288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ontours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s on are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554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ourArea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12920" y="1311120"/>
                <a:ext cx="794376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our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ontou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a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c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rea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ontour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176560" y="4529160"/>
                <a:ext cx="58957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oneArea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zone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e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×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zone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76320" y="3952800"/>
            <a:ext cx="554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oneArea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8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vert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714240" y="194004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7400" y="1857240"/>
            <a:ext cx="225756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612800" y="1864800"/>
            <a:ext cx="3614760" cy="1686240"/>
            <a:chOff x="1612800" y="1864800"/>
            <a:chExt cx="3614760" cy="1686240"/>
          </a:xfrm>
        </p:grpSpPr>
        <p:sp>
          <p:nvSpPr>
            <p:cNvPr id="294" name=""/>
            <p:cNvSpPr/>
            <p:nvPr/>
          </p:nvSpPr>
          <p:spPr>
            <a:xfrm flipV="1">
              <a:off x="1612800" y="1864800"/>
              <a:ext cx="2347920" cy="7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7840" y="1941120"/>
              <a:ext cx="1485720" cy="490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22520" y="1950840"/>
              <a:ext cx="1347840" cy="160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17840" y="1946160"/>
              <a:ext cx="2624040" cy="67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2800" y="1936440"/>
              <a:ext cx="3614760" cy="113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12800" y="1870200"/>
            <a:ext cx="4500720" cy="1685880"/>
            <a:chOff x="712800" y="1870200"/>
            <a:chExt cx="4500720" cy="1685880"/>
          </a:xfrm>
        </p:grpSpPr>
        <p:sp>
          <p:nvSpPr>
            <p:cNvPr id="300" name=""/>
            <p:cNvSpPr/>
            <p:nvPr/>
          </p:nvSpPr>
          <p:spPr>
            <a:xfrm flipV="1">
              <a:off x="712800" y="1870200"/>
              <a:ext cx="3233880" cy="1233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27200" y="2436840"/>
              <a:ext cx="2361960" cy="666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200" y="3093840"/>
              <a:ext cx="2228760" cy="46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36560" y="2622240"/>
              <a:ext cx="349092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22160" y="3074400"/>
              <a:ext cx="4491360" cy="2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484360" y="1860120"/>
            <a:ext cx="2714400" cy="1686240"/>
            <a:chOff x="2484360" y="1860120"/>
            <a:chExt cx="2714400" cy="1686240"/>
          </a:xfrm>
        </p:grpSpPr>
        <p:sp>
          <p:nvSpPr>
            <p:cNvPr id="306" name=""/>
            <p:cNvSpPr/>
            <p:nvPr/>
          </p:nvSpPr>
          <p:spPr>
            <a:xfrm flipV="1">
              <a:off x="2484360" y="1860120"/>
              <a:ext cx="1447560" cy="10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498400" y="2426760"/>
              <a:ext cx="576360" cy="47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03440" y="2903400"/>
              <a:ext cx="438120" cy="64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493720" y="2612520"/>
              <a:ext cx="1719360" cy="290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2908440"/>
              <a:ext cx="2690640" cy="156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538960" y="1674720"/>
                <a:ext cx="2462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582480" y="4641840"/>
            <a:ext cx="4068720" cy="2006640"/>
            <a:chOff x="582480" y="4641840"/>
            <a:chExt cx="4068720" cy="2006640"/>
          </a:xfrm>
        </p:grpSpPr>
        <p:sp>
          <p:nvSpPr>
            <p:cNvPr id="313" name=""/>
            <p:cNvSpPr/>
            <p:nvPr/>
          </p:nvSpPr>
          <p:spPr>
            <a:xfrm>
              <a:off x="582480" y="4641840"/>
              <a:ext cx="1774800" cy="1147680"/>
            </a:xfrm>
            <a:custGeom>
              <a:avLst/>
              <a:gdLst/>
              <a:ahLst/>
              <a:rect l="l" t="t" r="r" b="b"/>
              <a:pathLst>
                <a:path w="1118" h="723">
                  <a:moveTo>
                    <a:pt x="0" y="723"/>
                  </a:moveTo>
                  <a:lnTo>
                    <a:pt x="559" y="0"/>
                  </a:lnTo>
                  <a:lnTo>
                    <a:pt x="1118" y="600"/>
                  </a:lnTo>
                  <a:lnTo>
                    <a:pt x="0" y="72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94000" y="4952880"/>
              <a:ext cx="2257200" cy="1695600"/>
            </a:xfrm>
            <a:custGeom>
              <a:avLst/>
              <a:gdLst/>
              <a:ahLst/>
              <a:rect l="l" t="t" r="r" b="b"/>
              <a:pathLst>
                <a:path w="1422" h="1068">
                  <a:moveTo>
                    <a:pt x="74" y="362"/>
                  </a:moveTo>
                  <a:lnTo>
                    <a:pt x="0" y="1068"/>
                  </a:lnTo>
                  <a:lnTo>
                    <a:pt x="1422" y="764"/>
                  </a:lnTo>
                  <a:lnTo>
                    <a:pt x="797" y="477"/>
                  </a:lnTo>
                  <a:lnTo>
                    <a:pt x="625" y="0"/>
                  </a:lnTo>
                  <a:lnTo>
                    <a:pt x="74" y="36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85720" y="4646520"/>
            <a:ext cx="4062600" cy="2009880"/>
            <a:chOff x="585720" y="4646520"/>
            <a:chExt cx="4062600" cy="2009880"/>
          </a:xfrm>
        </p:grpSpPr>
        <p:sp>
          <p:nvSpPr>
            <p:cNvPr id="316" name=""/>
            <p:cNvSpPr/>
            <p:nvPr/>
          </p:nvSpPr>
          <p:spPr>
            <a:xfrm>
              <a:off x="1471680" y="4646520"/>
              <a:ext cx="3171600" cy="152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86080" y="4651200"/>
              <a:ext cx="1904760" cy="31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71680" y="4646520"/>
              <a:ext cx="1047600" cy="90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76360" y="4646520"/>
              <a:ext cx="933480" cy="200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81040" y="4651200"/>
              <a:ext cx="2171880" cy="1071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95440" y="4974840"/>
              <a:ext cx="2786040" cy="80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95440" y="5541480"/>
              <a:ext cx="1928520" cy="23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5720" y="5794200"/>
              <a:ext cx="1824120" cy="862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9480" y="5727600"/>
              <a:ext cx="3024360" cy="61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" y="5784840"/>
              <a:ext cx="4029120" cy="405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347920" y="4974840"/>
              <a:ext cx="1019160" cy="614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343240" y="5546880"/>
              <a:ext cx="162000" cy="47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57280" y="5584680"/>
              <a:ext cx="47880" cy="1071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38560" y="5594400"/>
              <a:ext cx="131436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43240" y="5589720"/>
              <a:ext cx="2305080" cy="58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005440" y="4216320"/>
            <a:ext cx="4068720" cy="1695600"/>
            <a:chOff x="5005440" y="4216320"/>
            <a:chExt cx="4068720" cy="1695600"/>
          </a:xfrm>
        </p:grpSpPr>
        <p:sp>
          <p:nvSpPr>
            <p:cNvPr id="332" name=""/>
            <p:cNvSpPr/>
            <p:nvPr/>
          </p:nvSpPr>
          <p:spPr>
            <a:xfrm>
              <a:off x="5005440" y="4299120"/>
              <a:ext cx="1774800" cy="1147680"/>
            </a:xfrm>
            <a:custGeom>
              <a:avLst/>
              <a:gdLst/>
              <a:ahLst/>
              <a:rect l="l" t="t" r="r" b="b"/>
              <a:pathLst>
                <a:path w="1118" h="723">
                  <a:moveTo>
                    <a:pt x="0" y="723"/>
                  </a:moveTo>
                  <a:lnTo>
                    <a:pt x="559" y="0"/>
                  </a:lnTo>
                  <a:lnTo>
                    <a:pt x="1118" y="600"/>
                  </a:lnTo>
                  <a:lnTo>
                    <a:pt x="0" y="72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16600" y="4216320"/>
              <a:ext cx="2257560" cy="1695600"/>
            </a:xfrm>
            <a:custGeom>
              <a:avLst/>
              <a:gdLst/>
              <a:ahLst/>
              <a:rect l="l" t="t" r="r" b="b"/>
              <a:pathLst>
                <a:path w="1422" h="1068">
                  <a:moveTo>
                    <a:pt x="74" y="362"/>
                  </a:moveTo>
                  <a:lnTo>
                    <a:pt x="0" y="1068"/>
                  </a:lnTo>
                  <a:lnTo>
                    <a:pt x="1422" y="764"/>
                  </a:lnTo>
                  <a:lnTo>
                    <a:pt x="797" y="477"/>
                  </a:lnTo>
                  <a:lnTo>
                    <a:pt x="625" y="0"/>
                  </a:lnTo>
                  <a:lnTo>
                    <a:pt x="74" y="36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010120" y="4219560"/>
            <a:ext cx="4076640" cy="1695600"/>
            <a:chOff x="5010120" y="4219560"/>
            <a:chExt cx="4076640" cy="1695600"/>
          </a:xfrm>
        </p:grpSpPr>
        <p:sp>
          <p:nvSpPr>
            <p:cNvPr id="335" name=""/>
            <p:cNvSpPr/>
            <p:nvPr/>
          </p:nvSpPr>
          <p:spPr>
            <a:xfrm flipV="1">
              <a:off x="5897520" y="4224240"/>
              <a:ext cx="1922400" cy="8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83120" y="4300560"/>
              <a:ext cx="1079640" cy="490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00760" y="4303800"/>
              <a:ext cx="928800" cy="160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83120" y="4299120"/>
              <a:ext cx="2217960" cy="67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91040" y="4308480"/>
              <a:ext cx="3195720" cy="1120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10120" y="4228920"/>
              <a:ext cx="2795760" cy="1207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30640" y="4795560"/>
              <a:ext cx="1917720" cy="654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4520" y="5446800"/>
              <a:ext cx="1790640" cy="468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33880" y="4981680"/>
              <a:ext cx="3052800" cy="45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25960" y="5432400"/>
              <a:ext cx="4046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81680" y="4219560"/>
              <a:ext cx="1009800" cy="1022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70520" y="4786200"/>
              <a:ext cx="163800" cy="457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1680" y="5243400"/>
              <a:ext cx="19080" cy="662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759720" y="4971960"/>
              <a:ext cx="1312560" cy="27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67320" y="5267160"/>
              <a:ext cx="2691000" cy="157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563720" y="613260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counteract earlier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9630800">
            <a:off x="4692600" y="-2448000"/>
            <a:ext cx="1042920" cy="10844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267080" y="1905120"/>
            <a:ext cx="905040" cy="581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 rot="16492800">
            <a:off x="4119480" y="-2357280"/>
            <a:ext cx="1154160" cy="10844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61960" y="2486160"/>
            <a:ext cx="104760" cy="1114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35280" y="2901960"/>
            <a:ext cx="2365200" cy="417600"/>
            <a:chOff x="1835280" y="2901960"/>
            <a:chExt cx="2365200" cy="417600"/>
          </a:xfrm>
        </p:grpSpPr>
        <p:sp>
          <p:nvSpPr>
            <p:cNvPr id="362" name=""/>
            <p:cNvSpPr/>
            <p:nvPr/>
          </p:nvSpPr>
          <p:spPr>
            <a:xfrm>
              <a:off x="3627360" y="2901960"/>
              <a:ext cx="15732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35280" y="3093840"/>
              <a:ext cx="15696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05120" y="2940120"/>
              <a:ext cx="495360" cy="396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14480" y="3159000"/>
              <a:ext cx="2286000" cy="160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348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xamples of 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7080" y="930240"/>
            <a:ext cx="8727840" cy="5752440"/>
            <a:chOff x="127080" y="930240"/>
            <a:chExt cx="8727840" cy="5752440"/>
          </a:xfrm>
        </p:grpSpPr>
        <p:graphicFrame>
          <p:nvGraphicFramePr>
            <p:cNvPr id="46" name=""/>
            <p:cNvGraphicFramePr/>
            <p:nvPr/>
          </p:nvGraphicFramePr>
          <p:xfrm>
            <a:off x="127080" y="1587600"/>
            <a:ext cx="2819160" cy="256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080" y="1587600"/>
                      <a:ext cx="2819160" cy="25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867280" y="930240"/>
            <a:ext cx="2743200" cy="27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930240"/>
                      <a:ext cx="2743200" cy="27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" name=""/>
            <p:cNvGrpSpPr/>
            <p:nvPr/>
          </p:nvGrpSpPr>
          <p:grpSpPr>
            <a:xfrm>
              <a:off x="209520" y="4076640"/>
              <a:ext cx="1771200" cy="1951200"/>
              <a:chOff x="209520" y="4076640"/>
              <a:chExt cx="1771200" cy="1951200"/>
            </a:xfrm>
          </p:grpSpPr>
          <p:sp>
            <p:nvSpPr>
              <p:cNvPr id="51" name=""/>
              <p:cNvSpPr/>
              <p:nvPr/>
            </p:nvSpPr>
            <p:spPr>
              <a:xfrm>
                <a:off x="209520" y="4076640"/>
                <a:ext cx="822240" cy="7588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9960" y="4254480"/>
                <a:ext cx="1029600" cy="993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58480" y="4581360"/>
                <a:ext cx="822240" cy="7588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5480" y="5398920"/>
                <a:ext cx="639360" cy="628920"/>
              </a:xfrm>
              <a:prstGeom prst="ellipse">
                <a:avLst/>
              </a:prstGeom>
              <a:noFill/>
              <a:ln w="28440">
                <a:solidFill>
                  <a:srgbClr val="ff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726320" y="3137040"/>
              <a:ext cx="1128600" cy="2319120"/>
              <a:chOff x="7726320" y="3137040"/>
              <a:chExt cx="1128600" cy="2319120"/>
            </a:xfrm>
          </p:grpSpPr>
          <p:sp>
            <p:nvSpPr>
              <p:cNvPr id="56" name=""/>
              <p:cNvSpPr/>
              <p:nvPr/>
            </p:nvSpPr>
            <p:spPr>
              <a:xfrm>
                <a:off x="7853400" y="3137040"/>
                <a:ext cx="849240" cy="795240"/>
              </a:xfrm>
              <a:prstGeom prst="ellipse">
                <a:avLst/>
              </a:prstGeom>
              <a:noFill/>
              <a:ln w="28440">
                <a:solidFill>
                  <a:srgbClr val="ff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005680" y="3645000"/>
                <a:ext cx="849240" cy="79524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26320" y="4152960"/>
                <a:ext cx="849240" cy="7952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005680" y="4660920"/>
                <a:ext cx="849240" cy="795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0" name=""/>
            <p:cNvGraphicFramePr/>
            <p:nvPr/>
          </p:nvGraphicFramePr>
          <p:xfrm>
            <a:off x="2746440" y="2649600"/>
            <a:ext cx="3448080" cy="352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6440" y="2649600"/>
                      <a:ext cx="34480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" name=""/>
            <p:cNvGrpSpPr/>
            <p:nvPr/>
          </p:nvGrpSpPr>
          <p:grpSpPr>
            <a:xfrm>
              <a:off x="5646600" y="4995720"/>
              <a:ext cx="1937160" cy="1686960"/>
              <a:chOff x="5646600" y="4995720"/>
              <a:chExt cx="1937160" cy="1686960"/>
            </a:xfrm>
          </p:grpSpPr>
          <p:sp>
            <p:nvSpPr>
              <p:cNvPr id="63" name=""/>
              <p:cNvSpPr/>
              <p:nvPr/>
            </p:nvSpPr>
            <p:spPr>
              <a:xfrm>
                <a:off x="5819760" y="4995720"/>
                <a:ext cx="1173240" cy="1082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353280" y="5148000"/>
                <a:ext cx="1172880" cy="1082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34240" y="5580000"/>
                <a:ext cx="1172880" cy="1082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6600" y="5310000"/>
                <a:ext cx="1660680" cy="1035000"/>
              </a:xfrm>
              <a:custGeom>
                <a:avLst/>
                <a:gdLst/>
                <a:ahLst/>
                <a:rect l="l" t="t" r="r" b="b"/>
                <a:pathLst>
                  <a:path w="1046" h="652">
                    <a:moveTo>
                      <a:pt x="799" y="476"/>
                    </a:moveTo>
                    <a:cubicBezTo>
                      <a:pt x="872" y="460"/>
                      <a:pt x="1046" y="305"/>
                      <a:pt x="1029" y="238"/>
                    </a:cubicBezTo>
                    <a:cubicBezTo>
                      <a:pt x="1012" y="171"/>
                      <a:pt x="825" y="105"/>
                      <a:pt x="700" y="74"/>
                    </a:cubicBezTo>
                    <a:cubicBezTo>
                      <a:pt x="575" y="43"/>
                      <a:pt x="395" y="0"/>
                      <a:pt x="281" y="49"/>
                    </a:cubicBezTo>
                    <a:cubicBezTo>
                      <a:pt x="167" y="98"/>
                      <a:pt x="0" y="269"/>
                      <a:pt x="18" y="369"/>
                    </a:cubicBezTo>
                    <a:cubicBezTo>
                      <a:pt x="36" y="469"/>
                      <a:pt x="324" y="646"/>
                      <a:pt x="388" y="649"/>
                    </a:cubicBezTo>
                    <a:cubicBezTo>
                      <a:pt x="452" y="652"/>
                      <a:pt x="370" y="438"/>
                      <a:pt x="404" y="386"/>
                    </a:cubicBezTo>
                    <a:cubicBezTo>
                      <a:pt x="438" y="334"/>
                      <a:pt x="530" y="323"/>
                      <a:pt x="593" y="337"/>
                    </a:cubicBezTo>
                    <a:cubicBezTo>
                      <a:pt x="656" y="351"/>
                      <a:pt x="726" y="492"/>
                      <a:pt x="799" y="476"/>
                    </a:cubicBez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267320" y="62229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rot="20837400">
            <a:off x="4409640" y="-901440"/>
            <a:ext cx="2292480" cy="10844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161960" y="3124080"/>
            <a:ext cx="2266920" cy="476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rot="1495200">
            <a:off x="4835160" y="-1399680"/>
            <a:ext cx="1108080" cy="108439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5429160" y="2666880"/>
            <a:ext cx="100008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rot="4363800">
            <a:off x="4295160" y="-2957400"/>
            <a:ext cx="798480" cy="10844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53040" y="1905120"/>
            <a:ext cx="276120" cy="761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849320" y="2171520"/>
            <a:ext cx="3516480" cy="1040040"/>
            <a:chOff x="1849320" y="2171520"/>
            <a:chExt cx="3516480" cy="1040040"/>
          </a:xfrm>
        </p:grpSpPr>
        <p:sp>
          <p:nvSpPr>
            <p:cNvPr id="382" name=""/>
            <p:cNvSpPr/>
            <p:nvPr/>
          </p:nvSpPr>
          <p:spPr>
            <a:xfrm>
              <a:off x="3614760" y="2903400"/>
              <a:ext cx="15732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49320" y="3106800"/>
              <a:ext cx="15732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701880" y="2470320"/>
              <a:ext cx="1663920" cy="488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924200" y="2171520"/>
              <a:ext cx="3333600" cy="990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21322800">
            <a:off x="2054160" y="-804960"/>
            <a:ext cx="1771560" cy="108442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30320" y="2966760"/>
            <a:ext cx="1724040" cy="190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rot="13341000">
            <a:off x="2260080" y="-2558880"/>
            <a:ext cx="1293840" cy="1084392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05120" y="1982880"/>
            <a:ext cx="863640" cy="957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 rot="18373200">
            <a:off x="3423240" y="-1967760"/>
            <a:ext cx="1450800" cy="11692080"/>
          </a:xfrm>
          <a:prstGeom prst="rect">
            <a:avLst/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1920960" y="2013120"/>
            <a:ext cx="1774800" cy="1147680"/>
          </a:xfrm>
          <a:custGeom>
            <a:avLst/>
            <a:gdLst/>
            <a:ahLst/>
            <a:rect l="l" t="t" r="r" b="b"/>
            <a:pathLst>
              <a:path w="1118" h="723">
                <a:moveTo>
                  <a:pt x="0" y="723"/>
                </a:moveTo>
                <a:lnTo>
                  <a:pt x="559" y="0"/>
                </a:lnTo>
                <a:lnTo>
                  <a:pt x="1118" y="600"/>
                </a:lnTo>
                <a:lnTo>
                  <a:pt x="0" y="72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64120" y="1911240"/>
            <a:ext cx="2257200" cy="1695600"/>
          </a:xfrm>
          <a:custGeom>
            <a:avLst/>
            <a:gdLst/>
            <a:ahLst/>
            <a:rect l="l" t="t" r="r" b="b"/>
            <a:pathLst>
              <a:path w="1422" h="1068">
                <a:moveTo>
                  <a:pt x="74" y="362"/>
                </a:moveTo>
                <a:lnTo>
                  <a:pt x="0" y="1068"/>
                </a:lnTo>
                <a:lnTo>
                  <a:pt x="1422" y="764"/>
                </a:lnTo>
                <a:lnTo>
                  <a:pt x="797" y="477"/>
                </a:lnTo>
                <a:lnTo>
                  <a:pt x="625" y="0"/>
                </a:lnTo>
                <a:lnTo>
                  <a:pt x="74" y="36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33200" y="1982880"/>
            <a:ext cx="871560" cy="117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414520" y="2485800"/>
            <a:ext cx="1824120" cy="1162440"/>
            <a:chOff x="2414520" y="2485800"/>
            <a:chExt cx="1824120" cy="1162440"/>
          </a:xfrm>
        </p:grpSpPr>
        <p:sp>
          <p:nvSpPr>
            <p:cNvPr id="402" name=""/>
            <p:cNvSpPr/>
            <p:nvPr/>
          </p:nvSpPr>
          <p:spPr>
            <a:xfrm>
              <a:off x="4081320" y="3543480"/>
              <a:ext cx="157320" cy="1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414520" y="2485800"/>
              <a:ext cx="1741680" cy="1145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ric for closenes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ertices to edg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62440" y="1515960"/>
            <a:ext cx="4088880" cy="2668680"/>
            <a:chOff x="262440" y="1515960"/>
            <a:chExt cx="4088880" cy="2668680"/>
          </a:xfrm>
        </p:grpSpPr>
        <p:grpSp>
          <p:nvGrpSpPr>
            <p:cNvPr id="406" name=""/>
            <p:cNvGrpSpPr/>
            <p:nvPr/>
          </p:nvGrpSpPr>
          <p:grpSpPr>
            <a:xfrm>
              <a:off x="282600" y="1515960"/>
              <a:ext cx="4068720" cy="1695600"/>
              <a:chOff x="282600" y="1515960"/>
              <a:chExt cx="4068720" cy="1695600"/>
            </a:xfrm>
          </p:grpSpPr>
          <p:sp>
            <p:nvSpPr>
              <p:cNvPr id="407" name=""/>
              <p:cNvSpPr/>
              <p:nvPr/>
            </p:nvSpPr>
            <p:spPr>
              <a:xfrm>
                <a:off x="282600" y="1598760"/>
                <a:ext cx="1774800" cy="1147680"/>
              </a:xfrm>
              <a:custGeom>
                <a:avLst/>
                <a:gdLst/>
                <a:ahLst/>
                <a:rect l="l" t="t" r="r" b="b"/>
                <a:pathLst>
                  <a:path w="1118" h="723">
                    <a:moveTo>
                      <a:pt x="0" y="723"/>
                    </a:moveTo>
                    <a:lnTo>
                      <a:pt x="559" y="0"/>
                    </a:lnTo>
                    <a:lnTo>
                      <a:pt x="1118" y="600"/>
                    </a:lnTo>
                    <a:lnTo>
                      <a:pt x="0" y="723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93760" y="1515960"/>
                <a:ext cx="2257560" cy="1695600"/>
              </a:xfrm>
              <a:custGeom>
                <a:avLst/>
                <a:gdLst/>
                <a:ahLst/>
                <a:rect l="l" t="t" r="r" b="b"/>
                <a:pathLst>
                  <a:path w="1422" h="1068">
                    <a:moveTo>
                      <a:pt x="74" y="362"/>
                    </a:moveTo>
                    <a:lnTo>
                      <a:pt x="0" y="1068"/>
                    </a:lnTo>
                    <a:lnTo>
                      <a:pt x="1422" y="764"/>
                    </a:lnTo>
                    <a:lnTo>
                      <a:pt x="797" y="477"/>
                    </a:lnTo>
                    <a:lnTo>
                      <a:pt x="625" y="0"/>
                    </a:lnTo>
                    <a:lnTo>
                      <a:pt x="74" y="362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62440" y="3359160"/>
              <a:ext cx="339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tric is high : pla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s discoura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440800" y="4124160"/>
            <a:ext cx="6441120" cy="2273400"/>
            <a:chOff x="2440800" y="4124160"/>
            <a:chExt cx="6441120" cy="2273400"/>
          </a:xfrm>
        </p:grpSpPr>
        <p:grpSp>
          <p:nvGrpSpPr>
            <p:cNvPr id="411" name=""/>
            <p:cNvGrpSpPr/>
            <p:nvPr/>
          </p:nvGrpSpPr>
          <p:grpSpPr>
            <a:xfrm>
              <a:off x="4813200" y="4124160"/>
              <a:ext cx="4068720" cy="2120760"/>
              <a:chOff x="4813200" y="4124160"/>
              <a:chExt cx="4068720" cy="2120760"/>
            </a:xfrm>
          </p:grpSpPr>
          <p:sp>
            <p:nvSpPr>
              <p:cNvPr id="412" name=""/>
              <p:cNvSpPr/>
              <p:nvPr/>
            </p:nvSpPr>
            <p:spPr>
              <a:xfrm>
                <a:off x="4813200" y="4124160"/>
                <a:ext cx="1774800" cy="1147680"/>
              </a:xfrm>
              <a:custGeom>
                <a:avLst/>
                <a:gdLst/>
                <a:ahLst/>
                <a:rect l="l" t="t" r="r" b="b"/>
                <a:pathLst>
                  <a:path w="1118" h="723">
                    <a:moveTo>
                      <a:pt x="0" y="723"/>
                    </a:moveTo>
                    <a:lnTo>
                      <a:pt x="559" y="0"/>
                    </a:lnTo>
                    <a:lnTo>
                      <a:pt x="1118" y="600"/>
                    </a:lnTo>
                    <a:lnTo>
                      <a:pt x="0" y="723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24720" y="4549320"/>
                <a:ext cx="2257200" cy="1695600"/>
              </a:xfrm>
              <a:custGeom>
                <a:avLst/>
                <a:gdLst/>
                <a:ahLst/>
                <a:rect l="l" t="t" r="r" b="b"/>
                <a:pathLst>
                  <a:path w="1422" h="1068">
                    <a:moveTo>
                      <a:pt x="74" y="362"/>
                    </a:moveTo>
                    <a:lnTo>
                      <a:pt x="0" y="1068"/>
                    </a:lnTo>
                    <a:lnTo>
                      <a:pt x="1422" y="764"/>
                    </a:lnTo>
                    <a:lnTo>
                      <a:pt x="797" y="477"/>
                    </a:lnTo>
                    <a:lnTo>
                      <a:pt x="625" y="0"/>
                    </a:lnTo>
                    <a:lnTo>
                      <a:pt x="74" y="362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440800" y="5572080"/>
              <a:ext cx="398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tric is low : detect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rtex-vertex close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ing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401040" y="1465200"/>
            <a:ext cx="848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se metrics weights for their relative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choices of we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change the target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can speed up iteration towards a ‘good’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weightings were found increment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apply one metric at a time and adjust its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 space is 2n-dimensional and space of weigh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7-dimensional - weightings chosen empir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uler diagrams and layout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tivation/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ing layout met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ults and further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39348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yout metrics for 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91160" y="11732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Flower, Peter Rodgers and Paul M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5524560" y="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952560" y="36352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0" y="3492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4923000" y="353844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49600" y="30132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Ven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57760" y="30337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27160" y="62262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xampl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747200" y="604836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Ven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90800" y="2147760"/>
            <a:ext cx="995400" cy="966960"/>
          </a:xfrm>
          <a:custGeom>
            <a:avLst/>
            <a:gdLst/>
            <a:ahLst/>
            <a:rect l="l" t="t" r="r" b="b"/>
            <a:pathLst>
              <a:path w="627" h="609">
                <a:moveTo>
                  <a:pt x="0" y="333"/>
                </a:moveTo>
                <a:lnTo>
                  <a:pt x="87" y="366"/>
                </a:lnTo>
                <a:lnTo>
                  <a:pt x="210" y="354"/>
                </a:lnTo>
                <a:lnTo>
                  <a:pt x="294" y="309"/>
                </a:lnTo>
                <a:lnTo>
                  <a:pt x="348" y="252"/>
                </a:lnTo>
                <a:lnTo>
                  <a:pt x="381" y="174"/>
                </a:lnTo>
                <a:lnTo>
                  <a:pt x="387" y="102"/>
                </a:lnTo>
                <a:lnTo>
                  <a:pt x="372" y="39"/>
                </a:lnTo>
                <a:lnTo>
                  <a:pt x="354" y="0"/>
                </a:lnTo>
                <a:lnTo>
                  <a:pt x="450" y="30"/>
                </a:lnTo>
                <a:lnTo>
                  <a:pt x="522" y="72"/>
                </a:lnTo>
                <a:lnTo>
                  <a:pt x="573" y="132"/>
                </a:lnTo>
                <a:lnTo>
                  <a:pt x="606" y="189"/>
                </a:lnTo>
                <a:lnTo>
                  <a:pt x="627" y="255"/>
                </a:lnTo>
                <a:lnTo>
                  <a:pt x="627" y="342"/>
                </a:lnTo>
                <a:lnTo>
                  <a:pt x="609" y="420"/>
                </a:lnTo>
                <a:lnTo>
                  <a:pt x="570" y="486"/>
                </a:lnTo>
                <a:lnTo>
                  <a:pt x="525" y="534"/>
                </a:lnTo>
                <a:lnTo>
                  <a:pt x="459" y="576"/>
                </a:lnTo>
                <a:lnTo>
                  <a:pt x="351" y="609"/>
                </a:lnTo>
                <a:lnTo>
                  <a:pt x="228" y="603"/>
                </a:lnTo>
                <a:lnTo>
                  <a:pt x="126" y="555"/>
                </a:lnTo>
                <a:lnTo>
                  <a:pt x="60" y="489"/>
                </a:lnTo>
                <a:lnTo>
                  <a:pt x="9" y="402"/>
                </a:lnTo>
                <a:lnTo>
                  <a:pt x="0" y="333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769000" y="1309680"/>
          <a:ext cx="28195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9000" y="1309680"/>
                    <a:ext cx="28195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27240" y="4643280"/>
            <a:ext cx="44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uler diagram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t of labels for con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{A, 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 set of zon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{{}, {A}, {A,B},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{B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89560" y="4446720"/>
            <a:ext cx="1771920" cy="1950480"/>
            <a:chOff x="6289560" y="4446720"/>
            <a:chExt cx="1771920" cy="1950480"/>
          </a:xfrm>
        </p:grpSpPr>
        <p:sp>
          <p:nvSpPr>
            <p:cNvPr id="74" name=""/>
            <p:cNvSpPr/>
            <p:nvPr/>
          </p:nvSpPr>
          <p:spPr>
            <a:xfrm>
              <a:off x="6289560" y="4446720"/>
              <a:ext cx="822600" cy="758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80360" y="4624200"/>
              <a:ext cx="1029960" cy="993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4951080"/>
              <a:ext cx="822600" cy="7585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5880" y="5768640"/>
              <a:ext cx="639720" cy="628560"/>
            </a:xfrm>
            <a:prstGeom prst="ellipse">
              <a:avLst/>
            </a:prstGeom>
            <a:noFill/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-22320" y="1035000"/>
            <a:ext cx="6271200" cy="3119400"/>
            <a:chOff x="-22320" y="1035000"/>
            <a:chExt cx="6271200" cy="3119400"/>
          </a:xfrm>
        </p:grpSpPr>
        <p:sp>
          <p:nvSpPr>
            <p:cNvPr id="79" name=""/>
            <p:cNvSpPr/>
            <p:nvPr/>
          </p:nvSpPr>
          <p:spPr>
            <a:xfrm>
              <a:off x="2679840" y="1959120"/>
              <a:ext cx="822240" cy="75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70280" y="2136600"/>
              <a:ext cx="1030320" cy="9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1080" y="103500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to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232080" y="1309680"/>
              <a:ext cx="144792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727080" y="1440000"/>
              <a:ext cx="100476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22320" y="277020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282680" y="2209320"/>
              <a:ext cx="1643040" cy="73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398600" y="2457360"/>
              <a:ext cx="180180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38200" y="2757600"/>
              <a:ext cx="232272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7880" y="3328920"/>
              <a:ext cx="30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(well-formed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oncre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Euler 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8520" y="1658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45160" y="2255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rther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69480" y="1325520"/>
            <a:ext cx="90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n efficiency - at the moment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culates all distances and angles after only a loc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80" y="2496960"/>
            <a:ext cx="57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n improving the initial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00" y="4919760"/>
            <a:ext cx="85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n using libraries of good examples and user-gu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hancements - make diagrams “simila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42840" y="3305160"/>
            <a:ext cx="90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n moving many points at once, adding/delet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57040" y="6145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cmis.brighton.ac.uk/research/v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200" y="411156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on nested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uler diagrams and layout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tivation/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ing layout met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ults and further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348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yout metrics for 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191160" y="11732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Flower, Peter Rodgers and Paul M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ing with diagram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agrams represent logical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ing rules change dia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ing is defined “at the abstract leve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perceive reasoning “at the concrete leve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soning with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9880" y="841320"/>
            <a:ext cx="457200" cy="1219320"/>
            <a:chOff x="299880" y="841320"/>
            <a:chExt cx="457200" cy="1219320"/>
          </a:xfrm>
        </p:grpSpPr>
        <p:sp>
          <p:nvSpPr>
            <p:cNvPr id="98" name=""/>
            <p:cNvSpPr/>
            <p:nvPr/>
          </p:nvSpPr>
          <p:spPr>
            <a:xfrm>
              <a:off x="299880" y="841320"/>
              <a:ext cx="45720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480" y="11458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99880" y="1704960"/>
              <a:ext cx="2286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28120" y="1704960"/>
              <a:ext cx="2286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99880" y="1298520"/>
              <a:ext cx="2286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528120" y="1298520"/>
              <a:ext cx="22860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79280" y="3886200"/>
            <a:ext cx="4658400" cy="1373760"/>
            <a:chOff x="1979280" y="3886200"/>
            <a:chExt cx="4658400" cy="1373760"/>
          </a:xfrm>
        </p:grpSpPr>
        <p:sp>
          <p:nvSpPr>
            <p:cNvPr id="105" name=""/>
            <p:cNvSpPr/>
            <p:nvPr/>
          </p:nvSpPr>
          <p:spPr>
            <a:xfrm>
              <a:off x="2362320" y="38862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9280" y="4251240"/>
              <a:ext cx="4658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 contours, labelled A, B, C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5 zones : {A}, {A,B}, {B}, {B,C}, {C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hading in zones {B}, {B,C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55640" y="2930400"/>
            <a:ext cx="1774800" cy="103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9440" y="3306600"/>
            <a:ext cx="860400" cy="5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9000" y="2960640"/>
            <a:ext cx="887400" cy="4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080" y="3452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79640" y="2751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2717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2930400"/>
            <a:ext cx="1774800" cy="103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19520" y="1066680"/>
            <a:ext cx="2779560" cy="1688760"/>
            <a:chOff x="1919520" y="1066680"/>
            <a:chExt cx="2779560" cy="1688760"/>
          </a:xfrm>
        </p:grpSpPr>
        <p:sp>
          <p:nvSpPr>
            <p:cNvPr id="115" name=""/>
            <p:cNvSpPr/>
            <p:nvPr/>
          </p:nvSpPr>
          <p:spPr>
            <a:xfrm flipV="1">
              <a:off x="2133360" y="206964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13280" y="19303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4520" y="1079640"/>
              <a:ext cx="17859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9520" y="1577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2120" y="1066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05040" y="1312920"/>
              <a:ext cx="807840" cy="45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13400" y="5391000"/>
            <a:ext cx="3096360" cy="1116720"/>
            <a:chOff x="5513400" y="5391000"/>
            <a:chExt cx="3096360" cy="1116720"/>
          </a:xfrm>
        </p:grpSpPr>
        <p:sp>
          <p:nvSpPr>
            <p:cNvPr id="122" name=""/>
            <p:cNvSpPr/>
            <p:nvPr/>
          </p:nvSpPr>
          <p:spPr>
            <a:xfrm>
              <a:off x="5513400" y="5391000"/>
              <a:ext cx="53028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28560" y="5499000"/>
              <a:ext cx="2581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, B, C are sets, w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is disjoint from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B is contained in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28760" y="2260440"/>
            <a:ext cx="5117760" cy="3009600"/>
            <a:chOff x="4028760" y="2260440"/>
            <a:chExt cx="5117760" cy="3009600"/>
          </a:xfrm>
        </p:grpSpPr>
        <p:sp>
          <p:nvSpPr>
            <p:cNvPr id="125" name=""/>
            <p:cNvSpPr/>
            <p:nvPr/>
          </p:nvSpPr>
          <p:spPr>
            <a:xfrm>
              <a:off x="4028760" y="2260440"/>
              <a:ext cx="324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contours, labelled A, 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2 zones : {A}, {A,B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699080" y="342864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86600" y="458424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70800" y="31719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98400" y="3711600"/>
              <a:ext cx="21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 is contained in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ting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2880" y="4227480"/>
            <a:ext cx="80773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vious wor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nerating Euler diagrams” (with J.How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sting in Euler diagrams” (with J.Howse,J.Tay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6920" y="1066680"/>
            <a:ext cx="5364360" cy="1897560"/>
            <a:chOff x="1906920" y="1066680"/>
            <a:chExt cx="5364360" cy="1897560"/>
          </a:xfrm>
        </p:grpSpPr>
        <p:sp>
          <p:nvSpPr>
            <p:cNvPr id="133" name=""/>
            <p:cNvSpPr/>
            <p:nvPr/>
          </p:nvSpPr>
          <p:spPr>
            <a:xfrm>
              <a:off x="4000680" y="19303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1920" y="1079640"/>
              <a:ext cx="17859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28760" y="2260440"/>
              <a:ext cx="324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contours, labelled A, 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3 zones : {}, {A}, {A,B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0680" y="193032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1920" y="1079640"/>
              <a:ext cx="17859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6920" y="1577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19520" y="1066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92440" y="1312920"/>
              <a:ext cx="807840" cy="45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746440" y="2509920"/>
          <a:ext cx="344808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2509920"/>
                    <a:ext cx="344808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939960"/>
          <a:ext cx="2819520" cy="25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939960"/>
                    <a:ext cx="28195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867280" y="663480"/>
          <a:ext cx="2743200" cy="279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663480"/>
                    <a:ext cx="27432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ted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5941440" y="4700520"/>
            <a:ext cx="28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dual 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be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draw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960" y="528012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cognises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agram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draw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uler diagrams and layout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tivation/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ing layout met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ults and further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9348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yout metrics for Euler diagra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1160" y="117324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 Flower, Peter Rodgers and Paul M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4:16:12Z</dcterms:created>
  <dc:creator>Jean Flower</dc:creator>
  <dc:description/>
  <dc:language>en-US</dc:language>
  <cp:lastModifiedBy>Jean Flower</cp:lastModifiedBy>
  <cp:lastPrinted>2003-07-15T15:13:55Z</cp:lastPrinted>
  <dcterms:modified xsi:type="dcterms:W3CDTF">2003-08-11T13:12:56Z</dcterms:modified>
  <cp:revision>22</cp:revision>
  <dc:subject/>
  <dc:title>Smoothing Euler diagrams</dc:title>
</cp:coreProperties>
</file>