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FEC-6FE1-434C-BD34-D74CB763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58F-303B-4AC7-AE1E-EE180B21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890-B45B-4A67-ADEF-AACEFD27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E0C-F1FD-4BD5-AFA7-B5D75416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252-3235-413F-9FAC-88E16D68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83AA-B4A6-4668-B6D6-D57A3E3B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0B6-4851-43A5-AB81-50AF2203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572-603A-4FAA-B44C-6B22D4DB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4FD-E7E2-4E82-8EE5-887856AA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42D-DA30-4F63-A1C2-0E98243A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E00-8FC5-40B9-8E14-DB0EB905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5466-A2CA-4FA6-B7AF-C3FAFB9C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C718-F301-4229-AE8D-62308FDF3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ting Eule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040" y="362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38360" y="2419200"/>
            <a:ext cx="643896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an Flower and John How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versity of Brighton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.a.flower@brighton.ac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hn.howse@brighton.ac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sual Modell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it.brighton.ac.uk/research/vm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D28-4533-4E45-BF35-E2E4094480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dual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47920" y="3535920"/>
            <a:ext cx="6837120" cy="2344320"/>
            <a:chOff x="1447920" y="3535920"/>
            <a:chExt cx="6837120" cy="2344320"/>
          </a:xfrm>
        </p:grpSpPr>
        <p:grpSp>
          <p:nvGrpSpPr>
            <p:cNvPr id="282" name=""/>
            <p:cNvGrpSpPr/>
            <p:nvPr/>
          </p:nvGrpSpPr>
          <p:grpSpPr>
            <a:xfrm>
              <a:off x="1447920" y="3909960"/>
              <a:ext cx="2853720" cy="1970280"/>
              <a:chOff x="1447920" y="3909960"/>
              <a:chExt cx="2853720" cy="1970280"/>
            </a:xfrm>
          </p:grpSpPr>
          <p:sp>
            <p:nvSpPr>
              <p:cNvPr id="283" name=""/>
              <p:cNvSpPr/>
              <p:nvPr/>
            </p:nvSpPr>
            <p:spPr>
              <a:xfrm>
                <a:off x="1447920" y="4248000"/>
                <a:ext cx="2209680" cy="720720"/>
              </a:xfrm>
              <a:custGeom>
                <a:avLst/>
                <a:gdLst/>
                <a:ahLst/>
                <a:rect l="l" t="t" r="r" b="b"/>
                <a:pathLst>
                  <a:path w="1392" h="454">
                    <a:moveTo>
                      <a:pt x="1392" y="0"/>
                    </a:moveTo>
                    <a:cubicBezTo>
                      <a:pt x="1187" y="169"/>
                      <a:pt x="982" y="338"/>
                      <a:pt x="804" y="396"/>
                    </a:cubicBezTo>
                    <a:cubicBezTo>
                      <a:pt x="626" y="454"/>
                      <a:pt x="458" y="384"/>
                      <a:pt x="324" y="348"/>
                    </a:cubicBezTo>
                    <a:cubicBezTo>
                      <a:pt x="190" y="312"/>
                      <a:pt x="95" y="246"/>
                      <a:pt x="0" y="180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1509840" y="3917880"/>
                <a:ext cx="657000" cy="628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2157120" y="3909960"/>
                <a:ext cx="726840" cy="179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2973240" y="4088880"/>
                <a:ext cx="657360" cy="133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622680" y="4237200"/>
                <a:ext cx="657360" cy="182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2714400" y="4417920"/>
                <a:ext cx="1587240" cy="14623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1491840" y="4532400"/>
                <a:ext cx="1157400" cy="1279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5966280" y="3535920"/>
              <a:ext cx="231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Comic Sans MS"/>
                </a:rPr>
                <a:t>Dual Edg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370160" y="2710800"/>
            <a:ext cx="6791760" cy="3214800"/>
            <a:chOff x="1370160" y="2710800"/>
            <a:chExt cx="6791760" cy="3214800"/>
          </a:xfrm>
        </p:grpSpPr>
        <p:sp>
          <p:nvSpPr>
            <p:cNvPr id="292" name=""/>
            <p:cNvSpPr/>
            <p:nvPr/>
          </p:nvSpPr>
          <p:spPr>
            <a:xfrm>
              <a:off x="2589480" y="5727600"/>
              <a:ext cx="209160" cy="198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70160" y="4444560"/>
              <a:ext cx="209160" cy="198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46600" y="3828240"/>
              <a:ext cx="209160" cy="198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13400" y="4004640"/>
              <a:ext cx="209160" cy="198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57160" y="4156920"/>
              <a:ext cx="209160" cy="198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10920" y="4333680"/>
              <a:ext cx="209160" cy="198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62160" y="2710800"/>
              <a:ext cx="239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Dual Nod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119960" y="3405600"/>
            <a:ext cx="6928200" cy="2915640"/>
            <a:chOff x="1119960" y="3405600"/>
            <a:chExt cx="6928200" cy="2915640"/>
          </a:xfrm>
        </p:grpSpPr>
        <p:sp>
          <p:nvSpPr>
            <p:cNvPr id="300" name=""/>
            <p:cNvSpPr/>
            <p:nvPr/>
          </p:nvSpPr>
          <p:spPr>
            <a:xfrm>
              <a:off x="2333160" y="58615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62040" y="3985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19960" y="407556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64720" y="340560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34040" y="416304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2880" y="374076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01480" y="4290120"/>
              <a:ext cx="214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Comic Sans MS"/>
                </a:rPr>
                <a:t>Node labe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497600" y="3567600"/>
            <a:ext cx="6480000" cy="2053440"/>
            <a:chOff x="1497600" y="3567600"/>
            <a:chExt cx="6480000" cy="2053440"/>
          </a:xfrm>
        </p:grpSpPr>
        <p:sp>
          <p:nvSpPr>
            <p:cNvPr id="308" name=""/>
            <p:cNvSpPr/>
            <p:nvPr/>
          </p:nvSpPr>
          <p:spPr>
            <a:xfrm>
              <a:off x="1751760" y="49568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28480" y="5161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97600" y="38739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76000" y="35676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2240" y="36849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99840" y="4536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39400" y="39564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99320" y="5074560"/>
              <a:ext cx="207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Comic Sans MS"/>
                </a:rPr>
                <a:t>Edge labe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43240" y="1804680"/>
            <a:ext cx="506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ce dual ed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AB,ABC}   or   {A,AB}   or   {null, 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part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C67-EA10-4CF6-AE96-FB32DE6C92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495360" y="1555920"/>
            <a:ext cx="2955600" cy="2446200"/>
            <a:chOff x="495360" y="1555920"/>
            <a:chExt cx="2955600" cy="2446200"/>
          </a:xfrm>
        </p:grpSpPr>
        <p:sp>
          <p:nvSpPr>
            <p:cNvPr id="318" name=""/>
            <p:cNvSpPr/>
            <p:nvPr/>
          </p:nvSpPr>
          <p:spPr>
            <a:xfrm>
              <a:off x="495360" y="1820880"/>
              <a:ext cx="1946520" cy="21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8440" y="2333880"/>
              <a:ext cx="1268640" cy="10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92120" y="2644200"/>
              <a:ext cx="1636920" cy="113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12680" y="1555920"/>
              <a:ext cx="5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44080" y="2056320"/>
              <a:ext cx="5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76400" y="267048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658880" y="41101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45800" y="3142440"/>
            <a:ext cx="439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ours {A, B, 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es {{}, {A}, {A, B}, {A, B, C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98760" y="3133800"/>
            <a:ext cx="1217520" cy="43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398760" y="4280040"/>
            <a:ext cx="100656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516480" y="2591280"/>
            <a:ext cx="1941480" cy="675720"/>
            <a:chOff x="3516480" y="2591280"/>
            <a:chExt cx="1941480" cy="675720"/>
          </a:xfrm>
        </p:grpSpPr>
        <p:sp>
          <p:nvSpPr>
            <p:cNvPr id="329" name=""/>
            <p:cNvSpPr/>
            <p:nvPr/>
          </p:nvSpPr>
          <p:spPr>
            <a:xfrm>
              <a:off x="3516480" y="2736720"/>
              <a:ext cx="1411200" cy="530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90960" y="259128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bjec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382840" y="3819960"/>
            <a:ext cx="1569960" cy="744120"/>
            <a:chOff x="2382840" y="3819960"/>
            <a:chExt cx="1569960" cy="744120"/>
          </a:xfrm>
        </p:grpSpPr>
        <p:sp>
          <p:nvSpPr>
            <p:cNvPr id="332" name=""/>
            <p:cNvSpPr/>
            <p:nvPr/>
          </p:nvSpPr>
          <p:spPr>
            <a:xfrm>
              <a:off x="2382840" y="4021200"/>
              <a:ext cx="1569960" cy="542880"/>
            </a:xfrm>
            <a:custGeom>
              <a:avLst/>
              <a:gdLst/>
              <a:ahLst/>
              <a:rect l="l" t="t" r="r" b="b"/>
              <a:pathLst>
                <a:path w="989" h="342">
                  <a:moveTo>
                    <a:pt x="989" y="56"/>
                  </a:moveTo>
                  <a:cubicBezTo>
                    <a:pt x="760" y="199"/>
                    <a:pt x="532" y="342"/>
                    <a:pt x="367" y="333"/>
                  </a:cubicBezTo>
                  <a:cubicBezTo>
                    <a:pt x="202" y="324"/>
                    <a:pt x="101" y="16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52680" y="381996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ctoring abst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05720" y="4590000"/>
            <a:ext cx="2765880" cy="2127960"/>
            <a:chOff x="405720" y="4590000"/>
            <a:chExt cx="2765880" cy="2127960"/>
          </a:xfrm>
        </p:grpSpPr>
        <p:grpSp>
          <p:nvGrpSpPr>
            <p:cNvPr id="336" name=""/>
            <p:cNvGrpSpPr/>
            <p:nvPr/>
          </p:nvGrpSpPr>
          <p:grpSpPr>
            <a:xfrm>
              <a:off x="699120" y="5006160"/>
              <a:ext cx="2175120" cy="1338120"/>
              <a:chOff x="699120" y="5006160"/>
              <a:chExt cx="2175120" cy="1338120"/>
            </a:xfrm>
          </p:grpSpPr>
          <p:sp>
            <p:nvSpPr>
              <p:cNvPr id="337" name=""/>
              <p:cNvSpPr/>
              <p:nvPr/>
            </p:nvSpPr>
            <p:spPr>
              <a:xfrm>
                <a:off x="699120" y="5235480"/>
                <a:ext cx="1684080" cy="489600"/>
              </a:xfrm>
              <a:custGeom>
                <a:avLst/>
                <a:gdLst/>
                <a:ahLst/>
                <a:rect l="l" t="t" r="r" b="b"/>
                <a:pathLst>
                  <a:path w="1392" h="454">
                    <a:moveTo>
                      <a:pt x="1392" y="0"/>
                    </a:moveTo>
                    <a:cubicBezTo>
                      <a:pt x="1187" y="169"/>
                      <a:pt x="982" y="338"/>
                      <a:pt x="804" y="396"/>
                    </a:cubicBezTo>
                    <a:cubicBezTo>
                      <a:pt x="626" y="454"/>
                      <a:pt x="458" y="384"/>
                      <a:pt x="324" y="348"/>
                    </a:cubicBezTo>
                    <a:cubicBezTo>
                      <a:pt x="190" y="312"/>
                      <a:pt x="95" y="246"/>
                      <a:pt x="0" y="180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46280" y="5011200"/>
                <a:ext cx="500760" cy="426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1239480" y="5006160"/>
                <a:ext cx="554040" cy="121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flipV="1">
                <a:off x="1861200" y="5127840"/>
                <a:ext cx="500760" cy="90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356560" y="5228280"/>
                <a:ext cx="500760" cy="123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1664640" y="5351040"/>
                <a:ext cx="1209600" cy="993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flipV="1">
                <a:off x="732600" y="5428800"/>
                <a:ext cx="882000" cy="869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1569240" y="6240960"/>
              <a:ext cx="159480" cy="134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9720" y="5369760"/>
              <a:ext cx="159480" cy="133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55240" y="4951080"/>
              <a:ext cx="159480" cy="133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39880" y="5070960"/>
              <a:ext cx="159480" cy="134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07240" y="5174640"/>
              <a:ext cx="159480" cy="134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04760" y="5294160"/>
              <a:ext cx="159480" cy="134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89880" y="62582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99000" y="49834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5720" y="50450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72640" y="459000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34960" y="510444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38040" y="481752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85960" y="564336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13480" y="57837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1920" y="49071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62600" y="4699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92520" y="47808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58000" y="5358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78600" y="49644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C8C-543D-4B30-9C8F-A4418AE030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495360" y="1555920"/>
            <a:ext cx="2955600" cy="2446200"/>
            <a:chOff x="495360" y="1555920"/>
            <a:chExt cx="2955600" cy="2446200"/>
          </a:xfrm>
        </p:grpSpPr>
        <p:sp>
          <p:nvSpPr>
            <p:cNvPr id="364" name=""/>
            <p:cNvSpPr/>
            <p:nvPr/>
          </p:nvSpPr>
          <p:spPr>
            <a:xfrm>
              <a:off x="495360" y="1820880"/>
              <a:ext cx="1946520" cy="21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8440" y="2333880"/>
              <a:ext cx="1268640" cy="10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92120" y="2644200"/>
              <a:ext cx="1636920" cy="113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12680" y="1555920"/>
              <a:ext cx="5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4080" y="2056320"/>
              <a:ext cx="5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76400" y="267048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658880" y="41101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25280" y="1595160"/>
            <a:ext cx="3481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ours {A, B, 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{}, {A}, {A, B}, {A, B, C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62400" y="2938320"/>
            <a:ext cx="1571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5320" y="5478480"/>
            <a:ext cx="181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94080" y="2297160"/>
            <a:ext cx="19940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47360" y="17344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74960" y="3279600"/>
            <a:ext cx="3271680" cy="1648080"/>
          </a:xfrm>
          <a:custGeom>
            <a:avLst/>
            <a:gdLst/>
            <a:ahLst/>
            <a:rect l="l" t="t" r="r" b="b"/>
            <a:pathLst>
              <a:path w="2061" h="1038">
                <a:moveTo>
                  <a:pt x="2023" y="0"/>
                </a:moveTo>
                <a:cubicBezTo>
                  <a:pt x="1982" y="141"/>
                  <a:pt x="2061" y="688"/>
                  <a:pt x="1778" y="845"/>
                </a:cubicBezTo>
                <a:cubicBezTo>
                  <a:pt x="1495" y="1002"/>
                  <a:pt x="619" y="1038"/>
                  <a:pt x="323" y="945"/>
                </a:cubicBezTo>
                <a:cubicBezTo>
                  <a:pt x="27" y="852"/>
                  <a:pt x="67" y="426"/>
                  <a:pt x="0" y="28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90280" y="394884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99720" y="4239000"/>
            <a:ext cx="3481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{}, {A}, {A, B}, {A, B, C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{{A},{A,B}},…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45280" y="3298680"/>
            <a:ext cx="0" cy="8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ctoring tw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405720" y="4590000"/>
            <a:ext cx="2765880" cy="2127960"/>
            <a:chOff x="405720" y="4590000"/>
            <a:chExt cx="2765880" cy="2127960"/>
          </a:xfrm>
        </p:grpSpPr>
        <p:grpSp>
          <p:nvGrpSpPr>
            <p:cNvPr id="382" name=""/>
            <p:cNvGrpSpPr/>
            <p:nvPr/>
          </p:nvGrpSpPr>
          <p:grpSpPr>
            <a:xfrm>
              <a:off x="699120" y="5006160"/>
              <a:ext cx="2175120" cy="1338120"/>
              <a:chOff x="699120" y="5006160"/>
              <a:chExt cx="2175120" cy="1338120"/>
            </a:xfrm>
          </p:grpSpPr>
          <p:sp>
            <p:nvSpPr>
              <p:cNvPr id="383" name=""/>
              <p:cNvSpPr/>
              <p:nvPr/>
            </p:nvSpPr>
            <p:spPr>
              <a:xfrm>
                <a:off x="699120" y="5235480"/>
                <a:ext cx="1684080" cy="489600"/>
              </a:xfrm>
              <a:custGeom>
                <a:avLst/>
                <a:gdLst/>
                <a:ahLst/>
                <a:rect l="l" t="t" r="r" b="b"/>
                <a:pathLst>
                  <a:path w="1392" h="454">
                    <a:moveTo>
                      <a:pt x="1392" y="0"/>
                    </a:moveTo>
                    <a:cubicBezTo>
                      <a:pt x="1187" y="169"/>
                      <a:pt x="982" y="338"/>
                      <a:pt x="804" y="396"/>
                    </a:cubicBezTo>
                    <a:cubicBezTo>
                      <a:pt x="626" y="454"/>
                      <a:pt x="458" y="384"/>
                      <a:pt x="324" y="348"/>
                    </a:cubicBezTo>
                    <a:cubicBezTo>
                      <a:pt x="190" y="312"/>
                      <a:pt x="95" y="246"/>
                      <a:pt x="0" y="180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746280" y="5011200"/>
                <a:ext cx="500760" cy="426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 flipV="1">
                <a:off x="1239480" y="5006160"/>
                <a:ext cx="554040" cy="121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flipV="1">
                <a:off x="1861200" y="5127840"/>
                <a:ext cx="500760" cy="90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356560" y="5228280"/>
                <a:ext cx="500760" cy="123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64640" y="5351040"/>
                <a:ext cx="1209600" cy="993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flipV="1">
                <a:off x="732600" y="5428800"/>
                <a:ext cx="882000" cy="869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1569240" y="6240960"/>
              <a:ext cx="159480" cy="134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9720" y="5369760"/>
              <a:ext cx="159480" cy="133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240" y="4951080"/>
              <a:ext cx="159480" cy="133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39880" y="5070960"/>
              <a:ext cx="159480" cy="134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07240" y="5174640"/>
              <a:ext cx="159480" cy="134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04760" y="5294160"/>
              <a:ext cx="159480" cy="134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89880" y="62582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99000" y="49834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5720" y="50450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2640" y="459000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34960" y="510444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8040" y="481752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85960" y="564336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13480" y="57837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1920" y="49071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62600" y="4699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92520" y="47808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58000" y="5358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78600" y="49644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E2F-442D-4A06-85FD-7979EB8785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ctoring tw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52560" y="3403440"/>
            <a:ext cx="1800" cy="128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64040" y="2674800"/>
            <a:ext cx="2705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94120" y="5478480"/>
            <a:ext cx="315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94080" y="2297160"/>
            <a:ext cx="19940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47360" y="17344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74960" y="3279600"/>
            <a:ext cx="3271680" cy="1648080"/>
          </a:xfrm>
          <a:custGeom>
            <a:avLst/>
            <a:gdLst/>
            <a:ahLst/>
            <a:rect l="l" t="t" r="r" b="b"/>
            <a:pathLst>
              <a:path w="2061" h="1038">
                <a:moveTo>
                  <a:pt x="2023" y="0"/>
                </a:moveTo>
                <a:cubicBezTo>
                  <a:pt x="1982" y="141"/>
                  <a:pt x="2061" y="688"/>
                  <a:pt x="1778" y="845"/>
                </a:cubicBezTo>
                <a:cubicBezTo>
                  <a:pt x="1495" y="1002"/>
                  <a:pt x="619" y="1038"/>
                  <a:pt x="323" y="945"/>
                </a:cubicBezTo>
                <a:cubicBezTo>
                  <a:pt x="27" y="852"/>
                  <a:pt x="67" y="426"/>
                  <a:pt x="0" y="28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90280" y="394884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372360" y="4899960"/>
            <a:ext cx="17474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a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7145280" y="3298680"/>
            <a:ext cx="0" cy="132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27520" y="4901400"/>
            <a:ext cx="17474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a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46200" y="2102760"/>
            <a:ext cx="22032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uler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94880" y="2216880"/>
            <a:ext cx="22032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uler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8AA-F051-496E-92D5-AAE115403A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irst inve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52560" y="3403440"/>
            <a:ext cx="1800" cy="128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06800" y="2674800"/>
            <a:ext cx="2762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94120" y="5478480"/>
            <a:ext cx="315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94080" y="2297160"/>
            <a:ext cx="19940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47360" y="17344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74960" y="3279600"/>
            <a:ext cx="3271680" cy="1648080"/>
          </a:xfrm>
          <a:custGeom>
            <a:avLst/>
            <a:gdLst/>
            <a:ahLst/>
            <a:rect l="l" t="t" r="r" b="b"/>
            <a:pathLst>
              <a:path w="2061" h="1038">
                <a:moveTo>
                  <a:pt x="2023" y="0"/>
                </a:moveTo>
                <a:cubicBezTo>
                  <a:pt x="1982" y="141"/>
                  <a:pt x="2061" y="688"/>
                  <a:pt x="1778" y="845"/>
                </a:cubicBezTo>
                <a:cubicBezTo>
                  <a:pt x="1495" y="1002"/>
                  <a:pt x="619" y="1038"/>
                  <a:pt x="323" y="945"/>
                </a:cubicBezTo>
                <a:cubicBezTo>
                  <a:pt x="27" y="852"/>
                  <a:pt x="67" y="426"/>
                  <a:pt x="0" y="28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90280" y="394884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72360" y="4899960"/>
            <a:ext cx="1747440" cy="1015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ua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7145280" y="3298680"/>
            <a:ext cx="0" cy="132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27520" y="4901400"/>
            <a:ext cx="17474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a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686640" y="3263760"/>
            <a:ext cx="19080" cy="130176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46200" y="2102760"/>
            <a:ext cx="2203200" cy="1015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uler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94880" y="2216880"/>
            <a:ext cx="22032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uler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2DF-52C4-429C-8AA4-A0AFB1ECCE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uilding an abstract dual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n a abstract Euler diagra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3160" y="2912400"/>
            <a:ext cx="455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ours {A, B, 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es   {{}, {A},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{A, B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{A, B, C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846000" y="5155560"/>
            <a:ext cx="698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 {{}, {A},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{A, B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{A, B, C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s  {{{A},{A,B}}, {null, {A}},…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55920" y="4038480"/>
            <a:ext cx="0" cy="1060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011560" y="3701880"/>
            <a:ext cx="433440" cy="1622520"/>
          </a:xfrm>
          <a:custGeom>
            <a:avLst/>
            <a:gdLst/>
            <a:ahLst/>
            <a:rect l="l" t="t" r="r" b="b"/>
            <a:pathLst>
              <a:path w="273" h="1022">
                <a:moveTo>
                  <a:pt x="34" y="0"/>
                </a:moveTo>
                <a:cubicBezTo>
                  <a:pt x="117" y="46"/>
                  <a:pt x="201" y="92"/>
                  <a:pt x="234" y="222"/>
                </a:cubicBezTo>
                <a:cubicBezTo>
                  <a:pt x="267" y="352"/>
                  <a:pt x="273" y="645"/>
                  <a:pt x="234" y="778"/>
                </a:cubicBezTo>
                <a:cubicBezTo>
                  <a:pt x="195" y="911"/>
                  <a:pt x="97" y="966"/>
                  <a:pt x="0" y="10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608120" y="6111720"/>
            <a:ext cx="2444760" cy="409680"/>
            <a:chOff x="1608120" y="6111720"/>
            <a:chExt cx="2444760" cy="409680"/>
          </a:xfrm>
        </p:grpSpPr>
        <p:sp>
          <p:nvSpPr>
            <p:cNvPr id="443" name=""/>
            <p:cNvSpPr/>
            <p:nvPr/>
          </p:nvSpPr>
          <p:spPr>
            <a:xfrm>
              <a:off x="1608120" y="6118200"/>
              <a:ext cx="704880" cy="403200"/>
            </a:xfrm>
            <a:custGeom>
              <a:avLst/>
              <a:gdLst/>
              <a:ahLst/>
              <a:rect l="l" t="t" r="r" b="b"/>
              <a:pathLst>
                <a:path w="444" h="254">
                  <a:moveTo>
                    <a:pt x="0" y="0"/>
                  </a:moveTo>
                  <a:cubicBezTo>
                    <a:pt x="68" y="118"/>
                    <a:pt x="137" y="236"/>
                    <a:pt x="211" y="245"/>
                  </a:cubicBezTo>
                  <a:cubicBezTo>
                    <a:pt x="285" y="254"/>
                    <a:pt x="364" y="155"/>
                    <a:pt x="444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48000" y="6111720"/>
              <a:ext cx="704880" cy="403200"/>
            </a:xfrm>
            <a:custGeom>
              <a:avLst/>
              <a:gdLst/>
              <a:ahLst/>
              <a:rect l="l" t="t" r="r" b="b"/>
              <a:pathLst>
                <a:path w="444" h="254">
                  <a:moveTo>
                    <a:pt x="0" y="0"/>
                  </a:moveTo>
                  <a:cubicBezTo>
                    <a:pt x="68" y="118"/>
                    <a:pt x="137" y="236"/>
                    <a:pt x="211" y="245"/>
                  </a:cubicBezTo>
                  <a:cubicBezTo>
                    <a:pt x="285" y="254"/>
                    <a:pt x="364" y="155"/>
                    <a:pt x="444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5600880" y="3200400"/>
            <a:ext cx="329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es of the abstract dual graph match z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dges pair off nodes with labels differing by a single 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A5E-58ED-4AE8-AEB9-FA76FC206D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ructure of dual grap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9720" y="2127240"/>
            <a:ext cx="424080" cy="334800"/>
          </a:xfrm>
          <a:prstGeom prst="star5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96000" y="3857760"/>
            <a:ext cx="423720" cy="334800"/>
          </a:xfrm>
          <a:prstGeom prst="star5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28680" y="2101680"/>
            <a:ext cx="583920" cy="411120"/>
            <a:chOff x="328680" y="2101680"/>
            <a:chExt cx="583920" cy="411120"/>
          </a:xfrm>
        </p:grpSpPr>
        <p:sp>
          <p:nvSpPr>
            <p:cNvPr id="450" name=""/>
            <p:cNvSpPr/>
            <p:nvPr/>
          </p:nvSpPr>
          <p:spPr>
            <a:xfrm>
              <a:off x="328680" y="210168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8880" y="217764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52520" y="2139840"/>
            <a:ext cx="583920" cy="411120"/>
            <a:chOff x="452520" y="2139840"/>
            <a:chExt cx="583920" cy="411120"/>
          </a:xfrm>
        </p:grpSpPr>
        <p:sp>
          <p:nvSpPr>
            <p:cNvPr id="453" name=""/>
            <p:cNvSpPr/>
            <p:nvPr/>
          </p:nvSpPr>
          <p:spPr>
            <a:xfrm>
              <a:off x="452520" y="213984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2720" y="221580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571680" y="2193840"/>
            <a:ext cx="583920" cy="411120"/>
            <a:chOff x="571680" y="2193840"/>
            <a:chExt cx="583920" cy="411120"/>
          </a:xfrm>
        </p:grpSpPr>
        <p:sp>
          <p:nvSpPr>
            <p:cNvPr id="456" name=""/>
            <p:cNvSpPr/>
            <p:nvPr/>
          </p:nvSpPr>
          <p:spPr>
            <a:xfrm>
              <a:off x="571680" y="219384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1880" y="226980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85800" y="2238480"/>
            <a:ext cx="583920" cy="411120"/>
            <a:chOff x="685800" y="2238480"/>
            <a:chExt cx="583920" cy="411120"/>
          </a:xfrm>
        </p:grpSpPr>
        <p:sp>
          <p:nvSpPr>
            <p:cNvPr id="459" name=""/>
            <p:cNvSpPr/>
            <p:nvPr/>
          </p:nvSpPr>
          <p:spPr>
            <a:xfrm>
              <a:off x="685800" y="223848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6000" y="231444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804960" y="2289240"/>
            <a:ext cx="583920" cy="411120"/>
            <a:chOff x="804960" y="2289240"/>
            <a:chExt cx="583920" cy="411120"/>
          </a:xfrm>
        </p:grpSpPr>
        <p:sp>
          <p:nvSpPr>
            <p:cNvPr id="462" name=""/>
            <p:cNvSpPr/>
            <p:nvPr/>
          </p:nvSpPr>
          <p:spPr>
            <a:xfrm>
              <a:off x="804960" y="228924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65160" y="236520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933480" y="2327400"/>
            <a:ext cx="583920" cy="411120"/>
            <a:chOff x="933480" y="2327400"/>
            <a:chExt cx="583920" cy="411120"/>
          </a:xfrm>
        </p:grpSpPr>
        <p:sp>
          <p:nvSpPr>
            <p:cNvPr id="465" name=""/>
            <p:cNvSpPr/>
            <p:nvPr/>
          </p:nvSpPr>
          <p:spPr>
            <a:xfrm>
              <a:off x="933480" y="232740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93680" y="240336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062000" y="2365200"/>
            <a:ext cx="583920" cy="411120"/>
            <a:chOff x="1062000" y="2365200"/>
            <a:chExt cx="583920" cy="411120"/>
          </a:xfrm>
        </p:grpSpPr>
        <p:sp>
          <p:nvSpPr>
            <p:cNvPr id="468" name=""/>
            <p:cNvSpPr/>
            <p:nvPr/>
          </p:nvSpPr>
          <p:spPr>
            <a:xfrm>
              <a:off x="1062000" y="236520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22200" y="244116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661000" y="3746520"/>
            <a:ext cx="595440" cy="506520"/>
            <a:chOff x="5661000" y="3746520"/>
            <a:chExt cx="595440" cy="506520"/>
          </a:xfrm>
        </p:grpSpPr>
        <p:sp>
          <p:nvSpPr>
            <p:cNvPr id="471" name=""/>
            <p:cNvSpPr/>
            <p:nvPr/>
          </p:nvSpPr>
          <p:spPr>
            <a:xfrm>
              <a:off x="5756400" y="3784680"/>
              <a:ext cx="500040" cy="46836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61000" y="3746520"/>
              <a:ext cx="42408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532480" y="3632040"/>
            <a:ext cx="595440" cy="506520"/>
            <a:chOff x="5532480" y="3632040"/>
            <a:chExt cx="595440" cy="506520"/>
          </a:xfrm>
        </p:grpSpPr>
        <p:sp>
          <p:nvSpPr>
            <p:cNvPr id="474" name=""/>
            <p:cNvSpPr/>
            <p:nvPr/>
          </p:nvSpPr>
          <p:spPr>
            <a:xfrm>
              <a:off x="5627880" y="3670200"/>
              <a:ext cx="500040" cy="46836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32480" y="3632040"/>
              <a:ext cx="42408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5403960" y="3517920"/>
            <a:ext cx="594720" cy="506520"/>
            <a:chOff x="5403960" y="3517920"/>
            <a:chExt cx="594720" cy="506520"/>
          </a:xfrm>
        </p:grpSpPr>
        <p:sp>
          <p:nvSpPr>
            <p:cNvPr id="477" name=""/>
            <p:cNvSpPr/>
            <p:nvPr/>
          </p:nvSpPr>
          <p:spPr>
            <a:xfrm>
              <a:off x="5499000" y="3556080"/>
              <a:ext cx="499680" cy="46836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03960" y="351792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5275440" y="3403440"/>
            <a:ext cx="594720" cy="506520"/>
            <a:chOff x="5275440" y="3403440"/>
            <a:chExt cx="594720" cy="506520"/>
          </a:xfrm>
        </p:grpSpPr>
        <p:sp>
          <p:nvSpPr>
            <p:cNvPr id="480" name=""/>
            <p:cNvSpPr/>
            <p:nvPr/>
          </p:nvSpPr>
          <p:spPr>
            <a:xfrm>
              <a:off x="5370480" y="3441600"/>
              <a:ext cx="499680" cy="46836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75440" y="340344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141880" y="3303720"/>
            <a:ext cx="595440" cy="505800"/>
            <a:chOff x="5141880" y="3303720"/>
            <a:chExt cx="595440" cy="505800"/>
          </a:xfrm>
        </p:grpSpPr>
        <p:sp>
          <p:nvSpPr>
            <p:cNvPr id="483" name=""/>
            <p:cNvSpPr/>
            <p:nvPr/>
          </p:nvSpPr>
          <p:spPr>
            <a:xfrm>
              <a:off x="5237280" y="3341520"/>
              <a:ext cx="500040" cy="4680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41880" y="3303720"/>
              <a:ext cx="42408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5008680" y="3193920"/>
            <a:ext cx="594720" cy="506520"/>
            <a:chOff x="5008680" y="3193920"/>
            <a:chExt cx="594720" cy="506520"/>
          </a:xfrm>
        </p:grpSpPr>
        <p:sp>
          <p:nvSpPr>
            <p:cNvPr id="486" name=""/>
            <p:cNvSpPr/>
            <p:nvPr/>
          </p:nvSpPr>
          <p:spPr>
            <a:xfrm>
              <a:off x="5103720" y="3232080"/>
              <a:ext cx="499680" cy="46836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08680" y="319392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4875120" y="3079800"/>
            <a:ext cx="595440" cy="506520"/>
            <a:chOff x="4875120" y="3079800"/>
            <a:chExt cx="595440" cy="506520"/>
          </a:xfrm>
        </p:grpSpPr>
        <p:sp>
          <p:nvSpPr>
            <p:cNvPr id="489" name=""/>
            <p:cNvSpPr/>
            <p:nvPr/>
          </p:nvSpPr>
          <p:spPr>
            <a:xfrm>
              <a:off x="4970520" y="3117960"/>
              <a:ext cx="500040" cy="46836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875120" y="3079800"/>
              <a:ext cx="42408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741920" y="2965320"/>
            <a:ext cx="594720" cy="506520"/>
            <a:chOff x="4741920" y="2965320"/>
            <a:chExt cx="594720" cy="506520"/>
          </a:xfrm>
        </p:grpSpPr>
        <p:sp>
          <p:nvSpPr>
            <p:cNvPr id="492" name=""/>
            <p:cNvSpPr/>
            <p:nvPr/>
          </p:nvSpPr>
          <p:spPr>
            <a:xfrm>
              <a:off x="4836960" y="3003480"/>
              <a:ext cx="499680" cy="46836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41920" y="296532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684680" y="2870280"/>
            <a:ext cx="519120" cy="487440"/>
            <a:chOff x="4684680" y="2870280"/>
            <a:chExt cx="519120" cy="487440"/>
          </a:xfrm>
        </p:grpSpPr>
        <p:sp>
          <p:nvSpPr>
            <p:cNvPr id="495" name=""/>
            <p:cNvSpPr/>
            <p:nvPr/>
          </p:nvSpPr>
          <p:spPr>
            <a:xfrm>
              <a:off x="4703400" y="2889360"/>
              <a:ext cx="500400" cy="46836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84680" y="287028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189080" y="2403360"/>
            <a:ext cx="500040" cy="468360"/>
            <a:chOff x="1189080" y="2403360"/>
            <a:chExt cx="500040" cy="468360"/>
          </a:xfrm>
        </p:grpSpPr>
        <p:sp>
          <p:nvSpPr>
            <p:cNvPr id="498" name=""/>
            <p:cNvSpPr/>
            <p:nvPr/>
          </p:nvSpPr>
          <p:spPr>
            <a:xfrm>
              <a:off x="1189080" y="2403360"/>
              <a:ext cx="500040" cy="3924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46320" y="253692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1208160" y="2498760"/>
            <a:ext cx="500040" cy="468360"/>
            <a:chOff x="1208160" y="2498760"/>
            <a:chExt cx="500040" cy="468360"/>
          </a:xfrm>
        </p:grpSpPr>
        <p:sp>
          <p:nvSpPr>
            <p:cNvPr id="501" name=""/>
            <p:cNvSpPr/>
            <p:nvPr/>
          </p:nvSpPr>
          <p:spPr>
            <a:xfrm>
              <a:off x="1208160" y="2498760"/>
              <a:ext cx="500040" cy="3924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65400" y="263232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236600" y="2598840"/>
            <a:ext cx="500040" cy="468360"/>
            <a:chOff x="1236600" y="2598840"/>
            <a:chExt cx="500040" cy="468360"/>
          </a:xfrm>
        </p:grpSpPr>
        <p:sp>
          <p:nvSpPr>
            <p:cNvPr id="504" name=""/>
            <p:cNvSpPr/>
            <p:nvPr/>
          </p:nvSpPr>
          <p:spPr>
            <a:xfrm>
              <a:off x="1236600" y="2598840"/>
              <a:ext cx="500040" cy="3924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293840" y="273240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265400" y="2708280"/>
            <a:ext cx="500040" cy="468360"/>
            <a:chOff x="1265400" y="2708280"/>
            <a:chExt cx="500040" cy="468360"/>
          </a:xfrm>
        </p:grpSpPr>
        <p:sp>
          <p:nvSpPr>
            <p:cNvPr id="507" name=""/>
            <p:cNvSpPr/>
            <p:nvPr/>
          </p:nvSpPr>
          <p:spPr>
            <a:xfrm>
              <a:off x="1265400" y="2708280"/>
              <a:ext cx="500040" cy="3924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22640" y="284184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1293840" y="2808360"/>
            <a:ext cx="500040" cy="468360"/>
            <a:chOff x="1293840" y="2808360"/>
            <a:chExt cx="500040" cy="468360"/>
          </a:xfrm>
        </p:grpSpPr>
        <p:sp>
          <p:nvSpPr>
            <p:cNvPr id="510" name=""/>
            <p:cNvSpPr/>
            <p:nvPr/>
          </p:nvSpPr>
          <p:spPr>
            <a:xfrm>
              <a:off x="1293840" y="2808360"/>
              <a:ext cx="500040" cy="3924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51080" y="294192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637160" y="2808360"/>
            <a:ext cx="576360" cy="425520"/>
            <a:chOff x="4637160" y="2808360"/>
            <a:chExt cx="576360" cy="425520"/>
          </a:xfrm>
        </p:grpSpPr>
        <p:sp>
          <p:nvSpPr>
            <p:cNvPr id="513" name=""/>
            <p:cNvSpPr/>
            <p:nvPr/>
          </p:nvSpPr>
          <p:spPr>
            <a:xfrm>
              <a:off x="4637160" y="2841480"/>
              <a:ext cx="500040" cy="3924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89440" y="2808360"/>
              <a:ext cx="42408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746600" y="2746440"/>
            <a:ext cx="576360" cy="425520"/>
            <a:chOff x="4746600" y="2746440"/>
            <a:chExt cx="576360" cy="425520"/>
          </a:xfrm>
        </p:grpSpPr>
        <p:sp>
          <p:nvSpPr>
            <p:cNvPr id="516" name=""/>
            <p:cNvSpPr/>
            <p:nvPr/>
          </p:nvSpPr>
          <p:spPr>
            <a:xfrm>
              <a:off x="4746600" y="2779560"/>
              <a:ext cx="500040" cy="3924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98880" y="2746440"/>
              <a:ext cx="42408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851360" y="2679840"/>
            <a:ext cx="576360" cy="424800"/>
            <a:chOff x="4851360" y="2679840"/>
            <a:chExt cx="576360" cy="424800"/>
          </a:xfrm>
        </p:grpSpPr>
        <p:sp>
          <p:nvSpPr>
            <p:cNvPr id="519" name=""/>
            <p:cNvSpPr/>
            <p:nvPr/>
          </p:nvSpPr>
          <p:spPr>
            <a:xfrm>
              <a:off x="4851360" y="271260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03640" y="2679840"/>
              <a:ext cx="424080" cy="33444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4956120" y="2612880"/>
            <a:ext cx="576360" cy="425520"/>
            <a:chOff x="4956120" y="2612880"/>
            <a:chExt cx="576360" cy="425520"/>
          </a:xfrm>
        </p:grpSpPr>
        <p:sp>
          <p:nvSpPr>
            <p:cNvPr id="522" name=""/>
            <p:cNvSpPr/>
            <p:nvPr/>
          </p:nvSpPr>
          <p:spPr>
            <a:xfrm>
              <a:off x="4956120" y="2646000"/>
              <a:ext cx="500040" cy="3924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08400" y="2612880"/>
              <a:ext cx="42408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5070600" y="2522520"/>
            <a:ext cx="552240" cy="449280"/>
            <a:chOff x="5070600" y="2522520"/>
            <a:chExt cx="552240" cy="449280"/>
          </a:xfrm>
        </p:grpSpPr>
        <p:sp>
          <p:nvSpPr>
            <p:cNvPr id="525" name=""/>
            <p:cNvSpPr/>
            <p:nvPr/>
          </p:nvSpPr>
          <p:spPr>
            <a:xfrm>
              <a:off x="5070600" y="257976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99120" y="252252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5165640" y="2432160"/>
            <a:ext cx="552240" cy="449280"/>
            <a:chOff x="5165640" y="2432160"/>
            <a:chExt cx="552240" cy="449280"/>
          </a:xfrm>
        </p:grpSpPr>
        <p:sp>
          <p:nvSpPr>
            <p:cNvPr id="528" name=""/>
            <p:cNvSpPr/>
            <p:nvPr/>
          </p:nvSpPr>
          <p:spPr>
            <a:xfrm>
              <a:off x="5165640" y="248940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94160" y="243216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256360" y="2355840"/>
            <a:ext cx="519120" cy="439920"/>
            <a:chOff x="5256360" y="2355840"/>
            <a:chExt cx="519120" cy="439920"/>
          </a:xfrm>
        </p:grpSpPr>
        <p:sp>
          <p:nvSpPr>
            <p:cNvPr id="531" name=""/>
            <p:cNvSpPr/>
            <p:nvPr/>
          </p:nvSpPr>
          <p:spPr>
            <a:xfrm>
              <a:off x="5256360" y="2403360"/>
              <a:ext cx="500040" cy="3924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51400" y="2355840"/>
              <a:ext cx="42408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312920" y="2903400"/>
            <a:ext cx="528480" cy="444600"/>
            <a:chOff x="1312920" y="2903400"/>
            <a:chExt cx="528480" cy="444600"/>
          </a:xfrm>
        </p:grpSpPr>
        <p:sp>
          <p:nvSpPr>
            <p:cNvPr id="534" name=""/>
            <p:cNvSpPr/>
            <p:nvPr/>
          </p:nvSpPr>
          <p:spPr>
            <a:xfrm>
              <a:off x="1312920" y="2903400"/>
              <a:ext cx="500040" cy="3924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17680" y="301320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1374840" y="2984400"/>
            <a:ext cx="528480" cy="444600"/>
            <a:chOff x="1374840" y="2984400"/>
            <a:chExt cx="528480" cy="444600"/>
          </a:xfrm>
        </p:grpSpPr>
        <p:sp>
          <p:nvSpPr>
            <p:cNvPr id="537" name=""/>
            <p:cNvSpPr/>
            <p:nvPr/>
          </p:nvSpPr>
          <p:spPr>
            <a:xfrm>
              <a:off x="1374840" y="2984400"/>
              <a:ext cx="500040" cy="3924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479600" y="309420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441440" y="3065400"/>
            <a:ext cx="528480" cy="444600"/>
            <a:chOff x="1441440" y="3065400"/>
            <a:chExt cx="528480" cy="444600"/>
          </a:xfrm>
        </p:grpSpPr>
        <p:sp>
          <p:nvSpPr>
            <p:cNvPr id="540" name=""/>
            <p:cNvSpPr/>
            <p:nvPr/>
          </p:nvSpPr>
          <p:spPr>
            <a:xfrm>
              <a:off x="1441440" y="3065400"/>
              <a:ext cx="500040" cy="3924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46200" y="317520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1508040" y="3141720"/>
            <a:ext cx="528480" cy="444600"/>
            <a:chOff x="1508040" y="3141720"/>
            <a:chExt cx="528480" cy="444600"/>
          </a:xfrm>
        </p:grpSpPr>
        <p:sp>
          <p:nvSpPr>
            <p:cNvPr id="543" name=""/>
            <p:cNvSpPr/>
            <p:nvPr/>
          </p:nvSpPr>
          <p:spPr>
            <a:xfrm>
              <a:off x="1508040" y="3141720"/>
              <a:ext cx="500040" cy="3924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12800" y="325152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569960" y="3222720"/>
            <a:ext cx="528480" cy="443880"/>
            <a:chOff x="1569960" y="3222720"/>
            <a:chExt cx="528480" cy="443880"/>
          </a:xfrm>
        </p:grpSpPr>
        <p:sp>
          <p:nvSpPr>
            <p:cNvPr id="546" name=""/>
            <p:cNvSpPr/>
            <p:nvPr/>
          </p:nvSpPr>
          <p:spPr>
            <a:xfrm>
              <a:off x="1569960" y="322272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74720" y="3332160"/>
              <a:ext cx="423720" cy="33444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631880" y="3303720"/>
            <a:ext cx="528480" cy="443880"/>
            <a:chOff x="1631880" y="3303720"/>
            <a:chExt cx="528480" cy="443880"/>
          </a:xfrm>
        </p:grpSpPr>
        <p:sp>
          <p:nvSpPr>
            <p:cNvPr id="549" name=""/>
            <p:cNvSpPr/>
            <p:nvPr/>
          </p:nvSpPr>
          <p:spPr>
            <a:xfrm>
              <a:off x="1631880" y="330372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36640" y="3413160"/>
              <a:ext cx="423720" cy="33444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322960" y="2327400"/>
            <a:ext cx="576360" cy="392040"/>
            <a:chOff x="5322960" y="2327400"/>
            <a:chExt cx="576360" cy="392040"/>
          </a:xfrm>
        </p:grpSpPr>
        <p:sp>
          <p:nvSpPr>
            <p:cNvPr id="552" name=""/>
            <p:cNvSpPr/>
            <p:nvPr/>
          </p:nvSpPr>
          <p:spPr>
            <a:xfrm>
              <a:off x="5322960" y="232740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75240" y="2365200"/>
              <a:ext cx="42408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5437080" y="2336760"/>
            <a:ext cx="576360" cy="392040"/>
            <a:chOff x="5437080" y="2336760"/>
            <a:chExt cx="576360" cy="392040"/>
          </a:xfrm>
        </p:grpSpPr>
        <p:sp>
          <p:nvSpPr>
            <p:cNvPr id="555" name=""/>
            <p:cNvSpPr/>
            <p:nvPr/>
          </p:nvSpPr>
          <p:spPr>
            <a:xfrm>
              <a:off x="5437080" y="233676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89360" y="2374560"/>
              <a:ext cx="42408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5546880" y="2351160"/>
            <a:ext cx="575640" cy="392040"/>
            <a:chOff x="5546880" y="2351160"/>
            <a:chExt cx="575640" cy="392040"/>
          </a:xfrm>
        </p:grpSpPr>
        <p:sp>
          <p:nvSpPr>
            <p:cNvPr id="558" name=""/>
            <p:cNvSpPr/>
            <p:nvPr/>
          </p:nvSpPr>
          <p:spPr>
            <a:xfrm>
              <a:off x="5546880" y="2351160"/>
              <a:ext cx="49968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98800" y="238896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5656320" y="2367000"/>
            <a:ext cx="576360" cy="392040"/>
            <a:chOff x="5656320" y="2367000"/>
            <a:chExt cx="576360" cy="392040"/>
          </a:xfrm>
        </p:grpSpPr>
        <p:sp>
          <p:nvSpPr>
            <p:cNvPr id="561" name=""/>
            <p:cNvSpPr/>
            <p:nvPr/>
          </p:nvSpPr>
          <p:spPr>
            <a:xfrm>
              <a:off x="5656320" y="236700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808600" y="2404800"/>
              <a:ext cx="42408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5765760" y="2379600"/>
            <a:ext cx="547560" cy="392040"/>
            <a:chOff x="5765760" y="2379600"/>
            <a:chExt cx="547560" cy="392040"/>
          </a:xfrm>
        </p:grpSpPr>
        <p:sp>
          <p:nvSpPr>
            <p:cNvPr id="564" name=""/>
            <p:cNvSpPr/>
            <p:nvPr/>
          </p:nvSpPr>
          <p:spPr>
            <a:xfrm>
              <a:off x="5765760" y="237960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889600" y="243216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851440" y="2408400"/>
            <a:ext cx="547560" cy="392040"/>
            <a:chOff x="5851440" y="2408400"/>
            <a:chExt cx="547560" cy="392040"/>
          </a:xfrm>
        </p:grpSpPr>
        <p:sp>
          <p:nvSpPr>
            <p:cNvPr id="567" name=""/>
            <p:cNvSpPr/>
            <p:nvPr/>
          </p:nvSpPr>
          <p:spPr>
            <a:xfrm>
              <a:off x="5851440" y="240840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75280" y="246096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1703520" y="3390840"/>
            <a:ext cx="614160" cy="396720"/>
            <a:chOff x="1703520" y="3390840"/>
            <a:chExt cx="614160" cy="396720"/>
          </a:xfrm>
        </p:grpSpPr>
        <p:sp>
          <p:nvSpPr>
            <p:cNvPr id="570" name=""/>
            <p:cNvSpPr/>
            <p:nvPr/>
          </p:nvSpPr>
          <p:spPr>
            <a:xfrm>
              <a:off x="1703520" y="339084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93960" y="345276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855800" y="3432240"/>
            <a:ext cx="614160" cy="396720"/>
            <a:chOff x="1855800" y="3432240"/>
            <a:chExt cx="614160" cy="396720"/>
          </a:xfrm>
        </p:grpSpPr>
        <p:sp>
          <p:nvSpPr>
            <p:cNvPr id="573" name=""/>
            <p:cNvSpPr/>
            <p:nvPr/>
          </p:nvSpPr>
          <p:spPr>
            <a:xfrm>
              <a:off x="1855800" y="343224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46240" y="349416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008080" y="3465360"/>
            <a:ext cx="614160" cy="396720"/>
            <a:chOff x="2008080" y="3465360"/>
            <a:chExt cx="614160" cy="396720"/>
          </a:xfrm>
        </p:grpSpPr>
        <p:sp>
          <p:nvSpPr>
            <p:cNvPr id="576" name=""/>
            <p:cNvSpPr/>
            <p:nvPr/>
          </p:nvSpPr>
          <p:spPr>
            <a:xfrm>
              <a:off x="2008080" y="346536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98520" y="352728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942160" y="2438280"/>
            <a:ext cx="552240" cy="392400"/>
            <a:chOff x="5942160" y="2438280"/>
            <a:chExt cx="552240" cy="392400"/>
          </a:xfrm>
        </p:grpSpPr>
        <p:sp>
          <p:nvSpPr>
            <p:cNvPr id="579" name=""/>
            <p:cNvSpPr/>
            <p:nvPr/>
          </p:nvSpPr>
          <p:spPr>
            <a:xfrm>
              <a:off x="5942160" y="2438280"/>
              <a:ext cx="500040" cy="3924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070680" y="248616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6027840" y="2465280"/>
            <a:ext cx="552240" cy="392400"/>
            <a:chOff x="6027840" y="2465280"/>
            <a:chExt cx="552240" cy="392400"/>
          </a:xfrm>
        </p:grpSpPr>
        <p:sp>
          <p:nvSpPr>
            <p:cNvPr id="582" name=""/>
            <p:cNvSpPr/>
            <p:nvPr/>
          </p:nvSpPr>
          <p:spPr>
            <a:xfrm>
              <a:off x="6027840" y="2465280"/>
              <a:ext cx="500040" cy="3924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56360" y="251316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113520" y="2479680"/>
            <a:ext cx="552240" cy="392040"/>
            <a:chOff x="6113520" y="2479680"/>
            <a:chExt cx="552240" cy="392040"/>
          </a:xfrm>
        </p:grpSpPr>
        <p:sp>
          <p:nvSpPr>
            <p:cNvPr id="585" name=""/>
            <p:cNvSpPr/>
            <p:nvPr/>
          </p:nvSpPr>
          <p:spPr>
            <a:xfrm>
              <a:off x="6113520" y="247968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42040" y="2527200"/>
              <a:ext cx="423720" cy="33444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203880" y="2503440"/>
            <a:ext cx="552240" cy="392040"/>
            <a:chOff x="6203880" y="2503440"/>
            <a:chExt cx="552240" cy="392040"/>
          </a:xfrm>
        </p:grpSpPr>
        <p:sp>
          <p:nvSpPr>
            <p:cNvPr id="588" name=""/>
            <p:cNvSpPr/>
            <p:nvPr/>
          </p:nvSpPr>
          <p:spPr>
            <a:xfrm>
              <a:off x="6203880" y="250344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32400" y="2550960"/>
              <a:ext cx="423720" cy="33444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299280" y="2522520"/>
            <a:ext cx="552240" cy="392040"/>
            <a:chOff x="6299280" y="2522520"/>
            <a:chExt cx="552240" cy="392040"/>
          </a:xfrm>
        </p:grpSpPr>
        <p:sp>
          <p:nvSpPr>
            <p:cNvPr id="591" name=""/>
            <p:cNvSpPr/>
            <p:nvPr/>
          </p:nvSpPr>
          <p:spPr>
            <a:xfrm>
              <a:off x="6299280" y="252252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27800" y="2570040"/>
              <a:ext cx="423720" cy="33444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394320" y="2541600"/>
            <a:ext cx="552240" cy="392040"/>
            <a:chOff x="6394320" y="2541600"/>
            <a:chExt cx="552240" cy="392040"/>
          </a:xfrm>
        </p:grpSpPr>
        <p:sp>
          <p:nvSpPr>
            <p:cNvPr id="594" name=""/>
            <p:cNvSpPr/>
            <p:nvPr/>
          </p:nvSpPr>
          <p:spPr>
            <a:xfrm>
              <a:off x="6394320" y="254160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22840" y="2589120"/>
              <a:ext cx="423720" cy="33444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477120" y="2560680"/>
            <a:ext cx="558720" cy="392040"/>
            <a:chOff x="6477120" y="2560680"/>
            <a:chExt cx="558720" cy="392040"/>
          </a:xfrm>
        </p:grpSpPr>
        <p:sp>
          <p:nvSpPr>
            <p:cNvPr id="597" name=""/>
            <p:cNvSpPr/>
            <p:nvPr/>
          </p:nvSpPr>
          <p:spPr>
            <a:xfrm>
              <a:off x="6477120" y="256068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611760" y="2608200"/>
              <a:ext cx="42408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2160720" y="3510000"/>
            <a:ext cx="556920" cy="460440"/>
            <a:chOff x="2160720" y="3510000"/>
            <a:chExt cx="556920" cy="460440"/>
          </a:xfrm>
        </p:grpSpPr>
        <p:sp>
          <p:nvSpPr>
            <p:cNvPr id="600" name=""/>
            <p:cNvSpPr/>
            <p:nvPr/>
          </p:nvSpPr>
          <p:spPr>
            <a:xfrm>
              <a:off x="2160720" y="351000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293920" y="363528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2262240" y="3611520"/>
            <a:ext cx="556920" cy="460440"/>
            <a:chOff x="2262240" y="3611520"/>
            <a:chExt cx="556920" cy="460440"/>
          </a:xfrm>
        </p:grpSpPr>
        <p:sp>
          <p:nvSpPr>
            <p:cNvPr id="603" name=""/>
            <p:cNvSpPr/>
            <p:nvPr/>
          </p:nvSpPr>
          <p:spPr>
            <a:xfrm>
              <a:off x="2262240" y="361152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95440" y="373680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363760" y="3706920"/>
            <a:ext cx="556920" cy="460440"/>
            <a:chOff x="2363760" y="3706920"/>
            <a:chExt cx="556920" cy="460440"/>
          </a:xfrm>
        </p:grpSpPr>
        <p:sp>
          <p:nvSpPr>
            <p:cNvPr id="606" name=""/>
            <p:cNvSpPr/>
            <p:nvPr/>
          </p:nvSpPr>
          <p:spPr>
            <a:xfrm>
              <a:off x="2363760" y="370692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496960" y="383220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459160" y="3808440"/>
            <a:ext cx="512640" cy="428760"/>
            <a:chOff x="2459160" y="3808440"/>
            <a:chExt cx="512640" cy="428760"/>
          </a:xfrm>
        </p:grpSpPr>
        <p:sp>
          <p:nvSpPr>
            <p:cNvPr id="609" name=""/>
            <p:cNvSpPr/>
            <p:nvPr/>
          </p:nvSpPr>
          <p:spPr>
            <a:xfrm>
              <a:off x="2459160" y="380844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548080" y="390204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6578640" y="2579760"/>
            <a:ext cx="558720" cy="392040"/>
            <a:chOff x="6578640" y="2579760"/>
            <a:chExt cx="558720" cy="392040"/>
          </a:xfrm>
        </p:grpSpPr>
        <p:sp>
          <p:nvSpPr>
            <p:cNvPr id="612" name=""/>
            <p:cNvSpPr/>
            <p:nvPr/>
          </p:nvSpPr>
          <p:spPr>
            <a:xfrm>
              <a:off x="6578640" y="257976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13280" y="2627280"/>
              <a:ext cx="42408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673680" y="2598840"/>
            <a:ext cx="558720" cy="392040"/>
            <a:chOff x="6673680" y="2598840"/>
            <a:chExt cx="558720" cy="392040"/>
          </a:xfrm>
        </p:grpSpPr>
        <p:sp>
          <p:nvSpPr>
            <p:cNvPr id="615" name=""/>
            <p:cNvSpPr/>
            <p:nvPr/>
          </p:nvSpPr>
          <p:spPr>
            <a:xfrm>
              <a:off x="6673680" y="259884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08320" y="2646360"/>
              <a:ext cx="42408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6781680" y="2617920"/>
            <a:ext cx="558720" cy="392040"/>
            <a:chOff x="6781680" y="2617920"/>
            <a:chExt cx="558720" cy="392040"/>
          </a:xfrm>
        </p:grpSpPr>
        <p:sp>
          <p:nvSpPr>
            <p:cNvPr id="618" name=""/>
            <p:cNvSpPr/>
            <p:nvPr/>
          </p:nvSpPr>
          <p:spPr>
            <a:xfrm>
              <a:off x="6781680" y="261792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16320" y="2665440"/>
              <a:ext cx="42408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6883560" y="2637000"/>
            <a:ext cx="558720" cy="392040"/>
            <a:chOff x="6883560" y="2637000"/>
            <a:chExt cx="558720" cy="392040"/>
          </a:xfrm>
        </p:grpSpPr>
        <p:sp>
          <p:nvSpPr>
            <p:cNvPr id="621" name=""/>
            <p:cNvSpPr/>
            <p:nvPr/>
          </p:nvSpPr>
          <p:spPr>
            <a:xfrm>
              <a:off x="6883560" y="263700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018200" y="2684520"/>
              <a:ext cx="42408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6991200" y="2655720"/>
            <a:ext cx="558720" cy="392040"/>
            <a:chOff x="6991200" y="2655720"/>
            <a:chExt cx="558720" cy="392040"/>
          </a:xfrm>
        </p:grpSpPr>
        <p:sp>
          <p:nvSpPr>
            <p:cNvPr id="624" name=""/>
            <p:cNvSpPr/>
            <p:nvPr/>
          </p:nvSpPr>
          <p:spPr>
            <a:xfrm>
              <a:off x="6991200" y="265572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125840" y="2703240"/>
              <a:ext cx="42408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7080120" y="2674800"/>
            <a:ext cx="558720" cy="392040"/>
            <a:chOff x="7080120" y="2674800"/>
            <a:chExt cx="558720" cy="392040"/>
          </a:xfrm>
        </p:grpSpPr>
        <p:sp>
          <p:nvSpPr>
            <p:cNvPr id="627" name=""/>
            <p:cNvSpPr/>
            <p:nvPr/>
          </p:nvSpPr>
          <p:spPr>
            <a:xfrm>
              <a:off x="7080120" y="267480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14760" y="2722320"/>
              <a:ext cx="42408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2509920" y="3884760"/>
            <a:ext cx="563400" cy="392040"/>
            <a:chOff x="2509920" y="3884760"/>
            <a:chExt cx="563400" cy="392040"/>
          </a:xfrm>
        </p:grpSpPr>
        <p:sp>
          <p:nvSpPr>
            <p:cNvPr id="630" name=""/>
            <p:cNvSpPr/>
            <p:nvPr/>
          </p:nvSpPr>
          <p:spPr>
            <a:xfrm>
              <a:off x="2509920" y="388476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49600" y="390852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611440" y="3884760"/>
            <a:ext cx="563400" cy="392040"/>
            <a:chOff x="2611440" y="3884760"/>
            <a:chExt cx="563400" cy="392040"/>
          </a:xfrm>
        </p:grpSpPr>
        <p:sp>
          <p:nvSpPr>
            <p:cNvPr id="633" name=""/>
            <p:cNvSpPr/>
            <p:nvPr/>
          </p:nvSpPr>
          <p:spPr>
            <a:xfrm>
              <a:off x="2611440" y="388476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51120" y="390852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2719440" y="3884760"/>
            <a:ext cx="563400" cy="392040"/>
            <a:chOff x="2719440" y="3884760"/>
            <a:chExt cx="563400" cy="392040"/>
          </a:xfrm>
        </p:grpSpPr>
        <p:sp>
          <p:nvSpPr>
            <p:cNvPr id="636" name=""/>
            <p:cNvSpPr/>
            <p:nvPr/>
          </p:nvSpPr>
          <p:spPr>
            <a:xfrm>
              <a:off x="2719440" y="388476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59120" y="390852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2827440" y="3884760"/>
            <a:ext cx="563400" cy="392040"/>
            <a:chOff x="2827440" y="3884760"/>
            <a:chExt cx="563400" cy="392040"/>
          </a:xfrm>
        </p:grpSpPr>
        <p:sp>
          <p:nvSpPr>
            <p:cNvPr id="639" name=""/>
            <p:cNvSpPr/>
            <p:nvPr/>
          </p:nvSpPr>
          <p:spPr>
            <a:xfrm>
              <a:off x="2827440" y="388476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967120" y="390852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2928960" y="3884760"/>
            <a:ext cx="563400" cy="392040"/>
            <a:chOff x="2928960" y="3884760"/>
            <a:chExt cx="563400" cy="392040"/>
          </a:xfrm>
        </p:grpSpPr>
        <p:sp>
          <p:nvSpPr>
            <p:cNvPr id="642" name=""/>
            <p:cNvSpPr/>
            <p:nvPr/>
          </p:nvSpPr>
          <p:spPr>
            <a:xfrm>
              <a:off x="2928960" y="388476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068640" y="390852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036960" y="3884760"/>
            <a:ext cx="563400" cy="392040"/>
            <a:chOff x="3036960" y="3884760"/>
            <a:chExt cx="563400" cy="392040"/>
          </a:xfrm>
        </p:grpSpPr>
        <p:sp>
          <p:nvSpPr>
            <p:cNvPr id="645" name=""/>
            <p:cNvSpPr/>
            <p:nvPr/>
          </p:nvSpPr>
          <p:spPr>
            <a:xfrm>
              <a:off x="3036960" y="388476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76640" y="390852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126200" y="2693880"/>
            <a:ext cx="555840" cy="439920"/>
            <a:chOff x="7126200" y="2693880"/>
            <a:chExt cx="555840" cy="439920"/>
          </a:xfrm>
        </p:grpSpPr>
        <p:sp>
          <p:nvSpPr>
            <p:cNvPr id="648" name=""/>
            <p:cNvSpPr/>
            <p:nvPr/>
          </p:nvSpPr>
          <p:spPr>
            <a:xfrm>
              <a:off x="7182000" y="2693880"/>
              <a:ext cx="500040" cy="3924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26200" y="2798640"/>
              <a:ext cx="42408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7031160" y="2770200"/>
            <a:ext cx="555120" cy="439200"/>
            <a:chOff x="7031160" y="2770200"/>
            <a:chExt cx="555120" cy="439200"/>
          </a:xfrm>
        </p:grpSpPr>
        <p:sp>
          <p:nvSpPr>
            <p:cNvPr id="651" name=""/>
            <p:cNvSpPr/>
            <p:nvPr/>
          </p:nvSpPr>
          <p:spPr>
            <a:xfrm>
              <a:off x="7086600" y="2770200"/>
              <a:ext cx="49968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31160" y="287460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6935760" y="2846520"/>
            <a:ext cx="555120" cy="439200"/>
            <a:chOff x="6935760" y="2846520"/>
            <a:chExt cx="555120" cy="439200"/>
          </a:xfrm>
        </p:grpSpPr>
        <p:sp>
          <p:nvSpPr>
            <p:cNvPr id="654" name=""/>
            <p:cNvSpPr/>
            <p:nvPr/>
          </p:nvSpPr>
          <p:spPr>
            <a:xfrm>
              <a:off x="6991200" y="2846520"/>
              <a:ext cx="49968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35760" y="295092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6846840" y="2928960"/>
            <a:ext cx="555840" cy="439200"/>
            <a:chOff x="6846840" y="2928960"/>
            <a:chExt cx="555840" cy="439200"/>
          </a:xfrm>
        </p:grpSpPr>
        <p:sp>
          <p:nvSpPr>
            <p:cNvPr id="657" name=""/>
            <p:cNvSpPr/>
            <p:nvPr/>
          </p:nvSpPr>
          <p:spPr>
            <a:xfrm>
              <a:off x="6902640" y="292896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46840" y="3033360"/>
              <a:ext cx="42408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57920" y="3005280"/>
            <a:ext cx="555840" cy="439200"/>
            <a:chOff x="6757920" y="3005280"/>
            <a:chExt cx="555840" cy="439200"/>
          </a:xfrm>
        </p:grpSpPr>
        <p:sp>
          <p:nvSpPr>
            <p:cNvPr id="660" name=""/>
            <p:cNvSpPr/>
            <p:nvPr/>
          </p:nvSpPr>
          <p:spPr>
            <a:xfrm>
              <a:off x="6813720" y="300528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57920" y="3109680"/>
              <a:ext cx="42408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6669000" y="3087720"/>
            <a:ext cx="555840" cy="439200"/>
            <a:chOff x="6669000" y="3087720"/>
            <a:chExt cx="555840" cy="439200"/>
          </a:xfrm>
        </p:grpSpPr>
        <p:sp>
          <p:nvSpPr>
            <p:cNvPr id="663" name=""/>
            <p:cNvSpPr/>
            <p:nvPr/>
          </p:nvSpPr>
          <p:spPr>
            <a:xfrm>
              <a:off x="6724800" y="308772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669000" y="3192120"/>
              <a:ext cx="42408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567480" y="3164040"/>
            <a:ext cx="555120" cy="439200"/>
            <a:chOff x="6567480" y="3164040"/>
            <a:chExt cx="555120" cy="439200"/>
          </a:xfrm>
        </p:grpSpPr>
        <p:sp>
          <p:nvSpPr>
            <p:cNvPr id="666" name=""/>
            <p:cNvSpPr/>
            <p:nvPr/>
          </p:nvSpPr>
          <p:spPr>
            <a:xfrm>
              <a:off x="6622920" y="3164040"/>
              <a:ext cx="49968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67480" y="326844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6478560" y="3240000"/>
            <a:ext cx="555120" cy="439920"/>
            <a:chOff x="6478560" y="3240000"/>
            <a:chExt cx="555120" cy="439920"/>
          </a:xfrm>
        </p:grpSpPr>
        <p:sp>
          <p:nvSpPr>
            <p:cNvPr id="669" name=""/>
            <p:cNvSpPr/>
            <p:nvPr/>
          </p:nvSpPr>
          <p:spPr>
            <a:xfrm>
              <a:off x="6534000" y="3240000"/>
              <a:ext cx="499680" cy="3924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478560" y="334476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383160" y="3322800"/>
            <a:ext cx="555840" cy="439200"/>
            <a:chOff x="6383160" y="3322800"/>
            <a:chExt cx="555840" cy="439200"/>
          </a:xfrm>
        </p:grpSpPr>
        <p:sp>
          <p:nvSpPr>
            <p:cNvPr id="672" name=""/>
            <p:cNvSpPr/>
            <p:nvPr/>
          </p:nvSpPr>
          <p:spPr>
            <a:xfrm>
              <a:off x="6438960" y="332280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383160" y="3427200"/>
              <a:ext cx="42408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6294600" y="3398760"/>
            <a:ext cx="555120" cy="439920"/>
            <a:chOff x="6294600" y="3398760"/>
            <a:chExt cx="555120" cy="439920"/>
          </a:xfrm>
        </p:grpSpPr>
        <p:sp>
          <p:nvSpPr>
            <p:cNvPr id="675" name=""/>
            <p:cNvSpPr/>
            <p:nvPr/>
          </p:nvSpPr>
          <p:spPr>
            <a:xfrm>
              <a:off x="6350040" y="3398760"/>
              <a:ext cx="499680" cy="3924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294600" y="350352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6205680" y="3475080"/>
            <a:ext cx="555120" cy="439200"/>
            <a:chOff x="6205680" y="3475080"/>
            <a:chExt cx="555120" cy="439200"/>
          </a:xfrm>
        </p:grpSpPr>
        <p:sp>
          <p:nvSpPr>
            <p:cNvPr id="678" name=""/>
            <p:cNvSpPr/>
            <p:nvPr/>
          </p:nvSpPr>
          <p:spPr>
            <a:xfrm>
              <a:off x="6261120" y="3475080"/>
              <a:ext cx="49968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205680" y="357948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6116760" y="3551400"/>
            <a:ext cx="555120" cy="439200"/>
            <a:chOff x="6116760" y="3551400"/>
            <a:chExt cx="555120" cy="439200"/>
          </a:xfrm>
        </p:grpSpPr>
        <p:sp>
          <p:nvSpPr>
            <p:cNvPr id="681" name=""/>
            <p:cNvSpPr/>
            <p:nvPr/>
          </p:nvSpPr>
          <p:spPr>
            <a:xfrm>
              <a:off x="6172200" y="3551400"/>
              <a:ext cx="49968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116760" y="365580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27840" y="3633840"/>
            <a:ext cx="555120" cy="439200"/>
            <a:chOff x="6027840" y="3633840"/>
            <a:chExt cx="555120" cy="439200"/>
          </a:xfrm>
        </p:grpSpPr>
        <p:sp>
          <p:nvSpPr>
            <p:cNvPr id="684" name=""/>
            <p:cNvSpPr/>
            <p:nvPr/>
          </p:nvSpPr>
          <p:spPr>
            <a:xfrm>
              <a:off x="6083280" y="3633840"/>
              <a:ext cx="49968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27840" y="373824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932440" y="3716280"/>
            <a:ext cx="555840" cy="439920"/>
            <a:chOff x="5932440" y="3716280"/>
            <a:chExt cx="555840" cy="439920"/>
          </a:xfrm>
        </p:grpSpPr>
        <p:sp>
          <p:nvSpPr>
            <p:cNvPr id="687" name=""/>
            <p:cNvSpPr/>
            <p:nvPr/>
          </p:nvSpPr>
          <p:spPr>
            <a:xfrm>
              <a:off x="5988240" y="3716280"/>
              <a:ext cx="500040" cy="39240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32440" y="3821040"/>
              <a:ext cx="42408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5843520" y="3792600"/>
            <a:ext cx="555840" cy="439200"/>
            <a:chOff x="5843520" y="3792600"/>
            <a:chExt cx="555840" cy="439200"/>
          </a:xfrm>
        </p:grpSpPr>
        <p:sp>
          <p:nvSpPr>
            <p:cNvPr id="690" name=""/>
            <p:cNvSpPr/>
            <p:nvPr/>
          </p:nvSpPr>
          <p:spPr>
            <a:xfrm>
              <a:off x="5899320" y="379260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43520" y="3897000"/>
              <a:ext cx="42408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3138480" y="3890880"/>
            <a:ext cx="563400" cy="416160"/>
            <a:chOff x="3138480" y="3890880"/>
            <a:chExt cx="563400" cy="416160"/>
          </a:xfrm>
        </p:grpSpPr>
        <p:sp>
          <p:nvSpPr>
            <p:cNvPr id="693" name=""/>
            <p:cNvSpPr/>
            <p:nvPr/>
          </p:nvSpPr>
          <p:spPr>
            <a:xfrm>
              <a:off x="3138480" y="389088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78160" y="397188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240000" y="3954600"/>
            <a:ext cx="563400" cy="415440"/>
            <a:chOff x="3240000" y="3954600"/>
            <a:chExt cx="563400" cy="415440"/>
          </a:xfrm>
        </p:grpSpPr>
        <p:sp>
          <p:nvSpPr>
            <p:cNvPr id="696" name=""/>
            <p:cNvSpPr/>
            <p:nvPr/>
          </p:nvSpPr>
          <p:spPr>
            <a:xfrm>
              <a:off x="3240000" y="3954600"/>
              <a:ext cx="500040" cy="39168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79680" y="4035240"/>
              <a:ext cx="423720" cy="33480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3348000" y="4011480"/>
            <a:ext cx="563400" cy="416160"/>
            <a:chOff x="3348000" y="4011480"/>
            <a:chExt cx="563400" cy="416160"/>
          </a:xfrm>
        </p:grpSpPr>
        <p:sp>
          <p:nvSpPr>
            <p:cNvPr id="699" name=""/>
            <p:cNvSpPr/>
            <p:nvPr/>
          </p:nvSpPr>
          <p:spPr>
            <a:xfrm>
              <a:off x="3348000" y="401148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487680" y="4092480"/>
              <a:ext cx="423720" cy="335160"/>
            </a:xfrm>
            <a:prstGeom prst="star5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449520" y="4068720"/>
            <a:ext cx="563760" cy="415800"/>
            <a:chOff x="3449520" y="4068720"/>
            <a:chExt cx="563760" cy="415800"/>
          </a:xfrm>
        </p:grpSpPr>
        <p:sp>
          <p:nvSpPr>
            <p:cNvPr id="702" name=""/>
            <p:cNvSpPr/>
            <p:nvPr/>
          </p:nvSpPr>
          <p:spPr>
            <a:xfrm>
              <a:off x="3449520" y="4068720"/>
              <a:ext cx="500040" cy="3920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89200" y="4149720"/>
              <a:ext cx="424080" cy="33480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917640" y="2208240"/>
            <a:ext cx="2955600" cy="2446200"/>
            <a:chOff x="917640" y="2208240"/>
            <a:chExt cx="2955600" cy="2446200"/>
          </a:xfrm>
        </p:grpSpPr>
        <p:sp>
          <p:nvSpPr>
            <p:cNvPr id="705" name=""/>
            <p:cNvSpPr/>
            <p:nvPr/>
          </p:nvSpPr>
          <p:spPr>
            <a:xfrm>
              <a:off x="917640" y="2473200"/>
              <a:ext cx="1946520" cy="21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60720" y="2986200"/>
              <a:ext cx="1268640" cy="10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14400" y="3296520"/>
              <a:ext cx="1636920" cy="113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34960" y="2208240"/>
              <a:ext cx="5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66360" y="2708640"/>
              <a:ext cx="5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98680" y="332280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623480" y="2059200"/>
            <a:ext cx="3076560" cy="2460240"/>
            <a:chOff x="4623480" y="2059200"/>
            <a:chExt cx="3076560" cy="2460240"/>
          </a:xfrm>
        </p:grpSpPr>
        <p:grpSp>
          <p:nvGrpSpPr>
            <p:cNvPr id="712" name=""/>
            <p:cNvGrpSpPr/>
            <p:nvPr/>
          </p:nvGrpSpPr>
          <p:grpSpPr>
            <a:xfrm>
              <a:off x="4929840" y="2514240"/>
              <a:ext cx="2458800" cy="1604880"/>
              <a:chOff x="4929840" y="2514240"/>
              <a:chExt cx="2458800" cy="1604880"/>
            </a:xfrm>
          </p:grpSpPr>
          <p:sp>
            <p:nvSpPr>
              <p:cNvPr id="713" name=""/>
              <p:cNvSpPr/>
              <p:nvPr/>
            </p:nvSpPr>
            <p:spPr>
              <a:xfrm>
                <a:off x="4929840" y="2789640"/>
                <a:ext cx="1904040" cy="586800"/>
              </a:xfrm>
              <a:custGeom>
                <a:avLst/>
                <a:gdLst/>
                <a:ahLst/>
                <a:rect l="l" t="t" r="r" b="b"/>
                <a:pathLst>
                  <a:path w="1392" h="454">
                    <a:moveTo>
                      <a:pt x="1392" y="0"/>
                    </a:moveTo>
                    <a:cubicBezTo>
                      <a:pt x="1187" y="169"/>
                      <a:pt x="982" y="338"/>
                      <a:pt x="804" y="396"/>
                    </a:cubicBezTo>
                    <a:cubicBezTo>
                      <a:pt x="626" y="454"/>
                      <a:pt x="458" y="384"/>
                      <a:pt x="324" y="348"/>
                    </a:cubicBezTo>
                    <a:cubicBezTo>
                      <a:pt x="190" y="312"/>
                      <a:pt x="95" y="246"/>
                      <a:pt x="0" y="180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983120" y="2520720"/>
                <a:ext cx="565920" cy="511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flipV="1">
                <a:off x="5540760" y="2514240"/>
                <a:ext cx="626040" cy="145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 flipV="1">
                <a:off x="6243840" y="2660400"/>
                <a:ext cx="566280" cy="10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803640" y="2781000"/>
                <a:ext cx="566280" cy="1483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6021000" y="2928240"/>
                <a:ext cx="1367640" cy="1190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 flipV="1">
                <a:off x="4967640" y="3021120"/>
                <a:ext cx="997200" cy="1042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5913360" y="3995280"/>
              <a:ext cx="180360" cy="161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62880" y="2950200"/>
              <a:ext cx="180360" cy="160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45720" y="2448360"/>
              <a:ext cx="180360" cy="1602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106320" y="2592360"/>
              <a:ext cx="180360" cy="161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748200" y="2716200"/>
              <a:ext cx="180360" cy="161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310520" y="2859840"/>
              <a:ext cx="180360" cy="161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44800" y="40597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27440" y="25311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23480" y="26053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63480" y="205920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813280" y="26766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94120" y="233064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166720" y="33224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39320" y="3491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44960" y="24415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03480" y="21909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302520" y="22878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11480" y="2980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968520" y="2510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64B-CEE4-4801-A544-A3304DCAC7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nectivity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740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ual of a concrete Euler diagram is always a connected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 inside/outside a given cont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91C-60A0-4DBE-8BEA-82BC73E5A5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nectivity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6000" y="1529640"/>
            <a:ext cx="4106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ours {A, B, 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es{null, {A}, {B}, {A,B,C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785240" y="5954040"/>
            <a:ext cx="55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rawable abstract diagram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77960" y="4734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onnected 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8720" y="2627280"/>
            <a:ext cx="4234680" cy="1869480"/>
            <a:chOff x="18720" y="2627280"/>
            <a:chExt cx="4234680" cy="1869480"/>
          </a:xfrm>
        </p:grpSpPr>
        <p:sp>
          <p:nvSpPr>
            <p:cNvPr id="746" name=""/>
            <p:cNvSpPr/>
            <p:nvPr/>
          </p:nvSpPr>
          <p:spPr>
            <a:xfrm>
              <a:off x="18720" y="3480840"/>
              <a:ext cx="42346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des {null, {A}, {B}, {A,B,C}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dges {{null, {A}}, {null, {B}}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011320" y="2627280"/>
              <a:ext cx="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268880" y="3058200"/>
            <a:ext cx="4170240" cy="1950120"/>
            <a:chOff x="4268880" y="3058200"/>
            <a:chExt cx="4170240" cy="1950120"/>
          </a:xfrm>
        </p:grpSpPr>
        <p:sp>
          <p:nvSpPr>
            <p:cNvPr id="749" name=""/>
            <p:cNvSpPr/>
            <p:nvPr/>
          </p:nvSpPr>
          <p:spPr>
            <a:xfrm flipH="1">
              <a:off x="6767640" y="3446640"/>
              <a:ext cx="1357200" cy="1163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5722560" y="3538080"/>
              <a:ext cx="988920" cy="1017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59640" y="4487760"/>
              <a:ext cx="179280" cy="158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618160" y="3468600"/>
              <a:ext cx="179280" cy="157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851520" y="3119400"/>
              <a:ext cx="179640" cy="157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047080" y="3381480"/>
              <a:ext cx="179280" cy="156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89280" y="454860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060400" y="30582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377680" y="31294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558480" y="31993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17320" y="38296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175880" y="39931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4268880" y="4262400"/>
              <a:ext cx="11998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9BD-D42D-49BA-8CC3-040685A39D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more subtle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8960" y="1347480"/>
            <a:ext cx="441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ours {A, B, C, 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null, {A}, {A,B}, {A,B,C}, {B,C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623320" y="6030360"/>
            <a:ext cx="55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rawable abstract diagram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427000" y="545832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onnected “outside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293040" y="2760840"/>
            <a:ext cx="4414320" cy="3149280"/>
            <a:chOff x="293040" y="2760840"/>
            <a:chExt cx="4414320" cy="3149280"/>
          </a:xfrm>
        </p:grpSpPr>
        <p:sp>
          <p:nvSpPr>
            <p:cNvPr id="767" name=""/>
            <p:cNvSpPr/>
            <p:nvPr/>
          </p:nvSpPr>
          <p:spPr>
            <a:xfrm>
              <a:off x="293040" y="3781800"/>
              <a:ext cx="441432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d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{null, {A}, {A,B}, {A,B,C}, {B,C}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dges {{null, {A}}, {{A}, {A,B}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{{A,B},{A,B,C}}, {{A,B,C},{B,C}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73480" y="2760840"/>
              <a:ext cx="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4268880" y="2056320"/>
            <a:ext cx="4310640" cy="2913840"/>
            <a:chOff x="4268880" y="2056320"/>
            <a:chExt cx="4310640" cy="2913840"/>
          </a:xfrm>
        </p:grpSpPr>
        <p:sp>
          <p:nvSpPr>
            <p:cNvPr id="770" name=""/>
            <p:cNvSpPr/>
            <p:nvPr/>
          </p:nvSpPr>
          <p:spPr>
            <a:xfrm flipV="1">
              <a:off x="4268880" y="4262400"/>
              <a:ext cx="11998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5377680" y="2056320"/>
              <a:ext cx="3201840" cy="2913840"/>
              <a:chOff x="5377680" y="2056320"/>
              <a:chExt cx="3201840" cy="2913840"/>
            </a:xfrm>
          </p:grpSpPr>
          <p:sp>
            <p:nvSpPr>
              <p:cNvPr id="772" name=""/>
              <p:cNvSpPr/>
              <p:nvPr/>
            </p:nvSpPr>
            <p:spPr>
              <a:xfrm flipH="1">
                <a:off x="6310440" y="2570040"/>
                <a:ext cx="861840" cy="401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210440" y="2550960"/>
                <a:ext cx="642960" cy="1258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5662440" y="2989440"/>
                <a:ext cx="633600" cy="572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 flipV="1">
                <a:off x="5722920" y="3538080"/>
                <a:ext cx="588960" cy="1150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221520" y="4602240"/>
                <a:ext cx="179280" cy="158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618160" y="3468600"/>
                <a:ext cx="179280" cy="1573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099200" y="2471760"/>
                <a:ext cx="179640" cy="1573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237360" y="2886120"/>
                <a:ext cx="179280" cy="156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569920" y="4510440"/>
                <a:ext cx="71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nu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924160" y="2410200"/>
                <a:ext cx="57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377680" y="312948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958440" y="2056320"/>
                <a:ext cx="76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A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917320" y="382968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728320" y="296424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785000" y="3691080"/>
                <a:ext cx="179640" cy="156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008560" y="3427920"/>
                <a:ext cx="57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597080" y="313596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530400" y="2335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0" name=""/>
          <p:cNvSpPr/>
          <p:nvPr/>
        </p:nvSpPr>
        <p:spPr>
          <a:xfrm rot="19951200">
            <a:off x="4952880" y="2361960"/>
            <a:ext cx="3029040" cy="1104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9738-F632-4BF4-B659-64AF75B78A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ckground: constraint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203800" y="1752480"/>
            <a:ext cx="3457440" cy="3368520"/>
            <a:chOff x="5203800" y="1752480"/>
            <a:chExt cx="3457440" cy="3368520"/>
          </a:xfrm>
        </p:grpSpPr>
        <p:sp>
          <p:nvSpPr>
            <p:cNvPr id="46" name=""/>
            <p:cNvSpPr/>
            <p:nvPr/>
          </p:nvSpPr>
          <p:spPr>
            <a:xfrm>
              <a:off x="5848200" y="1752480"/>
              <a:ext cx="192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ean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03800" y="3564000"/>
              <a:ext cx="3457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very graph which is not a tree has at least two trees which are spanning tre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371600" y="175248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17800" y="5045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54240" y="45356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541680" y="3135240"/>
            <a:ext cx="254160" cy="255600"/>
            <a:chOff x="3541680" y="3135240"/>
            <a:chExt cx="254160" cy="255600"/>
          </a:xfrm>
        </p:grpSpPr>
        <p:sp>
          <p:nvSpPr>
            <p:cNvPr id="52" name=""/>
            <p:cNvSpPr/>
            <p:nvPr/>
          </p:nvSpPr>
          <p:spPr>
            <a:xfrm>
              <a:off x="3541680" y="3262320"/>
              <a:ext cx="25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68760" y="3135240"/>
              <a:ext cx="1440" cy="25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67240" y="3160800"/>
              <a:ext cx="203040" cy="20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3567240" y="3160800"/>
              <a:ext cx="203040" cy="20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732120" y="31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2720" y="49687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1320" y="4765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41240" y="2422440"/>
            <a:ext cx="4114800" cy="3828960"/>
            <a:chOff x="741240" y="2422440"/>
            <a:chExt cx="4114800" cy="3828960"/>
          </a:xfrm>
        </p:grpSpPr>
        <p:sp>
          <p:nvSpPr>
            <p:cNvPr id="60" name=""/>
            <p:cNvSpPr/>
            <p:nvPr/>
          </p:nvSpPr>
          <p:spPr>
            <a:xfrm>
              <a:off x="2535480" y="2422440"/>
              <a:ext cx="715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rap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20600" y="3236760"/>
              <a:ext cx="2444760" cy="26226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77920" y="2881440"/>
              <a:ext cx="482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re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1240" y="2822400"/>
              <a:ext cx="411480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631880" y="3390840"/>
            <a:ext cx="3139200" cy="1986120"/>
            <a:chOff x="1631880" y="3390840"/>
            <a:chExt cx="3139200" cy="1986120"/>
          </a:xfrm>
        </p:grpSpPr>
        <p:sp>
          <p:nvSpPr>
            <p:cNvPr id="65" name=""/>
            <p:cNvSpPr/>
            <p:nvPr/>
          </p:nvSpPr>
          <p:spPr>
            <a:xfrm>
              <a:off x="2549520" y="5019840"/>
              <a:ext cx="152280" cy="126720"/>
            </a:xfrm>
            <a:custGeom>
              <a:avLst/>
              <a:gdLst/>
              <a:ahLst/>
              <a:rect l="l" t="t" r="r" b="b"/>
              <a:pathLst>
                <a:path w="96" h="80">
                  <a:moveTo>
                    <a:pt x="96" y="0"/>
                  </a:moveTo>
                  <a:lnTo>
                    <a:pt x="0" y="32"/>
                  </a:lnTo>
                  <a:lnTo>
                    <a:pt x="80" y="80"/>
                  </a:lnTo>
                  <a:lnTo>
                    <a:pt x="64" y="3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31880" y="3390840"/>
              <a:ext cx="3139200" cy="1986120"/>
              <a:chOff x="1631880" y="3390840"/>
              <a:chExt cx="3139200" cy="1986120"/>
            </a:xfrm>
          </p:grpSpPr>
          <p:sp>
            <p:nvSpPr>
              <p:cNvPr id="67" name=""/>
              <p:cNvSpPr/>
              <p:nvPr/>
            </p:nvSpPr>
            <p:spPr>
              <a:xfrm>
                <a:off x="1631880" y="4535640"/>
                <a:ext cx="917640" cy="84132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13040" y="4968720"/>
                <a:ext cx="12672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41640" y="4765680"/>
                <a:ext cx="12672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10000" y="3390840"/>
                <a:ext cx="1292040" cy="1698840"/>
              </a:xfrm>
              <a:custGeom>
                <a:avLst/>
                <a:gdLst/>
                <a:ahLst/>
                <a:rect l="l" t="t" r="r" b="b"/>
                <a:pathLst>
                  <a:path w="814" h="1070">
                    <a:moveTo>
                      <a:pt x="684" y="0"/>
                    </a:moveTo>
                    <a:cubicBezTo>
                      <a:pt x="702" y="92"/>
                      <a:pt x="814" y="388"/>
                      <a:pt x="792" y="552"/>
                    </a:cubicBezTo>
                    <a:cubicBezTo>
                      <a:pt x="770" y="716"/>
                      <a:pt x="684" y="898"/>
                      <a:pt x="552" y="984"/>
                    </a:cubicBezTo>
                    <a:cubicBezTo>
                      <a:pt x="420" y="1070"/>
                      <a:pt x="115" y="1050"/>
                      <a:pt x="0" y="106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634920" y="3797280"/>
                <a:ext cx="11361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spanning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E67-F556-464A-B32C-A6697CBE6A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econd inve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852560" y="3403440"/>
            <a:ext cx="1800" cy="128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46200" y="2102760"/>
            <a:ext cx="22032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uler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201840" y="2674800"/>
            <a:ext cx="2667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994120" y="5478480"/>
            <a:ext cx="315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394080" y="2297160"/>
            <a:ext cx="19940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447360" y="17344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874960" y="3279600"/>
            <a:ext cx="3271680" cy="1648080"/>
          </a:xfrm>
          <a:custGeom>
            <a:avLst/>
            <a:gdLst/>
            <a:ahLst/>
            <a:rect l="l" t="t" r="r" b="b"/>
            <a:pathLst>
              <a:path w="2061" h="1038">
                <a:moveTo>
                  <a:pt x="2023" y="0"/>
                </a:moveTo>
                <a:cubicBezTo>
                  <a:pt x="1982" y="141"/>
                  <a:pt x="2061" y="688"/>
                  <a:pt x="1778" y="845"/>
                </a:cubicBezTo>
                <a:cubicBezTo>
                  <a:pt x="1495" y="1002"/>
                  <a:pt x="619" y="1038"/>
                  <a:pt x="323" y="945"/>
                </a:cubicBezTo>
                <a:cubicBezTo>
                  <a:pt x="27" y="852"/>
                  <a:pt x="67" y="426"/>
                  <a:pt x="0" y="28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590280" y="394884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372360" y="4899960"/>
            <a:ext cx="1747440" cy="1015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ua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7145280" y="3298680"/>
            <a:ext cx="0" cy="132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94880" y="2216880"/>
            <a:ext cx="22032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uler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127520" y="4901400"/>
            <a:ext cx="1747440" cy="1015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ua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7143840" y="3321000"/>
            <a:ext cx="19080" cy="130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933640" y="5232240"/>
            <a:ext cx="3219480" cy="1296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A74-13F4-44A7-8FA1-9981AAD801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anar dual grap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al graphs are planar graphs                       (no edge-cross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ted duals need plane repres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n algorithms - how to make use of rich dual graph structure? (bipartite + +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7FC-1553-4F42-A94E-59AEB5F8E1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sent dual ed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171440" y="1833480"/>
            <a:ext cx="3808440" cy="2850840"/>
            <a:chOff x="1171440" y="1833480"/>
            <a:chExt cx="3808440" cy="2850840"/>
          </a:xfrm>
        </p:grpSpPr>
        <p:sp>
          <p:nvSpPr>
            <p:cNvPr id="810" name=""/>
            <p:cNvSpPr/>
            <p:nvPr/>
          </p:nvSpPr>
          <p:spPr>
            <a:xfrm>
              <a:off x="2743920" y="2694600"/>
              <a:ext cx="387360" cy="501480"/>
            </a:xfrm>
            <a:custGeom>
              <a:avLst/>
              <a:gdLst/>
              <a:ahLst/>
              <a:rect l="l" t="t" r="r" b="b"/>
              <a:pathLst>
                <a:path w="287" h="375">
                  <a:moveTo>
                    <a:pt x="8" y="27"/>
                  </a:moveTo>
                  <a:lnTo>
                    <a:pt x="0" y="93"/>
                  </a:lnTo>
                  <a:lnTo>
                    <a:pt x="2" y="184"/>
                  </a:lnTo>
                  <a:lnTo>
                    <a:pt x="26" y="279"/>
                  </a:lnTo>
                  <a:lnTo>
                    <a:pt x="65" y="375"/>
                  </a:lnTo>
                  <a:lnTo>
                    <a:pt x="137" y="337"/>
                  </a:lnTo>
                  <a:lnTo>
                    <a:pt x="219" y="279"/>
                  </a:lnTo>
                  <a:lnTo>
                    <a:pt x="252" y="229"/>
                  </a:lnTo>
                  <a:lnTo>
                    <a:pt x="269" y="165"/>
                  </a:lnTo>
                  <a:lnTo>
                    <a:pt x="279" y="76"/>
                  </a:lnTo>
                  <a:lnTo>
                    <a:pt x="284" y="27"/>
                  </a:lnTo>
                  <a:lnTo>
                    <a:pt x="287" y="4"/>
                  </a:lnTo>
                  <a:lnTo>
                    <a:pt x="218" y="0"/>
                  </a:lnTo>
                  <a:lnTo>
                    <a:pt x="131" y="4"/>
                  </a:lnTo>
                  <a:lnTo>
                    <a:pt x="33" y="18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315240" y="3253320"/>
              <a:ext cx="745560" cy="465480"/>
            </a:xfrm>
            <a:custGeom>
              <a:avLst/>
              <a:gdLst/>
              <a:ahLst/>
              <a:rect l="l" t="t" r="r" b="b"/>
              <a:pathLst>
                <a:path w="552" h="348">
                  <a:moveTo>
                    <a:pt x="0" y="266"/>
                  </a:moveTo>
                  <a:lnTo>
                    <a:pt x="95" y="188"/>
                  </a:lnTo>
                  <a:lnTo>
                    <a:pt x="162" y="138"/>
                  </a:lnTo>
                  <a:lnTo>
                    <a:pt x="242" y="89"/>
                  </a:lnTo>
                  <a:lnTo>
                    <a:pt x="339" y="50"/>
                  </a:lnTo>
                  <a:lnTo>
                    <a:pt x="407" y="26"/>
                  </a:lnTo>
                  <a:lnTo>
                    <a:pt x="479" y="0"/>
                  </a:lnTo>
                  <a:lnTo>
                    <a:pt x="516" y="101"/>
                  </a:lnTo>
                  <a:lnTo>
                    <a:pt x="536" y="174"/>
                  </a:lnTo>
                  <a:lnTo>
                    <a:pt x="548" y="252"/>
                  </a:lnTo>
                  <a:lnTo>
                    <a:pt x="552" y="336"/>
                  </a:lnTo>
                  <a:lnTo>
                    <a:pt x="422" y="348"/>
                  </a:lnTo>
                  <a:lnTo>
                    <a:pt x="318" y="345"/>
                  </a:lnTo>
                  <a:lnTo>
                    <a:pt x="209" y="330"/>
                  </a:lnTo>
                  <a:lnTo>
                    <a:pt x="108" y="308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26760" y="1833480"/>
              <a:ext cx="2011320" cy="1664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742480" y="1983240"/>
              <a:ext cx="2237400" cy="1737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92600" y="2694600"/>
              <a:ext cx="2070720" cy="1989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171440" y="2314800"/>
              <a:ext cx="3150360" cy="1916280"/>
            </a:xfrm>
            <a:custGeom>
              <a:avLst/>
              <a:gdLst/>
              <a:ahLst/>
              <a:rect l="l" t="t" r="r" b="b"/>
              <a:pathLst>
                <a:path w="2332" h="1433">
                  <a:moveTo>
                    <a:pt x="652" y="63"/>
                  </a:moveTo>
                  <a:cubicBezTo>
                    <a:pt x="800" y="0"/>
                    <a:pt x="819" y="591"/>
                    <a:pt x="941" y="674"/>
                  </a:cubicBezTo>
                  <a:cubicBezTo>
                    <a:pt x="1063" y="757"/>
                    <a:pt x="1287" y="652"/>
                    <a:pt x="1385" y="563"/>
                  </a:cubicBezTo>
                  <a:cubicBezTo>
                    <a:pt x="1483" y="474"/>
                    <a:pt x="1399" y="214"/>
                    <a:pt x="1530" y="140"/>
                  </a:cubicBezTo>
                  <a:cubicBezTo>
                    <a:pt x="1661" y="66"/>
                    <a:pt x="2052" y="44"/>
                    <a:pt x="2174" y="118"/>
                  </a:cubicBezTo>
                  <a:cubicBezTo>
                    <a:pt x="2296" y="192"/>
                    <a:pt x="2332" y="466"/>
                    <a:pt x="2263" y="585"/>
                  </a:cubicBezTo>
                  <a:cubicBezTo>
                    <a:pt x="2194" y="704"/>
                    <a:pt x="1981" y="694"/>
                    <a:pt x="1763" y="829"/>
                  </a:cubicBezTo>
                  <a:cubicBezTo>
                    <a:pt x="1545" y="964"/>
                    <a:pt x="1237" y="1359"/>
                    <a:pt x="952" y="1396"/>
                  </a:cubicBezTo>
                  <a:cubicBezTo>
                    <a:pt x="667" y="1433"/>
                    <a:pt x="104" y="1269"/>
                    <a:pt x="52" y="1051"/>
                  </a:cubicBezTo>
                  <a:cubicBezTo>
                    <a:pt x="0" y="833"/>
                    <a:pt x="504" y="126"/>
                    <a:pt x="652" y="63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724320" y="5094360"/>
            <a:ext cx="799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may have to remove some dual ed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fore using the dual graph to draw an Euler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270800" y="19897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003680" y="30564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63520" y="4142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668120" y="33613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749120" y="1714320"/>
            <a:ext cx="4485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ded zones give dual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A,C, D} and {C, 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e zones are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ologically 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ing “all” d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s from abstract 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ields a non-planar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AE5-4232-4760-8CA4-5A699FA4C9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third inve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852560" y="3403440"/>
            <a:ext cx="1800" cy="128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046200" y="2102760"/>
            <a:ext cx="22032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uler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125880" y="267480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94120" y="5478480"/>
            <a:ext cx="3157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394080" y="2297160"/>
            <a:ext cx="19940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447360" y="17344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74960" y="3279600"/>
            <a:ext cx="3271680" cy="1648080"/>
          </a:xfrm>
          <a:custGeom>
            <a:avLst/>
            <a:gdLst/>
            <a:ahLst/>
            <a:rect l="l" t="t" r="r" b="b"/>
            <a:pathLst>
              <a:path w="2061" h="1038">
                <a:moveTo>
                  <a:pt x="2023" y="0"/>
                </a:moveTo>
                <a:cubicBezTo>
                  <a:pt x="1982" y="141"/>
                  <a:pt x="2061" y="688"/>
                  <a:pt x="1778" y="845"/>
                </a:cubicBezTo>
                <a:cubicBezTo>
                  <a:pt x="1495" y="1002"/>
                  <a:pt x="619" y="1038"/>
                  <a:pt x="323" y="945"/>
                </a:cubicBezTo>
                <a:cubicBezTo>
                  <a:pt x="27" y="852"/>
                  <a:pt x="67" y="426"/>
                  <a:pt x="0" y="28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590280" y="394884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372360" y="4899960"/>
            <a:ext cx="17474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a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7145280" y="3298680"/>
            <a:ext cx="0" cy="132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94880" y="2216880"/>
            <a:ext cx="2203200" cy="1015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uler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127520" y="4901400"/>
            <a:ext cx="1747440" cy="1015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ua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114640" y="3422520"/>
            <a:ext cx="0" cy="125100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7BB-8D01-4D07-BB59-5C04BC70CC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om a concrete plane dual graph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an Euler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529200" y="1836000"/>
            <a:ext cx="8664840" cy="4425840"/>
            <a:chOff x="529200" y="1836000"/>
            <a:chExt cx="8664840" cy="4425840"/>
          </a:xfrm>
        </p:grpSpPr>
        <p:sp>
          <p:nvSpPr>
            <p:cNvPr id="838" name=""/>
            <p:cNvSpPr/>
            <p:nvPr/>
          </p:nvSpPr>
          <p:spPr>
            <a:xfrm rot="20154000">
              <a:off x="2669760" y="2466720"/>
              <a:ext cx="3444840" cy="165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29200" y="5245920"/>
              <a:ext cx="86648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contour contains nodes which have an “A” in their l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nd crosses all the A-ed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54840" y="3826800"/>
              <a:ext cx="40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166560" y="2499120"/>
            <a:ext cx="3207600" cy="2594520"/>
            <a:chOff x="3166560" y="2499120"/>
            <a:chExt cx="3207600" cy="2594520"/>
          </a:xfrm>
        </p:grpSpPr>
        <p:grpSp>
          <p:nvGrpSpPr>
            <p:cNvPr id="842" name=""/>
            <p:cNvGrpSpPr/>
            <p:nvPr/>
          </p:nvGrpSpPr>
          <p:grpSpPr>
            <a:xfrm>
              <a:off x="3479400" y="2968560"/>
              <a:ext cx="2579040" cy="1710000"/>
              <a:chOff x="3479400" y="2968560"/>
              <a:chExt cx="2579040" cy="1710000"/>
            </a:xfrm>
          </p:grpSpPr>
          <p:sp>
            <p:nvSpPr>
              <p:cNvPr id="843" name=""/>
              <p:cNvSpPr/>
              <p:nvPr/>
            </p:nvSpPr>
            <p:spPr>
              <a:xfrm>
                <a:off x="3479400" y="3261960"/>
                <a:ext cx="1996920" cy="625320"/>
              </a:xfrm>
              <a:custGeom>
                <a:avLst/>
                <a:gdLst/>
                <a:ahLst/>
                <a:rect l="l" t="t" r="r" b="b"/>
                <a:pathLst>
                  <a:path w="1392" h="454">
                    <a:moveTo>
                      <a:pt x="1392" y="0"/>
                    </a:moveTo>
                    <a:cubicBezTo>
                      <a:pt x="1187" y="169"/>
                      <a:pt x="982" y="338"/>
                      <a:pt x="804" y="396"/>
                    </a:cubicBezTo>
                    <a:cubicBezTo>
                      <a:pt x="626" y="454"/>
                      <a:pt x="458" y="384"/>
                      <a:pt x="324" y="348"/>
                    </a:cubicBezTo>
                    <a:cubicBezTo>
                      <a:pt x="190" y="312"/>
                      <a:pt x="95" y="246"/>
                      <a:pt x="0" y="180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3535200" y="2975040"/>
                <a:ext cx="593640" cy="54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 flipV="1">
                <a:off x="4120560" y="2968560"/>
                <a:ext cx="656640" cy="155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 flipV="1">
                <a:off x="4857840" y="3124080"/>
                <a:ext cx="594000" cy="115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444640" y="3252600"/>
                <a:ext cx="594000" cy="158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4624200" y="3409200"/>
                <a:ext cx="1434240" cy="1269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 flipV="1">
                <a:off x="3519000" y="3508200"/>
                <a:ext cx="1045800" cy="1110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4511160" y="454644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09200" y="3432960"/>
              <a:ext cx="189360" cy="170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020480" y="2898000"/>
              <a:ext cx="189360" cy="170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713480" y="305136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86320" y="318348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6360" y="333648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45840" y="46339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001560" y="3001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166560" y="30812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738600" y="249912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421160" y="3156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238720" y="278964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34640" y="38462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070960" y="40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03880" y="29055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301280" y="2640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926960" y="27435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412520" y="34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625360" y="29772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F19-5E21-430B-8985-490E39024A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"/>
          <p:cNvGrpSpPr/>
          <p:nvPr/>
        </p:nvGrpSpPr>
        <p:grpSpPr>
          <a:xfrm>
            <a:off x="2493000" y="1836000"/>
            <a:ext cx="3848040" cy="2919240"/>
            <a:chOff x="2493000" y="1836000"/>
            <a:chExt cx="3848040" cy="2919240"/>
          </a:xfrm>
        </p:grpSpPr>
        <p:sp>
          <p:nvSpPr>
            <p:cNvPr id="870" name=""/>
            <p:cNvSpPr/>
            <p:nvPr/>
          </p:nvSpPr>
          <p:spPr>
            <a:xfrm rot="20154000">
              <a:off x="2707920" y="2466720"/>
              <a:ext cx="3444840" cy="1657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493000" y="3826800"/>
              <a:ext cx="40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 rot="944400">
            <a:off x="3350880" y="2408040"/>
            <a:ext cx="1925640" cy="952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091400" y="19598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om a concrete plane dual graph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an Euler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166560" y="2499120"/>
            <a:ext cx="3207600" cy="2594520"/>
            <a:chOff x="3166560" y="2499120"/>
            <a:chExt cx="3207600" cy="2594520"/>
          </a:xfrm>
        </p:grpSpPr>
        <p:grpSp>
          <p:nvGrpSpPr>
            <p:cNvPr id="876" name=""/>
            <p:cNvGrpSpPr/>
            <p:nvPr/>
          </p:nvGrpSpPr>
          <p:grpSpPr>
            <a:xfrm>
              <a:off x="3479400" y="2968560"/>
              <a:ext cx="2579040" cy="1710000"/>
              <a:chOff x="3479400" y="2968560"/>
              <a:chExt cx="2579040" cy="1710000"/>
            </a:xfrm>
          </p:grpSpPr>
          <p:sp>
            <p:nvSpPr>
              <p:cNvPr id="877" name=""/>
              <p:cNvSpPr/>
              <p:nvPr/>
            </p:nvSpPr>
            <p:spPr>
              <a:xfrm>
                <a:off x="3479400" y="3261960"/>
                <a:ext cx="1996920" cy="625320"/>
              </a:xfrm>
              <a:custGeom>
                <a:avLst/>
                <a:gdLst/>
                <a:ahLst/>
                <a:rect l="l" t="t" r="r" b="b"/>
                <a:pathLst>
                  <a:path w="1392" h="454">
                    <a:moveTo>
                      <a:pt x="1392" y="0"/>
                    </a:moveTo>
                    <a:cubicBezTo>
                      <a:pt x="1187" y="169"/>
                      <a:pt x="982" y="338"/>
                      <a:pt x="804" y="396"/>
                    </a:cubicBezTo>
                    <a:cubicBezTo>
                      <a:pt x="626" y="454"/>
                      <a:pt x="458" y="384"/>
                      <a:pt x="324" y="348"/>
                    </a:cubicBezTo>
                    <a:cubicBezTo>
                      <a:pt x="190" y="312"/>
                      <a:pt x="95" y="246"/>
                      <a:pt x="0" y="180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3535200" y="2975040"/>
                <a:ext cx="593640" cy="54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 flipV="1">
                <a:off x="4120560" y="2968560"/>
                <a:ext cx="656640" cy="155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 flipV="1">
                <a:off x="4857840" y="3124080"/>
                <a:ext cx="594000" cy="115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444640" y="3252600"/>
                <a:ext cx="594000" cy="158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4624200" y="3409200"/>
                <a:ext cx="1434240" cy="1269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 flipV="1">
                <a:off x="3519000" y="3508200"/>
                <a:ext cx="1045800" cy="1110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4511160" y="454644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9200" y="3432960"/>
              <a:ext cx="189360" cy="170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020480" y="2898000"/>
              <a:ext cx="189360" cy="170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13480" y="305136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86320" y="318348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76360" y="333648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245840" y="46339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001560" y="3001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166560" y="30812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38600" y="249912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421160" y="3156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38720" y="278964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34640" y="38462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70960" y="40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503880" y="29055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301280" y="2640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26960" y="27435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412520" y="34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25360" y="29772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7CC-AD49-41FB-AFE1-3CD5053DB8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"/>
          <p:cNvGrpSpPr/>
          <p:nvPr/>
        </p:nvGrpSpPr>
        <p:grpSpPr>
          <a:xfrm>
            <a:off x="2493000" y="1836000"/>
            <a:ext cx="3848040" cy="2919240"/>
            <a:chOff x="2493000" y="1836000"/>
            <a:chExt cx="3848040" cy="2919240"/>
          </a:xfrm>
        </p:grpSpPr>
        <p:sp>
          <p:nvSpPr>
            <p:cNvPr id="904" name=""/>
            <p:cNvSpPr/>
            <p:nvPr/>
          </p:nvSpPr>
          <p:spPr>
            <a:xfrm rot="20154000">
              <a:off x="2707920" y="2466720"/>
              <a:ext cx="3444840" cy="1657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493000" y="3826800"/>
              <a:ext cx="40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 rot="944400">
            <a:off x="3350880" y="2408040"/>
            <a:ext cx="1925640" cy="952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091400" y="19598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rot="842400">
            <a:off x="4228920" y="2666520"/>
            <a:ext cx="2495520" cy="1086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961240" y="244548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om a concrete plane dual graph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an Euler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3166560" y="2499120"/>
            <a:ext cx="3207600" cy="2594520"/>
            <a:chOff x="3166560" y="2499120"/>
            <a:chExt cx="3207600" cy="2594520"/>
          </a:xfrm>
        </p:grpSpPr>
        <p:grpSp>
          <p:nvGrpSpPr>
            <p:cNvPr id="912" name=""/>
            <p:cNvGrpSpPr/>
            <p:nvPr/>
          </p:nvGrpSpPr>
          <p:grpSpPr>
            <a:xfrm>
              <a:off x="3479400" y="2968560"/>
              <a:ext cx="2579040" cy="1710000"/>
              <a:chOff x="3479400" y="2968560"/>
              <a:chExt cx="2579040" cy="1710000"/>
            </a:xfrm>
          </p:grpSpPr>
          <p:sp>
            <p:nvSpPr>
              <p:cNvPr id="913" name=""/>
              <p:cNvSpPr/>
              <p:nvPr/>
            </p:nvSpPr>
            <p:spPr>
              <a:xfrm>
                <a:off x="3479400" y="3261960"/>
                <a:ext cx="1996920" cy="625320"/>
              </a:xfrm>
              <a:custGeom>
                <a:avLst/>
                <a:gdLst/>
                <a:ahLst/>
                <a:rect l="l" t="t" r="r" b="b"/>
                <a:pathLst>
                  <a:path w="1392" h="454">
                    <a:moveTo>
                      <a:pt x="1392" y="0"/>
                    </a:moveTo>
                    <a:cubicBezTo>
                      <a:pt x="1187" y="169"/>
                      <a:pt x="982" y="338"/>
                      <a:pt x="804" y="396"/>
                    </a:cubicBezTo>
                    <a:cubicBezTo>
                      <a:pt x="626" y="454"/>
                      <a:pt x="458" y="384"/>
                      <a:pt x="324" y="348"/>
                    </a:cubicBezTo>
                    <a:cubicBezTo>
                      <a:pt x="190" y="312"/>
                      <a:pt x="95" y="246"/>
                      <a:pt x="0" y="180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V="1">
                <a:off x="3535200" y="2975040"/>
                <a:ext cx="593640" cy="54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 flipV="1">
                <a:off x="4120560" y="2968560"/>
                <a:ext cx="656640" cy="155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 flipV="1">
                <a:off x="4857840" y="3124080"/>
                <a:ext cx="594000" cy="115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444640" y="3252600"/>
                <a:ext cx="594000" cy="158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4624200" y="3409200"/>
                <a:ext cx="1434240" cy="1269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 flipV="1">
                <a:off x="3519000" y="3508200"/>
                <a:ext cx="1045800" cy="1110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4511160" y="454644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09200" y="3432960"/>
              <a:ext cx="189360" cy="170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20480" y="2898000"/>
              <a:ext cx="189360" cy="170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13480" y="305136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386320" y="318348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976360" y="333648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245840" y="46339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01560" y="3001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166560" y="30812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738600" y="249912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421160" y="3156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238720" y="278964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734640" y="38462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70960" y="40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503880" y="29055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01280" y="2640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926960" y="27435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412520" y="34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25360" y="29772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0D0-72B4-48E7-B695-A339893558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9" name=""/>
          <p:cNvGrpSpPr/>
          <p:nvPr/>
        </p:nvGrpSpPr>
        <p:grpSpPr>
          <a:xfrm>
            <a:off x="1800360" y="2362320"/>
            <a:ext cx="2598480" cy="3582720"/>
            <a:chOff x="1800360" y="2362320"/>
            <a:chExt cx="2598480" cy="3582720"/>
          </a:xfrm>
        </p:grpSpPr>
        <p:sp>
          <p:nvSpPr>
            <p:cNvPr id="940" name=""/>
            <p:cNvSpPr/>
            <p:nvPr/>
          </p:nvSpPr>
          <p:spPr>
            <a:xfrm>
              <a:off x="3375000" y="2362320"/>
              <a:ext cx="1023840" cy="541080"/>
            </a:xfrm>
            <a:custGeom>
              <a:avLst/>
              <a:gdLst/>
              <a:ahLst/>
              <a:rect l="l" t="t" r="r" b="b"/>
              <a:pathLst>
                <a:path w="645" h="341">
                  <a:moveTo>
                    <a:pt x="51" y="341"/>
                  </a:moveTo>
                  <a:lnTo>
                    <a:pt x="12" y="266"/>
                  </a:lnTo>
                  <a:lnTo>
                    <a:pt x="0" y="206"/>
                  </a:lnTo>
                  <a:lnTo>
                    <a:pt x="13" y="143"/>
                  </a:lnTo>
                  <a:lnTo>
                    <a:pt x="58" y="83"/>
                  </a:lnTo>
                  <a:lnTo>
                    <a:pt x="124" y="44"/>
                  </a:lnTo>
                  <a:lnTo>
                    <a:pt x="205" y="15"/>
                  </a:lnTo>
                  <a:lnTo>
                    <a:pt x="291" y="0"/>
                  </a:lnTo>
                  <a:lnTo>
                    <a:pt x="406" y="0"/>
                  </a:lnTo>
                  <a:lnTo>
                    <a:pt x="504" y="5"/>
                  </a:lnTo>
                  <a:lnTo>
                    <a:pt x="588" y="18"/>
                  </a:lnTo>
                  <a:lnTo>
                    <a:pt x="645" y="35"/>
                  </a:lnTo>
                  <a:lnTo>
                    <a:pt x="522" y="81"/>
                  </a:lnTo>
                  <a:lnTo>
                    <a:pt x="418" y="126"/>
                  </a:lnTo>
                  <a:lnTo>
                    <a:pt x="319" y="174"/>
                  </a:lnTo>
                  <a:lnTo>
                    <a:pt x="223" y="228"/>
                  </a:lnTo>
                  <a:lnTo>
                    <a:pt x="153" y="273"/>
                  </a:lnTo>
                  <a:lnTo>
                    <a:pt x="73" y="327"/>
                  </a:lnTo>
                  <a:lnTo>
                    <a:pt x="51" y="34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800360" y="5485320"/>
              <a:ext cx="10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ops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3258000" y="1959840"/>
            <a:ext cx="2111760" cy="1644120"/>
            <a:chOff x="3258000" y="1959840"/>
            <a:chExt cx="2111760" cy="1644120"/>
          </a:xfrm>
        </p:grpSpPr>
        <p:sp>
          <p:nvSpPr>
            <p:cNvPr id="943" name=""/>
            <p:cNvSpPr/>
            <p:nvPr/>
          </p:nvSpPr>
          <p:spPr>
            <a:xfrm rot="944400">
              <a:off x="3350880" y="2408040"/>
              <a:ext cx="1925640" cy="952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91400" y="1959840"/>
              <a:ext cx="41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4134600" y="2380320"/>
            <a:ext cx="2684520" cy="1659240"/>
            <a:chOff x="4134600" y="2380320"/>
            <a:chExt cx="2684520" cy="1659240"/>
          </a:xfrm>
        </p:grpSpPr>
        <p:sp>
          <p:nvSpPr>
            <p:cNvPr id="946" name=""/>
            <p:cNvSpPr/>
            <p:nvPr/>
          </p:nvSpPr>
          <p:spPr>
            <a:xfrm rot="842400">
              <a:off x="4228920" y="2666520"/>
              <a:ext cx="2495520" cy="1086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961240" y="244548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493000" y="1836000"/>
            <a:ext cx="3848040" cy="2919240"/>
            <a:chOff x="2493000" y="1836000"/>
            <a:chExt cx="3848040" cy="2919240"/>
          </a:xfrm>
        </p:grpSpPr>
        <p:sp>
          <p:nvSpPr>
            <p:cNvPr id="949" name=""/>
            <p:cNvSpPr/>
            <p:nvPr/>
          </p:nvSpPr>
          <p:spPr>
            <a:xfrm rot="20154000">
              <a:off x="2707920" y="2466720"/>
              <a:ext cx="3444840" cy="165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93000" y="3826800"/>
              <a:ext cx="40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om a concrete plane dual graph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an Euler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3166560" y="2499120"/>
            <a:ext cx="3207600" cy="2594520"/>
            <a:chOff x="3166560" y="2499120"/>
            <a:chExt cx="3207600" cy="2594520"/>
          </a:xfrm>
        </p:grpSpPr>
        <p:grpSp>
          <p:nvGrpSpPr>
            <p:cNvPr id="953" name=""/>
            <p:cNvGrpSpPr/>
            <p:nvPr/>
          </p:nvGrpSpPr>
          <p:grpSpPr>
            <a:xfrm>
              <a:off x="3479400" y="2968560"/>
              <a:ext cx="2579040" cy="1710000"/>
              <a:chOff x="3479400" y="2968560"/>
              <a:chExt cx="2579040" cy="1710000"/>
            </a:xfrm>
          </p:grpSpPr>
          <p:sp>
            <p:nvSpPr>
              <p:cNvPr id="954" name=""/>
              <p:cNvSpPr/>
              <p:nvPr/>
            </p:nvSpPr>
            <p:spPr>
              <a:xfrm>
                <a:off x="3479400" y="3261960"/>
                <a:ext cx="1996920" cy="625320"/>
              </a:xfrm>
              <a:custGeom>
                <a:avLst/>
                <a:gdLst/>
                <a:ahLst/>
                <a:rect l="l" t="t" r="r" b="b"/>
                <a:pathLst>
                  <a:path w="1392" h="454">
                    <a:moveTo>
                      <a:pt x="1392" y="0"/>
                    </a:moveTo>
                    <a:cubicBezTo>
                      <a:pt x="1187" y="169"/>
                      <a:pt x="982" y="338"/>
                      <a:pt x="804" y="396"/>
                    </a:cubicBezTo>
                    <a:cubicBezTo>
                      <a:pt x="626" y="454"/>
                      <a:pt x="458" y="384"/>
                      <a:pt x="324" y="348"/>
                    </a:cubicBezTo>
                    <a:cubicBezTo>
                      <a:pt x="190" y="312"/>
                      <a:pt x="95" y="246"/>
                      <a:pt x="0" y="180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V="1">
                <a:off x="3535200" y="2975040"/>
                <a:ext cx="593640" cy="54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 flipV="1">
                <a:off x="4120560" y="2968560"/>
                <a:ext cx="656640" cy="155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 flipV="1">
                <a:off x="4857840" y="3124080"/>
                <a:ext cx="594000" cy="115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444640" y="3252600"/>
                <a:ext cx="594000" cy="158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4624200" y="3409200"/>
                <a:ext cx="1434240" cy="1269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 flipV="1">
                <a:off x="3519000" y="3508200"/>
                <a:ext cx="1045800" cy="1110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4511160" y="454644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409200" y="3432960"/>
              <a:ext cx="189360" cy="170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20480" y="2898000"/>
              <a:ext cx="189360" cy="170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713480" y="305136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386320" y="318348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976360" y="333648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245840" y="46339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001560" y="3001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166560" y="30812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738600" y="249912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421160" y="3156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238720" y="278964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4640" y="38462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070960" y="40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503880" y="29055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301280" y="2640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926960" y="27435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412520" y="34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625360" y="29772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336-643F-4122-8EAC-BD398555D1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"/>
          <p:cNvGrpSpPr/>
          <p:nvPr/>
        </p:nvGrpSpPr>
        <p:grpSpPr>
          <a:xfrm>
            <a:off x="3258000" y="1959840"/>
            <a:ext cx="2111760" cy="1644120"/>
            <a:chOff x="3258000" y="1959840"/>
            <a:chExt cx="2111760" cy="1644120"/>
          </a:xfrm>
        </p:grpSpPr>
        <p:sp>
          <p:nvSpPr>
            <p:cNvPr id="981" name=""/>
            <p:cNvSpPr/>
            <p:nvPr/>
          </p:nvSpPr>
          <p:spPr>
            <a:xfrm rot="944400">
              <a:off x="3350880" y="2408040"/>
              <a:ext cx="1925640" cy="952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91400" y="1959840"/>
              <a:ext cx="41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4134600" y="2380320"/>
            <a:ext cx="2684520" cy="1659240"/>
            <a:chOff x="4134600" y="2380320"/>
            <a:chExt cx="2684520" cy="1659240"/>
          </a:xfrm>
        </p:grpSpPr>
        <p:sp>
          <p:nvSpPr>
            <p:cNvPr id="984" name=""/>
            <p:cNvSpPr/>
            <p:nvPr/>
          </p:nvSpPr>
          <p:spPr>
            <a:xfrm rot="842400">
              <a:off x="4228920" y="2666520"/>
              <a:ext cx="2495520" cy="1086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61240" y="244548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 rot="20154000">
            <a:off x="2598480" y="1958760"/>
            <a:ext cx="3444840" cy="2187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493000" y="382680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om a concrete plane dual graph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an Euler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3166560" y="2499120"/>
            <a:ext cx="3207600" cy="2594520"/>
            <a:chOff x="3166560" y="2499120"/>
            <a:chExt cx="3207600" cy="2594520"/>
          </a:xfrm>
        </p:grpSpPr>
        <p:grpSp>
          <p:nvGrpSpPr>
            <p:cNvPr id="990" name=""/>
            <p:cNvGrpSpPr/>
            <p:nvPr/>
          </p:nvGrpSpPr>
          <p:grpSpPr>
            <a:xfrm>
              <a:off x="3479400" y="2968560"/>
              <a:ext cx="2579040" cy="1710000"/>
              <a:chOff x="3479400" y="2968560"/>
              <a:chExt cx="2579040" cy="1710000"/>
            </a:xfrm>
          </p:grpSpPr>
          <p:sp>
            <p:nvSpPr>
              <p:cNvPr id="991" name=""/>
              <p:cNvSpPr/>
              <p:nvPr/>
            </p:nvSpPr>
            <p:spPr>
              <a:xfrm>
                <a:off x="3479400" y="3261960"/>
                <a:ext cx="1996920" cy="625320"/>
              </a:xfrm>
              <a:custGeom>
                <a:avLst/>
                <a:gdLst/>
                <a:ahLst/>
                <a:rect l="l" t="t" r="r" b="b"/>
                <a:pathLst>
                  <a:path w="1392" h="454">
                    <a:moveTo>
                      <a:pt x="1392" y="0"/>
                    </a:moveTo>
                    <a:cubicBezTo>
                      <a:pt x="1187" y="169"/>
                      <a:pt x="982" y="338"/>
                      <a:pt x="804" y="396"/>
                    </a:cubicBezTo>
                    <a:cubicBezTo>
                      <a:pt x="626" y="454"/>
                      <a:pt x="458" y="384"/>
                      <a:pt x="324" y="348"/>
                    </a:cubicBezTo>
                    <a:cubicBezTo>
                      <a:pt x="190" y="312"/>
                      <a:pt x="95" y="246"/>
                      <a:pt x="0" y="180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3535200" y="2975040"/>
                <a:ext cx="593640" cy="54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 flipV="1">
                <a:off x="4120560" y="2968560"/>
                <a:ext cx="656640" cy="155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 flipV="1">
                <a:off x="4857840" y="3124080"/>
                <a:ext cx="594000" cy="115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444640" y="3252600"/>
                <a:ext cx="594000" cy="158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4624200" y="3409200"/>
                <a:ext cx="1434240" cy="1269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 flipV="1">
                <a:off x="3519000" y="3508200"/>
                <a:ext cx="1045800" cy="1110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8" name=""/>
            <p:cNvSpPr/>
            <p:nvPr/>
          </p:nvSpPr>
          <p:spPr>
            <a:xfrm>
              <a:off x="4511160" y="454644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409200" y="3432960"/>
              <a:ext cx="189360" cy="170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20480" y="2898000"/>
              <a:ext cx="189360" cy="170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713480" y="305136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86320" y="318348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976360" y="3336480"/>
              <a:ext cx="189360" cy="172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45840" y="46339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001560" y="3001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166560" y="30812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738600" y="249912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421160" y="31561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38720" y="278964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734640" y="38462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070960" y="40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503880" y="29055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301280" y="2640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26960" y="27435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412520" y="34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625360" y="29772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661-9B58-4652-88D2-912829D223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3258000" y="1959840"/>
            <a:ext cx="2111760" cy="1644120"/>
            <a:chOff x="3258000" y="1959840"/>
            <a:chExt cx="2111760" cy="1644120"/>
          </a:xfrm>
        </p:grpSpPr>
        <p:sp>
          <p:nvSpPr>
            <p:cNvPr id="1018" name=""/>
            <p:cNvSpPr/>
            <p:nvPr/>
          </p:nvSpPr>
          <p:spPr>
            <a:xfrm rot="944400">
              <a:off x="3350880" y="2408040"/>
              <a:ext cx="1925640" cy="952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91400" y="1959840"/>
              <a:ext cx="41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4134600" y="2380320"/>
            <a:ext cx="2684520" cy="1659240"/>
            <a:chOff x="4134600" y="2380320"/>
            <a:chExt cx="2684520" cy="1659240"/>
          </a:xfrm>
        </p:grpSpPr>
        <p:sp>
          <p:nvSpPr>
            <p:cNvPr id="1021" name=""/>
            <p:cNvSpPr/>
            <p:nvPr/>
          </p:nvSpPr>
          <p:spPr>
            <a:xfrm rot="842400">
              <a:off x="4228920" y="2666520"/>
              <a:ext cx="2495520" cy="1086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61240" y="244548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"/>
          <p:cNvSpPr/>
          <p:nvPr/>
        </p:nvSpPr>
        <p:spPr>
          <a:xfrm rot="20154000">
            <a:off x="2598480" y="1958760"/>
            <a:ext cx="3444840" cy="2187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493000" y="382680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281240" y="5503320"/>
            <a:ext cx="696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s visual skill to manipulate cont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om a concrete plane dual graph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an Euler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6089-A0BE-489B-BF46-EE85BC7825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62680" y="3070080"/>
            <a:ext cx="3862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are three contours: graph, tree and oth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four zones: one outside all contours, one just in graph, one in graph and tree and one in all three contour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one existential spide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29160" y="175248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175248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rete 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straint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1240" y="2422440"/>
            <a:ext cx="4114800" cy="3828960"/>
            <a:chOff x="741240" y="2422440"/>
            <a:chExt cx="4114800" cy="3828960"/>
          </a:xfrm>
        </p:grpSpPr>
        <p:sp>
          <p:nvSpPr>
            <p:cNvPr id="77" name=""/>
            <p:cNvSpPr/>
            <p:nvPr/>
          </p:nvSpPr>
          <p:spPr>
            <a:xfrm>
              <a:off x="2803680" y="3873600"/>
              <a:ext cx="1267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78120" y="4613400"/>
              <a:ext cx="1270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54440" y="5045040"/>
              <a:ext cx="1267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35480" y="2422440"/>
              <a:ext cx="715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rap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20600" y="3236760"/>
              <a:ext cx="2444760" cy="26226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79000" y="2881440"/>
              <a:ext cx="482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re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31880" y="4535640"/>
              <a:ext cx="917640" cy="8413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90880" y="4535640"/>
              <a:ext cx="1267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41680" y="3262320"/>
              <a:ext cx="25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68760" y="3135240"/>
              <a:ext cx="1440" cy="25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67240" y="3160800"/>
              <a:ext cx="203040" cy="20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567240" y="3160800"/>
              <a:ext cx="203040" cy="20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68760" y="3135240"/>
              <a:ext cx="1270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3040" y="496872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9000" y="4968720"/>
              <a:ext cx="12708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1640" y="476568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17600" y="4765680"/>
              <a:ext cx="12708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49520" y="5019840"/>
              <a:ext cx="152280" cy="126720"/>
            </a:xfrm>
            <a:custGeom>
              <a:avLst/>
              <a:gdLst/>
              <a:ahLst/>
              <a:rect l="l" t="t" r="r" b="b"/>
              <a:pathLst>
                <a:path w="96" h="80">
                  <a:moveTo>
                    <a:pt x="96" y="0"/>
                  </a:moveTo>
                  <a:lnTo>
                    <a:pt x="0" y="32"/>
                  </a:lnTo>
                  <a:lnTo>
                    <a:pt x="80" y="80"/>
                  </a:lnTo>
                  <a:lnTo>
                    <a:pt x="64" y="3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1240" y="2822400"/>
              <a:ext cx="411480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10000" y="3390840"/>
              <a:ext cx="1292040" cy="1698840"/>
            </a:xfrm>
            <a:custGeom>
              <a:avLst/>
              <a:gdLst/>
              <a:ahLst/>
              <a:rect l="l" t="t" r="r" b="b"/>
              <a:pathLst>
                <a:path w="814" h="1070">
                  <a:moveTo>
                    <a:pt x="684" y="0"/>
                  </a:moveTo>
                  <a:cubicBezTo>
                    <a:pt x="702" y="92"/>
                    <a:pt x="814" y="388"/>
                    <a:pt x="792" y="552"/>
                  </a:cubicBezTo>
                  <a:cubicBezTo>
                    <a:pt x="770" y="716"/>
                    <a:pt x="684" y="898"/>
                    <a:pt x="552" y="984"/>
                  </a:cubicBezTo>
                  <a:cubicBezTo>
                    <a:pt x="420" y="1070"/>
                    <a:pt x="115" y="1050"/>
                    <a:pt x="0" y="106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4920" y="3797280"/>
              <a:ext cx="11361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pann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7C8-14CA-42BF-975C-DB3FBC01ED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1051920" y="422640"/>
            <a:ext cx="3207960" cy="2594880"/>
            <a:chOff x="1051920" y="422640"/>
            <a:chExt cx="3207960" cy="2594880"/>
          </a:xfrm>
        </p:grpSpPr>
        <p:grpSp>
          <p:nvGrpSpPr>
            <p:cNvPr id="1028" name=""/>
            <p:cNvGrpSpPr/>
            <p:nvPr/>
          </p:nvGrpSpPr>
          <p:grpSpPr>
            <a:xfrm>
              <a:off x="1365120" y="892080"/>
              <a:ext cx="2579040" cy="1711080"/>
              <a:chOff x="1365120" y="892080"/>
              <a:chExt cx="2579040" cy="1711080"/>
            </a:xfrm>
          </p:grpSpPr>
          <p:sp>
            <p:nvSpPr>
              <p:cNvPr id="1029" name=""/>
              <p:cNvSpPr/>
              <p:nvPr/>
            </p:nvSpPr>
            <p:spPr>
              <a:xfrm>
                <a:off x="1365120" y="1185480"/>
                <a:ext cx="1997280" cy="626040"/>
              </a:xfrm>
              <a:custGeom>
                <a:avLst/>
                <a:gdLst/>
                <a:ahLst/>
                <a:rect l="l" t="t" r="r" b="b"/>
                <a:pathLst>
                  <a:path w="1392" h="454">
                    <a:moveTo>
                      <a:pt x="1392" y="0"/>
                    </a:moveTo>
                    <a:cubicBezTo>
                      <a:pt x="1187" y="169"/>
                      <a:pt x="982" y="338"/>
                      <a:pt x="804" y="396"/>
                    </a:cubicBezTo>
                    <a:cubicBezTo>
                      <a:pt x="626" y="454"/>
                      <a:pt x="458" y="384"/>
                      <a:pt x="324" y="348"/>
                    </a:cubicBezTo>
                    <a:cubicBezTo>
                      <a:pt x="190" y="312"/>
                      <a:pt x="95" y="246"/>
                      <a:pt x="0" y="180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1420920" y="898920"/>
                <a:ext cx="593640" cy="545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 flipV="1">
                <a:off x="2006280" y="892080"/>
                <a:ext cx="656640" cy="155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 flipV="1">
                <a:off x="2743560" y="1047600"/>
                <a:ext cx="594000" cy="115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330720" y="1176120"/>
                <a:ext cx="594000" cy="158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2509560" y="1333080"/>
                <a:ext cx="1434600" cy="12700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 flipV="1">
                <a:off x="1405080" y="1432080"/>
                <a:ext cx="1046160" cy="11113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2397240" y="2470320"/>
              <a:ext cx="188640" cy="1728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295280" y="1357200"/>
              <a:ext cx="189000" cy="169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906560" y="822240"/>
              <a:ext cx="189000" cy="171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598840" y="974880"/>
              <a:ext cx="190440" cy="1728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71680" y="1108080"/>
              <a:ext cx="189000" cy="171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862440" y="1260360"/>
              <a:ext cx="189000" cy="171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131560" y="255780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887280" y="925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051920" y="10054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23600" y="42264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306880" y="10800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124440" y="71316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620000" y="17704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57040" y="195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389600" y="8290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187000" y="564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13400" y="6688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96720" y="13719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510720" y="9007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5924520" y="221040"/>
            <a:ext cx="2165400" cy="1610640"/>
            <a:chOff x="5924520" y="221040"/>
            <a:chExt cx="2165400" cy="1610640"/>
          </a:xfrm>
        </p:grpSpPr>
        <p:grpSp>
          <p:nvGrpSpPr>
            <p:cNvPr id="1056" name=""/>
            <p:cNvGrpSpPr/>
            <p:nvPr/>
          </p:nvGrpSpPr>
          <p:grpSpPr>
            <a:xfrm>
              <a:off x="5924520" y="479160"/>
              <a:ext cx="2165400" cy="988920"/>
              <a:chOff x="5924520" y="479160"/>
              <a:chExt cx="2165400" cy="988920"/>
            </a:xfrm>
          </p:grpSpPr>
          <p:sp>
            <p:nvSpPr>
              <p:cNvPr id="1057" name=""/>
              <p:cNvSpPr/>
              <p:nvPr/>
            </p:nvSpPr>
            <p:spPr>
              <a:xfrm>
                <a:off x="6058080" y="552240"/>
                <a:ext cx="1949400" cy="863640"/>
              </a:xfrm>
              <a:custGeom>
                <a:avLst/>
                <a:gdLst/>
                <a:ahLst/>
                <a:rect l="l" t="t" r="r" b="b"/>
                <a:pathLst>
                  <a:path w="1228" h="544">
                    <a:moveTo>
                      <a:pt x="0" y="344"/>
                    </a:moveTo>
                    <a:lnTo>
                      <a:pt x="372" y="0"/>
                    </a:lnTo>
                    <a:lnTo>
                      <a:pt x="808" y="104"/>
                    </a:lnTo>
                    <a:lnTo>
                      <a:pt x="1228" y="180"/>
                    </a:lnTo>
                    <a:lnTo>
                      <a:pt x="940" y="392"/>
                    </a:lnTo>
                    <a:lnTo>
                      <a:pt x="784" y="484"/>
                    </a:lnTo>
                    <a:lnTo>
                      <a:pt x="676" y="528"/>
                    </a:lnTo>
                    <a:lnTo>
                      <a:pt x="604" y="540"/>
                    </a:lnTo>
                    <a:lnTo>
                      <a:pt x="548" y="544"/>
                    </a:lnTo>
                    <a:lnTo>
                      <a:pt x="440" y="532"/>
                    </a:lnTo>
                    <a:lnTo>
                      <a:pt x="260" y="484"/>
                    </a:lnTo>
                    <a:lnTo>
                      <a:pt x="120" y="440"/>
                    </a:lnTo>
                    <a:lnTo>
                      <a:pt x="0" y="34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994360" y="842760"/>
                <a:ext cx="1997280" cy="625320"/>
              </a:xfrm>
              <a:custGeom>
                <a:avLst/>
                <a:gdLst/>
                <a:ahLst/>
                <a:rect l="l" t="t" r="r" b="b"/>
                <a:pathLst>
                  <a:path w="1392" h="454">
                    <a:moveTo>
                      <a:pt x="1392" y="0"/>
                    </a:moveTo>
                    <a:cubicBezTo>
                      <a:pt x="1187" y="169"/>
                      <a:pt x="982" y="338"/>
                      <a:pt x="804" y="396"/>
                    </a:cubicBezTo>
                    <a:cubicBezTo>
                      <a:pt x="626" y="454"/>
                      <a:pt x="458" y="384"/>
                      <a:pt x="324" y="348"/>
                    </a:cubicBezTo>
                    <a:cubicBezTo>
                      <a:pt x="190" y="312"/>
                      <a:pt x="95" y="246"/>
                      <a:pt x="0" y="180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6050160" y="555120"/>
                <a:ext cx="593640" cy="546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 flipV="1">
                <a:off x="6635880" y="549000"/>
                <a:ext cx="657360" cy="155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 flipV="1">
                <a:off x="7373880" y="704520"/>
                <a:ext cx="594000" cy="115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924520" y="1014120"/>
                <a:ext cx="189000" cy="169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535800" y="479160"/>
                <a:ext cx="189000" cy="171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228080" y="631800"/>
                <a:ext cx="190440" cy="1728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900920" y="765000"/>
                <a:ext cx="189000" cy="171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6018840" y="221040"/>
              <a:ext cx="1802520" cy="1610640"/>
              <a:chOff x="6018840" y="221040"/>
              <a:chExt cx="1802520" cy="1610640"/>
            </a:xfrm>
          </p:grpSpPr>
          <p:sp>
            <p:nvSpPr>
              <p:cNvPr id="1067" name=""/>
              <p:cNvSpPr/>
              <p:nvPr/>
            </p:nvSpPr>
            <p:spPr>
              <a:xfrm>
                <a:off x="6018840" y="48600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816240" y="22104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442640" y="32580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921000" y="137196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1" name=""/>
          <p:cNvGrpSpPr/>
          <p:nvPr/>
        </p:nvGrpSpPr>
        <p:grpSpPr>
          <a:xfrm>
            <a:off x="6324480" y="615960"/>
            <a:ext cx="1326960" cy="774720"/>
            <a:chOff x="6324480" y="615960"/>
            <a:chExt cx="1326960" cy="774720"/>
          </a:xfrm>
        </p:grpSpPr>
        <p:sp>
          <p:nvSpPr>
            <p:cNvPr id="1072" name=""/>
            <p:cNvSpPr/>
            <p:nvPr/>
          </p:nvSpPr>
          <p:spPr>
            <a:xfrm>
              <a:off x="6852960" y="615960"/>
              <a:ext cx="258840" cy="774720"/>
            </a:xfrm>
            <a:custGeom>
              <a:avLst/>
              <a:gdLst/>
              <a:ahLst/>
              <a:rect l="l" t="t" r="r" b="b"/>
              <a:pathLst>
                <a:path w="163" h="488">
                  <a:moveTo>
                    <a:pt x="163" y="488"/>
                  </a:moveTo>
                  <a:cubicBezTo>
                    <a:pt x="96" y="442"/>
                    <a:pt x="30" y="397"/>
                    <a:pt x="15" y="316"/>
                  </a:cubicBezTo>
                  <a:cubicBezTo>
                    <a:pt x="0" y="235"/>
                    <a:pt x="37" y="117"/>
                    <a:pt x="75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324480" y="762120"/>
              <a:ext cx="1326960" cy="262080"/>
            </a:xfrm>
            <a:custGeom>
              <a:avLst/>
              <a:gdLst/>
              <a:ahLst/>
              <a:rect l="l" t="t" r="r" b="b"/>
              <a:pathLst>
                <a:path w="836" h="165">
                  <a:moveTo>
                    <a:pt x="0" y="60"/>
                  </a:moveTo>
                  <a:cubicBezTo>
                    <a:pt x="45" y="85"/>
                    <a:pt x="90" y="110"/>
                    <a:pt x="176" y="124"/>
                  </a:cubicBezTo>
                  <a:cubicBezTo>
                    <a:pt x="262" y="138"/>
                    <a:pt x="406" y="165"/>
                    <a:pt x="516" y="144"/>
                  </a:cubicBezTo>
                  <a:cubicBezTo>
                    <a:pt x="626" y="123"/>
                    <a:pt x="731" y="61"/>
                    <a:pt x="83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5562720" y="4062960"/>
            <a:ext cx="2755800" cy="1780560"/>
            <a:chOff x="5562720" y="4062960"/>
            <a:chExt cx="2755800" cy="1780560"/>
          </a:xfrm>
        </p:grpSpPr>
        <p:grpSp>
          <p:nvGrpSpPr>
            <p:cNvPr id="1075" name=""/>
            <p:cNvGrpSpPr/>
            <p:nvPr/>
          </p:nvGrpSpPr>
          <p:grpSpPr>
            <a:xfrm>
              <a:off x="5562720" y="4308480"/>
              <a:ext cx="2755800" cy="1535040"/>
              <a:chOff x="5562720" y="4308480"/>
              <a:chExt cx="2755800" cy="1535040"/>
            </a:xfrm>
          </p:grpSpPr>
          <p:sp>
            <p:nvSpPr>
              <p:cNvPr id="1076" name=""/>
              <p:cNvSpPr/>
              <p:nvPr/>
            </p:nvSpPr>
            <p:spPr>
              <a:xfrm>
                <a:off x="5683320" y="4375080"/>
                <a:ext cx="2546280" cy="1422360"/>
              </a:xfrm>
              <a:custGeom>
                <a:avLst/>
                <a:gdLst/>
                <a:ahLst/>
                <a:rect l="l" t="t" r="r" b="b"/>
                <a:pathLst>
                  <a:path w="1604" h="896">
                    <a:moveTo>
                      <a:pt x="0" y="172"/>
                    </a:moveTo>
                    <a:lnTo>
                      <a:pt x="128" y="268"/>
                    </a:lnTo>
                    <a:lnTo>
                      <a:pt x="252" y="304"/>
                    </a:lnTo>
                    <a:lnTo>
                      <a:pt x="412" y="352"/>
                    </a:lnTo>
                    <a:lnTo>
                      <a:pt x="512" y="368"/>
                    </a:lnTo>
                    <a:lnTo>
                      <a:pt x="628" y="360"/>
                    </a:lnTo>
                    <a:lnTo>
                      <a:pt x="716" y="348"/>
                    </a:lnTo>
                    <a:lnTo>
                      <a:pt x="832" y="292"/>
                    </a:lnTo>
                    <a:lnTo>
                      <a:pt x="940" y="220"/>
                    </a:lnTo>
                    <a:lnTo>
                      <a:pt x="1068" y="124"/>
                    </a:lnTo>
                    <a:lnTo>
                      <a:pt x="1184" y="40"/>
                    </a:lnTo>
                    <a:lnTo>
                      <a:pt x="1228" y="0"/>
                    </a:lnTo>
                    <a:lnTo>
                      <a:pt x="1604" y="104"/>
                    </a:lnTo>
                    <a:lnTo>
                      <a:pt x="692" y="896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632560" y="4386240"/>
                <a:ext cx="1996920" cy="625320"/>
              </a:xfrm>
              <a:custGeom>
                <a:avLst/>
                <a:gdLst/>
                <a:ahLst/>
                <a:rect l="l" t="t" r="r" b="b"/>
                <a:pathLst>
                  <a:path w="1392" h="454">
                    <a:moveTo>
                      <a:pt x="1392" y="0"/>
                    </a:moveTo>
                    <a:cubicBezTo>
                      <a:pt x="1187" y="169"/>
                      <a:pt x="982" y="338"/>
                      <a:pt x="804" y="396"/>
                    </a:cubicBezTo>
                    <a:cubicBezTo>
                      <a:pt x="626" y="454"/>
                      <a:pt x="458" y="384"/>
                      <a:pt x="324" y="348"/>
                    </a:cubicBezTo>
                    <a:cubicBezTo>
                      <a:pt x="190" y="312"/>
                      <a:pt x="95" y="246"/>
                      <a:pt x="0" y="180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597800" y="4376520"/>
                <a:ext cx="593640" cy="158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6777000" y="4533840"/>
                <a:ext cx="1434960" cy="12700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flipV="1">
                <a:off x="5672160" y="4633560"/>
                <a:ext cx="1046160" cy="11113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664320" y="5670360"/>
                <a:ext cx="189000" cy="1731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62720" y="4557600"/>
                <a:ext cx="188640" cy="169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539120" y="4308480"/>
                <a:ext cx="188640" cy="171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8129520" y="4460760"/>
                <a:ext cx="189000" cy="171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5849280" y="4062960"/>
              <a:ext cx="2361600" cy="1546920"/>
              <a:chOff x="5849280" y="4062960"/>
              <a:chExt cx="2361600" cy="1546920"/>
            </a:xfrm>
          </p:grpSpPr>
          <p:sp>
            <p:nvSpPr>
              <p:cNvPr id="1086" name=""/>
              <p:cNvSpPr/>
              <p:nvPr/>
            </p:nvSpPr>
            <p:spPr>
              <a:xfrm>
                <a:off x="5849280" y="504720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414560" y="515016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463800" y="457236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835040" y="406296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0" name=""/>
          <p:cNvGrpSpPr/>
          <p:nvPr/>
        </p:nvGrpSpPr>
        <p:grpSpPr>
          <a:xfrm>
            <a:off x="6242040" y="4464000"/>
            <a:ext cx="1682640" cy="780840"/>
            <a:chOff x="6242040" y="4464000"/>
            <a:chExt cx="1682640" cy="780840"/>
          </a:xfrm>
        </p:grpSpPr>
        <p:sp>
          <p:nvSpPr>
            <p:cNvPr id="1091" name=""/>
            <p:cNvSpPr/>
            <p:nvPr/>
          </p:nvSpPr>
          <p:spPr>
            <a:xfrm>
              <a:off x="6750000" y="4940280"/>
              <a:ext cx="717480" cy="260280"/>
            </a:xfrm>
            <a:custGeom>
              <a:avLst/>
              <a:gdLst/>
              <a:ahLst/>
              <a:rect l="l" t="t" r="r" b="b"/>
              <a:pathLst>
                <a:path w="452" h="164">
                  <a:moveTo>
                    <a:pt x="452" y="164"/>
                  </a:moveTo>
                  <a:cubicBezTo>
                    <a:pt x="405" y="157"/>
                    <a:pt x="359" y="151"/>
                    <a:pt x="284" y="124"/>
                  </a:cubicBezTo>
                  <a:cubicBezTo>
                    <a:pt x="209" y="97"/>
                    <a:pt x="104" y="4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242040" y="4464000"/>
              <a:ext cx="1682640" cy="780840"/>
            </a:xfrm>
            <a:custGeom>
              <a:avLst/>
              <a:gdLst/>
              <a:ahLst/>
              <a:rect l="l" t="t" r="r" b="b"/>
              <a:pathLst>
                <a:path w="1060" h="492">
                  <a:moveTo>
                    <a:pt x="0" y="492"/>
                  </a:moveTo>
                  <a:cubicBezTo>
                    <a:pt x="171" y="481"/>
                    <a:pt x="343" y="470"/>
                    <a:pt x="520" y="388"/>
                  </a:cubicBezTo>
                  <a:cubicBezTo>
                    <a:pt x="697" y="306"/>
                    <a:pt x="878" y="153"/>
                    <a:pt x="106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214200" y="3762360"/>
            <a:ext cx="3902040" cy="2798640"/>
            <a:chOff x="214200" y="3762360"/>
            <a:chExt cx="3902040" cy="2798640"/>
          </a:xfrm>
        </p:grpSpPr>
        <p:grpSp>
          <p:nvGrpSpPr>
            <p:cNvPr id="1094" name=""/>
            <p:cNvGrpSpPr/>
            <p:nvPr/>
          </p:nvGrpSpPr>
          <p:grpSpPr>
            <a:xfrm>
              <a:off x="214200" y="3762360"/>
              <a:ext cx="3902040" cy="2544840"/>
              <a:chOff x="214200" y="3762360"/>
              <a:chExt cx="3902040" cy="2544840"/>
            </a:xfrm>
          </p:grpSpPr>
          <p:sp>
            <p:nvSpPr>
              <p:cNvPr id="1095" name=""/>
              <p:cNvSpPr/>
              <p:nvPr/>
            </p:nvSpPr>
            <p:spPr>
              <a:xfrm>
                <a:off x="214200" y="3762360"/>
                <a:ext cx="3902040" cy="2544840"/>
              </a:xfrm>
              <a:custGeom>
                <a:avLst/>
                <a:gdLst/>
                <a:ahLst/>
                <a:rect l="l" t="t" r="r" b="b"/>
                <a:pathLst>
                  <a:path w="2458" h="1603">
                    <a:moveTo>
                      <a:pt x="221" y="170"/>
                    </a:moveTo>
                    <a:cubicBezTo>
                      <a:pt x="442" y="0"/>
                      <a:pt x="1147" y="39"/>
                      <a:pt x="1469" y="54"/>
                    </a:cubicBezTo>
                    <a:cubicBezTo>
                      <a:pt x="1791" y="69"/>
                      <a:pt x="2002" y="159"/>
                      <a:pt x="2153" y="258"/>
                    </a:cubicBezTo>
                    <a:cubicBezTo>
                      <a:pt x="2304" y="357"/>
                      <a:pt x="2458" y="464"/>
                      <a:pt x="2377" y="650"/>
                    </a:cubicBezTo>
                    <a:cubicBezTo>
                      <a:pt x="2296" y="836"/>
                      <a:pt x="1878" y="1218"/>
                      <a:pt x="1669" y="1374"/>
                    </a:cubicBezTo>
                    <a:cubicBezTo>
                      <a:pt x="1460" y="1530"/>
                      <a:pt x="1316" y="1569"/>
                      <a:pt x="1121" y="1586"/>
                    </a:cubicBezTo>
                    <a:cubicBezTo>
                      <a:pt x="926" y="1603"/>
                      <a:pt x="660" y="1563"/>
                      <a:pt x="497" y="1478"/>
                    </a:cubicBezTo>
                    <a:cubicBezTo>
                      <a:pt x="334" y="1393"/>
                      <a:pt x="192" y="1291"/>
                      <a:pt x="145" y="1074"/>
                    </a:cubicBezTo>
                    <a:cubicBezTo>
                      <a:pt x="98" y="857"/>
                      <a:pt x="0" y="340"/>
                      <a:pt x="221" y="170"/>
                    </a:cubicBez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68240" y="4699080"/>
                <a:ext cx="2546280" cy="1422360"/>
              </a:xfrm>
              <a:custGeom>
                <a:avLst/>
                <a:gdLst/>
                <a:ahLst/>
                <a:rect l="l" t="t" r="r" b="b"/>
                <a:pathLst>
                  <a:path w="1604" h="896">
                    <a:moveTo>
                      <a:pt x="0" y="172"/>
                    </a:moveTo>
                    <a:lnTo>
                      <a:pt x="128" y="268"/>
                    </a:lnTo>
                    <a:lnTo>
                      <a:pt x="252" y="304"/>
                    </a:lnTo>
                    <a:lnTo>
                      <a:pt x="412" y="352"/>
                    </a:lnTo>
                    <a:lnTo>
                      <a:pt x="512" y="368"/>
                    </a:lnTo>
                    <a:lnTo>
                      <a:pt x="628" y="360"/>
                    </a:lnTo>
                    <a:lnTo>
                      <a:pt x="716" y="348"/>
                    </a:lnTo>
                    <a:lnTo>
                      <a:pt x="832" y="292"/>
                    </a:lnTo>
                    <a:lnTo>
                      <a:pt x="940" y="220"/>
                    </a:lnTo>
                    <a:lnTo>
                      <a:pt x="1068" y="124"/>
                    </a:lnTo>
                    <a:lnTo>
                      <a:pt x="1184" y="40"/>
                    </a:lnTo>
                    <a:lnTo>
                      <a:pt x="1228" y="0"/>
                    </a:lnTo>
                    <a:lnTo>
                      <a:pt x="1604" y="104"/>
                    </a:lnTo>
                    <a:lnTo>
                      <a:pt x="692" y="896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9920" y="4438800"/>
                <a:ext cx="1949400" cy="863280"/>
              </a:xfrm>
              <a:custGeom>
                <a:avLst/>
                <a:gdLst/>
                <a:ahLst/>
                <a:rect l="l" t="t" r="r" b="b"/>
                <a:pathLst>
                  <a:path w="1228" h="544">
                    <a:moveTo>
                      <a:pt x="0" y="344"/>
                    </a:moveTo>
                    <a:lnTo>
                      <a:pt x="372" y="0"/>
                    </a:lnTo>
                    <a:lnTo>
                      <a:pt x="808" y="104"/>
                    </a:lnTo>
                    <a:lnTo>
                      <a:pt x="1228" y="180"/>
                    </a:lnTo>
                    <a:lnTo>
                      <a:pt x="940" y="392"/>
                    </a:lnTo>
                    <a:lnTo>
                      <a:pt x="784" y="484"/>
                    </a:lnTo>
                    <a:lnTo>
                      <a:pt x="676" y="528"/>
                    </a:lnTo>
                    <a:lnTo>
                      <a:pt x="604" y="540"/>
                    </a:lnTo>
                    <a:lnTo>
                      <a:pt x="548" y="544"/>
                    </a:lnTo>
                    <a:lnTo>
                      <a:pt x="440" y="532"/>
                    </a:lnTo>
                    <a:lnTo>
                      <a:pt x="260" y="484"/>
                    </a:lnTo>
                    <a:lnTo>
                      <a:pt x="120" y="440"/>
                    </a:lnTo>
                    <a:lnTo>
                      <a:pt x="0" y="3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772920" y="4441320"/>
                <a:ext cx="593640" cy="546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 flipV="1">
                <a:off x="1358640" y="4435560"/>
                <a:ext cx="657360" cy="155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H="1" flipV="1">
                <a:off x="2096640" y="4591080"/>
                <a:ext cx="593640" cy="115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682720" y="4719600"/>
                <a:ext cx="593640" cy="158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>
                <a:off x="1861560" y="4876920"/>
                <a:ext cx="1435320" cy="1269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 flipV="1">
                <a:off x="757080" y="4976280"/>
                <a:ext cx="1046160" cy="11113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749240" y="6013440"/>
                <a:ext cx="189000" cy="1731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47640" y="4900680"/>
                <a:ext cx="189000" cy="169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258920" y="4365720"/>
                <a:ext cx="188640" cy="171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950840" y="4518000"/>
                <a:ext cx="190440" cy="1731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624040" y="4651200"/>
                <a:ext cx="189000" cy="1717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214440" y="4803840"/>
                <a:ext cx="189000" cy="171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989280" y="4488480"/>
              <a:ext cx="2135160" cy="2072520"/>
              <a:chOff x="989280" y="4488480"/>
              <a:chExt cx="2135160" cy="2072520"/>
            </a:xfrm>
          </p:grpSpPr>
          <p:sp>
            <p:nvSpPr>
              <p:cNvPr id="1111" name=""/>
              <p:cNvSpPr/>
              <p:nvPr/>
            </p:nvSpPr>
            <p:spPr>
              <a:xfrm>
                <a:off x="1483560" y="6101280"/>
                <a:ext cx="71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nu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276920" y="519948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270880" y="524556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989280" y="456300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424880" y="44884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146320" y="459324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748600" y="472968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8" name=""/>
          <p:cNvGrpSpPr/>
          <p:nvPr/>
        </p:nvGrpSpPr>
        <p:grpSpPr>
          <a:xfrm>
            <a:off x="404640" y="3948120"/>
            <a:ext cx="3336840" cy="1668600"/>
            <a:chOff x="404640" y="3948120"/>
            <a:chExt cx="3336840" cy="1668600"/>
          </a:xfrm>
        </p:grpSpPr>
        <p:sp>
          <p:nvSpPr>
            <p:cNvPr id="1119" name=""/>
            <p:cNvSpPr/>
            <p:nvPr/>
          </p:nvSpPr>
          <p:spPr>
            <a:xfrm>
              <a:off x="806400" y="4199040"/>
              <a:ext cx="1665360" cy="544320"/>
            </a:xfrm>
            <a:custGeom>
              <a:avLst/>
              <a:gdLst/>
              <a:ahLst/>
              <a:rect l="l" t="t" r="r" b="b"/>
              <a:pathLst>
                <a:path w="1049" h="343">
                  <a:moveTo>
                    <a:pt x="148" y="343"/>
                  </a:moveTo>
                  <a:cubicBezTo>
                    <a:pt x="74" y="231"/>
                    <a:pt x="0" y="120"/>
                    <a:pt x="76" y="63"/>
                  </a:cubicBezTo>
                  <a:cubicBezTo>
                    <a:pt x="152" y="6"/>
                    <a:pt x="453" y="0"/>
                    <a:pt x="604" y="3"/>
                  </a:cubicBezTo>
                  <a:cubicBezTo>
                    <a:pt x="755" y="6"/>
                    <a:pt x="919" y="36"/>
                    <a:pt x="984" y="83"/>
                  </a:cubicBezTo>
                  <a:cubicBezTo>
                    <a:pt x="1049" y="130"/>
                    <a:pt x="1020" y="208"/>
                    <a:pt x="992" y="28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04640" y="3959280"/>
              <a:ext cx="2746440" cy="1657440"/>
            </a:xfrm>
            <a:custGeom>
              <a:avLst/>
              <a:gdLst/>
              <a:ahLst/>
              <a:rect l="l" t="t" r="r" b="b"/>
              <a:pathLst>
                <a:path w="1730" h="1044">
                  <a:moveTo>
                    <a:pt x="573" y="1030"/>
                  </a:moveTo>
                  <a:cubicBezTo>
                    <a:pt x="500" y="1007"/>
                    <a:pt x="196" y="1044"/>
                    <a:pt x="133" y="894"/>
                  </a:cubicBezTo>
                  <a:cubicBezTo>
                    <a:pt x="70" y="744"/>
                    <a:pt x="0" y="260"/>
                    <a:pt x="197" y="130"/>
                  </a:cubicBezTo>
                  <a:cubicBezTo>
                    <a:pt x="394" y="0"/>
                    <a:pt x="1070" y="82"/>
                    <a:pt x="1317" y="114"/>
                  </a:cubicBezTo>
                  <a:cubicBezTo>
                    <a:pt x="1564" y="146"/>
                    <a:pt x="1624" y="252"/>
                    <a:pt x="1677" y="322"/>
                  </a:cubicBezTo>
                  <a:cubicBezTo>
                    <a:pt x="1730" y="392"/>
                    <a:pt x="1683" y="463"/>
                    <a:pt x="1637" y="53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695240" y="3948120"/>
              <a:ext cx="2046240" cy="1649520"/>
            </a:xfrm>
            <a:custGeom>
              <a:avLst/>
              <a:gdLst/>
              <a:ahLst/>
              <a:rect l="l" t="t" r="r" b="b"/>
              <a:pathLst>
                <a:path w="1289" h="1039">
                  <a:moveTo>
                    <a:pt x="0" y="357"/>
                  </a:moveTo>
                  <a:cubicBezTo>
                    <a:pt x="51" y="223"/>
                    <a:pt x="102" y="90"/>
                    <a:pt x="260" y="45"/>
                  </a:cubicBezTo>
                  <a:cubicBezTo>
                    <a:pt x="418" y="0"/>
                    <a:pt x="778" y="14"/>
                    <a:pt x="948" y="89"/>
                  </a:cubicBezTo>
                  <a:cubicBezTo>
                    <a:pt x="1118" y="164"/>
                    <a:pt x="1289" y="349"/>
                    <a:pt x="1280" y="493"/>
                  </a:cubicBezTo>
                  <a:cubicBezTo>
                    <a:pt x="1271" y="637"/>
                    <a:pt x="1015" y="867"/>
                    <a:pt x="892" y="953"/>
                  </a:cubicBezTo>
                  <a:cubicBezTo>
                    <a:pt x="769" y="1039"/>
                    <a:pt x="656" y="1024"/>
                    <a:pt x="544" y="100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FF5-22B8-4D30-9CE5-CB2CA06D069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"/>
          <p:cNvGrpSpPr/>
          <p:nvPr/>
        </p:nvGrpSpPr>
        <p:grpSpPr>
          <a:xfrm>
            <a:off x="5924520" y="479520"/>
            <a:ext cx="2165400" cy="988920"/>
            <a:chOff x="5924520" y="479520"/>
            <a:chExt cx="2165400" cy="988920"/>
          </a:xfrm>
        </p:grpSpPr>
        <p:grpSp>
          <p:nvGrpSpPr>
            <p:cNvPr id="1123" name=""/>
            <p:cNvGrpSpPr/>
            <p:nvPr/>
          </p:nvGrpSpPr>
          <p:grpSpPr>
            <a:xfrm>
              <a:off x="5924520" y="479520"/>
              <a:ext cx="2165400" cy="988920"/>
              <a:chOff x="5924520" y="479520"/>
              <a:chExt cx="2165400" cy="988920"/>
            </a:xfrm>
          </p:grpSpPr>
          <p:sp>
            <p:nvSpPr>
              <p:cNvPr id="1124" name=""/>
              <p:cNvSpPr/>
              <p:nvPr/>
            </p:nvSpPr>
            <p:spPr>
              <a:xfrm>
                <a:off x="6058080" y="552600"/>
                <a:ext cx="1949400" cy="863640"/>
              </a:xfrm>
              <a:custGeom>
                <a:avLst/>
                <a:gdLst/>
                <a:ahLst/>
                <a:rect l="l" t="t" r="r" b="b"/>
                <a:pathLst>
                  <a:path w="1228" h="544">
                    <a:moveTo>
                      <a:pt x="0" y="344"/>
                    </a:moveTo>
                    <a:lnTo>
                      <a:pt x="372" y="0"/>
                    </a:lnTo>
                    <a:lnTo>
                      <a:pt x="808" y="104"/>
                    </a:lnTo>
                    <a:lnTo>
                      <a:pt x="1228" y="180"/>
                    </a:lnTo>
                    <a:lnTo>
                      <a:pt x="940" y="392"/>
                    </a:lnTo>
                    <a:lnTo>
                      <a:pt x="784" y="484"/>
                    </a:lnTo>
                    <a:lnTo>
                      <a:pt x="676" y="528"/>
                    </a:lnTo>
                    <a:lnTo>
                      <a:pt x="604" y="540"/>
                    </a:lnTo>
                    <a:lnTo>
                      <a:pt x="548" y="544"/>
                    </a:lnTo>
                    <a:lnTo>
                      <a:pt x="440" y="532"/>
                    </a:lnTo>
                    <a:lnTo>
                      <a:pt x="260" y="484"/>
                    </a:lnTo>
                    <a:lnTo>
                      <a:pt x="120" y="440"/>
                    </a:lnTo>
                    <a:lnTo>
                      <a:pt x="0" y="34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994360" y="843120"/>
                <a:ext cx="1997280" cy="625320"/>
              </a:xfrm>
              <a:custGeom>
                <a:avLst/>
                <a:gdLst/>
                <a:ahLst/>
                <a:rect l="l" t="t" r="r" b="b"/>
                <a:pathLst>
                  <a:path w="1392" h="454">
                    <a:moveTo>
                      <a:pt x="1392" y="0"/>
                    </a:moveTo>
                    <a:cubicBezTo>
                      <a:pt x="1187" y="169"/>
                      <a:pt x="982" y="338"/>
                      <a:pt x="804" y="396"/>
                    </a:cubicBezTo>
                    <a:cubicBezTo>
                      <a:pt x="626" y="454"/>
                      <a:pt x="458" y="384"/>
                      <a:pt x="324" y="348"/>
                    </a:cubicBezTo>
                    <a:cubicBezTo>
                      <a:pt x="190" y="312"/>
                      <a:pt x="95" y="246"/>
                      <a:pt x="0" y="180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V="1">
                <a:off x="6050160" y="555480"/>
                <a:ext cx="593640" cy="546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 flipV="1">
                <a:off x="6635880" y="549360"/>
                <a:ext cx="657360" cy="155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 flipV="1">
                <a:off x="7373880" y="704880"/>
                <a:ext cx="594000" cy="115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924520" y="1014480"/>
                <a:ext cx="189000" cy="169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535800" y="479520"/>
                <a:ext cx="189000" cy="171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228080" y="632160"/>
                <a:ext cx="190440" cy="1728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0920" y="765360"/>
                <a:ext cx="189000" cy="171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6324840" y="615960"/>
              <a:ext cx="1326960" cy="774720"/>
              <a:chOff x="6324840" y="615960"/>
              <a:chExt cx="1326960" cy="774720"/>
            </a:xfrm>
          </p:grpSpPr>
          <p:sp>
            <p:nvSpPr>
              <p:cNvPr id="1134" name=""/>
              <p:cNvSpPr/>
              <p:nvPr/>
            </p:nvSpPr>
            <p:spPr>
              <a:xfrm>
                <a:off x="6853320" y="615960"/>
                <a:ext cx="258840" cy="774720"/>
              </a:xfrm>
              <a:custGeom>
                <a:avLst/>
                <a:gdLst/>
                <a:ahLst/>
                <a:rect l="l" t="t" r="r" b="b"/>
                <a:pathLst>
                  <a:path w="163" h="488">
                    <a:moveTo>
                      <a:pt x="163" y="488"/>
                    </a:moveTo>
                    <a:cubicBezTo>
                      <a:pt x="96" y="442"/>
                      <a:pt x="30" y="397"/>
                      <a:pt x="15" y="316"/>
                    </a:cubicBezTo>
                    <a:cubicBezTo>
                      <a:pt x="0" y="235"/>
                      <a:pt x="37" y="117"/>
                      <a:pt x="75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324840" y="762120"/>
                <a:ext cx="1326960" cy="262080"/>
              </a:xfrm>
              <a:custGeom>
                <a:avLst/>
                <a:gdLst/>
                <a:ahLst/>
                <a:rect l="l" t="t" r="r" b="b"/>
                <a:pathLst>
                  <a:path w="836" h="165">
                    <a:moveTo>
                      <a:pt x="0" y="60"/>
                    </a:moveTo>
                    <a:cubicBezTo>
                      <a:pt x="45" y="85"/>
                      <a:pt x="90" y="110"/>
                      <a:pt x="176" y="124"/>
                    </a:cubicBezTo>
                    <a:cubicBezTo>
                      <a:pt x="262" y="138"/>
                      <a:pt x="406" y="165"/>
                      <a:pt x="516" y="144"/>
                    </a:cubicBezTo>
                    <a:cubicBezTo>
                      <a:pt x="626" y="123"/>
                      <a:pt x="731" y="61"/>
                      <a:pt x="836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6" name=""/>
          <p:cNvGrpSpPr/>
          <p:nvPr/>
        </p:nvGrpSpPr>
        <p:grpSpPr>
          <a:xfrm>
            <a:off x="5562720" y="4308480"/>
            <a:ext cx="2755800" cy="1535040"/>
            <a:chOff x="5562720" y="4308480"/>
            <a:chExt cx="2755800" cy="1535040"/>
          </a:xfrm>
        </p:grpSpPr>
        <p:grpSp>
          <p:nvGrpSpPr>
            <p:cNvPr id="1137" name=""/>
            <p:cNvGrpSpPr/>
            <p:nvPr/>
          </p:nvGrpSpPr>
          <p:grpSpPr>
            <a:xfrm>
              <a:off x="5562720" y="4308480"/>
              <a:ext cx="2755800" cy="1535040"/>
              <a:chOff x="5562720" y="4308480"/>
              <a:chExt cx="2755800" cy="1535040"/>
            </a:xfrm>
          </p:grpSpPr>
          <p:sp>
            <p:nvSpPr>
              <p:cNvPr id="1138" name=""/>
              <p:cNvSpPr/>
              <p:nvPr/>
            </p:nvSpPr>
            <p:spPr>
              <a:xfrm>
                <a:off x="5683320" y="4375080"/>
                <a:ext cx="2546280" cy="1422360"/>
              </a:xfrm>
              <a:custGeom>
                <a:avLst/>
                <a:gdLst/>
                <a:ahLst/>
                <a:rect l="l" t="t" r="r" b="b"/>
                <a:pathLst>
                  <a:path w="1604" h="896">
                    <a:moveTo>
                      <a:pt x="0" y="172"/>
                    </a:moveTo>
                    <a:lnTo>
                      <a:pt x="128" y="268"/>
                    </a:lnTo>
                    <a:lnTo>
                      <a:pt x="252" y="304"/>
                    </a:lnTo>
                    <a:lnTo>
                      <a:pt x="412" y="352"/>
                    </a:lnTo>
                    <a:lnTo>
                      <a:pt x="512" y="368"/>
                    </a:lnTo>
                    <a:lnTo>
                      <a:pt x="628" y="360"/>
                    </a:lnTo>
                    <a:lnTo>
                      <a:pt x="716" y="348"/>
                    </a:lnTo>
                    <a:lnTo>
                      <a:pt x="832" y="292"/>
                    </a:lnTo>
                    <a:lnTo>
                      <a:pt x="940" y="220"/>
                    </a:lnTo>
                    <a:lnTo>
                      <a:pt x="1068" y="124"/>
                    </a:lnTo>
                    <a:lnTo>
                      <a:pt x="1184" y="40"/>
                    </a:lnTo>
                    <a:lnTo>
                      <a:pt x="1228" y="0"/>
                    </a:lnTo>
                    <a:lnTo>
                      <a:pt x="1604" y="104"/>
                    </a:lnTo>
                    <a:lnTo>
                      <a:pt x="692" y="896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632560" y="4386240"/>
                <a:ext cx="1996920" cy="625320"/>
              </a:xfrm>
              <a:custGeom>
                <a:avLst/>
                <a:gdLst/>
                <a:ahLst/>
                <a:rect l="l" t="t" r="r" b="b"/>
                <a:pathLst>
                  <a:path w="1392" h="454">
                    <a:moveTo>
                      <a:pt x="1392" y="0"/>
                    </a:moveTo>
                    <a:cubicBezTo>
                      <a:pt x="1187" y="169"/>
                      <a:pt x="982" y="338"/>
                      <a:pt x="804" y="396"/>
                    </a:cubicBezTo>
                    <a:cubicBezTo>
                      <a:pt x="626" y="454"/>
                      <a:pt x="458" y="384"/>
                      <a:pt x="324" y="348"/>
                    </a:cubicBezTo>
                    <a:cubicBezTo>
                      <a:pt x="190" y="312"/>
                      <a:pt x="95" y="246"/>
                      <a:pt x="0" y="180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597800" y="4376520"/>
                <a:ext cx="593640" cy="158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H="1">
                <a:off x="6777000" y="4533840"/>
                <a:ext cx="1434960" cy="12700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 flipV="1">
                <a:off x="5672160" y="4633560"/>
                <a:ext cx="1046160" cy="11113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664320" y="5670360"/>
                <a:ext cx="189000" cy="1731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562720" y="4557600"/>
                <a:ext cx="188640" cy="169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539120" y="4308480"/>
                <a:ext cx="188640" cy="171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29520" y="4460760"/>
                <a:ext cx="189000" cy="171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6242040" y="4464000"/>
              <a:ext cx="1682640" cy="780840"/>
              <a:chOff x="6242040" y="4464000"/>
              <a:chExt cx="1682640" cy="780840"/>
            </a:xfrm>
          </p:grpSpPr>
          <p:sp>
            <p:nvSpPr>
              <p:cNvPr id="1148" name=""/>
              <p:cNvSpPr/>
              <p:nvPr/>
            </p:nvSpPr>
            <p:spPr>
              <a:xfrm>
                <a:off x="6750000" y="4940280"/>
                <a:ext cx="717480" cy="260280"/>
              </a:xfrm>
              <a:custGeom>
                <a:avLst/>
                <a:gdLst/>
                <a:ahLst/>
                <a:rect l="l" t="t" r="r" b="b"/>
                <a:pathLst>
                  <a:path w="452" h="164">
                    <a:moveTo>
                      <a:pt x="452" y="164"/>
                    </a:moveTo>
                    <a:cubicBezTo>
                      <a:pt x="405" y="157"/>
                      <a:pt x="359" y="151"/>
                      <a:pt x="284" y="124"/>
                    </a:cubicBezTo>
                    <a:cubicBezTo>
                      <a:pt x="209" y="97"/>
                      <a:pt x="104" y="48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242040" y="4464000"/>
                <a:ext cx="1682640" cy="780840"/>
              </a:xfrm>
              <a:custGeom>
                <a:avLst/>
                <a:gdLst/>
                <a:ahLst/>
                <a:rect l="l" t="t" r="r" b="b"/>
                <a:pathLst>
                  <a:path w="1060" h="492">
                    <a:moveTo>
                      <a:pt x="0" y="492"/>
                    </a:moveTo>
                    <a:cubicBezTo>
                      <a:pt x="171" y="481"/>
                      <a:pt x="343" y="470"/>
                      <a:pt x="520" y="388"/>
                    </a:cubicBezTo>
                    <a:cubicBezTo>
                      <a:pt x="697" y="306"/>
                      <a:pt x="878" y="153"/>
                      <a:pt x="106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"/>
          <p:cNvGrpSpPr/>
          <p:nvPr/>
        </p:nvGrpSpPr>
        <p:grpSpPr>
          <a:xfrm>
            <a:off x="214200" y="3762360"/>
            <a:ext cx="3902040" cy="2544840"/>
            <a:chOff x="214200" y="3762360"/>
            <a:chExt cx="3902040" cy="2544840"/>
          </a:xfrm>
        </p:grpSpPr>
        <p:grpSp>
          <p:nvGrpSpPr>
            <p:cNvPr id="1151" name=""/>
            <p:cNvGrpSpPr/>
            <p:nvPr/>
          </p:nvGrpSpPr>
          <p:grpSpPr>
            <a:xfrm>
              <a:off x="214200" y="3762360"/>
              <a:ext cx="3902040" cy="2544840"/>
              <a:chOff x="214200" y="3762360"/>
              <a:chExt cx="3902040" cy="2544840"/>
            </a:xfrm>
          </p:grpSpPr>
          <p:sp>
            <p:nvSpPr>
              <p:cNvPr id="1152" name=""/>
              <p:cNvSpPr/>
              <p:nvPr/>
            </p:nvSpPr>
            <p:spPr>
              <a:xfrm>
                <a:off x="214200" y="3762360"/>
                <a:ext cx="3902040" cy="2544840"/>
              </a:xfrm>
              <a:custGeom>
                <a:avLst/>
                <a:gdLst/>
                <a:ahLst/>
                <a:rect l="l" t="t" r="r" b="b"/>
                <a:pathLst>
                  <a:path w="2458" h="1603">
                    <a:moveTo>
                      <a:pt x="221" y="170"/>
                    </a:moveTo>
                    <a:cubicBezTo>
                      <a:pt x="442" y="0"/>
                      <a:pt x="1147" y="39"/>
                      <a:pt x="1469" y="54"/>
                    </a:cubicBezTo>
                    <a:cubicBezTo>
                      <a:pt x="1791" y="69"/>
                      <a:pt x="2002" y="159"/>
                      <a:pt x="2153" y="258"/>
                    </a:cubicBezTo>
                    <a:cubicBezTo>
                      <a:pt x="2304" y="357"/>
                      <a:pt x="2458" y="464"/>
                      <a:pt x="2377" y="650"/>
                    </a:cubicBezTo>
                    <a:cubicBezTo>
                      <a:pt x="2296" y="836"/>
                      <a:pt x="1878" y="1218"/>
                      <a:pt x="1669" y="1374"/>
                    </a:cubicBezTo>
                    <a:cubicBezTo>
                      <a:pt x="1460" y="1530"/>
                      <a:pt x="1316" y="1569"/>
                      <a:pt x="1121" y="1586"/>
                    </a:cubicBezTo>
                    <a:cubicBezTo>
                      <a:pt x="926" y="1603"/>
                      <a:pt x="660" y="1563"/>
                      <a:pt x="497" y="1478"/>
                    </a:cubicBezTo>
                    <a:cubicBezTo>
                      <a:pt x="334" y="1393"/>
                      <a:pt x="192" y="1291"/>
                      <a:pt x="145" y="1074"/>
                    </a:cubicBezTo>
                    <a:cubicBezTo>
                      <a:pt x="98" y="857"/>
                      <a:pt x="0" y="340"/>
                      <a:pt x="221" y="170"/>
                    </a:cubicBez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68240" y="4699080"/>
                <a:ext cx="2546280" cy="1422360"/>
              </a:xfrm>
              <a:custGeom>
                <a:avLst/>
                <a:gdLst/>
                <a:ahLst/>
                <a:rect l="l" t="t" r="r" b="b"/>
                <a:pathLst>
                  <a:path w="1604" h="896">
                    <a:moveTo>
                      <a:pt x="0" y="172"/>
                    </a:moveTo>
                    <a:lnTo>
                      <a:pt x="128" y="268"/>
                    </a:lnTo>
                    <a:lnTo>
                      <a:pt x="252" y="304"/>
                    </a:lnTo>
                    <a:lnTo>
                      <a:pt x="412" y="352"/>
                    </a:lnTo>
                    <a:lnTo>
                      <a:pt x="512" y="368"/>
                    </a:lnTo>
                    <a:lnTo>
                      <a:pt x="628" y="360"/>
                    </a:lnTo>
                    <a:lnTo>
                      <a:pt x="716" y="348"/>
                    </a:lnTo>
                    <a:lnTo>
                      <a:pt x="832" y="292"/>
                    </a:lnTo>
                    <a:lnTo>
                      <a:pt x="940" y="220"/>
                    </a:lnTo>
                    <a:lnTo>
                      <a:pt x="1068" y="124"/>
                    </a:lnTo>
                    <a:lnTo>
                      <a:pt x="1184" y="40"/>
                    </a:lnTo>
                    <a:lnTo>
                      <a:pt x="1228" y="0"/>
                    </a:lnTo>
                    <a:lnTo>
                      <a:pt x="1604" y="104"/>
                    </a:lnTo>
                    <a:lnTo>
                      <a:pt x="692" y="896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99920" y="4438800"/>
                <a:ext cx="1949400" cy="863280"/>
              </a:xfrm>
              <a:custGeom>
                <a:avLst/>
                <a:gdLst/>
                <a:ahLst/>
                <a:rect l="l" t="t" r="r" b="b"/>
                <a:pathLst>
                  <a:path w="1228" h="544">
                    <a:moveTo>
                      <a:pt x="0" y="344"/>
                    </a:moveTo>
                    <a:lnTo>
                      <a:pt x="372" y="0"/>
                    </a:lnTo>
                    <a:lnTo>
                      <a:pt x="808" y="104"/>
                    </a:lnTo>
                    <a:lnTo>
                      <a:pt x="1228" y="180"/>
                    </a:lnTo>
                    <a:lnTo>
                      <a:pt x="940" y="392"/>
                    </a:lnTo>
                    <a:lnTo>
                      <a:pt x="784" y="484"/>
                    </a:lnTo>
                    <a:lnTo>
                      <a:pt x="676" y="528"/>
                    </a:lnTo>
                    <a:lnTo>
                      <a:pt x="604" y="540"/>
                    </a:lnTo>
                    <a:lnTo>
                      <a:pt x="548" y="544"/>
                    </a:lnTo>
                    <a:lnTo>
                      <a:pt x="440" y="532"/>
                    </a:lnTo>
                    <a:lnTo>
                      <a:pt x="260" y="484"/>
                    </a:lnTo>
                    <a:lnTo>
                      <a:pt x="120" y="440"/>
                    </a:lnTo>
                    <a:lnTo>
                      <a:pt x="0" y="3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772920" y="4441320"/>
                <a:ext cx="593640" cy="546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 flipV="1">
                <a:off x="1358640" y="4435560"/>
                <a:ext cx="657360" cy="155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 flipV="1">
                <a:off x="2096640" y="4591080"/>
                <a:ext cx="593640" cy="115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682720" y="4719600"/>
                <a:ext cx="593640" cy="158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>
                <a:off x="1861560" y="4876920"/>
                <a:ext cx="1435320" cy="1269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 flipV="1">
                <a:off x="757080" y="4976280"/>
                <a:ext cx="1046160" cy="11113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749240" y="6013440"/>
                <a:ext cx="189000" cy="1731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47640" y="4900680"/>
                <a:ext cx="189000" cy="169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258920" y="4365720"/>
                <a:ext cx="188640" cy="171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950840" y="4518000"/>
                <a:ext cx="190440" cy="1731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624040" y="4651200"/>
                <a:ext cx="189000" cy="1717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214440" y="4803840"/>
                <a:ext cx="189000" cy="171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404640" y="3948120"/>
              <a:ext cx="3336840" cy="1668600"/>
              <a:chOff x="404640" y="3948120"/>
              <a:chExt cx="3336840" cy="1668600"/>
            </a:xfrm>
          </p:grpSpPr>
          <p:sp>
            <p:nvSpPr>
              <p:cNvPr id="1168" name=""/>
              <p:cNvSpPr/>
              <p:nvPr/>
            </p:nvSpPr>
            <p:spPr>
              <a:xfrm>
                <a:off x="806400" y="4199040"/>
                <a:ext cx="1665360" cy="544320"/>
              </a:xfrm>
              <a:custGeom>
                <a:avLst/>
                <a:gdLst/>
                <a:ahLst/>
                <a:rect l="l" t="t" r="r" b="b"/>
                <a:pathLst>
                  <a:path w="1049" h="343">
                    <a:moveTo>
                      <a:pt x="148" y="343"/>
                    </a:moveTo>
                    <a:cubicBezTo>
                      <a:pt x="74" y="231"/>
                      <a:pt x="0" y="120"/>
                      <a:pt x="76" y="63"/>
                    </a:cubicBezTo>
                    <a:cubicBezTo>
                      <a:pt x="152" y="6"/>
                      <a:pt x="453" y="0"/>
                      <a:pt x="604" y="3"/>
                    </a:cubicBezTo>
                    <a:cubicBezTo>
                      <a:pt x="755" y="6"/>
                      <a:pt x="919" y="36"/>
                      <a:pt x="984" y="83"/>
                    </a:cubicBezTo>
                    <a:cubicBezTo>
                      <a:pt x="1049" y="130"/>
                      <a:pt x="1020" y="208"/>
                      <a:pt x="992" y="28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04640" y="3959280"/>
                <a:ext cx="2746440" cy="1657440"/>
              </a:xfrm>
              <a:custGeom>
                <a:avLst/>
                <a:gdLst/>
                <a:ahLst/>
                <a:rect l="l" t="t" r="r" b="b"/>
                <a:pathLst>
                  <a:path w="1730" h="1044">
                    <a:moveTo>
                      <a:pt x="573" y="1030"/>
                    </a:moveTo>
                    <a:cubicBezTo>
                      <a:pt x="500" y="1007"/>
                      <a:pt x="196" y="1044"/>
                      <a:pt x="133" y="894"/>
                    </a:cubicBezTo>
                    <a:cubicBezTo>
                      <a:pt x="70" y="744"/>
                      <a:pt x="0" y="260"/>
                      <a:pt x="197" y="130"/>
                    </a:cubicBezTo>
                    <a:cubicBezTo>
                      <a:pt x="394" y="0"/>
                      <a:pt x="1070" y="82"/>
                      <a:pt x="1317" y="114"/>
                    </a:cubicBezTo>
                    <a:cubicBezTo>
                      <a:pt x="1564" y="146"/>
                      <a:pt x="1624" y="252"/>
                      <a:pt x="1677" y="322"/>
                    </a:cubicBezTo>
                    <a:cubicBezTo>
                      <a:pt x="1730" y="392"/>
                      <a:pt x="1683" y="463"/>
                      <a:pt x="1637" y="53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695240" y="3948120"/>
                <a:ext cx="2046240" cy="1649520"/>
              </a:xfrm>
              <a:custGeom>
                <a:avLst/>
                <a:gdLst/>
                <a:ahLst/>
                <a:rect l="l" t="t" r="r" b="b"/>
                <a:pathLst>
                  <a:path w="1289" h="1039">
                    <a:moveTo>
                      <a:pt x="0" y="357"/>
                    </a:moveTo>
                    <a:cubicBezTo>
                      <a:pt x="51" y="223"/>
                      <a:pt x="102" y="90"/>
                      <a:pt x="260" y="45"/>
                    </a:cubicBezTo>
                    <a:cubicBezTo>
                      <a:pt x="418" y="0"/>
                      <a:pt x="778" y="14"/>
                      <a:pt x="948" y="89"/>
                    </a:cubicBezTo>
                    <a:cubicBezTo>
                      <a:pt x="1118" y="164"/>
                      <a:pt x="1289" y="349"/>
                      <a:pt x="1280" y="493"/>
                    </a:cubicBezTo>
                    <a:cubicBezTo>
                      <a:pt x="1271" y="637"/>
                      <a:pt x="1015" y="867"/>
                      <a:pt x="892" y="953"/>
                    </a:cubicBezTo>
                    <a:cubicBezTo>
                      <a:pt x="769" y="1039"/>
                      <a:pt x="656" y="1024"/>
                      <a:pt x="544" y="1009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1" name=""/>
          <p:cNvGrpSpPr/>
          <p:nvPr/>
        </p:nvGrpSpPr>
        <p:grpSpPr>
          <a:xfrm>
            <a:off x="214200" y="3457440"/>
            <a:ext cx="3959280" cy="2830680"/>
            <a:chOff x="214200" y="3457440"/>
            <a:chExt cx="3959280" cy="2830680"/>
          </a:xfrm>
        </p:grpSpPr>
        <p:grpSp>
          <p:nvGrpSpPr>
            <p:cNvPr id="1172" name=""/>
            <p:cNvGrpSpPr/>
            <p:nvPr/>
          </p:nvGrpSpPr>
          <p:grpSpPr>
            <a:xfrm>
              <a:off x="214200" y="3743280"/>
              <a:ext cx="3902040" cy="2544840"/>
              <a:chOff x="214200" y="3743280"/>
              <a:chExt cx="3902040" cy="2544840"/>
            </a:xfrm>
          </p:grpSpPr>
          <p:grpSp>
            <p:nvGrpSpPr>
              <p:cNvPr id="1173" name=""/>
              <p:cNvGrpSpPr/>
              <p:nvPr/>
            </p:nvGrpSpPr>
            <p:grpSpPr>
              <a:xfrm>
                <a:off x="214200" y="3743280"/>
                <a:ext cx="3902040" cy="2544840"/>
                <a:chOff x="214200" y="3743280"/>
                <a:chExt cx="3902040" cy="254484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214200" y="3743280"/>
                  <a:ext cx="3902040" cy="254484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768240" y="468000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799920" y="4419720"/>
                  <a:ext cx="1949400" cy="86328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772920" y="4422240"/>
                  <a:ext cx="59364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flipH="1" flipV="1">
                  <a:off x="1358640" y="4416480"/>
                  <a:ext cx="657360" cy="155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 flipH="1" flipV="1">
                  <a:off x="2096640" y="4572000"/>
                  <a:ext cx="593640" cy="115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682720" y="47005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>
                  <a:off x="1861560" y="4857840"/>
                  <a:ext cx="1435320" cy="12697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flipH="1" flipV="1">
                  <a:off x="757080" y="495720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1749240" y="5994360"/>
                  <a:ext cx="18900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647640" y="4881600"/>
                  <a:ext cx="18900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1258920" y="434664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1950840" y="4498920"/>
                  <a:ext cx="19044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624040" y="4632120"/>
                  <a:ext cx="189000" cy="171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3214440" y="478476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9" name=""/>
              <p:cNvGrpSpPr/>
              <p:nvPr/>
            </p:nvGrpSpPr>
            <p:grpSpPr>
              <a:xfrm>
                <a:off x="404640" y="3929040"/>
                <a:ext cx="3336840" cy="1668600"/>
                <a:chOff x="404640" y="3929040"/>
                <a:chExt cx="3336840" cy="1668600"/>
              </a:xfrm>
            </p:grpSpPr>
            <p:sp>
              <p:nvSpPr>
                <p:cNvPr id="1190" name=""/>
                <p:cNvSpPr/>
                <p:nvPr/>
              </p:nvSpPr>
              <p:spPr>
                <a:xfrm>
                  <a:off x="806400" y="4179960"/>
                  <a:ext cx="1665360" cy="54432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404640" y="3940200"/>
                  <a:ext cx="2746440" cy="165744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695240" y="3929040"/>
                  <a:ext cx="2046240" cy="164952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3" name=""/>
            <p:cNvGrpSpPr/>
            <p:nvPr/>
          </p:nvGrpSpPr>
          <p:grpSpPr>
            <a:xfrm>
              <a:off x="271440" y="3457440"/>
              <a:ext cx="3902040" cy="2544840"/>
              <a:chOff x="271440" y="3457440"/>
              <a:chExt cx="3902040" cy="2544840"/>
            </a:xfrm>
          </p:grpSpPr>
          <p:grpSp>
            <p:nvGrpSpPr>
              <p:cNvPr id="1194" name=""/>
              <p:cNvGrpSpPr/>
              <p:nvPr/>
            </p:nvGrpSpPr>
            <p:grpSpPr>
              <a:xfrm>
                <a:off x="271440" y="3457440"/>
                <a:ext cx="3902040" cy="2544840"/>
                <a:chOff x="271440" y="3457440"/>
                <a:chExt cx="3902040" cy="254484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271440" y="3457440"/>
                  <a:ext cx="3902040" cy="254484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825480" y="439416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857160" y="4133880"/>
                  <a:ext cx="1949400" cy="86328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V="1">
                  <a:off x="830160" y="4136400"/>
                  <a:ext cx="593640" cy="54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H="1" flipV="1">
                  <a:off x="1415880" y="4130640"/>
                  <a:ext cx="657360" cy="15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 flipV="1">
                  <a:off x="2153880" y="4286160"/>
                  <a:ext cx="593640" cy="1159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739960" y="441468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flipH="1">
                  <a:off x="1918800" y="4572000"/>
                  <a:ext cx="1435320" cy="12697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flipH="1" flipV="1">
                  <a:off x="814320" y="46713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1806480" y="5708520"/>
                  <a:ext cx="18900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704880" y="4595760"/>
                  <a:ext cx="18900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316160" y="406080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008080" y="4213080"/>
                  <a:ext cx="19044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681280" y="4346280"/>
                  <a:ext cx="189000" cy="1717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271680" y="449892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461880" y="3643200"/>
                <a:ext cx="3336840" cy="1668600"/>
                <a:chOff x="461880" y="3643200"/>
                <a:chExt cx="3336840" cy="1668600"/>
              </a:xfrm>
            </p:grpSpPr>
            <p:sp>
              <p:nvSpPr>
                <p:cNvPr id="1211" name=""/>
                <p:cNvSpPr/>
                <p:nvPr/>
              </p:nvSpPr>
              <p:spPr>
                <a:xfrm>
                  <a:off x="863640" y="3894120"/>
                  <a:ext cx="1665360" cy="54432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461880" y="3654360"/>
                  <a:ext cx="2746440" cy="165744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1752480" y="3643200"/>
                  <a:ext cx="2046240" cy="164952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14" name=""/>
          <p:cNvGrpSpPr/>
          <p:nvPr/>
        </p:nvGrpSpPr>
        <p:grpSpPr>
          <a:xfrm>
            <a:off x="290520" y="3171960"/>
            <a:ext cx="3959280" cy="2829960"/>
            <a:chOff x="290520" y="3171960"/>
            <a:chExt cx="3959280" cy="2829960"/>
          </a:xfrm>
        </p:grpSpPr>
        <p:grpSp>
          <p:nvGrpSpPr>
            <p:cNvPr id="1215" name=""/>
            <p:cNvGrpSpPr/>
            <p:nvPr/>
          </p:nvGrpSpPr>
          <p:grpSpPr>
            <a:xfrm>
              <a:off x="290520" y="3457440"/>
              <a:ext cx="3902040" cy="2544480"/>
              <a:chOff x="290520" y="3457440"/>
              <a:chExt cx="3902040" cy="2544480"/>
            </a:xfrm>
          </p:grpSpPr>
          <p:grpSp>
            <p:nvGrpSpPr>
              <p:cNvPr id="1216" name=""/>
              <p:cNvGrpSpPr/>
              <p:nvPr/>
            </p:nvGrpSpPr>
            <p:grpSpPr>
              <a:xfrm>
                <a:off x="290520" y="3457440"/>
                <a:ext cx="3902040" cy="2544480"/>
                <a:chOff x="290520" y="3457440"/>
                <a:chExt cx="3902040" cy="254448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290520" y="3457440"/>
                  <a:ext cx="3902040" cy="254448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844560" y="4393800"/>
                  <a:ext cx="2546280" cy="142200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876240" y="4133520"/>
                  <a:ext cx="1949400" cy="86292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 flipV="1">
                  <a:off x="849240" y="4136400"/>
                  <a:ext cx="593640" cy="545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 flipV="1">
                  <a:off x="1434960" y="4129920"/>
                  <a:ext cx="657360" cy="1551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 flipH="1" flipV="1">
                  <a:off x="2172960" y="4285440"/>
                  <a:ext cx="593640" cy="1155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759040" y="4414320"/>
                  <a:ext cx="593640" cy="1584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>
                  <a:off x="1937880" y="4571640"/>
                  <a:ext cx="1435320" cy="12693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 flipV="1">
                  <a:off x="833400" y="4671360"/>
                  <a:ext cx="1046160" cy="11109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1825560" y="5708160"/>
                  <a:ext cx="18900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723960" y="4595400"/>
                  <a:ext cx="189000" cy="169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1335240" y="4060440"/>
                  <a:ext cx="188640" cy="171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027160" y="4212720"/>
                  <a:ext cx="19044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700360" y="434592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3290760" y="4498560"/>
                  <a:ext cx="189000" cy="171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480960" y="3642840"/>
                <a:ext cx="3336840" cy="1667880"/>
                <a:chOff x="480960" y="3642840"/>
                <a:chExt cx="3336840" cy="166788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882720" y="3893400"/>
                  <a:ext cx="1665360" cy="54396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80960" y="3653640"/>
                  <a:ext cx="2746440" cy="165708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1771560" y="3642840"/>
                  <a:ext cx="2046240" cy="164916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6" name=""/>
            <p:cNvGrpSpPr/>
            <p:nvPr/>
          </p:nvGrpSpPr>
          <p:grpSpPr>
            <a:xfrm>
              <a:off x="347760" y="3171960"/>
              <a:ext cx="3902040" cy="2544480"/>
              <a:chOff x="347760" y="3171960"/>
              <a:chExt cx="3902040" cy="2544480"/>
            </a:xfrm>
          </p:grpSpPr>
          <p:grpSp>
            <p:nvGrpSpPr>
              <p:cNvPr id="1237" name=""/>
              <p:cNvGrpSpPr/>
              <p:nvPr/>
            </p:nvGrpSpPr>
            <p:grpSpPr>
              <a:xfrm>
                <a:off x="347760" y="3171960"/>
                <a:ext cx="3902040" cy="2544480"/>
                <a:chOff x="347760" y="3171960"/>
                <a:chExt cx="3902040" cy="2544480"/>
              </a:xfrm>
            </p:grpSpPr>
            <p:sp>
              <p:nvSpPr>
                <p:cNvPr id="1238" name=""/>
                <p:cNvSpPr/>
                <p:nvPr/>
              </p:nvSpPr>
              <p:spPr>
                <a:xfrm>
                  <a:off x="347760" y="3171960"/>
                  <a:ext cx="3902040" cy="254448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901800" y="4108320"/>
                  <a:ext cx="2546280" cy="142200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933480" y="3848040"/>
                  <a:ext cx="1949400" cy="86292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V="1">
                  <a:off x="906480" y="3850920"/>
                  <a:ext cx="593640" cy="54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H="1" flipV="1">
                  <a:off x="1492200" y="3844440"/>
                  <a:ext cx="657360" cy="1551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 flipH="1" flipV="1">
                  <a:off x="2230200" y="3999960"/>
                  <a:ext cx="593640" cy="1155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816280" y="4128840"/>
                  <a:ext cx="593640" cy="1584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H="1">
                  <a:off x="1995120" y="4286160"/>
                  <a:ext cx="1435320" cy="126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H="1" flipV="1">
                  <a:off x="890640" y="4385880"/>
                  <a:ext cx="1046160" cy="111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1882800" y="5422680"/>
                  <a:ext cx="18900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781200" y="4309920"/>
                  <a:ext cx="189000" cy="169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392480" y="3774960"/>
                  <a:ext cx="188640" cy="171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2084400" y="3927240"/>
                  <a:ext cx="19044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757600" y="406044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3348000" y="4213080"/>
                  <a:ext cx="189000" cy="171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538200" y="3357360"/>
                <a:ext cx="3336840" cy="1667880"/>
                <a:chOff x="538200" y="3357360"/>
                <a:chExt cx="3336840" cy="166788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939960" y="3607920"/>
                  <a:ext cx="1665360" cy="54396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538200" y="3368160"/>
                  <a:ext cx="2746440" cy="165708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1828800" y="3357360"/>
                  <a:ext cx="2046240" cy="164916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57" name=""/>
          <p:cNvGrpSpPr/>
          <p:nvPr/>
        </p:nvGrpSpPr>
        <p:grpSpPr>
          <a:xfrm>
            <a:off x="347760" y="2867040"/>
            <a:ext cx="3959280" cy="2829960"/>
            <a:chOff x="347760" y="2867040"/>
            <a:chExt cx="3959280" cy="2829960"/>
          </a:xfrm>
        </p:grpSpPr>
        <p:grpSp>
          <p:nvGrpSpPr>
            <p:cNvPr id="1258" name=""/>
            <p:cNvGrpSpPr/>
            <p:nvPr/>
          </p:nvGrpSpPr>
          <p:grpSpPr>
            <a:xfrm>
              <a:off x="347760" y="3152520"/>
              <a:ext cx="3902040" cy="2544480"/>
              <a:chOff x="347760" y="3152520"/>
              <a:chExt cx="3902040" cy="2544480"/>
            </a:xfrm>
          </p:grpSpPr>
          <p:grpSp>
            <p:nvGrpSpPr>
              <p:cNvPr id="1259" name=""/>
              <p:cNvGrpSpPr/>
              <p:nvPr/>
            </p:nvGrpSpPr>
            <p:grpSpPr>
              <a:xfrm>
                <a:off x="347760" y="3152520"/>
                <a:ext cx="3902040" cy="2544480"/>
                <a:chOff x="347760" y="3152520"/>
                <a:chExt cx="3902040" cy="254448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347760" y="3152520"/>
                  <a:ext cx="3902040" cy="254448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901800" y="4088880"/>
                  <a:ext cx="2546280" cy="142200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933480" y="3828600"/>
                  <a:ext cx="1949400" cy="86292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V="1">
                  <a:off x="906480" y="3831480"/>
                  <a:ext cx="593640" cy="545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flipH="1" flipV="1">
                  <a:off x="1492200" y="3825000"/>
                  <a:ext cx="657360" cy="1551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flipH="1" flipV="1">
                  <a:off x="2230200" y="3980520"/>
                  <a:ext cx="593640" cy="1155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2816280" y="4109400"/>
                  <a:ext cx="593640" cy="1584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flipH="1">
                  <a:off x="1995120" y="4266720"/>
                  <a:ext cx="1435320" cy="12693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flipH="1" flipV="1">
                  <a:off x="890640" y="4366440"/>
                  <a:ext cx="1046160" cy="11109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1882800" y="5403240"/>
                  <a:ext cx="18900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781200" y="4290480"/>
                  <a:ext cx="189000" cy="169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1392480" y="3755520"/>
                  <a:ext cx="188640" cy="171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084400" y="3907800"/>
                  <a:ext cx="19044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757600" y="404100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3348000" y="4193640"/>
                  <a:ext cx="189000" cy="171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538200" y="3337920"/>
                <a:ext cx="3336840" cy="1667880"/>
                <a:chOff x="538200" y="3337920"/>
                <a:chExt cx="3336840" cy="166788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939960" y="3588480"/>
                  <a:ext cx="1665360" cy="54396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38200" y="3348720"/>
                  <a:ext cx="2746440" cy="165708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1828800" y="3337920"/>
                  <a:ext cx="2046240" cy="164916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9" name=""/>
            <p:cNvGrpSpPr/>
            <p:nvPr/>
          </p:nvGrpSpPr>
          <p:grpSpPr>
            <a:xfrm>
              <a:off x="405000" y="2867040"/>
              <a:ext cx="3902040" cy="2544480"/>
              <a:chOff x="405000" y="2867040"/>
              <a:chExt cx="3902040" cy="2544480"/>
            </a:xfrm>
          </p:grpSpPr>
          <p:grpSp>
            <p:nvGrpSpPr>
              <p:cNvPr id="1280" name=""/>
              <p:cNvGrpSpPr/>
              <p:nvPr/>
            </p:nvGrpSpPr>
            <p:grpSpPr>
              <a:xfrm>
                <a:off x="405000" y="2867040"/>
                <a:ext cx="3902040" cy="2544480"/>
                <a:chOff x="405000" y="2867040"/>
                <a:chExt cx="3902040" cy="254448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405000" y="2867040"/>
                  <a:ext cx="3902040" cy="254448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959040" y="3803400"/>
                  <a:ext cx="2546280" cy="142200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990720" y="3543120"/>
                  <a:ext cx="1949400" cy="86292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V="1">
                  <a:off x="963720" y="3546000"/>
                  <a:ext cx="593640" cy="54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 flipV="1">
                  <a:off x="1549440" y="3539520"/>
                  <a:ext cx="657360" cy="1551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H="1" flipV="1">
                  <a:off x="2287440" y="3695040"/>
                  <a:ext cx="593640" cy="1155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873520" y="3823920"/>
                  <a:ext cx="593640" cy="1584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H="1">
                  <a:off x="2052360" y="3981240"/>
                  <a:ext cx="1435320" cy="126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 flipH="1" flipV="1">
                  <a:off x="947880" y="4080960"/>
                  <a:ext cx="1046160" cy="111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1940040" y="5117760"/>
                  <a:ext cx="18900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838440" y="4005000"/>
                  <a:ext cx="189000" cy="169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1449720" y="3470040"/>
                  <a:ext cx="188640" cy="171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141640" y="3622320"/>
                  <a:ext cx="19044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814840" y="375552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3405240" y="3908160"/>
                  <a:ext cx="189000" cy="171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6" name=""/>
              <p:cNvGrpSpPr/>
              <p:nvPr/>
            </p:nvGrpSpPr>
            <p:grpSpPr>
              <a:xfrm>
                <a:off x="595440" y="3052440"/>
                <a:ext cx="3336840" cy="1667880"/>
                <a:chOff x="595440" y="3052440"/>
                <a:chExt cx="3336840" cy="166788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997200" y="3303000"/>
                  <a:ext cx="1665360" cy="54396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95440" y="3063240"/>
                  <a:ext cx="2746440" cy="165708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1886040" y="3052440"/>
                  <a:ext cx="2046240" cy="164916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0" name=""/>
          <p:cNvGrpSpPr/>
          <p:nvPr/>
        </p:nvGrpSpPr>
        <p:grpSpPr>
          <a:xfrm>
            <a:off x="385920" y="2600280"/>
            <a:ext cx="3958560" cy="2830680"/>
            <a:chOff x="385920" y="2600280"/>
            <a:chExt cx="3958560" cy="2830680"/>
          </a:xfrm>
        </p:grpSpPr>
        <p:grpSp>
          <p:nvGrpSpPr>
            <p:cNvPr id="1301" name=""/>
            <p:cNvGrpSpPr/>
            <p:nvPr/>
          </p:nvGrpSpPr>
          <p:grpSpPr>
            <a:xfrm>
              <a:off x="385920" y="2886120"/>
              <a:ext cx="3901680" cy="2544840"/>
              <a:chOff x="385920" y="2886120"/>
              <a:chExt cx="3901680" cy="2544840"/>
            </a:xfrm>
          </p:grpSpPr>
          <p:grpSp>
            <p:nvGrpSpPr>
              <p:cNvPr id="1302" name=""/>
              <p:cNvGrpSpPr/>
              <p:nvPr/>
            </p:nvGrpSpPr>
            <p:grpSpPr>
              <a:xfrm>
                <a:off x="385920" y="2886120"/>
                <a:ext cx="3901680" cy="2544840"/>
                <a:chOff x="385920" y="2886120"/>
                <a:chExt cx="3901680" cy="254484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385920" y="2886120"/>
                  <a:ext cx="3901680" cy="254484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939600" y="3822840"/>
                  <a:ext cx="254592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971280" y="3562560"/>
                  <a:ext cx="1949040" cy="86328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 flipV="1">
                  <a:off x="944280" y="3565080"/>
                  <a:ext cx="59328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flipH="1" flipV="1">
                  <a:off x="1529640" y="3559320"/>
                  <a:ext cx="657000" cy="155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flipH="1" flipV="1">
                  <a:off x="2268360" y="3714840"/>
                  <a:ext cx="593280" cy="115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854080" y="3843360"/>
                  <a:ext cx="593280" cy="158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flipH="1">
                  <a:off x="2033280" y="4000680"/>
                  <a:ext cx="1434960" cy="12697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flipH="1" flipV="1">
                  <a:off x="928080" y="4100040"/>
                  <a:ext cx="1045800" cy="111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920600" y="5137200"/>
                  <a:ext cx="18864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819000" y="4024440"/>
                  <a:ext cx="18864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1430280" y="3489480"/>
                  <a:ext cx="18828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122200" y="3641760"/>
                  <a:ext cx="19008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795400" y="3774960"/>
                  <a:ext cx="188640" cy="171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3385800" y="392760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8" name=""/>
              <p:cNvGrpSpPr/>
              <p:nvPr/>
            </p:nvGrpSpPr>
            <p:grpSpPr>
              <a:xfrm>
                <a:off x="576000" y="3071880"/>
                <a:ext cx="3336120" cy="1668600"/>
                <a:chOff x="576000" y="3071880"/>
                <a:chExt cx="3336120" cy="166860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977400" y="3322800"/>
                  <a:ext cx="1665000" cy="54432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576000" y="3083040"/>
                  <a:ext cx="2746080" cy="165744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1866240" y="3071880"/>
                  <a:ext cx="2045880" cy="164952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2" name=""/>
            <p:cNvGrpSpPr/>
            <p:nvPr/>
          </p:nvGrpSpPr>
          <p:grpSpPr>
            <a:xfrm>
              <a:off x="442800" y="2600280"/>
              <a:ext cx="3901680" cy="2544840"/>
              <a:chOff x="442800" y="2600280"/>
              <a:chExt cx="3901680" cy="2544840"/>
            </a:xfrm>
          </p:grpSpPr>
          <p:grpSp>
            <p:nvGrpSpPr>
              <p:cNvPr id="1323" name=""/>
              <p:cNvGrpSpPr/>
              <p:nvPr/>
            </p:nvGrpSpPr>
            <p:grpSpPr>
              <a:xfrm>
                <a:off x="442800" y="2600280"/>
                <a:ext cx="3901680" cy="2544840"/>
                <a:chOff x="442800" y="2600280"/>
                <a:chExt cx="3901680" cy="254484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442800" y="2600280"/>
                  <a:ext cx="3901680" cy="254484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996480" y="3537000"/>
                  <a:ext cx="254592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1028160" y="3276720"/>
                  <a:ext cx="1949040" cy="86328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flipV="1">
                  <a:off x="1001160" y="3279240"/>
                  <a:ext cx="593280" cy="54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flipH="1" flipV="1">
                  <a:off x="1586520" y="3273480"/>
                  <a:ext cx="657000" cy="15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 flipV="1">
                  <a:off x="2325240" y="3429000"/>
                  <a:ext cx="593280" cy="1159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910960" y="3557520"/>
                  <a:ext cx="59328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H="1">
                  <a:off x="2090160" y="3714840"/>
                  <a:ext cx="1434960" cy="12697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 flipV="1">
                  <a:off x="984960" y="3814200"/>
                  <a:ext cx="1045800" cy="1111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1977480" y="4851360"/>
                  <a:ext cx="18864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875880" y="3738600"/>
                  <a:ext cx="18864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1487160" y="3203640"/>
                  <a:ext cx="18828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2179080" y="3355920"/>
                  <a:ext cx="19008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852280" y="3489120"/>
                  <a:ext cx="188640" cy="1717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442680" y="364176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632880" y="2786040"/>
                <a:ext cx="3336120" cy="1668600"/>
                <a:chOff x="632880" y="2786040"/>
                <a:chExt cx="3336120" cy="166860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1034280" y="3036960"/>
                  <a:ext cx="1665000" cy="54432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632880" y="2797200"/>
                  <a:ext cx="2746080" cy="165744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1923120" y="2786040"/>
                  <a:ext cx="2045880" cy="164952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43" name=""/>
          <p:cNvGrpSpPr/>
          <p:nvPr/>
        </p:nvGrpSpPr>
        <p:grpSpPr>
          <a:xfrm>
            <a:off x="404640" y="2467080"/>
            <a:ext cx="3959280" cy="2829960"/>
            <a:chOff x="404640" y="2467080"/>
            <a:chExt cx="3959280" cy="2829960"/>
          </a:xfrm>
        </p:grpSpPr>
        <p:grpSp>
          <p:nvGrpSpPr>
            <p:cNvPr id="1344" name=""/>
            <p:cNvGrpSpPr/>
            <p:nvPr/>
          </p:nvGrpSpPr>
          <p:grpSpPr>
            <a:xfrm>
              <a:off x="404640" y="2752560"/>
              <a:ext cx="3902040" cy="2544480"/>
              <a:chOff x="404640" y="2752560"/>
              <a:chExt cx="3902040" cy="25444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404640" y="2752560"/>
                <a:ext cx="3902040" cy="2544480"/>
                <a:chOff x="404640" y="2752560"/>
                <a:chExt cx="3902040" cy="254448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404640" y="2752560"/>
                  <a:ext cx="3902040" cy="254448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958680" y="3688920"/>
                  <a:ext cx="2546280" cy="142200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990360" y="3428640"/>
                  <a:ext cx="1949400" cy="86292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flipV="1">
                  <a:off x="963360" y="3431520"/>
                  <a:ext cx="593640" cy="545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flipH="1" flipV="1">
                  <a:off x="1549080" y="3425040"/>
                  <a:ext cx="657360" cy="1551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 flipH="1" flipV="1">
                  <a:off x="2287080" y="3580560"/>
                  <a:ext cx="593640" cy="1155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873160" y="3709440"/>
                  <a:ext cx="593640" cy="1584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flipH="1">
                  <a:off x="2052000" y="3866760"/>
                  <a:ext cx="1435320" cy="12693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flipH="1" flipV="1">
                  <a:off x="947520" y="3966480"/>
                  <a:ext cx="1046160" cy="11109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1939680" y="5003280"/>
                  <a:ext cx="18900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838080" y="3890520"/>
                  <a:ext cx="189000" cy="169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1449360" y="3355560"/>
                  <a:ext cx="188640" cy="171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2141280" y="3507840"/>
                  <a:ext cx="19044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2814480" y="364104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3404880" y="3793680"/>
                  <a:ext cx="189000" cy="171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1" name=""/>
              <p:cNvGrpSpPr/>
              <p:nvPr/>
            </p:nvGrpSpPr>
            <p:grpSpPr>
              <a:xfrm>
                <a:off x="595080" y="2937960"/>
                <a:ext cx="3336840" cy="1667880"/>
                <a:chOff x="595080" y="2937960"/>
                <a:chExt cx="3336840" cy="166788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996840" y="3188520"/>
                  <a:ext cx="1665360" cy="54396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595080" y="2948760"/>
                  <a:ext cx="2746440" cy="165708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1885680" y="2937960"/>
                  <a:ext cx="2046240" cy="164916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5" name=""/>
            <p:cNvGrpSpPr/>
            <p:nvPr/>
          </p:nvGrpSpPr>
          <p:grpSpPr>
            <a:xfrm>
              <a:off x="461880" y="2467080"/>
              <a:ext cx="3902040" cy="2544480"/>
              <a:chOff x="461880" y="2467080"/>
              <a:chExt cx="3902040" cy="2544480"/>
            </a:xfrm>
          </p:grpSpPr>
          <p:grpSp>
            <p:nvGrpSpPr>
              <p:cNvPr id="1366" name=""/>
              <p:cNvGrpSpPr/>
              <p:nvPr/>
            </p:nvGrpSpPr>
            <p:grpSpPr>
              <a:xfrm>
                <a:off x="461880" y="2467080"/>
                <a:ext cx="3902040" cy="2544480"/>
                <a:chOff x="461880" y="2467080"/>
                <a:chExt cx="3902040" cy="254448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461880" y="2467080"/>
                  <a:ext cx="3902040" cy="254448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1015920" y="3403440"/>
                  <a:ext cx="2546280" cy="142200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1047600" y="3143160"/>
                  <a:ext cx="1949400" cy="86292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V="1">
                  <a:off x="1020600" y="3146040"/>
                  <a:ext cx="593640" cy="54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flipH="1" flipV="1">
                  <a:off x="1606320" y="3139560"/>
                  <a:ext cx="657360" cy="1551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 flipV="1">
                  <a:off x="2344320" y="3295080"/>
                  <a:ext cx="593640" cy="1155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2930400" y="3423960"/>
                  <a:ext cx="593640" cy="1584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flipH="1">
                  <a:off x="2109240" y="3581280"/>
                  <a:ext cx="1435320" cy="126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H="1" flipV="1">
                  <a:off x="1004760" y="3681000"/>
                  <a:ext cx="1046160" cy="111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1996920" y="4717800"/>
                  <a:ext cx="18900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895320" y="3605040"/>
                  <a:ext cx="189000" cy="169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1506600" y="3070080"/>
                  <a:ext cx="188640" cy="171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2198520" y="3222360"/>
                  <a:ext cx="19044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2871720" y="335556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462120" y="3508200"/>
                  <a:ext cx="189000" cy="171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652320" y="2652480"/>
                <a:ext cx="3336840" cy="1667880"/>
                <a:chOff x="652320" y="2652480"/>
                <a:chExt cx="3336840" cy="166788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054080" y="2903040"/>
                  <a:ext cx="1665360" cy="54396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652320" y="2663280"/>
                  <a:ext cx="2746440" cy="165708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1942920" y="2652480"/>
                  <a:ext cx="2046240" cy="164916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86" name=""/>
          <p:cNvGrpSpPr/>
          <p:nvPr/>
        </p:nvGrpSpPr>
        <p:grpSpPr>
          <a:xfrm>
            <a:off x="442800" y="2238480"/>
            <a:ext cx="3959280" cy="2829960"/>
            <a:chOff x="442800" y="2238480"/>
            <a:chExt cx="3959280" cy="2829960"/>
          </a:xfrm>
        </p:grpSpPr>
        <p:grpSp>
          <p:nvGrpSpPr>
            <p:cNvPr id="1387" name=""/>
            <p:cNvGrpSpPr/>
            <p:nvPr/>
          </p:nvGrpSpPr>
          <p:grpSpPr>
            <a:xfrm>
              <a:off x="442800" y="2523960"/>
              <a:ext cx="3902040" cy="2544480"/>
              <a:chOff x="442800" y="2523960"/>
              <a:chExt cx="3902040" cy="2544480"/>
            </a:xfrm>
          </p:grpSpPr>
          <p:grpSp>
            <p:nvGrpSpPr>
              <p:cNvPr id="1388" name=""/>
              <p:cNvGrpSpPr/>
              <p:nvPr/>
            </p:nvGrpSpPr>
            <p:grpSpPr>
              <a:xfrm>
                <a:off x="442800" y="2523960"/>
                <a:ext cx="3902040" cy="2544480"/>
                <a:chOff x="442800" y="2523960"/>
                <a:chExt cx="3902040" cy="254448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442800" y="2523960"/>
                  <a:ext cx="3902040" cy="254448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996840" y="3460320"/>
                  <a:ext cx="2546280" cy="142200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1028520" y="3200040"/>
                  <a:ext cx="1949400" cy="86292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V="1">
                  <a:off x="1001520" y="3202920"/>
                  <a:ext cx="593640" cy="545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H="1" flipV="1">
                  <a:off x="1587240" y="3196440"/>
                  <a:ext cx="657360" cy="1551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H="1" flipV="1">
                  <a:off x="2325240" y="3351960"/>
                  <a:ext cx="593640" cy="1155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911320" y="3480840"/>
                  <a:ext cx="593640" cy="1584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H="1">
                  <a:off x="2090160" y="3638160"/>
                  <a:ext cx="1435320" cy="12693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flipH="1" flipV="1">
                  <a:off x="985680" y="3737880"/>
                  <a:ext cx="1046160" cy="11109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1977840" y="4774680"/>
                  <a:ext cx="18900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876240" y="3661920"/>
                  <a:ext cx="189000" cy="169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1487520" y="3126960"/>
                  <a:ext cx="188640" cy="171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2179440" y="3279240"/>
                  <a:ext cx="19044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852640" y="341244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3443040" y="3565080"/>
                  <a:ext cx="189000" cy="171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633240" y="2709360"/>
                <a:ext cx="3336840" cy="1667880"/>
                <a:chOff x="633240" y="2709360"/>
                <a:chExt cx="3336840" cy="16678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1035000" y="2959920"/>
                  <a:ext cx="1665360" cy="54396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33240" y="2720160"/>
                  <a:ext cx="2746440" cy="165708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1923840" y="2709360"/>
                  <a:ext cx="2046240" cy="164916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8" name=""/>
            <p:cNvGrpSpPr/>
            <p:nvPr/>
          </p:nvGrpSpPr>
          <p:grpSpPr>
            <a:xfrm>
              <a:off x="500040" y="2238480"/>
              <a:ext cx="3902040" cy="2544480"/>
              <a:chOff x="500040" y="2238480"/>
              <a:chExt cx="3902040" cy="2544480"/>
            </a:xfrm>
          </p:grpSpPr>
          <p:grpSp>
            <p:nvGrpSpPr>
              <p:cNvPr id="1409" name=""/>
              <p:cNvGrpSpPr/>
              <p:nvPr/>
            </p:nvGrpSpPr>
            <p:grpSpPr>
              <a:xfrm>
                <a:off x="500040" y="2238480"/>
                <a:ext cx="3902040" cy="2544480"/>
                <a:chOff x="500040" y="2238480"/>
                <a:chExt cx="3902040" cy="254448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500040" y="2238480"/>
                  <a:ext cx="3902040" cy="254448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1054080" y="3174840"/>
                  <a:ext cx="2546280" cy="142200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1085760" y="2914560"/>
                  <a:ext cx="1949400" cy="86292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flipV="1">
                  <a:off x="1058760" y="2917440"/>
                  <a:ext cx="593640" cy="54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H="1" flipV="1">
                  <a:off x="1644480" y="2910960"/>
                  <a:ext cx="657360" cy="1551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H="1" flipV="1">
                  <a:off x="2382480" y="3066480"/>
                  <a:ext cx="593640" cy="1155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2968560" y="3195360"/>
                  <a:ext cx="593640" cy="1584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 flipH="1">
                  <a:off x="2147400" y="3352680"/>
                  <a:ext cx="1435320" cy="126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flipH="1" flipV="1">
                  <a:off x="1042920" y="3452400"/>
                  <a:ext cx="1046160" cy="111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035080" y="4489200"/>
                  <a:ext cx="18900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933480" y="3376440"/>
                  <a:ext cx="189000" cy="169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1544760" y="2841480"/>
                  <a:ext cx="188640" cy="171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2236680" y="2993760"/>
                  <a:ext cx="19044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2909880" y="312696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3500280" y="3279600"/>
                  <a:ext cx="189000" cy="171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5" name=""/>
              <p:cNvGrpSpPr/>
              <p:nvPr/>
            </p:nvGrpSpPr>
            <p:grpSpPr>
              <a:xfrm>
                <a:off x="690480" y="2423880"/>
                <a:ext cx="3336840" cy="1667880"/>
                <a:chOff x="690480" y="2423880"/>
                <a:chExt cx="3336840" cy="166788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1092240" y="2674440"/>
                  <a:ext cx="1665360" cy="54396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690480" y="2434680"/>
                  <a:ext cx="2746440" cy="165708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1981080" y="2423880"/>
                  <a:ext cx="2046240" cy="164916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29" name=""/>
          <p:cNvGrpSpPr/>
          <p:nvPr/>
        </p:nvGrpSpPr>
        <p:grpSpPr>
          <a:xfrm>
            <a:off x="480960" y="1971720"/>
            <a:ext cx="3959280" cy="2829960"/>
            <a:chOff x="480960" y="1971720"/>
            <a:chExt cx="3959280" cy="2829960"/>
          </a:xfrm>
        </p:grpSpPr>
        <p:grpSp>
          <p:nvGrpSpPr>
            <p:cNvPr id="1430" name=""/>
            <p:cNvGrpSpPr/>
            <p:nvPr/>
          </p:nvGrpSpPr>
          <p:grpSpPr>
            <a:xfrm>
              <a:off x="480960" y="2257200"/>
              <a:ext cx="3902040" cy="2544480"/>
              <a:chOff x="480960" y="2257200"/>
              <a:chExt cx="3902040" cy="2544480"/>
            </a:xfrm>
          </p:grpSpPr>
          <p:grpSp>
            <p:nvGrpSpPr>
              <p:cNvPr id="1431" name=""/>
              <p:cNvGrpSpPr/>
              <p:nvPr/>
            </p:nvGrpSpPr>
            <p:grpSpPr>
              <a:xfrm>
                <a:off x="480960" y="2257200"/>
                <a:ext cx="3902040" cy="2544480"/>
                <a:chOff x="480960" y="2257200"/>
                <a:chExt cx="3902040" cy="254448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480960" y="2257200"/>
                  <a:ext cx="3902040" cy="254448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1035000" y="3193560"/>
                  <a:ext cx="2546280" cy="142200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1066680" y="2933280"/>
                  <a:ext cx="1949400" cy="86292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 flipV="1">
                  <a:off x="1039680" y="2936160"/>
                  <a:ext cx="593640" cy="545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H="1" flipV="1">
                  <a:off x="1625400" y="2929680"/>
                  <a:ext cx="657360" cy="1551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 flipV="1">
                  <a:off x="2363400" y="3085200"/>
                  <a:ext cx="593640" cy="1155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2949480" y="3214080"/>
                  <a:ext cx="593640" cy="1584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flipH="1">
                  <a:off x="2128320" y="3371400"/>
                  <a:ext cx="1435320" cy="12693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flipH="1" flipV="1">
                  <a:off x="1023840" y="3471120"/>
                  <a:ext cx="1046160" cy="11109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2016000" y="4507920"/>
                  <a:ext cx="18900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914400" y="3395160"/>
                  <a:ext cx="189000" cy="169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1525680" y="2860200"/>
                  <a:ext cx="188640" cy="171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2217600" y="3012480"/>
                  <a:ext cx="19044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2890800" y="314568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3481200" y="3298320"/>
                  <a:ext cx="189000" cy="171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671400" y="2442600"/>
                <a:ext cx="3336840" cy="1667880"/>
                <a:chOff x="671400" y="2442600"/>
                <a:chExt cx="3336840" cy="166788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1073160" y="2693160"/>
                  <a:ext cx="1665360" cy="54396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671400" y="2453400"/>
                  <a:ext cx="2746440" cy="165708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1962000" y="2442600"/>
                  <a:ext cx="2046240" cy="164916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1" name=""/>
            <p:cNvGrpSpPr/>
            <p:nvPr/>
          </p:nvGrpSpPr>
          <p:grpSpPr>
            <a:xfrm>
              <a:off x="538200" y="1971720"/>
              <a:ext cx="3902040" cy="2544480"/>
              <a:chOff x="538200" y="1971720"/>
              <a:chExt cx="3902040" cy="2544480"/>
            </a:xfrm>
          </p:grpSpPr>
          <p:grpSp>
            <p:nvGrpSpPr>
              <p:cNvPr id="1452" name=""/>
              <p:cNvGrpSpPr/>
              <p:nvPr/>
            </p:nvGrpSpPr>
            <p:grpSpPr>
              <a:xfrm>
                <a:off x="538200" y="1971720"/>
                <a:ext cx="3902040" cy="2544480"/>
                <a:chOff x="538200" y="1971720"/>
                <a:chExt cx="3902040" cy="2544480"/>
              </a:xfrm>
            </p:grpSpPr>
            <p:sp>
              <p:nvSpPr>
                <p:cNvPr id="1453" name=""/>
                <p:cNvSpPr/>
                <p:nvPr/>
              </p:nvSpPr>
              <p:spPr>
                <a:xfrm>
                  <a:off x="538200" y="1971720"/>
                  <a:ext cx="3902040" cy="254448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1092240" y="2908080"/>
                  <a:ext cx="2546280" cy="142200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1123920" y="2647800"/>
                  <a:ext cx="1949400" cy="86292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 flipV="1">
                  <a:off x="1096920" y="2650680"/>
                  <a:ext cx="593640" cy="54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flipH="1" flipV="1">
                  <a:off x="1682640" y="2644200"/>
                  <a:ext cx="657360" cy="1551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 flipH="1" flipV="1">
                  <a:off x="2420640" y="2799720"/>
                  <a:ext cx="593640" cy="1155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3006720" y="2928600"/>
                  <a:ext cx="593640" cy="1584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 flipH="1">
                  <a:off x="2185560" y="3085920"/>
                  <a:ext cx="1435320" cy="126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 flipH="1" flipV="1">
                  <a:off x="1081080" y="3185640"/>
                  <a:ext cx="1046160" cy="111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2073240" y="4222440"/>
                  <a:ext cx="18900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971640" y="3109680"/>
                  <a:ext cx="189000" cy="169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1582920" y="2574720"/>
                  <a:ext cx="188640" cy="171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2274840" y="2727000"/>
                  <a:ext cx="19044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2948040" y="286020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3538440" y="3012840"/>
                  <a:ext cx="189000" cy="171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8" name=""/>
              <p:cNvGrpSpPr/>
              <p:nvPr/>
            </p:nvGrpSpPr>
            <p:grpSpPr>
              <a:xfrm>
                <a:off x="728640" y="2157120"/>
                <a:ext cx="3336840" cy="1667880"/>
                <a:chOff x="728640" y="2157120"/>
                <a:chExt cx="3336840" cy="166788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1130400" y="2407680"/>
                  <a:ext cx="1665360" cy="54396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728640" y="2167920"/>
                  <a:ext cx="2746440" cy="165708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2019240" y="2157120"/>
                  <a:ext cx="2046240" cy="164916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72" name=""/>
          <p:cNvGrpSpPr/>
          <p:nvPr/>
        </p:nvGrpSpPr>
        <p:grpSpPr>
          <a:xfrm>
            <a:off x="519120" y="1685880"/>
            <a:ext cx="3959280" cy="2830680"/>
            <a:chOff x="519120" y="1685880"/>
            <a:chExt cx="3959280" cy="2830680"/>
          </a:xfrm>
        </p:grpSpPr>
        <p:grpSp>
          <p:nvGrpSpPr>
            <p:cNvPr id="1473" name=""/>
            <p:cNvGrpSpPr/>
            <p:nvPr/>
          </p:nvGrpSpPr>
          <p:grpSpPr>
            <a:xfrm>
              <a:off x="519120" y="1971720"/>
              <a:ext cx="3902040" cy="2544840"/>
              <a:chOff x="519120" y="1971720"/>
              <a:chExt cx="3902040" cy="2544840"/>
            </a:xfrm>
          </p:grpSpPr>
          <p:grpSp>
            <p:nvGrpSpPr>
              <p:cNvPr id="1474" name=""/>
              <p:cNvGrpSpPr/>
              <p:nvPr/>
            </p:nvGrpSpPr>
            <p:grpSpPr>
              <a:xfrm>
                <a:off x="519120" y="1971720"/>
                <a:ext cx="3902040" cy="2544840"/>
                <a:chOff x="519120" y="1971720"/>
                <a:chExt cx="3902040" cy="2544840"/>
              </a:xfrm>
            </p:grpSpPr>
            <p:sp>
              <p:nvSpPr>
                <p:cNvPr id="1475" name=""/>
                <p:cNvSpPr/>
                <p:nvPr/>
              </p:nvSpPr>
              <p:spPr>
                <a:xfrm>
                  <a:off x="519120" y="1971720"/>
                  <a:ext cx="3902040" cy="254484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1073160" y="290844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1104840" y="2648160"/>
                  <a:ext cx="1949400" cy="86328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 flipV="1">
                  <a:off x="1077840" y="2650680"/>
                  <a:ext cx="59364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 flipH="1" flipV="1">
                  <a:off x="1663560" y="2644920"/>
                  <a:ext cx="657360" cy="155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flipH="1" flipV="1">
                  <a:off x="2401560" y="2800440"/>
                  <a:ext cx="593640" cy="115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2987640" y="292896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flipH="1">
                  <a:off x="2166480" y="3086280"/>
                  <a:ext cx="1435320" cy="12697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flipH="1" flipV="1">
                  <a:off x="1062000" y="318564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2054160" y="4222800"/>
                  <a:ext cx="18900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952560" y="3110040"/>
                  <a:ext cx="18900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1563840" y="257508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2255760" y="2727360"/>
                  <a:ext cx="19044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2928960" y="2860560"/>
                  <a:ext cx="189000" cy="171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3519360" y="301320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709560" y="2157480"/>
                <a:ext cx="3336840" cy="1668600"/>
                <a:chOff x="709560" y="2157480"/>
                <a:chExt cx="3336840" cy="166860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1111320" y="2408400"/>
                  <a:ext cx="1665360" cy="54432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709560" y="2168640"/>
                  <a:ext cx="2746440" cy="165744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2000160" y="2157480"/>
                  <a:ext cx="2046240" cy="164952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94" name=""/>
            <p:cNvGrpSpPr/>
            <p:nvPr/>
          </p:nvGrpSpPr>
          <p:grpSpPr>
            <a:xfrm>
              <a:off x="576360" y="1685880"/>
              <a:ext cx="3902040" cy="2544840"/>
              <a:chOff x="576360" y="1685880"/>
              <a:chExt cx="3902040" cy="2544840"/>
            </a:xfrm>
          </p:grpSpPr>
          <p:grpSp>
            <p:nvGrpSpPr>
              <p:cNvPr id="1495" name=""/>
              <p:cNvGrpSpPr/>
              <p:nvPr/>
            </p:nvGrpSpPr>
            <p:grpSpPr>
              <a:xfrm>
                <a:off x="576360" y="1685880"/>
                <a:ext cx="3902040" cy="2544840"/>
                <a:chOff x="576360" y="1685880"/>
                <a:chExt cx="3902040" cy="2544840"/>
              </a:xfrm>
            </p:grpSpPr>
            <p:sp>
              <p:nvSpPr>
                <p:cNvPr id="1496" name=""/>
                <p:cNvSpPr/>
                <p:nvPr/>
              </p:nvSpPr>
              <p:spPr>
                <a:xfrm>
                  <a:off x="576360" y="1685880"/>
                  <a:ext cx="3902040" cy="254484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1130400" y="262260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1162080" y="2362320"/>
                  <a:ext cx="1949400" cy="86328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 flipV="1">
                  <a:off x="1135080" y="2364840"/>
                  <a:ext cx="593640" cy="54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 flipH="1" flipV="1">
                  <a:off x="1720800" y="2359080"/>
                  <a:ext cx="657360" cy="15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 flipH="1" flipV="1">
                  <a:off x="2458800" y="2514600"/>
                  <a:ext cx="593640" cy="1159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3044880" y="26431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 flipH="1">
                  <a:off x="2223720" y="2800440"/>
                  <a:ext cx="1435320" cy="12697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 flipH="1" flipV="1">
                  <a:off x="1119240" y="289980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2111400" y="3936960"/>
                  <a:ext cx="18900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1009800" y="2824200"/>
                  <a:ext cx="18900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1621080" y="228924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2313000" y="2441520"/>
                  <a:ext cx="19044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2986200" y="2574720"/>
                  <a:ext cx="189000" cy="1717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3576600" y="272736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766800" y="1871640"/>
                <a:ext cx="3336840" cy="1668600"/>
                <a:chOff x="766800" y="1871640"/>
                <a:chExt cx="3336840" cy="166860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1168560" y="2122560"/>
                  <a:ext cx="1665360" cy="54432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66800" y="1882800"/>
                  <a:ext cx="2746440" cy="165744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2057400" y="1871640"/>
                  <a:ext cx="2046240" cy="164952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15" name=""/>
          <p:cNvGrpSpPr/>
          <p:nvPr/>
        </p:nvGrpSpPr>
        <p:grpSpPr>
          <a:xfrm>
            <a:off x="557280" y="1419120"/>
            <a:ext cx="3959280" cy="2830680"/>
            <a:chOff x="557280" y="1419120"/>
            <a:chExt cx="3959280" cy="2830680"/>
          </a:xfrm>
        </p:grpSpPr>
        <p:grpSp>
          <p:nvGrpSpPr>
            <p:cNvPr id="1516" name=""/>
            <p:cNvGrpSpPr/>
            <p:nvPr/>
          </p:nvGrpSpPr>
          <p:grpSpPr>
            <a:xfrm>
              <a:off x="557280" y="1704960"/>
              <a:ext cx="3902040" cy="2544840"/>
              <a:chOff x="557280" y="1704960"/>
              <a:chExt cx="3902040" cy="2544840"/>
            </a:xfrm>
          </p:grpSpPr>
          <p:grpSp>
            <p:nvGrpSpPr>
              <p:cNvPr id="1517" name=""/>
              <p:cNvGrpSpPr/>
              <p:nvPr/>
            </p:nvGrpSpPr>
            <p:grpSpPr>
              <a:xfrm>
                <a:off x="557280" y="1704960"/>
                <a:ext cx="3902040" cy="2544840"/>
                <a:chOff x="557280" y="1704960"/>
                <a:chExt cx="3902040" cy="2544840"/>
              </a:xfrm>
            </p:grpSpPr>
            <p:sp>
              <p:nvSpPr>
                <p:cNvPr id="1518" name=""/>
                <p:cNvSpPr/>
                <p:nvPr/>
              </p:nvSpPr>
              <p:spPr>
                <a:xfrm>
                  <a:off x="557280" y="1704960"/>
                  <a:ext cx="3902040" cy="254484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1111320" y="26416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1143000" y="2381400"/>
                  <a:ext cx="1949400" cy="86328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flipV="1">
                  <a:off x="1116000" y="2383920"/>
                  <a:ext cx="59364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flipH="1" flipV="1">
                  <a:off x="1701720" y="2378160"/>
                  <a:ext cx="657360" cy="155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flipH="1" flipV="1">
                  <a:off x="2439720" y="2533680"/>
                  <a:ext cx="593640" cy="115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3025800" y="266220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flipH="1">
                  <a:off x="2204640" y="2819520"/>
                  <a:ext cx="1435320" cy="12697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flipH="1" flipV="1">
                  <a:off x="1100160" y="291888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2092320" y="3956040"/>
                  <a:ext cx="18900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990720" y="2843280"/>
                  <a:ext cx="18900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1602000" y="230832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2293920" y="2460600"/>
                  <a:ext cx="19044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2967120" y="2593800"/>
                  <a:ext cx="189000" cy="171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3557520" y="274644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3" name=""/>
              <p:cNvGrpSpPr/>
              <p:nvPr/>
            </p:nvGrpSpPr>
            <p:grpSpPr>
              <a:xfrm>
                <a:off x="747720" y="1890720"/>
                <a:ext cx="3336840" cy="1668600"/>
                <a:chOff x="747720" y="1890720"/>
                <a:chExt cx="3336840" cy="1668600"/>
              </a:xfrm>
            </p:grpSpPr>
            <p:sp>
              <p:nvSpPr>
                <p:cNvPr id="1534" name=""/>
                <p:cNvSpPr/>
                <p:nvPr/>
              </p:nvSpPr>
              <p:spPr>
                <a:xfrm>
                  <a:off x="1149480" y="2141640"/>
                  <a:ext cx="1665360" cy="54432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747720" y="1901880"/>
                  <a:ext cx="2746440" cy="165744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2038320" y="1890720"/>
                  <a:ext cx="2046240" cy="164952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7" name=""/>
            <p:cNvGrpSpPr/>
            <p:nvPr/>
          </p:nvGrpSpPr>
          <p:grpSpPr>
            <a:xfrm>
              <a:off x="614520" y="1419120"/>
              <a:ext cx="3902040" cy="2544840"/>
              <a:chOff x="614520" y="1419120"/>
              <a:chExt cx="3902040" cy="2544840"/>
            </a:xfrm>
          </p:grpSpPr>
          <p:grpSp>
            <p:nvGrpSpPr>
              <p:cNvPr id="1538" name=""/>
              <p:cNvGrpSpPr/>
              <p:nvPr/>
            </p:nvGrpSpPr>
            <p:grpSpPr>
              <a:xfrm>
                <a:off x="614520" y="1419120"/>
                <a:ext cx="3902040" cy="2544840"/>
                <a:chOff x="614520" y="1419120"/>
                <a:chExt cx="3902040" cy="254484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614520" y="1419120"/>
                  <a:ext cx="3902040" cy="254484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1168560" y="235584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1200240" y="2095560"/>
                  <a:ext cx="1949400" cy="86328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flipV="1">
                  <a:off x="1173240" y="2098080"/>
                  <a:ext cx="593640" cy="54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flipH="1" flipV="1">
                  <a:off x="1758960" y="2092320"/>
                  <a:ext cx="657360" cy="15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flipH="1" flipV="1">
                  <a:off x="2496960" y="2247840"/>
                  <a:ext cx="593640" cy="1159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3083040" y="237636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flipH="1">
                  <a:off x="2261880" y="2533680"/>
                  <a:ext cx="1435320" cy="12697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flipH="1" flipV="1">
                  <a:off x="1157400" y="263304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2149560" y="3670200"/>
                  <a:ext cx="18900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1047960" y="2557440"/>
                  <a:ext cx="18900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1659240" y="202248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2351160" y="2174760"/>
                  <a:ext cx="19044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3024360" y="2307960"/>
                  <a:ext cx="189000" cy="1717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3614760" y="246060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4" name=""/>
              <p:cNvGrpSpPr/>
              <p:nvPr/>
            </p:nvGrpSpPr>
            <p:grpSpPr>
              <a:xfrm>
                <a:off x="804960" y="1604880"/>
                <a:ext cx="3336840" cy="1668600"/>
                <a:chOff x="804960" y="1604880"/>
                <a:chExt cx="3336840" cy="166860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1206720" y="1855800"/>
                  <a:ext cx="1665360" cy="54432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804960" y="1616040"/>
                  <a:ext cx="2746440" cy="165744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2095560" y="1604880"/>
                  <a:ext cx="2046240" cy="164952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58" name=""/>
          <p:cNvGrpSpPr/>
          <p:nvPr/>
        </p:nvGrpSpPr>
        <p:grpSpPr>
          <a:xfrm>
            <a:off x="614520" y="1114560"/>
            <a:ext cx="3958560" cy="2829960"/>
            <a:chOff x="614520" y="1114560"/>
            <a:chExt cx="3958560" cy="2829960"/>
          </a:xfrm>
        </p:grpSpPr>
        <p:grpSp>
          <p:nvGrpSpPr>
            <p:cNvPr id="1559" name=""/>
            <p:cNvGrpSpPr/>
            <p:nvPr/>
          </p:nvGrpSpPr>
          <p:grpSpPr>
            <a:xfrm>
              <a:off x="614520" y="1400040"/>
              <a:ext cx="3901680" cy="2544480"/>
              <a:chOff x="614520" y="1400040"/>
              <a:chExt cx="3901680" cy="2544480"/>
            </a:xfrm>
          </p:grpSpPr>
          <p:grpSp>
            <p:nvGrpSpPr>
              <p:cNvPr id="1560" name=""/>
              <p:cNvGrpSpPr/>
              <p:nvPr/>
            </p:nvGrpSpPr>
            <p:grpSpPr>
              <a:xfrm>
                <a:off x="614520" y="1400040"/>
                <a:ext cx="3901680" cy="2544480"/>
                <a:chOff x="614520" y="1400040"/>
                <a:chExt cx="3901680" cy="254448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614520" y="1400040"/>
                  <a:ext cx="3901680" cy="254448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1168200" y="2336400"/>
                  <a:ext cx="2545920" cy="142200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1199880" y="2076120"/>
                  <a:ext cx="1949040" cy="86292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flipV="1">
                  <a:off x="1172880" y="2079000"/>
                  <a:ext cx="593280" cy="545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flipH="1" flipV="1">
                  <a:off x="1758240" y="2072520"/>
                  <a:ext cx="657000" cy="1551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 flipH="1" flipV="1">
                  <a:off x="2496960" y="2228040"/>
                  <a:ext cx="593280" cy="1155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3082680" y="2356920"/>
                  <a:ext cx="593280" cy="1584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flipH="1">
                  <a:off x="2261880" y="2514240"/>
                  <a:ext cx="1434960" cy="12693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flipH="1" flipV="1">
                  <a:off x="1156680" y="2613960"/>
                  <a:ext cx="1045800" cy="11109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2149200" y="3650760"/>
                  <a:ext cx="18864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1047600" y="2538000"/>
                  <a:ext cx="188640" cy="169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1658880" y="2003040"/>
                  <a:ext cx="188280" cy="171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2350800" y="2155320"/>
                  <a:ext cx="19008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3024000" y="228852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3614400" y="2441160"/>
                  <a:ext cx="188640" cy="171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6" name=""/>
              <p:cNvGrpSpPr/>
              <p:nvPr/>
            </p:nvGrpSpPr>
            <p:grpSpPr>
              <a:xfrm>
                <a:off x="804600" y="1585440"/>
                <a:ext cx="3336120" cy="1667880"/>
                <a:chOff x="804600" y="1585440"/>
                <a:chExt cx="3336120" cy="1667880"/>
              </a:xfrm>
            </p:grpSpPr>
            <p:sp>
              <p:nvSpPr>
                <p:cNvPr id="1577" name=""/>
                <p:cNvSpPr/>
                <p:nvPr/>
              </p:nvSpPr>
              <p:spPr>
                <a:xfrm>
                  <a:off x="1206000" y="1836000"/>
                  <a:ext cx="1665000" cy="54396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804600" y="1596240"/>
                  <a:ext cx="2746080" cy="165708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2094840" y="1585440"/>
                  <a:ext cx="2045880" cy="164916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80" name=""/>
            <p:cNvGrpSpPr/>
            <p:nvPr/>
          </p:nvGrpSpPr>
          <p:grpSpPr>
            <a:xfrm>
              <a:off x="671400" y="1114560"/>
              <a:ext cx="3901680" cy="2544480"/>
              <a:chOff x="671400" y="1114560"/>
              <a:chExt cx="3901680" cy="2544480"/>
            </a:xfrm>
          </p:grpSpPr>
          <p:grpSp>
            <p:nvGrpSpPr>
              <p:cNvPr id="1581" name=""/>
              <p:cNvGrpSpPr/>
              <p:nvPr/>
            </p:nvGrpSpPr>
            <p:grpSpPr>
              <a:xfrm>
                <a:off x="671400" y="1114560"/>
                <a:ext cx="3901680" cy="2544480"/>
                <a:chOff x="671400" y="1114560"/>
                <a:chExt cx="3901680" cy="254448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671400" y="1114560"/>
                  <a:ext cx="3901680" cy="254448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1225080" y="2050920"/>
                  <a:ext cx="2545920" cy="142200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1256760" y="1790640"/>
                  <a:ext cx="1949040" cy="86292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flipV="1">
                  <a:off x="1229760" y="1793520"/>
                  <a:ext cx="593280" cy="54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flipH="1" flipV="1">
                  <a:off x="1815120" y="1787040"/>
                  <a:ext cx="657000" cy="1551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H="1" flipV="1">
                  <a:off x="2553840" y="1942560"/>
                  <a:ext cx="593280" cy="1155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3139560" y="2071440"/>
                  <a:ext cx="593280" cy="1584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flipH="1">
                  <a:off x="2318760" y="2228760"/>
                  <a:ext cx="1434960" cy="126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H="1" flipV="1">
                  <a:off x="1213560" y="2328480"/>
                  <a:ext cx="1045800" cy="111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2206080" y="3365280"/>
                  <a:ext cx="18864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1104480" y="2252520"/>
                  <a:ext cx="188640" cy="169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1715760" y="1717560"/>
                  <a:ext cx="188280" cy="171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2407680" y="1869840"/>
                  <a:ext cx="19008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3080880" y="200304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3671280" y="2155680"/>
                  <a:ext cx="188640" cy="171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7" name=""/>
              <p:cNvGrpSpPr/>
              <p:nvPr/>
            </p:nvGrpSpPr>
            <p:grpSpPr>
              <a:xfrm>
                <a:off x="861480" y="1299960"/>
                <a:ext cx="3336120" cy="1667880"/>
                <a:chOff x="861480" y="1299960"/>
                <a:chExt cx="3336120" cy="1667880"/>
              </a:xfrm>
            </p:grpSpPr>
            <p:sp>
              <p:nvSpPr>
                <p:cNvPr id="1598" name=""/>
                <p:cNvSpPr/>
                <p:nvPr/>
              </p:nvSpPr>
              <p:spPr>
                <a:xfrm>
                  <a:off x="1262880" y="1550520"/>
                  <a:ext cx="1665000" cy="54396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861480" y="1310760"/>
                  <a:ext cx="2746080" cy="165708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2151720" y="1299960"/>
                  <a:ext cx="2045880" cy="164916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01" name=""/>
          <p:cNvGrpSpPr/>
          <p:nvPr/>
        </p:nvGrpSpPr>
        <p:grpSpPr>
          <a:xfrm>
            <a:off x="671400" y="809640"/>
            <a:ext cx="3959280" cy="2829960"/>
            <a:chOff x="671400" y="809640"/>
            <a:chExt cx="3959280" cy="2829960"/>
          </a:xfrm>
        </p:grpSpPr>
        <p:grpSp>
          <p:nvGrpSpPr>
            <p:cNvPr id="1602" name=""/>
            <p:cNvGrpSpPr/>
            <p:nvPr/>
          </p:nvGrpSpPr>
          <p:grpSpPr>
            <a:xfrm>
              <a:off x="671400" y="1095120"/>
              <a:ext cx="3902040" cy="2544480"/>
              <a:chOff x="671400" y="1095120"/>
              <a:chExt cx="3902040" cy="2544480"/>
            </a:xfrm>
          </p:grpSpPr>
          <p:grpSp>
            <p:nvGrpSpPr>
              <p:cNvPr id="1603" name=""/>
              <p:cNvGrpSpPr/>
              <p:nvPr/>
            </p:nvGrpSpPr>
            <p:grpSpPr>
              <a:xfrm>
                <a:off x="671400" y="1095120"/>
                <a:ext cx="3902040" cy="2544480"/>
                <a:chOff x="671400" y="1095120"/>
                <a:chExt cx="3902040" cy="254448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671400" y="1095120"/>
                  <a:ext cx="3902040" cy="254448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1225440" y="2031480"/>
                  <a:ext cx="2546280" cy="142200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1257120" y="1771200"/>
                  <a:ext cx="1949400" cy="86292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 flipV="1">
                  <a:off x="1230120" y="1774080"/>
                  <a:ext cx="593640" cy="545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H="1" flipV="1">
                  <a:off x="1815840" y="1767600"/>
                  <a:ext cx="657360" cy="1551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 flipV="1">
                  <a:off x="2553840" y="1923120"/>
                  <a:ext cx="593640" cy="1155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3139920" y="2052000"/>
                  <a:ext cx="593640" cy="1584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>
                  <a:off x="2318760" y="2209320"/>
                  <a:ext cx="1435320" cy="12693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 flipV="1">
                  <a:off x="1214280" y="2309040"/>
                  <a:ext cx="1046160" cy="11109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2206440" y="3345840"/>
                  <a:ext cx="18900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1104840" y="2233080"/>
                  <a:ext cx="189000" cy="169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1716120" y="1698120"/>
                  <a:ext cx="188640" cy="171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2408040" y="1850400"/>
                  <a:ext cx="19044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081240" y="198360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3671640" y="2136240"/>
                  <a:ext cx="189000" cy="171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9" name=""/>
              <p:cNvGrpSpPr/>
              <p:nvPr/>
            </p:nvGrpSpPr>
            <p:grpSpPr>
              <a:xfrm>
                <a:off x="861840" y="1280520"/>
                <a:ext cx="3336840" cy="1667880"/>
                <a:chOff x="861840" y="1280520"/>
                <a:chExt cx="3336840" cy="1667880"/>
              </a:xfrm>
            </p:grpSpPr>
            <p:sp>
              <p:nvSpPr>
                <p:cNvPr id="1620" name=""/>
                <p:cNvSpPr/>
                <p:nvPr/>
              </p:nvSpPr>
              <p:spPr>
                <a:xfrm>
                  <a:off x="1263600" y="1531080"/>
                  <a:ext cx="1665360" cy="54396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861840" y="1291320"/>
                  <a:ext cx="2746440" cy="165708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2152440" y="1280520"/>
                  <a:ext cx="2046240" cy="164916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23" name=""/>
            <p:cNvGrpSpPr/>
            <p:nvPr/>
          </p:nvGrpSpPr>
          <p:grpSpPr>
            <a:xfrm>
              <a:off x="728640" y="809640"/>
              <a:ext cx="3902040" cy="2544480"/>
              <a:chOff x="728640" y="809640"/>
              <a:chExt cx="3902040" cy="2544480"/>
            </a:xfrm>
          </p:grpSpPr>
          <p:grpSp>
            <p:nvGrpSpPr>
              <p:cNvPr id="1624" name=""/>
              <p:cNvGrpSpPr/>
              <p:nvPr/>
            </p:nvGrpSpPr>
            <p:grpSpPr>
              <a:xfrm>
                <a:off x="728640" y="809640"/>
                <a:ext cx="3902040" cy="2544480"/>
                <a:chOff x="728640" y="809640"/>
                <a:chExt cx="3902040" cy="2544480"/>
              </a:xfrm>
            </p:grpSpPr>
            <p:sp>
              <p:nvSpPr>
                <p:cNvPr id="1625" name=""/>
                <p:cNvSpPr/>
                <p:nvPr/>
              </p:nvSpPr>
              <p:spPr>
                <a:xfrm>
                  <a:off x="728640" y="809640"/>
                  <a:ext cx="3902040" cy="254448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1282680" y="1746000"/>
                  <a:ext cx="2546280" cy="142200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1314360" y="1485720"/>
                  <a:ext cx="1949400" cy="86292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V="1">
                  <a:off x="1287360" y="1488600"/>
                  <a:ext cx="593640" cy="54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H="1" flipV="1">
                  <a:off x="1873080" y="1482120"/>
                  <a:ext cx="657360" cy="1551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flipH="1" flipV="1">
                  <a:off x="2611080" y="1637640"/>
                  <a:ext cx="593640" cy="1155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197160" y="1766520"/>
                  <a:ext cx="593640" cy="1584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H="1">
                  <a:off x="2376000" y="1923840"/>
                  <a:ext cx="1435320" cy="126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H="1" flipV="1">
                  <a:off x="1271520" y="2023560"/>
                  <a:ext cx="1046160" cy="111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2263680" y="3060360"/>
                  <a:ext cx="18900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1162080" y="1947600"/>
                  <a:ext cx="189000" cy="169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1773360" y="1412640"/>
                  <a:ext cx="188640" cy="171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2465280" y="1564920"/>
                  <a:ext cx="19044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3138480" y="169812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3728880" y="1850760"/>
                  <a:ext cx="189000" cy="171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0" name=""/>
              <p:cNvGrpSpPr/>
              <p:nvPr/>
            </p:nvGrpSpPr>
            <p:grpSpPr>
              <a:xfrm>
                <a:off x="919080" y="995040"/>
                <a:ext cx="3336840" cy="1667880"/>
                <a:chOff x="919080" y="995040"/>
                <a:chExt cx="3336840" cy="1667880"/>
              </a:xfrm>
            </p:grpSpPr>
            <p:sp>
              <p:nvSpPr>
                <p:cNvPr id="1641" name=""/>
                <p:cNvSpPr/>
                <p:nvPr/>
              </p:nvSpPr>
              <p:spPr>
                <a:xfrm>
                  <a:off x="1320840" y="1245600"/>
                  <a:ext cx="1665360" cy="54396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919080" y="1005840"/>
                  <a:ext cx="2746440" cy="165708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2209680" y="995040"/>
                  <a:ext cx="2046240" cy="164916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44" name=""/>
          <p:cNvGrpSpPr/>
          <p:nvPr/>
        </p:nvGrpSpPr>
        <p:grpSpPr>
          <a:xfrm>
            <a:off x="747720" y="523800"/>
            <a:ext cx="3959280" cy="2830680"/>
            <a:chOff x="747720" y="523800"/>
            <a:chExt cx="3959280" cy="2830680"/>
          </a:xfrm>
        </p:grpSpPr>
        <p:grpSp>
          <p:nvGrpSpPr>
            <p:cNvPr id="1645" name=""/>
            <p:cNvGrpSpPr/>
            <p:nvPr/>
          </p:nvGrpSpPr>
          <p:grpSpPr>
            <a:xfrm>
              <a:off x="747720" y="809640"/>
              <a:ext cx="3902040" cy="2544840"/>
              <a:chOff x="747720" y="809640"/>
              <a:chExt cx="3902040" cy="2544840"/>
            </a:xfrm>
          </p:grpSpPr>
          <p:grpSp>
            <p:nvGrpSpPr>
              <p:cNvPr id="1646" name=""/>
              <p:cNvGrpSpPr/>
              <p:nvPr/>
            </p:nvGrpSpPr>
            <p:grpSpPr>
              <a:xfrm>
                <a:off x="747720" y="809640"/>
                <a:ext cx="3902040" cy="2544840"/>
                <a:chOff x="747720" y="809640"/>
                <a:chExt cx="3902040" cy="254484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747720" y="809640"/>
                  <a:ext cx="3902040" cy="254484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1301760" y="174636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1333440" y="1486080"/>
                  <a:ext cx="1949400" cy="86328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 flipV="1">
                  <a:off x="1306440" y="1488600"/>
                  <a:ext cx="59364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flipH="1" flipV="1">
                  <a:off x="1892160" y="1482840"/>
                  <a:ext cx="657360" cy="155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H="1" flipV="1">
                  <a:off x="2630160" y="1638360"/>
                  <a:ext cx="593640" cy="115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3216240" y="176688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flipH="1">
                  <a:off x="2395080" y="1924200"/>
                  <a:ext cx="1435320" cy="12697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H="1" flipV="1">
                  <a:off x="1290600" y="20235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2282760" y="3060720"/>
                  <a:ext cx="18900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1181160" y="1947960"/>
                  <a:ext cx="18900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1792440" y="141300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2484360" y="1565280"/>
                  <a:ext cx="19044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3157560" y="1698480"/>
                  <a:ext cx="189000" cy="171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3747960" y="185112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2" name=""/>
              <p:cNvGrpSpPr/>
              <p:nvPr/>
            </p:nvGrpSpPr>
            <p:grpSpPr>
              <a:xfrm>
                <a:off x="938160" y="995400"/>
                <a:ext cx="3336840" cy="1668600"/>
                <a:chOff x="938160" y="995400"/>
                <a:chExt cx="3336840" cy="1668600"/>
              </a:xfrm>
            </p:grpSpPr>
            <p:sp>
              <p:nvSpPr>
                <p:cNvPr id="1663" name=""/>
                <p:cNvSpPr/>
                <p:nvPr/>
              </p:nvSpPr>
              <p:spPr>
                <a:xfrm>
                  <a:off x="1339920" y="1246320"/>
                  <a:ext cx="1665360" cy="54432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938160" y="1006560"/>
                  <a:ext cx="2746440" cy="165744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2228760" y="995400"/>
                  <a:ext cx="2046240" cy="164952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6" name=""/>
            <p:cNvGrpSpPr/>
            <p:nvPr/>
          </p:nvGrpSpPr>
          <p:grpSpPr>
            <a:xfrm>
              <a:off x="804960" y="523800"/>
              <a:ext cx="3902040" cy="2544840"/>
              <a:chOff x="804960" y="523800"/>
              <a:chExt cx="3902040" cy="2544840"/>
            </a:xfrm>
          </p:grpSpPr>
          <p:grpSp>
            <p:nvGrpSpPr>
              <p:cNvPr id="1667" name=""/>
              <p:cNvGrpSpPr/>
              <p:nvPr/>
            </p:nvGrpSpPr>
            <p:grpSpPr>
              <a:xfrm>
                <a:off x="804960" y="523800"/>
                <a:ext cx="3902040" cy="2544840"/>
                <a:chOff x="804960" y="523800"/>
                <a:chExt cx="3902040" cy="2544840"/>
              </a:xfrm>
            </p:grpSpPr>
            <p:sp>
              <p:nvSpPr>
                <p:cNvPr id="1668" name=""/>
                <p:cNvSpPr/>
                <p:nvPr/>
              </p:nvSpPr>
              <p:spPr>
                <a:xfrm>
                  <a:off x="804960" y="523800"/>
                  <a:ext cx="3902040" cy="254484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1359000" y="146052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1390680" y="1200240"/>
                  <a:ext cx="1949400" cy="86328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 flipV="1">
                  <a:off x="1363680" y="1202760"/>
                  <a:ext cx="593640" cy="54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flipH="1" flipV="1">
                  <a:off x="1949400" y="1197000"/>
                  <a:ext cx="657360" cy="15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flipH="1" flipV="1">
                  <a:off x="2687400" y="1352520"/>
                  <a:ext cx="593640" cy="1159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273480" y="148104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H="1">
                  <a:off x="2452320" y="1638360"/>
                  <a:ext cx="1435320" cy="12697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flipH="1" flipV="1">
                  <a:off x="1347840" y="173772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2340000" y="2774880"/>
                  <a:ext cx="18900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1238400" y="1662120"/>
                  <a:ext cx="18900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1849680" y="112716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2541600" y="1279440"/>
                  <a:ext cx="19044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3214800" y="1412640"/>
                  <a:ext cx="189000" cy="1717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3805200" y="156528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3" name=""/>
              <p:cNvGrpSpPr/>
              <p:nvPr/>
            </p:nvGrpSpPr>
            <p:grpSpPr>
              <a:xfrm>
                <a:off x="995400" y="709560"/>
                <a:ext cx="3336840" cy="1668600"/>
                <a:chOff x="995400" y="709560"/>
                <a:chExt cx="3336840" cy="1668600"/>
              </a:xfrm>
            </p:grpSpPr>
            <p:sp>
              <p:nvSpPr>
                <p:cNvPr id="1684" name=""/>
                <p:cNvSpPr/>
                <p:nvPr/>
              </p:nvSpPr>
              <p:spPr>
                <a:xfrm>
                  <a:off x="1397160" y="960480"/>
                  <a:ext cx="1665360" cy="54432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995400" y="720720"/>
                  <a:ext cx="2746440" cy="165744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2286000" y="709560"/>
                  <a:ext cx="2046240" cy="164952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87" name=""/>
          <p:cNvGrpSpPr/>
          <p:nvPr/>
        </p:nvGrpSpPr>
        <p:grpSpPr>
          <a:xfrm>
            <a:off x="804960" y="219240"/>
            <a:ext cx="3959280" cy="2829960"/>
            <a:chOff x="804960" y="219240"/>
            <a:chExt cx="3959280" cy="2829960"/>
          </a:xfrm>
        </p:grpSpPr>
        <p:grpSp>
          <p:nvGrpSpPr>
            <p:cNvPr id="1688" name=""/>
            <p:cNvGrpSpPr/>
            <p:nvPr/>
          </p:nvGrpSpPr>
          <p:grpSpPr>
            <a:xfrm>
              <a:off x="804960" y="504720"/>
              <a:ext cx="3902040" cy="2544480"/>
              <a:chOff x="804960" y="504720"/>
              <a:chExt cx="3902040" cy="2544480"/>
            </a:xfrm>
          </p:grpSpPr>
          <p:grpSp>
            <p:nvGrpSpPr>
              <p:cNvPr id="1689" name=""/>
              <p:cNvGrpSpPr/>
              <p:nvPr/>
            </p:nvGrpSpPr>
            <p:grpSpPr>
              <a:xfrm>
                <a:off x="804960" y="504720"/>
                <a:ext cx="3902040" cy="2544480"/>
                <a:chOff x="804960" y="504720"/>
                <a:chExt cx="3902040" cy="2544480"/>
              </a:xfrm>
            </p:grpSpPr>
            <p:sp>
              <p:nvSpPr>
                <p:cNvPr id="1690" name=""/>
                <p:cNvSpPr/>
                <p:nvPr/>
              </p:nvSpPr>
              <p:spPr>
                <a:xfrm>
                  <a:off x="804960" y="504720"/>
                  <a:ext cx="3902040" cy="254448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1359000" y="1441080"/>
                  <a:ext cx="2546280" cy="142200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1390680" y="1180800"/>
                  <a:ext cx="1949400" cy="86292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V="1">
                  <a:off x="1363680" y="1183680"/>
                  <a:ext cx="593640" cy="545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H="1" flipV="1">
                  <a:off x="1949400" y="1177200"/>
                  <a:ext cx="657360" cy="1551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H="1" flipV="1">
                  <a:off x="2687400" y="1332720"/>
                  <a:ext cx="593640" cy="1155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3273480" y="1461600"/>
                  <a:ext cx="593640" cy="1584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H="1">
                  <a:off x="2452320" y="1618920"/>
                  <a:ext cx="1435320" cy="12693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flipH="1" flipV="1">
                  <a:off x="1347840" y="1718640"/>
                  <a:ext cx="1046160" cy="11109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2340000" y="2755440"/>
                  <a:ext cx="18900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1238400" y="1642680"/>
                  <a:ext cx="189000" cy="169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1849680" y="1107720"/>
                  <a:ext cx="188640" cy="171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2541600" y="1260000"/>
                  <a:ext cx="19044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3214800" y="139320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3805200" y="1545840"/>
                  <a:ext cx="189000" cy="171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5" name=""/>
              <p:cNvGrpSpPr/>
              <p:nvPr/>
            </p:nvGrpSpPr>
            <p:grpSpPr>
              <a:xfrm>
                <a:off x="995400" y="690120"/>
                <a:ext cx="3336840" cy="1667880"/>
                <a:chOff x="995400" y="690120"/>
                <a:chExt cx="3336840" cy="1667880"/>
              </a:xfrm>
            </p:grpSpPr>
            <p:sp>
              <p:nvSpPr>
                <p:cNvPr id="1706" name=""/>
                <p:cNvSpPr/>
                <p:nvPr/>
              </p:nvSpPr>
              <p:spPr>
                <a:xfrm>
                  <a:off x="1397160" y="940680"/>
                  <a:ext cx="1665360" cy="54396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995400" y="700920"/>
                  <a:ext cx="2746440" cy="165708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2286000" y="690120"/>
                  <a:ext cx="2046240" cy="164916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9" name=""/>
            <p:cNvGrpSpPr/>
            <p:nvPr/>
          </p:nvGrpSpPr>
          <p:grpSpPr>
            <a:xfrm>
              <a:off x="862200" y="219240"/>
              <a:ext cx="3902040" cy="2544480"/>
              <a:chOff x="862200" y="219240"/>
              <a:chExt cx="3902040" cy="2544480"/>
            </a:xfrm>
          </p:grpSpPr>
          <p:grpSp>
            <p:nvGrpSpPr>
              <p:cNvPr id="1710" name=""/>
              <p:cNvGrpSpPr/>
              <p:nvPr/>
            </p:nvGrpSpPr>
            <p:grpSpPr>
              <a:xfrm>
                <a:off x="862200" y="219240"/>
                <a:ext cx="3902040" cy="2544480"/>
                <a:chOff x="862200" y="219240"/>
                <a:chExt cx="3902040" cy="2544480"/>
              </a:xfrm>
            </p:grpSpPr>
            <p:sp>
              <p:nvSpPr>
                <p:cNvPr id="1711" name=""/>
                <p:cNvSpPr/>
                <p:nvPr/>
              </p:nvSpPr>
              <p:spPr>
                <a:xfrm>
                  <a:off x="862200" y="219240"/>
                  <a:ext cx="3902040" cy="2544480"/>
                </a:xfrm>
                <a:custGeom>
                  <a:avLst/>
                  <a:gdLst/>
                  <a:ahLst/>
                  <a:rect l="l" t="t" r="r" b="b"/>
                  <a:pathLst>
                    <a:path w="2458" h="1603">
                      <a:moveTo>
                        <a:pt x="221" y="170"/>
                      </a:moveTo>
                      <a:cubicBezTo>
                        <a:pt x="442" y="0"/>
                        <a:pt x="1147" y="39"/>
                        <a:pt x="1469" y="54"/>
                      </a:cubicBezTo>
                      <a:cubicBezTo>
                        <a:pt x="1791" y="69"/>
                        <a:pt x="2002" y="159"/>
                        <a:pt x="2153" y="258"/>
                      </a:cubicBezTo>
                      <a:cubicBezTo>
                        <a:pt x="2304" y="357"/>
                        <a:pt x="2458" y="464"/>
                        <a:pt x="2377" y="650"/>
                      </a:cubicBezTo>
                      <a:cubicBezTo>
                        <a:pt x="2296" y="836"/>
                        <a:pt x="1878" y="1218"/>
                        <a:pt x="1669" y="1374"/>
                      </a:cubicBezTo>
                      <a:cubicBezTo>
                        <a:pt x="1460" y="1530"/>
                        <a:pt x="1316" y="1569"/>
                        <a:pt x="1121" y="1586"/>
                      </a:cubicBezTo>
                      <a:cubicBezTo>
                        <a:pt x="926" y="1603"/>
                        <a:pt x="660" y="1563"/>
                        <a:pt x="497" y="1478"/>
                      </a:cubicBezTo>
                      <a:cubicBezTo>
                        <a:pt x="334" y="1393"/>
                        <a:pt x="192" y="1291"/>
                        <a:pt x="145" y="1074"/>
                      </a:cubicBezTo>
                      <a:cubicBezTo>
                        <a:pt x="98" y="857"/>
                        <a:pt x="0" y="340"/>
                        <a:pt x="221" y="170"/>
                      </a:cubicBez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1416240" y="1155600"/>
                  <a:ext cx="2546280" cy="142200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1447920" y="895320"/>
                  <a:ext cx="1949400" cy="86292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V="1">
                  <a:off x="1420920" y="898200"/>
                  <a:ext cx="593640" cy="54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 flipH="1" flipV="1">
                  <a:off x="2006640" y="891720"/>
                  <a:ext cx="657360" cy="1551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 flipH="1" flipV="1">
                  <a:off x="2744640" y="1047240"/>
                  <a:ext cx="593640" cy="1155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3330720" y="1176120"/>
                  <a:ext cx="593640" cy="1584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 flipH="1">
                  <a:off x="2509560" y="1333440"/>
                  <a:ext cx="1435320" cy="126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 flipH="1" flipV="1">
                  <a:off x="1405080" y="1433160"/>
                  <a:ext cx="1046160" cy="111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2397240" y="2469960"/>
                  <a:ext cx="18900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1295640" y="1357200"/>
                  <a:ext cx="189000" cy="169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1906920" y="822240"/>
                  <a:ext cx="188640" cy="171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2598840" y="974520"/>
                  <a:ext cx="19044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3272040" y="110772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3862440" y="1260360"/>
                  <a:ext cx="189000" cy="171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6" name=""/>
              <p:cNvGrpSpPr/>
              <p:nvPr/>
            </p:nvGrpSpPr>
            <p:grpSpPr>
              <a:xfrm>
                <a:off x="1052640" y="404640"/>
                <a:ext cx="3336840" cy="1667880"/>
                <a:chOff x="1052640" y="404640"/>
                <a:chExt cx="3336840" cy="1667880"/>
              </a:xfrm>
            </p:grpSpPr>
            <p:sp>
              <p:nvSpPr>
                <p:cNvPr id="1727" name=""/>
                <p:cNvSpPr/>
                <p:nvPr/>
              </p:nvSpPr>
              <p:spPr>
                <a:xfrm>
                  <a:off x="1454400" y="655200"/>
                  <a:ext cx="1665360" cy="543960"/>
                </a:xfrm>
                <a:custGeom>
                  <a:avLst/>
                  <a:gdLst/>
                  <a:ahLst/>
                  <a:rect l="l" t="t" r="r" b="b"/>
                  <a:pathLst>
                    <a:path w="1049" h="343">
                      <a:moveTo>
                        <a:pt x="148" y="343"/>
                      </a:moveTo>
                      <a:cubicBezTo>
                        <a:pt x="74" y="231"/>
                        <a:pt x="0" y="120"/>
                        <a:pt x="76" y="63"/>
                      </a:cubicBezTo>
                      <a:cubicBezTo>
                        <a:pt x="152" y="6"/>
                        <a:pt x="453" y="0"/>
                        <a:pt x="604" y="3"/>
                      </a:cubicBezTo>
                      <a:cubicBezTo>
                        <a:pt x="755" y="6"/>
                        <a:pt x="919" y="36"/>
                        <a:pt x="984" y="83"/>
                      </a:cubicBezTo>
                      <a:cubicBezTo>
                        <a:pt x="1049" y="130"/>
                        <a:pt x="1020" y="208"/>
                        <a:pt x="992" y="28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1052640" y="415440"/>
                  <a:ext cx="2746440" cy="1657080"/>
                </a:xfrm>
                <a:custGeom>
                  <a:avLst/>
                  <a:gdLst/>
                  <a:ahLst/>
                  <a:rect l="l" t="t" r="r" b="b"/>
                  <a:pathLst>
                    <a:path w="1730" h="1044">
                      <a:moveTo>
                        <a:pt x="573" y="1030"/>
                      </a:moveTo>
                      <a:cubicBezTo>
                        <a:pt x="500" y="1007"/>
                        <a:pt x="196" y="1044"/>
                        <a:pt x="133" y="894"/>
                      </a:cubicBezTo>
                      <a:cubicBezTo>
                        <a:pt x="70" y="744"/>
                        <a:pt x="0" y="260"/>
                        <a:pt x="197" y="130"/>
                      </a:cubicBezTo>
                      <a:cubicBezTo>
                        <a:pt x="394" y="0"/>
                        <a:pt x="1070" y="82"/>
                        <a:pt x="1317" y="114"/>
                      </a:cubicBezTo>
                      <a:cubicBezTo>
                        <a:pt x="1564" y="146"/>
                        <a:pt x="1624" y="252"/>
                        <a:pt x="1677" y="322"/>
                      </a:cubicBezTo>
                      <a:cubicBezTo>
                        <a:pt x="1730" y="392"/>
                        <a:pt x="1683" y="463"/>
                        <a:pt x="1637" y="53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2343240" y="404640"/>
                  <a:ext cx="2046240" cy="1649160"/>
                </a:xfrm>
                <a:custGeom>
                  <a:avLst/>
                  <a:gdLst/>
                  <a:ahLst/>
                  <a:rect l="l" t="t" r="r" b="b"/>
                  <a:pathLst>
                    <a:path w="1289" h="1039">
                      <a:moveTo>
                        <a:pt x="0" y="357"/>
                      </a:moveTo>
                      <a:cubicBezTo>
                        <a:pt x="51" y="223"/>
                        <a:pt x="102" y="90"/>
                        <a:pt x="260" y="45"/>
                      </a:cubicBezTo>
                      <a:cubicBezTo>
                        <a:pt x="418" y="0"/>
                        <a:pt x="778" y="14"/>
                        <a:pt x="948" y="89"/>
                      </a:cubicBezTo>
                      <a:cubicBezTo>
                        <a:pt x="1118" y="164"/>
                        <a:pt x="1289" y="349"/>
                        <a:pt x="1280" y="493"/>
                      </a:cubicBezTo>
                      <a:cubicBezTo>
                        <a:pt x="1271" y="637"/>
                        <a:pt x="1015" y="867"/>
                        <a:pt x="892" y="953"/>
                      </a:cubicBezTo>
                      <a:cubicBezTo>
                        <a:pt x="769" y="1039"/>
                        <a:pt x="656" y="1024"/>
                        <a:pt x="544" y="1009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30" name=""/>
          <p:cNvGrpSpPr/>
          <p:nvPr/>
        </p:nvGrpSpPr>
        <p:grpSpPr>
          <a:xfrm>
            <a:off x="1051920" y="422640"/>
            <a:ext cx="3207960" cy="2594880"/>
            <a:chOff x="1051920" y="422640"/>
            <a:chExt cx="3207960" cy="2594880"/>
          </a:xfrm>
        </p:grpSpPr>
        <p:sp>
          <p:nvSpPr>
            <p:cNvPr id="1731" name=""/>
            <p:cNvSpPr/>
            <p:nvPr/>
          </p:nvSpPr>
          <p:spPr>
            <a:xfrm>
              <a:off x="2397240" y="2470320"/>
              <a:ext cx="188640" cy="1728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295280" y="1357200"/>
              <a:ext cx="189000" cy="169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906560" y="822240"/>
              <a:ext cx="189000" cy="171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598840" y="974880"/>
              <a:ext cx="190440" cy="1728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271680" y="1108080"/>
              <a:ext cx="189000" cy="171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862440" y="1260360"/>
              <a:ext cx="189000" cy="171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131560" y="255780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887280" y="925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051920" y="10054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23600" y="42264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306880" y="10800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124440" y="71316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3" name=""/>
            <p:cNvGrpSpPr/>
            <p:nvPr/>
          </p:nvGrpSpPr>
          <p:grpSpPr>
            <a:xfrm>
              <a:off x="1365120" y="892080"/>
              <a:ext cx="2579040" cy="1711080"/>
              <a:chOff x="1365120" y="892080"/>
              <a:chExt cx="2579040" cy="1711080"/>
            </a:xfrm>
          </p:grpSpPr>
          <p:sp>
            <p:nvSpPr>
              <p:cNvPr id="1744" name=""/>
              <p:cNvSpPr/>
              <p:nvPr/>
            </p:nvSpPr>
            <p:spPr>
              <a:xfrm>
                <a:off x="1365120" y="1185480"/>
                <a:ext cx="1997280" cy="626040"/>
              </a:xfrm>
              <a:custGeom>
                <a:avLst/>
                <a:gdLst/>
                <a:ahLst/>
                <a:rect l="l" t="t" r="r" b="b"/>
                <a:pathLst>
                  <a:path w="1392" h="454">
                    <a:moveTo>
                      <a:pt x="1392" y="0"/>
                    </a:moveTo>
                    <a:cubicBezTo>
                      <a:pt x="1187" y="169"/>
                      <a:pt x="982" y="338"/>
                      <a:pt x="804" y="396"/>
                    </a:cubicBezTo>
                    <a:cubicBezTo>
                      <a:pt x="626" y="454"/>
                      <a:pt x="458" y="384"/>
                      <a:pt x="324" y="348"/>
                    </a:cubicBezTo>
                    <a:cubicBezTo>
                      <a:pt x="190" y="312"/>
                      <a:pt x="95" y="246"/>
                      <a:pt x="0" y="180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1420920" y="898920"/>
                <a:ext cx="593640" cy="545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H="1" flipV="1">
                <a:off x="2006280" y="892080"/>
                <a:ext cx="656640" cy="155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H="1" flipV="1">
                <a:off x="2743560" y="1047600"/>
                <a:ext cx="594000" cy="115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330720" y="1176120"/>
                <a:ext cx="594000" cy="158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H="1">
                <a:off x="2509560" y="1333080"/>
                <a:ext cx="1434600" cy="12700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H="1" flipV="1">
                <a:off x="1405080" y="1432080"/>
                <a:ext cx="1046160" cy="11113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1" name=""/>
          <p:cNvGrpSpPr/>
          <p:nvPr/>
        </p:nvGrpSpPr>
        <p:grpSpPr>
          <a:xfrm>
            <a:off x="5257800" y="4079880"/>
            <a:ext cx="3060720" cy="1763640"/>
            <a:chOff x="5257800" y="4079880"/>
            <a:chExt cx="3060720" cy="1763640"/>
          </a:xfrm>
        </p:grpSpPr>
        <p:grpSp>
          <p:nvGrpSpPr>
            <p:cNvPr id="1752" name=""/>
            <p:cNvGrpSpPr/>
            <p:nvPr/>
          </p:nvGrpSpPr>
          <p:grpSpPr>
            <a:xfrm>
              <a:off x="5562720" y="4308480"/>
              <a:ext cx="2755800" cy="1535040"/>
              <a:chOff x="5562720" y="4308480"/>
              <a:chExt cx="2755800" cy="1535040"/>
            </a:xfrm>
          </p:grpSpPr>
          <p:grpSp>
            <p:nvGrpSpPr>
              <p:cNvPr id="1753" name=""/>
              <p:cNvGrpSpPr/>
              <p:nvPr/>
            </p:nvGrpSpPr>
            <p:grpSpPr>
              <a:xfrm>
                <a:off x="5562720" y="4308480"/>
                <a:ext cx="2755800" cy="1535040"/>
                <a:chOff x="5562720" y="4308480"/>
                <a:chExt cx="2755800" cy="153504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5683320" y="43750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5632560" y="43862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7597800" y="43765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flipH="1">
                  <a:off x="6777000" y="45338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H="1" flipV="1">
                  <a:off x="5672160" y="46335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6664320" y="5670360"/>
                  <a:ext cx="18900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5562720" y="4557600"/>
                  <a:ext cx="18864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7539120" y="430848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8129520" y="446076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3" name=""/>
              <p:cNvGrpSpPr/>
              <p:nvPr/>
            </p:nvGrpSpPr>
            <p:grpSpPr>
              <a:xfrm>
                <a:off x="6242040" y="4464000"/>
                <a:ext cx="1682640" cy="780840"/>
                <a:chOff x="6242040" y="4464000"/>
                <a:chExt cx="1682640" cy="780840"/>
              </a:xfrm>
            </p:grpSpPr>
            <p:sp>
              <p:nvSpPr>
                <p:cNvPr id="1764" name=""/>
                <p:cNvSpPr/>
                <p:nvPr/>
              </p:nvSpPr>
              <p:spPr>
                <a:xfrm>
                  <a:off x="6750000" y="49402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6242040" y="44640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6" name=""/>
            <p:cNvGrpSpPr/>
            <p:nvPr/>
          </p:nvGrpSpPr>
          <p:grpSpPr>
            <a:xfrm>
              <a:off x="5257800" y="4079880"/>
              <a:ext cx="2755800" cy="1535040"/>
              <a:chOff x="5257800" y="4079880"/>
              <a:chExt cx="2755800" cy="1535040"/>
            </a:xfrm>
          </p:grpSpPr>
          <p:grpSp>
            <p:nvGrpSpPr>
              <p:cNvPr id="1767" name=""/>
              <p:cNvGrpSpPr/>
              <p:nvPr/>
            </p:nvGrpSpPr>
            <p:grpSpPr>
              <a:xfrm>
                <a:off x="5257800" y="4079880"/>
                <a:ext cx="2755800" cy="1535040"/>
                <a:chOff x="5257800" y="4079880"/>
                <a:chExt cx="2755800" cy="1535040"/>
              </a:xfrm>
            </p:grpSpPr>
            <p:sp>
              <p:nvSpPr>
                <p:cNvPr id="1768" name=""/>
                <p:cNvSpPr/>
                <p:nvPr/>
              </p:nvSpPr>
              <p:spPr>
                <a:xfrm>
                  <a:off x="5378400" y="41464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5327640" y="41576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7292880" y="41479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 flipH="1">
                  <a:off x="6472080" y="43052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 flipH="1" flipV="1">
                  <a:off x="5367240" y="44049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6359400" y="5441760"/>
                  <a:ext cx="18900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5257800" y="4329000"/>
                  <a:ext cx="18864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7234200" y="407988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7824600" y="423216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7" name=""/>
              <p:cNvGrpSpPr/>
              <p:nvPr/>
            </p:nvGrpSpPr>
            <p:grpSpPr>
              <a:xfrm>
                <a:off x="5937120" y="4235400"/>
                <a:ext cx="1682640" cy="780840"/>
                <a:chOff x="5937120" y="4235400"/>
                <a:chExt cx="1682640" cy="78084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6445080" y="47116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5937120" y="42354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80" name=""/>
          <p:cNvGrpSpPr/>
          <p:nvPr/>
        </p:nvGrpSpPr>
        <p:grpSpPr>
          <a:xfrm>
            <a:off x="4952880" y="3851280"/>
            <a:ext cx="3060720" cy="1763640"/>
            <a:chOff x="4952880" y="3851280"/>
            <a:chExt cx="3060720" cy="1763640"/>
          </a:xfrm>
        </p:grpSpPr>
        <p:grpSp>
          <p:nvGrpSpPr>
            <p:cNvPr id="1781" name=""/>
            <p:cNvGrpSpPr/>
            <p:nvPr/>
          </p:nvGrpSpPr>
          <p:grpSpPr>
            <a:xfrm>
              <a:off x="5257800" y="4079880"/>
              <a:ext cx="2755800" cy="1535040"/>
              <a:chOff x="5257800" y="4079880"/>
              <a:chExt cx="2755800" cy="1535040"/>
            </a:xfrm>
          </p:grpSpPr>
          <p:grpSp>
            <p:nvGrpSpPr>
              <p:cNvPr id="1782" name=""/>
              <p:cNvGrpSpPr/>
              <p:nvPr/>
            </p:nvGrpSpPr>
            <p:grpSpPr>
              <a:xfrm>
                <a:off x="5257800" y="4079880"/>
                <a:ext cx="2755800" cy="1535040"/>
                <a:chOff x="5257800" y="4079880"/>
                <a:chExt cx="2755800" cy="1535040"/>
              </a:xfrm>
            </p:grpSpPr>
            <p:sp>
              <p:nvSpPr>
                <p:cNvPr id="1783" name=""/>
                <p:cNvSpPr/>
                <p:nvPr/>
              </p:nvSpPr>
              <p:spPr>
                <a:xfrm>
                  <a:off x="5378400" y="41464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5327640" y="41576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7292880" y="41479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flipH="1">
                  <a:off x="6472080" y="43052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 flipH="1" flipV="1">
                  <a:off x="5367240" y="44049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6359400" y="5441760"/>
                  <a:ext cx="18900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5257800" y="4329000"/>
                  <a:ext cx="18864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7234200" y="407988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7824600" y="423216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2" name=""/>
              <p:cNvGrpSpPr/>
              <p:nvPr/>
            </p:nvGrpSpPr>
            <p:grpSpPr>
              <a:xfrm>
                <a:off x="5937120" y="4235400"/>
                <a:ext cx="1682640" cy="780840"/>
                <a:chOff x="5937120" y="4235400"/>
                <a:chExt cx="1682640" cy="780840"/>
              </a:xfrm>
            </p:grpSpPr>
            <p:sp>
              <p:nvSpPr>
                <p:cNvPr id="1793" name=""/>
                <p:cNvSpPr/>
                <p:nvPr/>
              </p:nvSpPr>
              <p:spPr>
                <a:xfrm>
                  <a:off x="6445080" y="47116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5937120" y="42354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5" name=""/>
            <p:cNvGrpSpPr/>
            <p:nvPr/>
          </p:nvGrpSpPr>
          <p:grpSpPr>
            <a:xfrm>
              <a:off x="4952880" y="3851280"/>
              <a:ext cx="2755800" cy="1535040"/>
              <a:chOff x="4952880" y="3851280"/>
              <a:chExt cx="2755800" cy="1535040"/>
            </a:xfrm>
          </p:grpSpPr>
          <p:grpSp>
            <p:nvGrpSpPr>
              <p:cNvPr id="1796" name=""/>
              <p:cNvGrpSpPr/>
              <p:nvPr/>
            </p:nvGrpSpPr>
            <p:grpSpPr>
              <a:xfrm>
                <a:off x="4952880" y="3851280"/>
                <a:ext cx="2755800" cy="1535040"/>
                <a:chOff x="4952880" y="3851280"/>
                <a:chExt cx="2755800" cy="1535040"/>
              </a:xfrm>
            </p:grpSpPr>
            <p:sp>
              <p:nvSpPr>
                <p:cNvPr id="1797" name=""/>
                <p:cNvSpPr/>
                <p:nvPr/>
              </p:nvSpPr>
              <p:spPr>
                <a:xfrm>
                  <a:off x="5073480" y="39178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5022720" y="39290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6987960" y="39193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>
                  <a:off x="6167160" y="40766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flipH="1" flipV="1">
                  <a:off x="5062320" y="41763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6054480" y="5213160"/>
                  <a:ext cx="18900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4952880" y="4100400"/>
                  <a:ext cx="18864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6929280" y="385128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7519680" y="400356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6" name=""/>
              <p:cNvGrpSpPr/>
              <p:nvPr/>
            </p:nvGrpSpPr>
            <p:grpSpPr>
              <a:xfrm>
                <a:off x="5632200" y="4006800"/>
                <a:ext cx="1682640" cy="780840"/>
                <a:chOff x="5632200" y="4006800"/>
                <a:chExt cx="1682640" cy="780840"/>
              </a:xfrm>
            </p:grpSpPr>
            <p:sp>
              <p:nvSpPr>
                <p:cNvPr id="1807" name=""/>
                <p:cNvSpPr/>
                <p:nvPr/>
              </p:nvSpPr>
              <p:spPr>
                <a:xfrm>
                  <a:off x="6140160" y="44830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632200" y="40068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09" name=""/>
          <p:cNvGrpSpPr/>
          <p:nvPr/>
        </p:nvGrpSpPr>
        <p:grpSpPr>
          <a:xfrm>
            <a:off x="4648320" y="3622680"/>
            <a:ext cx="3060720" cy="1763640"/>
            <a:chOff x="4648320" y="3622680"/>
            <a:chExt cx="3060720" cy="1763640"/>
          </a:xfrm>
        </p:grpSpPr>
        <p:grpSp>
          <p:nvGrpSpPr>
            <p:cNvPr id="1810" name=""/>
            <p:cNvGrpSpPr/>
            <p:nvPr/>
          </p:nvGrpSpPr>
          <p:grpSpPr>
            <a:xfrm>
              <a:off x="4953240" y="3851280"/>
              <a:ext cx="2755800" cy="1535040"/>
              <a:chOff x="4953240" y="3851280"/>
              <a:chExt cx="2755800" cy="1535040"/>
            </a:xfrm>
          </p:grpSpPr>
          <p:grpSp>
            <p:nvGrpSpPr>
              <p:cNvPr id="1811" name=""/>
              <p:cNvGrpSpPr/>
              <p:nvPr/>
            </p:nvGrpSpPr>
            <p:grpSpPr>
              <a:xfrm>
                <a:off x="4953240" y="3851280"/>
                <a:ext cx="2755800" cy="1535040"/>
                <a:chOff x="4953240" y="3851280"/>
                <a:chExt cx="2755800" cy="1535040"/>
              </a:xfrm>
            </p:grpSpPr>
            <p:sp>
              <p:nvSpPr>
                <p:cNvPr id="1812" name=""/>
                <p:cNvSpPr/>
                <p:nvPr/>
              </p:nvSpPr>
              <p:spPr>
                <a:xfrm>
                  <a:off x="5073840" y="39178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5023080" y="39290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988320" y="39193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 flipH="1">
                  <a:off x="6167520" y="40766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 flipH="1" flipV="1">
                  <a:off x="5062680" y="41763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6054840" y="5213160"/>
                  <a:ext cx="18900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4953240" y="4100400"/>
                  <a:ext cx="18864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6929640" y="385128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7520040" y="400356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1" name=""/>
              <p:cNvGrpSpPr/>
              <p:nvPr/>
            </p:nvGrpSpPr>
            <p:grpSpPr>
              <a:xfrm>
                <a:off x="5632560" y="4006800"/>
                <a:ext cx="1682640" cy="780840"/>
                <a:chOff x="5632560" y="4006800"/>
                <a:chExt cx="1682640" cy="780840"/>
              </a:xfrm>
            </p:grpSpPr>
            <p:sp>
              <p:nvSpPr>
                <p:cNvPr id="1822" name=""/>
                <p:cNvSpPr/>
                <p:nvPr/>
              </p:nvSpPr>
              <p:spPr>
                <a:xfrm>
                  <a:off x="6140520" y="44830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5632560" y="40068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24" name=""/>
            <p:cNvGrpSpPr/>
            <p:nvPr/>
          </p:nvGrpSpPr>
          <p:grpSpPr>
            <a:xfrm>
              <a:off x="4648320" y="3622680"/>
              <a:ext cx="2755800" cy="1535040"/>
              <a:chOff x="4648320" y="3622680"/>
              <a:chExt cx="2755800" cy="1535040"/>
            </a:xfrm>
          </p:grpSpPr>
          <p:grpSp>
            <p:nvGrpSpPr>
              <p:cNvPr id="1825" name=""/>
              <p:cNvGrpSpPr/>
              <p:nvPr/>
            </p:nvGrpSpPr>
            <p:grpSpPr>
              <a:xfrm>
                <a:off x="4648320" y="3622680"/>
                <a:ext cx="2755800" cy="1535040"/>
                <a:chOff x="4648320" y="3622680"/>
                <a:chExt cx="2755800" cy="153504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4768920" y="36892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4718160" y="37004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6683400" y="36907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 flipH="1">
                  <a:off x="5862600" y="38480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 flipH="1" flipV="1">
                  <a:off x="4757760" y="39477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5749920" y="4984560"/>
                  <a:ext cx="18900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648320" y="3871800"/>
                  <a:ext cx="18864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6624720" y="362268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7215120" y="377496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5327640" y="3778200"/>
                <a:ext cx="1682640" cy="780840"/>
                <a:chOff x="5327640" y="3778200"/>
                <a:chExt cx="1682640" cy="78084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5835600" y="42544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5327640" y="37782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38" name=""/>
          <p:cNvGrpSpPr/>
          <p:nvPr/>
        </p:nvGrpSpPr>
        <p:grpSpPr>
          <a:xfrm>
            <a:off x="4343400" y="3394080"/>
            <a:ext cx="3060720" cy="1763640"/>
            <a:chOff x="4343400" y="3394080"/>
            <a:chExt cx="3060720" cy="1763640"/>
          </a:xfrm>
        </p:grpSpPr>
        <p:grpSp>
          <p:nvGrpSpPr>
            <p:cNvPr id="1839" name=""/>
            <p:cNvGrpSpPr/>
            <p:nvPr/>
          </p:nvGrpSpPr>
          <p:grpSpPr>
            <a:xfrm>
              <a:off x="4648320" y="3622680"/>
              <a:ext cx="2755800" cy="1535040"/>
              <a:chOff x="4648320" y="3622680"/>
              <a:chExt cx="2755800" cy="1535040"/>
            </a:xfrm>
          </p:grpSpPr>
          <p:grpSp>
            <p:nvGrpSpPr>
              <p:cNvPr id="1840" name=""/>
              <p:cNvGrpSpPr/>
              <p:nvPr/>
            </p:nvGrpSpPr>
            <p:grpSpPr>
              <a:xfrm>
                <a:off x="4648320" y="3622680"/>
                <a:ext cx="2755800" cy="1535040"/>
                <a:chOff x="4648320" y="3622680"/>
                <a:chExt cx="2755800" cy="1535040"/>
              </a:xfrm>
            </p:grpSpPr>
            <p:sp>
              <p:nvSpPr>
                <p:cNvPr id="1841" name=""/>
                <p:cNvSpPr/>
                <p:nvPr/>
              </p:nvSpPr>
              <p:spPr>
                <a:xfrm>
                  <a:off x="4768920" y="36892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4718160" y="37004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6683400" y="36907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flipH="1">
                  <a:off x="5862600" y="38480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flipH="1" flipV="1">
                  <a:off x="4757760" y="39477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5749920" y="4984560"/>
                  <a:ext cx="18900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4648320" y="3871800"/>
                  <a:ext cx="18864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6624720" y="362268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7215120" y="377496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5327640" y="3778200"/>
                <a:ext cx="1682640" cy="780840"/>
                <a:chOff x="5327640" y="3778200"/>
                <a:chExt cx="1682640" cy="78084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5835600" y="42544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5327640" y="37782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53" name=""/>
            <p:cNvGrpSpPr/>
            <p:nvPr/>
          </p:nvGrpSpPr>
          <p:grpSpPr>
            <a:xfrm>
              <a:off x="4343400" y="3394080"/>
              <a:ext cx="2755800" cy="1535040"/>
              <a:chOff x="4343400" y="3394080"/>
              <a:chExt cx="2755800" cy="1535040"/>
            </a:xfrm>
          </p:grpSpPr>
          <p:grpSp>
            <p:nvGrpSpPr>
              <p:cNvPr id="1854" name=""/>
              <p:cNvGrpSpPr/>
              <p:nvPr/>
            </p:nvGrpSpPr>
            <p:grpSpPr>
              <a:xfrm>
                <a:off x="4343400" y="3394080"/>
                <a:ext cx="2755800" cy="1535040"/>
                <a:chOff x="4343400" y="3394080"/>
                <a:chExt cx="2755800" cy="1535040"/>
              </a:xfrm>
            </p:grpSpPr>
            <p:sp>
              <p:nvSpPr>
                <p:cNvPr id="1855" name=""/>
                <p:cNvSpPr/>
                <p:nvPr/>
              </p:nvSpPr>
              <p:spPr>
                <a:xfrm>
                  <a:off x="4464000" y="34606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413240" y="34718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6378480" y="34621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 flipH="1">
                  <a:off x="5557680" y="36194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 flipH="1" flipV="1">
                  <a:off x="4452840" y="37191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445000" y="4755960"/>
                  <a:ext cx="18900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4343400" y="3643200"/>
                  <a:ext cx="18864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6319800" y="339408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6910200" y="354636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5022720" y="3549600"/>
                <a:ext cx="1682640" cy="780840"/>
                <a:chOff x="5022720" y="3549600"/>
                <a:chExt cx="1682640" cy="78084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5530680" y="40258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5022720" y="35496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67" name=""/>
          <p:cNvGrpSpPr/>
          <p:nvPr/>
        </p:nvGrpSpPr>
        <p:grpSpPr>
          <a:xfrm>
            <a:off x="4038480" y="3165480"/>
            <a:ext cx="3060720" cy="1763640"/>
            <a:chOff x="4038480" y="3165480"/>
            <a:chExt cx="3060720" cy="1763640"/>
          </a:xfrm>
        </p:grpSpPr>
        <p:grpSp>
          <p:nvGrpSpPr>
            <p:cNvPr id="1868" name=""/>
            <p:cNvGrpSpPr/>
            <p:nvPr/>
          </p:nvGrpSpPr>
          <p:grpSpPr>
            <a:xfrm>
              <a:off x="4343400" y="3394080"/>
              <a:ext cx="2755800" cy="1535040"/>
              <a:chOff x="4343400" y="3394080"/>
              <a:chExt cx="2755800" cy="1535040"/>
            </a:xfrm>
          </p:grpSpPr>
          <p:grpSp>
            <p:nvGrpSpPr>
              <p:cNvPr id="1869" name=""/>
              <p:cNvGrpSpPr/>
              <p:nvPr/>
            </p:nvGrpSpPr>
            <p:grpSpPr>
              <a:xfrm>
                <a:off x="4343400" y="3394080"/>
                <a:ext cx="2755800" cy="1535040"/>
                <a:chOff x="4343400" y="3394080"/>
                <a:chExt cx="2755800" cy="1535040"/>
              </a:xfrm>
            </p:grpSpPr>
            <p:sp>
              <p:nvSpPr>
                <p:cNvPr id="1870" name=""/>
                <p:cNvSpPr/>
                <p:nvPr/>
              </p:nvSpPr>
              <p:spPr>
                <a:xfrm>
                  <a:off x="4464000" y="34606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4413240" y="34718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6378480" y="34621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 flipH="1">
                  <a:off x="5557680" y="36194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H="1" flipV="1">
                  <a:off x="4452840" y="37191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5445000" y="4755960"/>
                  <a:ext cx="18900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4343400" y="3643200"/>
                  <a:ext cx="18864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6319800" y="339408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6910200" y="354636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9" name=""/>
              <p:cNvGrpSpPr/>
              <p:nvPr/>
            </p:nvGrpSpPr>
            <p:grpSpPr>
              <a:xfrm>
                <a:off x="5022720" y="3549600"/>
                <a:ext cx="1682640" cy="780840"/>
                <a:chOff x="5022720" y="3549600"/>
                <a:chExt cx="1682640" cy="780840"/>
              </a:xfrm>
            </p:grpSpPr>
            <p:sp>
              <p:nvSpPr>
                <p:cNvPr id="1880" name=""/>
                <p:cNvSpPr/>
                <p:nvPr/>
              </p:nvSpPr>
              <p:spPr>
                <a:xfrm>
                  <a:off x="5530680" y="40258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5022720" y="35496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82" name=""/>
            <p:cNvGrpSpPr/>
            <p:nvPr/>
          </p:nvGrpSpPr>
          <p:grpSpPr>
            <a:xfrm>
              <a:off x="4038480" y="3165480"/>
              <a:ext cx="2755800" cy="1535040"/>
              <a:chOff x="4038480" y="3165480"/>
              <a:chExt cx="2755800" cy="1535040"/>
            </a:xfrm>
          </p:grpSpPr>
          <p:grpSp>
            <p:nvGrpSpPr>
              <p:cNvPr id="1883" name=""/>
              <p:cNvGrpSpPr/>
              <p:nvPr/>
            </p:nvGrpSpPr>
            <p:grpSpPr>
              <a:xfrm>
                <a:off x="4038480" y="3165480"/>
                <a:ext cx="2755800" cy="1535040"/>
                <a:chOff x="4038480" y="3165480"/>
                <a:chExt cx="2755800" cy="1535040"/>
              </a:xfrm>
            </p:grpSpPr>
            <p:sp>
              <p:nvSpPr>
                <p:cNvPr id="1884" name=""/>
                <p:cNvSpPr/>
                <p:nvPr/>
              </p:nvSpPr>
              <p:spPr>
                <a:xfrm>
                  <a:off x="4159080" y="32320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108320" y="32432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6073560" y="32335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 flipH="1">
                  <a:off x="5252760" y="33908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 flipH="1" flipV="1">
                  <a:off x="4147920" y="34905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5140080" y="4527360"/>
                  <a:ext cx="18900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4038480" y="3414600"/>
                  <a:ext cx="18864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6014880" y="316548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6605280" y="331776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4717800" y="3321000"/>
                <a:ext cx="1682640" cy="780840"/>
                <a:chOff x="4717800" y="3321000"/>
                <a:chExt cx="1682640" cy="78084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5225760" y="37972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4717800" y="33210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96" name=""/>
          <p:cNvGrpSpPr/>
          <p:nvPr/>
        </p:nvGrpSpPr>
        <p:grpSpPr>
          <a:xfrm>
            <a:off x="3733920" y="2936880"/>
            <a:ext cx="3060720" cy="1763640"/>
            <a:chOff x="3733920" y="2936880"/>
            <a:chExt cx="3060720" cy="1763640"/>
          </a:xfrm>
        </p:grpSpPr>
        <p:grpSp>
          <p:nvGrpSpPr>
            <p:cNvPr id="1897" name=""/>
            <p:cNvGrpSpPr/>
            <p:nvPr/>
          </p:nvGrpSpPr>
          <p:grpSpPr>
            <a:xfrm>
              <a:off x="4038840" y="3165480"/>
              <a:ext cx="2755800" cy="1535040"/>
              <a:chOff x="4038840" y="3165480"/>
              <a:chExt cx="2755800" cy="1535040"/>
            </a:xfrm>
          </p:grpSpPr>
          <p:grpSp>
            <p:nvGrpSpPr>
              <p:cNvPr id="1898" name=""/>
              <p:cNvGrpSpPr/>
              <p:nvPr/>
            </p:nvGrpSpPr>
            <p:grpSpPr>
              <a:xfrm>
                <a:off x="4038840" y="3165480"/>
                <a:ext cx="2755800" cy="1535040"/>
                <a:chOff x="4038840" y="3165480"/>
                <a:chExt cx="2755800" cy="1535040"/>
              </a:xfrm>
            </p:grpSpPr>
            <p:sp>
              <p:nvSpPr>
                <p:cNvPr id="1899" name=""/>
                <p:cNvSpPr/>
                <p:nvPr/>
              </p:nvSpPr>
              <p:spPr>
                <a:xfrm>
                  <a:off x="4159440" y="32320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4108680" y="32432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6073920" y="32335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 flipH="1">
                  <a:off x="5253120" y="33908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 flipH="1" flipV="1">
                  <a:off x="4148280" y="34905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5140440" y="4527360"/>
                  <a:ext cx="18900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4038840" y="3414600"/>
                  <a:ext cx="18864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6015240" y="316548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6605640" y="331776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8" name=""/>
              <p:cNvGrpSpPr/>
              <p:nvPr/>
            </p:nvGrpSpPr>
            <p:grpSpPr>
              <a:xfrm>
                <a:off x="4718160" y="3321000"/>
                <a:ext cx="1682640" cy="780840"/>
                <a:chOff x="4718160" y="3321000"/>
                <a:chExt cx="1682640" cy="780840"/>
              </a:xfrm>
            </p:grpSpPr>
            <p:sp>
              <p:nvSpPr>
                <p:cNvPr id="1909" name=""/>
                <p:cNvSpPr/>
                <p:nvPr/>
              </p:nvSpPr>
              <p:spPr>
                <a:xfrm>
                  <a:off x="5226120" y="37972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4718160" y="33210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11" name=""/>
            <p:cNvGrpSpPr/>
            <p:nvPr/>
          </p:nvGrpSpPr>
          <p:grpSpPr>
            <a:xfrm>
              <a:off x="3733920" y="2936880"/>
              <a:ext cx="2755800" cy="1535040"/>
              <a:chOff x="3733920" y="2936880"/>
              <a:chExt cx="2755800" cy="1535040"/>
            </a:xfrm>
          </p:grpSpPr>
          <p:grpSp>
            <p:nvGrpSpPr>
              <p:cNvPr id="1912" name=""/>
              <p:cNvGrpSpPr/>
              <p:nvPr/>
            </p:nvGrpSpPr>
            <p:grpSpPr>
              <a:xfrm>
                <a:off x="3733920" y="2936880"/>
                <a:ext cx="2755800" cy="1535040"/>
                <a:chOff x="3733920" y="2936880"/>
                <a:chExt cx="2755800" cy="1535040"/>
              </a:xfrm>
            </p:grpSpPr>
            <p:sp>
              <p:nvSpPr>
                <p:cNvPr id="1913" name=""/>
                <p:cNvSpPr/>
                <p:nvPr/>
              </p:nvSpPr>
              <p:spPr>
                <a:xfrm>
                  <a:off x="3854520" y="30034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3803760" y="30146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5769000" y="30049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 flipH="1">
                  <a:off x="4948200" y="31622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 flipH="1" flipV="1">
                  <a:off x="3843360" y="32619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4835520" y="4298760"/>
                  <a:ext cx="18900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3733920" y="3186000"/>
                  <a:ext cx="18864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5710320" y="293688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6300720" y="308916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2" name=""/>
              <p:cNvGrpSpPr/>
              <p:nvPr/>
            </p:nvGrpSpPr>
            <p:grpSpPr>
              <a:xfrm>
                <a:off x="4413240" y="3092400"/>
                <a:ext cx="1682640" cy="780840"/>
                <a:chOff x="4413240" y="3092400"/>
                <a:chExt cx="1682640" cy="78084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4921200" y="35686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4413240" y="30924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25" name=""/>
          <p:cNvGrpSpPr/>
          <p:nvPr/>
        </p:nvGrpSpPr>
        <p:grpSpPr>
          <a:xfrm>
            <a:off x="3429000" y="2708280"/>
            <a:ext cx="3060720" cy="1763640"/>
            <a:chOff x="3429000" y="2708280"/>
            <a:chExt cx="3060720" cy="1763640"/>
          </a:xfrm>
        </p:grpSpPr>
        <p:grpSp>
          <p:nvGrpSpPr>
            <p:cNvPr id="1926" name=""/>
            <p:cNvGrpSpPr/>
            <p:nvPr/>
          </p:nvGrpSpPr>
          <p:grpSpPr>
            <a:xfrm>
              <a:off x="3733920" y="2936880"/>
              <a:ext cx="2755800" cy="1535040"/>
              <a:chOff x="3733920" y="2936880"/>
              <a:chExt cx="2755800" cy="1535040"/>
            </a:xfrm>
          </p:grpSpPr>
          <p:grpSp>
            <p:nvGrpSpPr>
              <p:cNvPr id="1927" name=""/>
              <p:cNvGrpSpPr/>
              <p:nvPr/>
            </p:nvGrpSpPr>
            <p:grpSpPr>
              <a:xfrm>
                <a:off x="3733920" y="2936880"/>
                <a:ext cx="2755800" cy="1535040"/>
                <a:chOff x="3733920" y="2936880"/>
                <a:chExt cx="2755800" cy="1535040"/>
              </a:xfrm>
            </p:grpSpPr>
            <p:sp>
              <p:nvSpPr>
                <p:cNvPr id="1928" name=""/>
                <p:cNvSpPr/>
                <p:nvPr/>
              </p:nvSpPr>
              <p:spPr>
                <a:xfrm>
                  <a:off x="3854520" y="30034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3803760" y="30146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5769000" y="30049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 flipH="1">
                  <a:off x="4948200" y="31622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 flipH="1" flipV="1">
                  <a:off x="3843360" y="32619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4835520" y="4298760"/>
                  <a:ext cx="18900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3733920" y="3186000"/>
                  <a:ext cx="18864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5710320" y="293688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6300720" y="308916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7" name=""/>
              <p:cNvGrpSpPr/>
              <p:nvPr/>
            </p:nvGrpSpPr>
            <p:grpSpPr>
              <a:xfrm>
                <a:off x="4413240" y="3092400"/>
                <a:ext cx="1682640" cy="780840"/>
                <a:chOff x="4413240" y="3092400"/>
                <a:chExt cx="1682640" cy="780840"/>
              </a:xfrm>
            </p:grpSpPr>
            <p:sp>
              <p:nvSpPr>
                <p:cNvPr id="1938" name=""/>
                <p:cNvSpPr/>
                <p:nvPr/>
              </p:nvSpPr>
              <p:spPr>
                <a:xfrm>
                  <a:off x="4921200" y="35686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4413240" y="30924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0" name=""/>
            <p:cNvGrpSpPr/>
            <p:nvPr/>
          </p:nvGrpSpPr>
          <p:grpSpPr>
            <a:xfrm>
              <a:off x="3429000" y="2708280"/>
              <a:ext cx="2755800" cy="1535040"/>
              <a:chOff x="3429000" y="2708280"/>
              <a:chExt cx="2755800" cy="1535040"/>
            </a:xfrm>
          </p:grpSpPr>
          <p:grpSp>
            <p:nvGrpSpPr>
              <p:cNvPr id="1941" name=""/>
              <p:cNvGrpSpPr/>
              <p:nvPr/>
            </p:nvGrpSpPr>
            <p:grpSpPr>
              <a:xfrm>
                <a:off x="3429000" y="2708280"/>
                <a:ext cx="2755800" cy="1535040"/>
                <a:chOff x="3429000" y="2708280"/>
                <a:chExt cx="2755800" cy="1535040"/>
              </a:xfrm>
            </p:grpSpPr>
            <p:sp>
              <p:nvSpPr>
                <p:cNvPr id="1942" name=""/>
                <p:cNvSpPr/>
                <p:nvPr/>
              </p:nvSpPr>
              <p:spPr>
                <a:xfrm>
                  <a:off x="3549600" y="27748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3498840" y="27860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5464080" y="27763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 flipH="1">
                  <a:off x="4643280" y="29336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 flipH="1" flipV="1">
                  <a:off x="3538440" y="30333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4530600" y="4070160"/>
                  <a:ext cx="18900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3429000" y="2957400"/>
                  <a:ext cx="18864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5405400" y="270828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5995800" y="286056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1" name=""/>
              <p:cNvGrpSpPr/>
              <p:nvPr/>
            </p:nvGrpSpPr>
            <p:grpSpPr>
              <a:xfrm>
                <a:off x="4108320" y="2863800"/>
                <a:ext cx="1682640" cy="780840"/>
                <a:chOff x="4108320" y="2863800"/>
                <a:chExt cx="1682640" cy="780840"/>
              </a:xfrm>
            </p:grpSpPr>
            <p:sp>
              <p:nvSpPr>
                <p:cNvPr id="1952" name=""/>
                <p:cNvSpPr/>
                <p:nvPr/>
              </p:nvSpPr>
              <p:spPr>
                <a:xfrm>
                  <a:off x="4616280" y="33400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4108320" y="28638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54" name=""/>
          <p:cNvGrpSpPr/>
          <p:nvPr/>
        </p:nvGrpSpPr>
        <p:grpSpPr>
          <a:xfrm>
            <a:off x="3124080" y="2479680"/>
            <a:ext cx="3060720" cy="1763640"/>
            <a:chOff x="3124080" y="2479680"/>
            <a:chExt cx="3060720" cy="1763640"/>
          </a:xfrm>
        </p:grpSpPr>
        <p:grpSp>
          <p:nvGrpSpPr>
            <p:cNvPr id="1955" name=""/>
            <p:cNvGrpSpPr/>
            <p:nvPr/>
          </p:nvGrpSpPr>
          <p:grpSpPr>
            <a:xfrm>
              <a:off x="3429000" y="2708280"/>
              <a:ext cx="2755800" cy="1535040"/>
              <a:chOff x="3429000" y="2708280"/>
              <a:chExt cx="2755800" cy="1535040"/>
            </a:xfrm>
          </p:grpSpPr>
          <p:grpSp>
            <p:nvGrpSpPr>
              <p:cNvPr id="1956" name=""/>
              <p:cNvGrpSpPr/>
              <p:nvPr/>
            </p:nvGrpSpPr>
            <p:grpSpPr>
              <a:xfrm>
                <a:off x="3429000" y="2708280"/>
                <a:ext cx="2755800" cy="1535040"/>
                <a:chOff x="3429000" y="2708280"/>
                <a:chExt cx="2755800" cy="1535040"/>
              </a:xfrm>
            </p:grpSpPr>
            <p:sp>
              <p:nvSpPr>
                <p:cNvPr id="1957" name=""/>
                <p:cNvSpPr/>
                <p:nvPr/>
              </p:nvSpPr>
              <p:spPr>
                <a:xfrm>
                  <a:off x="3549600" y="27748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3498840" y="27860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5464080" y="27763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 flipH="1">
                  <a:off x="4643280" y="29336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 flipH="1" flipV="1">
                  <a:off x="3538440" y="30333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4530600" y="4070160"/>
                  <a:ext cx="18900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3429000" y="2957400"/>
                  <a:ext cx="18864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5405400" y="270828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5995800" y="286056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6" name=""/>
              <p:cNvGrpSpPr/>
              <p:nvPr/>
            </p:nvGrpSpPr>
            <p:grpSpPr>
              <a:xfrm>
                <a:off x="4108320" y="2863800"/>
                <a:ext cx="1682640" cy="780840"/>
                <a:chOff x="4108320" y="2863800"/>
                <a:chExt cx="1682640" cy="78084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4616280" y="33400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4108320" y="28638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9" name=""/>
            <p:cNvGrpSpPr/>
            <p:nvPr/>
          </p:nvGrpSpPr>
          <p:grpSpPr>
            <a:xfrm>
              <a:off x="3124080" y="2479680"/>
              <a:ext cx="2755800" cy="1535040"/>
              <a:chOff x="3124080" y="2479680"/>
              <a:chExt cx="2755800" cy="1535040"/>
            </a:xfrm>
          </p:grpSpPr>
          <p:grpSp>
            <p:nvGrpSpPr>
              <p:cNvPr id="1970" name=""/>
              <p:cNvGrpSpPr/>
              <p:nvPr/>
            </p:nvGrpSpPr>
            <p:grpSpPr>
              <a:xfrm>
                <a:off x="3124080" y="2479680"/>
                <a:ext cx="2755800" cy="1535040"/>
                <a:chOff x="3124080" y="2479680"/>
                <a:chExt cx="2755800" cy="1535040"/>
              </a:xfrm>
            </p:grpSpPr>
            <p:sp>
              <p:nvSpPr>
                <p:cNvPr id="1971" name=""/>
                <p:cNvSpPr/>
                <p:nvPr/>
              </p:nvSpPr>
              <p:spPr>
                <a:xfrm>
                  <a:off x="3244680" y="25462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3193920" y="25574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5159160" y="25477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 flipH="1">
                  <a:off x="4338360" y="27050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 flipH="1" flipV="1">
                  <a:off x="3233520" y="28047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4225680" y="3841560"/>
                  <a:ext cx="18900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3124080" y="2728800"/>
                  <a:ext cx="18864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5100480" y="247968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5690880" y="263196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0" name=""/>
              <p:cNvGrpSpPr/>
              <p:nvPr/>
            </p:nvGrpSpPr>
            <p:grpSpPr>
              <a:xfrm>
                <a:off x="3803400" y="2635200"/>
                <a:ext cx="1682640" cy="780840"/>
                <a:chOff x="3803400" y="2635200"/>
                <a:chExt cx="1682640" cy="78084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4311360" y="31114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3803400" y="26352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83" name=""/>
          <p:cNvGrpSpPr/>
          <p:nvPr/>
        </p:nvGrpSpPr>
        <p:grpSpPr>
          <a:xfrm>
            <a:off x="2819520" y="2251080"/>
            <a:ext cx="3060720" cy="1763640"/>
            <a:chOff x="2819520" y="2251080"/>
            <a:chExt cx="3060720" cy="1763640"/>
          </a:xfrm>
        </p:grpSpPr>
        <p:grpSp>
          <p:nvGrpSpPr>
            <p:cNvPr id="1984" name=""/>
            <p:cNvGrpSpPr/>
            <p:nvPr/>
          </p:nvGrpSpPr>
          <p:grpSpPr>
            <a:xfrm>
              <a:off x="3124440" y="2479680"/>
              <a:ext cx="2755800" cy="1535040"/>
              <a:chOff x="3124440" y="2479680"/>
              <a:chExt cx="2755800" cy="15350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3124440" y="2479680"/>
                <a:ext cx="2755800" cy="1535040"/>
                <a:chOff x="3124440" y="2479680"/>
                <a:chExt cx="2755800" cy="153504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3245040" y="25462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3194280" y="25574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5159520" y="25477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 flipH="1">
                  <a:off x="4338720" y="27050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 flipH="1" flipV="1">
                  <a:off x="3233880" y="28047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4226040" y="3841560"/>
                  <a:ext cx="18900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124440" y="2728800"/>
                  <a:ext cx="18864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5100840" y="247968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5691240" y="263196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5" name=""/>
              <p:cNvGrpSpPr/>
              <p:nvPr/>
            </p:nvGrpSpPr>
            <p:grpSpPr>
              <a:xfrm>
                <a:off x="3803760" y="2635200"/>
                <a:ext cx="1682640" cy="780840"/>
                <a:chOff x="3803760" y="2635200"/>
                <a:chExt cx="1682640" cy="780840"/>
              </a:xfrm>
            </p:grpSpPr>
            <p:sp>
              <p:nvSpPr>
                <p:cNvPr id="1996" name=""/>
                <p:cNvSpPr/>
                <p:nvPr/>
              </p:nvSpPr>
              <p:spPr>
                <a:xfrm>
                  <a:off x="4311720" y="31114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3803760" y="26352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98" name=""/>
            <p:cNvGrpSpPr/>
            <p:nvPr/>
          </p:nvGrpSpPr>
          <p:grpSpPr>
            <a:xfrm>
              <a:off x="2819520" y="2251080"/>
              <a:ext cx="2755800" cy="1535040"/>
              <a:chOff x="2819520" y="2251080"/>
              <a:chExt cx="2755800" cy="1535040"/>
            </a:xfrm>
          </p:grpSpPr>
          <p:grpSp>
            <p:nvGrpSpPr>
              <p:cNvPr id="1999" name=""/>
              <p:cNvGrpSpPr/>
              <p:nvPr/>
            </p:nvGrpSpPr>
            <p:grpSpPr>
              <a:xfrm>
                <a:off x="2819520" y="2251080"/>
                <a:ext cx="2755800" cy="1535040"/>
                <a:chOff x="2819520" y="2251080"/>
                <a:chExt cx="2755800" cy="153504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2940120" y="23176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2889360" y="23288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854600" y="23191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 flipH="1">
                  <a:off x="4033800" y="24764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 flipH="1" flipV="1">
                  <a:off x="2928960" y="25761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21120" y="3612960"/>
                  <a:ext cx="18900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2819520" y="2500200"/>
                  <a:ext cx="18864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795920" y="225108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386320" y="240336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9" name=""/>
              <p:cNvGrpSpPr/>
              <p:nvPr/>
            </p:nvGrpSpPr>
            <p:grpSpPr>
              <a:xfrm>
                <a:off x="3498840" y="2406600"/>
                <a:ext cx="1682640" cy="780840"/>
                <a:chOff x="3498840" y="2406600"/>
                <a:chExt cx="1682640" cy="780840"/>
              </a:xfrm>
            </p:grpSpPr>
            <p:sp>
              <p:nvSpPr>
                <p:cNvPr id="2010" name=""/>
                <p:cNvSpPr/>
                <p:nvPr/>
              </p:nvSpPr>
              <p:spPr>
                <a:xfrm>
                  <a:off x="4006800" y="28828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3498840" y="24066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12" name=""/>
          <p:cNvGrpSpPr/>
          <p:nvPr/>
        </p:nvGrpSpPr>
        <p:grpSpPr>
          <a:xfrm>
            <a:off x="2514600" y="2022480"/>
            <a:ext cx="3060720" cy="1763640"/>
            <a:chOff x="2514600" y="2022480"/>
            <a:chExt cx="3060720" cy="1763640"/>
          </a:xfrm>
        </p:grpSpPr>
        <p:grpSp>
          <p:nvGrpSpPr>
            <p:cNvPr id="2013" name=""/>
            <p:cNvGrpSpPr/>
            <p:nvPr/>
          </p:nvGrpSpPr>
          <p:grpSpPr>
            <a:xfrm>
              <a:off x="2819520" y="2251080"/>
              <a:ext cx="2755800" cy="1535040"/>
              <a:chOff x="2819520" y="2251080"/>
              <a:chExt cx="2755800" cy="1535040"/>
            </a:xfrm>
          </p:grpSpPr>
          <p:grpSp>
            <p:nvGrpSpPr>
              <p:cNvPr id="2014" name=""/>
              <p:cNvGrpSpPr/>
              <p:nvPr/>
            </p:nvGrpSpPr>
            <p:grpSpPr>
              <a:xfrm>
                <a:off x="2819520" y="2251080"/>
                <a:ext cx="2755800" cy="1535040"/>
                <a:chOff x="2819520" y="2251080"/>
                <a:chExt cx="2755800" cy="1535040"/>
              </a:xfrm>
            </p:grpSpPr>
            <p:sp>
              <p:nvSpPr>
                <p:cNvPr id="2015" name=""/>
                <p:cNvSpPr/>
                <p:nvPr/>
              </p:nvSpPr>
              <p:spPr>
                <a:xfrm>
                  <a:off x="2940120" y="23176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2889360" y="23288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4854600" y="23191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 flipH="1">
                  <a:off x="4033800" y="24764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 flipH="1" flipV="1">
                  <a:off x="2928960" y="25761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3921120" y="3612960"/>
                  <a:ext cx="18900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2819520" y="2500200"/>
                  <a:ext cx="18864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4795920" y="225108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5386320" y="240336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4" name=""/>
              <p:cNvGrpSpPr/>
              <p:nvPr/>
            </p:nvGrpSpPr>
            <p:grpSpPr>
              <a:xfrm>
                <a:off x="3498840" y="2406600"/>
                <a:ext cx="1682640" cy="780840"/>
                <a:chOff x="3498840" y="2406600"/>
                <a:chExt cx="1682640" cy="780840"/>
              </a:xfrm>
            </p:grpSpPr>
            <p:sp>
              <p:nvSpPr>
                <p:cNvPr id="2025" name=""/>
                <p:cNvSpPr/>
                <p:nvPr/>
              </p:nvSpPr>
              <p:spPr>
                <a:xfrm>
                  <a:off x="4006800" y="28828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3498840" y="24066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7" name=""/>
            <p:cNvGrpSpPr/>
            <p:nvPr/>
          </p:nvGrpSpPr>
          <p:grpSpPr>
            <a:xfrm>
              <a:off x="2514600" y="2022480"/>
              <a:ext cx="2755800" cy="1535040"/>
              <a:chOff x="2514600" y="2022480"/>
              <a:chExt cx="2755800" cy="1535040"/>
            </a:xfrm>
          </p:grpSpPr>
          <p:grpSp>
            <p:nvGrpSpPr>
              <p:cNvPr id="2028" name=""/>
              <p:cNvGrpSpPr/>
              <p:nvPr/>
            </p:nvGrpSpPr>
            <p:grpSpPr>
              <a:xfrm>
                <a:off x="2514600" y="2022480"/>
                <a:ext cx="2755800" cy="1535040"/>
                <a:chOff x="2514600" y="2022480"/>
                <a:chExt cx="2755800" cy="1535040"/>
              </a:xfrm>
            </p:grpSpPr>
            <p:sp>
              <p:nvSpPr>
                <p:cNvPr id="2029" name=""/>
                <p:cNvSpPr/>
                <p:nvPr/>
              </p:nvSpPr>
              <p:spPr>
                <a:xfrm>
                  <a:off x="2635200" y="20890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2584440" y="21002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4549680" y="20905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 flipH="1">
                  <a:off x="3728880" y="22478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 flipH="1" flipV="1">
                  <a:off x="2624040" y="23475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3616200" y="3384360"/>
                  <a:ext cx="18900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2514600" y="2271600"/>
                  <a:ext cx="18864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4491000" y="202248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5081400" y="217476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8" name=""/>
              <p:cNvGrpSpPr/>
              <p:nvPr/>
            </p:nvGrpSpPr>
            <p:grpSpPr>
              <a:xfrm>
                <a:off x="3193920" y="2178000"/>
                <a:ext cx="1682640" cy="780840"/>
                <a:chOff x="3193920" y="2178000"/>
                <a:chExt cx="1682640" cy="780840"/>
              </a:xfrm>
            </p:grpSpPr>
            <p:sp>
              <p:nvSpPr>
                <p:cNvPr id="2039" name=""/>
                <p:cNvSpPr/>
                <p:nvPr/>
              </p:nvSpPr>
              <p:spPr>
                <a:xfrm>
                  <a:off x="3701880" y="26542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3193920" y="21780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41" name=""/>
          <p:cNvGrpSpPr/>
          <p:nvPr/>
        </p:nvGrpSpPr>
        <p:grpSpPr>
          <a:xfrm>
            <a:off x="2209680" y="1793880"/>
            <a:ext cx="3060720" cy="1763640"/>
            <a:chOff x="2209680" y="1793880"/>
            <a:chExt cx="3060720" cy="1763640"/>
          </a:xfrm>
        </p:grpSpPr>
        <p:grpSp>
          <p:nvGrpSpPr>
            <p:cNvPr id="2042" name=""/>
            <p:cNvGrpSpPr/>
            <p:nvPr/>
          </p:nvGrpSpPr>
          <p:grpSpPr>
            <a:xfrm>
              <a:off x="2514600" y="2022480"/>
              <a:ext cx="2755800" cy="1535040"/>
              <a:chOff x="2514600" y="2022480"/>
              <a:chExt cx="2755800" cy="1535040"/>
            </a:xfrm>
          </p:grpSpPr>
          <p:grpSp>
            <p:nvGrpSpPr>
              <p:cNvPr id="2043" name=""/>
              <p:cNvGrpSpPr/>
              <p:nvPr/>
            </p:nvGrpSpPr>
            <p:grpSpPr>
              <a:xfrm>
                <a:off x="2514600" y="2022480"/>
                <a:ext cx="2755800" cy="1535040"/>
                <a:chOff x="2514600" y="2022480"/>
                <a:chExt cx="2755800" cy="1535040"/>
              </a:xfrm>
            </p:grpSpPr>
            <p:sp>
              <p:nvSpPr>
                <p:cNvPr id="2044" name=""/>
                <p:cNvSpPr/>
                <p:nvPr/>
              </p:nvSpPr>
              <p:spPr>
                <a:xfrm>
                  <a:off x="2635200" y="20890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2584440" y="21002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4549680" y="20905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H="1">
                  <a:off x="3728880" y="22478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H="1" flipV="1">
                  <a:off x="2624040" y="23475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3616200" y="3384360"/>
                  <a:ext cx="18900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2514600" y="2271600"/>
                  <a:ext cx="18864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491000" y="202248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5081400" y="217476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3" name=""/>
              <p:cNvGrpSpPr/>
              <p:nvPr/>
            </p:nvGrpSpPr>
            <p:grpSpPr>
              <a:xfrm>
                <a:off x="3193920" y="2178000"/>
                <a:ext cx="1682640" cy="780840"/>
                <a:chOff x="3193920" y="2178000"/>
                <a:chExt cx="1682640" cy="780840"/>
              </a:xfrm>
            </p:grpSpPr>
            <p:sp>
              <p:nvSpPr>
                <p:cNvPr id="2054" name=""/>
                <p:cNvSpPr/>
                <p:nvPr/>
              </p:nvSpPr>
              <p:spPr>
                <a:xfrm>
                  <a:off x="3701880" y="26542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3193920" y="21780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56" name=""/>
            <p:cNvGrpSpPr/>
            <p:nvPr/>
          </p:nvGrpSpPr>
          <p:grpSpPr>
            <a:xfrm>
              <a:off x="2209680" y="1793880"/>
              <a:ext cx="2755800" cy="1535040"/>
              <a:chOff x="2209680" y="1793880"/>
              <a:chExt cx="2755800" cy="1535040"/>
            </a:xfrm>
          </p:grpSpPr>
          <p:grpSp>
            <p:nvGrpSpPr>
              <p:cNvPr id="2057" name=""/>
              <p:cNvGrpSpPr/>
              <p:nvPr/>
            </p:nvGrpSpPr>
            <p:grpSpPr>
              <a:xfrm>
                <a:off x="2209680" y="1793880"/>
                <a:ext cx="2755800" cy="1535040"/>
                <a:chOff x="2209680" y="1793880"/>
                <a:chExt cx="2755800" cy="1535040"/>
              </a:xfrm>
            </p:grpSpPr>
            <p:sp>
              <p:nvSpPr>
                <p:cNvPr id="2058" name=""/>
                <p:cNvSpPr/>
                <p:nvPr/>
              </p:nvSpPr>
              <p:spPr>
                <a:xfrm>
                  <a:off x="2330280" y="18604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2279520" y="18716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4244760" y="18619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H="1">
                  <a:off x="3423960" y="20192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H="1" flipV="1">
                  <a:off x="2319120" y="21189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3311280" y="3155760"/>
                  <a:ext cx="18900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2209680" y="2043000"/>
                  <a:ext cx="18864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4186080" y="179388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4776480" y="194616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7" name=""/>
              <p:cNvGrpSpPr/>
              <p:nvPr/>
            </p:nvGrpSpPr>
            <p:grpSpPr>
              <a:xfrm>
                <a:off x="2889000" y="1949400"/>
                <a:ext cx="1682640" cy="780840"/>
                <a:chOff x="2889000" y="1949400"/>
                <a:chExt cx="1682640" cy="780840"/>
              </a:xfrm>
            </p:grpSpPr>
            <p:sp>
              <p:nvSpPr>
                <p:cNvPr id="2068" name=""/>
                <p:cNvSpPr/>
                <p:nvPr/>
              </p:nvSpPr>
              <p:spPr>
                <a:xfrm>
                  <a:off x="3396960" y="24256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2889000" y="19494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70" name=""/>
          <p:cNvGrpSpPr/>
          <p:nvPr/>
        </p:nvGrpSpPr>
        <p:grpSpPr>
          <a:xfrm>
            <a:off x="1905120" y="1565280"/>
            <a:ext cx="3060720" cy="1763640"/>
            <a:chOff x="1905120" y="1565280"/>
            <a:chExt cx="3060720" cy="1763640"/>
          </a:xfrm>
        </p:grpSpPr>
        <p:grpSp>
          <p:nvGrpSpPr>
            <p:cNvPr id="2071" name=""/>
            <p:cNvGrpSpPr/>
            <p:nvPr/>
          </p:nvGrpSpPr>
          <p:grpSpPr>
            <a:xfrm>
              <a:off x="2210040" y="1793880"/>
              <a:ext cx="2755800" cy="1535040"/>
              <a:chOff x="2210040" y="1793880"/>
              <a:chExt cx="2755800" cy="1535040"/>
            </a:xfrm>
          </p:grpSpPr>
          <p:grpSp>
            <p:nvGrpSpPr>
              <p:cNvPr id="2072" name=""/>
              <p:cNvGrpSpPr/>
              <p:nvPr/>
            </p:nvGrpSpPr>
            <p:grpSpPr>
              <a:xfrm>
                <a:off x="2210040" y="1793880"/>
                <a:ext cx="2755800" cy="1535040"/>
                <a:chOff x="2210040" y="1793880"/>
                <a:chExt cx="2755800" cy="1535040"/>
              </a:xfrm>
            </p:grpSpPr>
            <p:sp>
              <p:nvSpPr>
                <p:cNvPr id="2073" name=""/>
                <p:cNvSpPr/>
                <p:nvPr/>
              </p:nvSpPr>
              <p:spPr>
                <a:xfrm>
                  <a:off x="2330640" y="18604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2279880" y="18716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4245120" y="18619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H="1">
                  <a:off x="3424320" y="20192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H="1" flipV="1">
                  <a:off x="2319480" y="21189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3311640" y="3155760"/>
                  <a:ext cx="18900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2210040" y="2043000"/>
                  <a:ext cx="18864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4186440" y="179388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776840" y="194616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2" name=""/>
              <p:cNvGrpSpPr/>
              <p:nvPr/>
            </p:nvGrpSpPr>
            <p:grpSpPr>
              <a:xfrm>
                <a:off x="2889360" y="1949400"/>
                <a:ext cx="1682640" cy="780840"/>
                <a:chOff x="2889360" y="1949400"/>
                <a:chExt cx="1682640" cy="780840"/>
              </a:xfrm>
            </p:grpSpPr>
            <p:sp>
              <p:nvSpPr>
                <p:cNvPr id="2083" name=""/>
                <p:cNvSpPr/>
                <p:nvPr/>
              </p:nvSpPr>
              <p:spPr>
                <a:xfrm>
                  <a:off x="3397320" y="24256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2889360" y="19494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5" name=""/>
            <p:cNvGrpSpPr/>
            <p:nvPr/>
          </p:nvGrpSpPr>
          <p:grpSpPr>
            <a:xfrm>
              <a:off x="1905120" y="1565280"/>
              <a:ext cx="2755800" cy="1535040"/>
              <a:chOff x="1905120" y="1565280"/>
              <a:chExt cx="2755800" cy="1535040"/>
            </a:xfrm>
          </p:grpSpPr>
          <p:grpSp>
            <p:nvGrpSpPr>
              <p:cNvPr id="2086" name=""/>
              <p:cNvGrpSpPr/>
              <p:nvPr/>
            </p:nvGrpSpPr>
            <p:grpSpPr>
              <a:xfrm>
                <a:off x="1905120" y="1565280"/>
                <a:ext cx="2755800" cy="1535040"/>
                <a:chOff x="1905120" y="1565280"/>
                <a:chExt cx="2755800" cy="1535040"/>
              </a:xfrm>
            </p:grpSpPr>
            <p:sp>
              <p:nvSpPr>
                <p:cNvPr id="2087" name=""/>
                <p:cNvSpPr/>
                <p:nvPr/>
              </p:nvSpPr>
              <p:spPr>
                <a:xfrm>
                  <a:off x="2025720" y="16318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1974960" y="16430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3940200" y="16333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H="1">
                  <a:off x="3119400" y="17906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H="1" flipV="1">
                  <a:off x="2014560" y="18903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3006720" y="2927160"/>
                  <a:ext cx="18900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1905120" y="1814400"/>
                  <a:ext cx="18864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3881520" y="156528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4471920" y="171756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6" name=""/>
              <p:cNvGrpSpPr/>
              <p:nvPr/>
            </p:nvGrpSpPr>
            <p:grpSpPr>
              <a:xfrm>
                <a:off x="2584440" y="1720800"/>
                <a:ext cx="1682640" cy="780840"/>
                <a:chOff x="2584440" y="1720800"/>
                <a:chExt cx="1682640" cy="780840"/>
              </a:xfrm>
            </p:grpSpPr>
            <p:sp>
              <p:nvSpPr>
                <p:cNvPr id="2097" name=""/>
                <p:cNvSpPr/>
                <p:nvPr/>
              </p:nvSpPr>
              <p:spPr>
                <a:xfrm>
                  <a:off x="3092400" y="21970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2584440" y="17208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99" name=""/>
          <p:cNvGrpSpPr/>
          <p:nvPr/>
        </p:nvGrpSpPr>
        <p:grpSpPr>
          <a:xfrm>
            <a:off x="1600200" y="1336680"/>
            <a:ext cx="3060720" cy="1763640"/>
            <a:chOff x="1600200" y="1336680"/>
            <a:chExt cx="3060720" cy="1763640"/>
          </a:xfrm>
        </p:grpSpPr>
        <p:grpSp>
          <p:nvGrpSpPr>
            <p:cNvPr id="2100" name=""/>
            <p:cNvGrpSpPr/>
            <p:nvPr/>
          </p:nvGrpSpPr>
          <p:grpSpPr>
            <a:xfrm>
              <a:off x="1905120" y="1565280"/>
              <a:ext cx="2755800" cy="1535040"/>
              <a:chOff x="1905120" y="1565280"/>
              <a:chExt cx="2755800" cy="1535040"/>
            </a:xfrm>
          </p:grpSpPr>
          <p:grpSp>
            <p:nvGrpSpPr>
              <p:cNvPr id="2101" name=""/>
              <p:cNvGrpSpPr/>
              <p:nvPr/>
            </p:nvGrpSpPr>
            <p:grpSpPr>
              <a:xfrm>
                <a:off x="1905120" y="1565280"/>
                <a:ext cx="2755800" cy="1535040"/>
                <a:chOff x="1905120" y="1565280"/>
                <a:chExt cx="2755800" cy="1535040"/>
              </a:xfrm>
            </p:grpSpPr>
            <p:sp>
              <p:nvSpPr>
                <p:cNvPr id="2102" name=""/>
                <p:cNvSpPr/>
                <p:nvPr/>
              </p:nvSpPr>
              <p:spPr>
                <a:xfrm>
                  <a:off x="2025720" y="16318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74960" y="16430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3940200" y="16333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flipH="1">
                  <a:off x="3119400" y="17906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 flipH="1" flipV="1">
                  <a:off x="2014560" y="18903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3006720" y="2927160"/>
                  <a:ext cx="18900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905120" y="1814400"/>
                  <a:ext cx="18864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3881520" y="156528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4471920" y="171756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1" name=""/>
              <p:cNvGrpSpPr/>
              <p:nvPr/>
            </p:nvGrpSpPr>
            <p:grpSpPr>
              <a:xfrm>
                <a:off x="2584440" y="1720800"/>
                <a:ext cx="1682640" cy="780840"/>
                <a:chOff x="2584440" y="1720800"/>
                <a:chExt cx="1682640" cy="780840"/>
              </a:xfrm>
            </p:grpSpPr>
            <p:sp>
              <p:nvSpPr>
                <p:cNvPr id="2112" name=""/>
                <p:cNvSpPr/>
                <p:nvPr/>
              </p:nvSpPr>
              <p:spPr>
                <a:xfrm>
                  <a:off x="3092400" y="21970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584440" y="17208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4" name=""/>
            <p:cNvGrpSpPr/>
            <p:nvPr/>
          </p:nvGrpSpPr>
          <p:grpSpPr>
            <a:xfrm>
              <a:off x="1600200" y="1336680"/>
              <a:ext cx="2755800" cy="1535040"/>
              <a:chOff x="1600200" y="1336680"/>
              <a:chExt cx="2755800" cy="1535040"/>
            </a:xfrm>
          </p:grpSpPr>
          <p:grpSp>
            <p:nvGrpSpPr>
              <p:cNvPr id="2115" name=""/>
              <p:cNvGrpSpPr/>
              <p:nvPr/>
            </p:nvGrpSpPr>
            <p:grpSpPr>
              <a:xfrm>
                <a:off x="1600200" y="1336680"/>
                <a:ext cx="2755800" cy="1535040"/>
                <a:chOff x="1600200" y="1336680"/>
                <a:chExt cx="2755800" cy="1535040"/>
              </a:xfrm>
            </p:grpSpPr>
            <p:sp>
              <p:nvSpPr>
                <p:cNvPr id="2116" name=""/>
                <p:cNvSpPr/>
                <p:nvPr/>
              </p:nvSpPr>
              <p:spPr>
                <a:xfrm>
                  <a:off x="1720800" y="14032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1670040" y="14144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3635280" y="14047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 flipH="1">
                  <a:off x="2814480" y="15620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 flipH="1" flipV="1">
                  <a:off x="1709640" y="16617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701800" y="2698560"/>
                  <a:ext cx="18900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1600200" y="1585800"/>
                  <a:ext cx="18864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3576600" y="133668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4167000" y="148896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5" name=""/>
              <p:cNvGrpSpPr/>
              <p:nvPr/>
            </p:nvGrpSpPr>
            <p:grpSpPr>
              <a:xfrm>
                <a:off x="2279520" y="1492200"/>
                <a:ext cx="1682640" cy="780840"/>
                <a:chOff x="2279520" y="1492200"/>
                <a:chExt cx="1682640" cy="780840"/>
              </a:xfrm>
            </p:grpSpPr>
            <p:sp>
              <p:nvSpPr>
                <p:cNvPr id="2126" name=""/>
                <p:cNvSpPr/>
                <p:nvPr/>
              </p:nvSpPr>
              <p:spPr>
                <a:xfrm>
                  <a:off x="2787480" y="19684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279520" y="14922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28" name=""/>
          <p:cNvGrpSpPr/>
          <p:nvPr/>
        </p:nvGrpSpPr>
        <p:grpSpPr>
          <a:xfrm>
            <a:off x="1295280" y="1108080"/>
            <a:ext cx="3060720" cy="1763640"/>
            <a:chOff x="1295280" y="1108080"/>
            <a:chExt cx="3060720" cy="1763640"/>
          </a:xfrm>
        </p:grpSpPr>
        <p:grpSp>
          <p:nvGrpSpPr>
            <p:cNvPr id="2129" name=""/>
            <p:cNvGrpSpPr/>
            <p:nvPr/>
          </p:nvGrpSpPr>
          <p:grpSpPr>
            <a:xfrm>
              <a:off x="1600200" y="1336680"/>
              <a:ext cx="2755800" cy="1535040"/>
              <a:chOff x="1600200" y="1336680"/>
              <a:chExt cx="2755800" cy="1535040"/>
            </a:xfrm>
          </p:grpSpPr>
          <p:grpSp>
            <p:nvGrpSpPr>
              <p:cNvPr id="2130" name=""/>
              <p:cNvGrpSpPr/>
              <p:nvPr/>
            </p:nvGrpSpPr>
            <p:grpSpPr>
              <a:xfrm>
                <a:off x="1600200" y="1336680"/>
                <a:ext cx="2755800" cy="1535040"/>
                <a:chOff x="1600200" y="1336680"/>
                <a:chExt cx="2755800" cy="1535040"/>
              </a:xfrm>
            </p:grpSpPr>
            <p:sp>
              <p:nvSpPr>
                <p:cNvPr id="2131" name=""/>
                <p:cNvSpPr/>
                <p:nvPr/>
              </p:nvSpPr>
              <p:spPr>
                <a:xfrm>
                  <a:off x="1720800" y="14032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1670040" y="14144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3635280" y="14047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 flipH="1">
                  <a:off x="2814480" y="15620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flipH="1" flipV="1">
                  <a:off x="1709640" y="16617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701800" y="2698560"/>
                  <a:ext cx="18900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1600200" y="1585800"/>
                  <a:ext cx="18864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3576600" y="133668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4167000" y="148896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0" name=""/>
              <p:cNvGrpSpPr/>
              <p:nvPr/>
            </p:nvGrpSpPr>
            <p:grpSpPr>
              <a:xfrm>
                <a:off x="2279520" y="1492200"/>
                <a:ext cx="1682640" cy="780840"/>
                <a:chOff x="2279520" y="1492200"/>
                <a:chExt cx="1682640" cy="780840"/>
              </a:xfrm>
            </p:grpSpPr>
            <p:sp>
              <p:nvSpPr>
                <p:cNvPr id="2141" name=""/>
                <p:cNvSpPr/>
                <p:nvPr/>
              </p:nvSpPr>
              <p:spPr>
                <a:xfrm>
                  <a:off x="2787480" y="19684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279520" y="14922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43" name=""/>
            <p:cNvGrpSpPr/>
            <p:nvPr/>
          </p:nvGrpSpPr>
          <p:grpSpPr>
            <a:xfrm>
              <a:off x="1295280" y="1108080"/>
              <a:ext cx="2755800" cy="1535040"/>
              <a:chOff x="1295280" y="1108080"/>
              <a:chExt cx="2755800" cy="1535040"/>
            </a:xfrm>
          </p:grpSpPr>
          <p:grpSp>
            <p:nvGrpSpPr>
              <p:cNvPr id="2144" name=""/>
              <p:cNvGrpSpPr/>
              <p:nvPr/>
            </p:nvGrpSpPr>
            <p:grpSpPr>
              <a:xfrm>
                <a:off x="1295280" y="1108080"/>
                <a:ext cx="2755800" cy="1535040"/>
                <a:chOff x="1295280" y="1108080"/>
                <a:chExt cx="2755800" cy="1535040"/>
              </a:xfrm>
            </p:grpSpPr>
            <p:sp>
              <p:nvSpPr>
                <p:cNvPr id="2145" name=""/>
                <p:cNvSpPr/>
                <p:nvPr/>
              </p:nvSpPr>
              <p:spPr>
                <a:xfrm>
                  <a:off x="1415880" y="1174680"/>
                  <a:ext cx="2546280" cy="1422360"/>
                </a:xfrm>
                <a:custGeom>
                  <a:avLst/>
                  <a:gdLst/>
                  <a:ahLst/>
                  <a:rect l="l" t="t" r="r" b="b"/>
                  <a:pathLst>
                    <a:path w="1604" h="896">
                      <a:moveTo>
                        <a:pt x="0" y="172"/>
                      </a:moveTo>
                      <a:lnTo>
                        <a:pt x="128" y="268"/>
                      </a:lnTo>
                      <a:lnTo>
                        <a:pt x="252" y="304"/>
                      </a:lnTo>
                      <a:lnTo>
                        <a:pt x="412" y="352"/>
                      </a:lnTo>
                      <a:lnTo>
                        <a:pt x="512" y="368"/>
                      </a:lnTo>
                      <a:lnTo>
                        <a:pt x="628" y="360"/>
                      </a:lnTo>
                      <a:lnTo>
                        <a:pt x="716" y="348"/>
                      </a:lnTo>
                      <a:lnTo>
                        <a:pt x="832" y="292"/>
                      </a:lnTo>
                      <a:lnTo>
                        <a:pt x="940" y="220"/>
                      </a:lnTo>
                      <a:lnTo>
                        <a:pt x="1068" y="124"/>
                      </a:lnTo>
                      <a:lnTo>
                        <a:pt x="1184" y="40"/>
                      </a:lnTo>
                      <a:lnTo>
                        <a:pt x="1228" y="0"/>
                      </a:lnTo>
                      <a:lnTo>
                        <a:pt x="1604" y="104"/>
                      </a:lnTo>
                      <a:lnTo>
                        <a:pt x="692" y="896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1365120" y="11858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30360" y="1176120"/>
                  <a:ext cx="593640" cy="158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 flipH="1">
                  <a:off x="2509560" y="1333440"/>
                  <a:ext cx="1434960" cy="1270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 flipH="1" flipV="1">
                  <a:off x="1404720" y="1433160"/>
                  <a:ext cx="1046160" cy="1111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2396880" y="2469960"/>
                  <a:ext cx="189000" cy="173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1295280" y="1357200"/>
                  <a:ext cx="18864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271680" y="110808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862080" y="126036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4" name=""/>
              <p:cNvGrpSpPr/>
              <p:nvPr/>
            </p:nvGrpSpPr>
            <p:grpSpPr>
              <a:xfrm>
                <a:off x="1974600" y="1263600"/>
                <a:ext cx="1682640" cy="780840"/>
                <a:chOff x="1974600" y="1263600"/>
                <a:chExt cx="1682640" cy="780840"/>
              </a:xfrm>
            </p:grpSpPr>
            <p:sp>
              <p:nvSpPr>
                <p:cNvPr id="2155" name=""/>
                <p:cNvSpPr/>
                <p:nvPr/>
              </p:nvSpPr>
              <p:spPr>
                <a:xfrm>
                  <a:off x="2482560" y="17398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1974600" y="12636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7" name=""/>
          <p:cNvGrpSpPr/>
          <p:nvPr/>
        </p:nvGrpSpPr>
        <p:grpSpPr>
          <a:xfrm>
            <a:off x="5410080" y="479520"/>
            <a:ext cx="2679840" cy="1027080"/>
            <a:chOff x="5410080" y="479520"/>
            <a:chExt cx="2679840" cy="1027080"/>
          </a:xfrm>
        </p:grpSpPr>
        <p:grpSp>
          <p:nvGrpSpPr>
            <p:cNvPr id="2158" name=""/>
            <p:cNvGrpSpPr/>
            <p:nvPr/>
          </p:nvGrpSpPr>
          <p:grpSpPr>
            <a:xfrm>
              <a:off x="5924520" y="479520"/>
              <a:ext cx="2165400" cy="988920"/>
              <a:chOff x="5924520" y="479520"/>
              <a:chExt cx="2165400" cy="988920"/>
            </a:xfrm>
          </p:grpSpPr>
          <p:grpSp>
            <p:nvGrpSpPr>
              <p:cNvPr id="2159" name=""/>
              <p:cNvGrpSpPr/>
              <p:nvPr/>
            </p:nvGrpSpPr>
            <p:grpSpPr>
              <a:xfrm>
                <a:off x="5924520" y="479520"/>
                <a:ext cx="2165400" cy="988920"/>
                <a:chOff x="5924520" y="479520"/>
                <a:chExt cx="2165400" cy="988920"/>
              </a:xfrm>
            </p:grpSpPr>
            <p:sp>
              <p:nvSpPr>
                <p:cNvPr id="2160" name=""/>
                <p:cNvSpPr/>
                <p:nvPr/>
              </p:nvSpPr>
              <p:spPr>
                <a:xfrm>
                  <a:off x="6058080" y="552600"/>
                  <a:ext cx="1949400" cy="86364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5994360" y="843120"/>
                  <a:ext cx="199728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 flipV="1">
                  <a:off x="6050160" y="555480"/>
                  <a:ext cx="59364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 flipH="1" flipV="1">
                  <a:off x="6635880" y="549360"/>
                  <a:ext cx="657360" cy="155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 flipH="1" flipV="1">
                  <a:off x="7373880" y="704880"/>
                  <a:ext cx="594000" cy="115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5924520" y="1014480"/>
                  <a:ext cx="18900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6535800" y="47952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7228080" y="632160"/>
                  <a:ext cx="19044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7900920" y="76536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9" name=""/>
              <p:cNvGrpSpPr/>
              <p:nvPr/>
            </p:nvGrpSpPr>
            <p:grpSpPr>
              <a:xfrm>
                <a:off x="6324840" y="615960"/>
                <a:ext cx="1326960" cy="774720"/>
                <a:chOff x="6324840" y="615960"/>
                <a:chExt cx="1326960" cy="774720"/>
              </a:xfrm>
            </p:grpSpPr>
            <p:sp>
              <p:nvSpPr>
                <p:cNvPr id="2170" name=""/>
                <p:cNvSpPr/>
                <p:nvPr/>
              </p:nvSpPr>
              <p:spPr>
                <a:xfrm>
                  <a:off x="6853320" y="615960"/>
                  <a:ext cx="25884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6324840" y="762120"/>
                  <a:ext cx="132696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72" name=""/>
            <p:cNvGrpSpPr/>
            <p:nvPr/>
          </p:nvGrpSpPr>
          <p:grpSpPr>
            <a:xfrm>
              <a:off x="5410080" y="517680"/>
              <a:ext cx="2165400" cy="988920"/>
              <a:chOff x="5410080" y="517680"/>
              <a:chExt cx="2165400" cy="988920"/>
            </a:xfrm>
          </p:grpSpPr>
          <p:grpSp>
            <p:nvGrpSpPr>
              <p:cNvPr id="2173" name=""/>
              <p:cNvGrpSpPr/>
              <p:nvPr/>
            </p:nvGrpSpPr>
            <p:grpSpPr>
              <a:xfrm>
                <a:off x="5410080" y="517680"/>
                <a:ext cx="2165400" cy="988920"/>
                <a:chOff x="5410080" y="517680"/>
                <a:chExt cx="2165400" cy="988920"/>
              </a:xfrm>
            </p:grpSpPr>
            <p:sp>
              <p:nvSpPr>
                <p:cNvPr id="2174" name=""/>
                <p:cNvSpPr/>
                <p:nvPr/>
              </p:nvSpPr>
              <p:spPr>
                <a:xfrm>
                  <a:off x="5543640" y="590760"/>
                  <a:ext cx="1949400" cy="86364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5479920" y="881280"/>
                  <a:ext cx="199728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flipV="1">
                  <a:off x="5535720" y="593640"/>
                  <a:ext cx="593640" cy="54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 flipH="1" flipV="1">
                  <a:off x="6121440" y="587520"/>
                  <a:ext cx="657360" cy="15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 flipH="1" flipV="1">
                  <a:off x="6859440" y="743040"/>
                  <a:ext cx="594000" cy="1159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5410080" y="1052640"/>
                  <a:ext cx="18900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6021360" y="51768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6713640" y="670320"/>
                  <a:ext cx="19044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7386480" y="80352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3" name=""/>
              <p:cNvGrpSpPr/>
              <p:nvPr/>
            </p:nvGrpSpPr>
            <p:grpSpPr>
              <a:xfrm>
                <a:off x="5810400" y="654120"/>
                <a:ext cx="1326960" cy="774720"/>
                <a:chOff x="5810400" y="654120"/>
                <a:chExt cx="1326960" cy="774720"/>
              </a:xfrm>
            </p:grpSpPr>
            <p:sp>
              <p:nvSpPr>
                <p:cNvPr id="2184" name=""/>
                <p:cNvSpPr/>
                <p:nvPr/>
              </p:nvSpPr>
              <p:spPr>
                <a:xfrm>
                  <a:off x="6338880" y="654120"/>
                  <a:ext cx="25884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5810400" y="800280"/>
                  <a:ext cx="132696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6" name=""/>
          <p:cNvGrpSpPr/>
          <p:nvPr/>
        </p:nvGrpSpPr>
        <p:grpSpPr>
          <a:xfrm>
            <a:off x="4896000" y="517680"/>
            <a:ext cx="2678760" cy="1027080"/>
            <a:chOff x="4896000" y="517680"/>
            <a:chExt cx="2678760" cy="1027080"/>
          </a:xfrm>
        </p:grpSpPr>
        <p:grpSp>
          <p:nvGrpSpPr>
            <p:cNvPr id="2187" name=""/>
            <p:cNvGrpSpPr/>
            <p:nvPr/>
          </p:nvGrpSpPr>
          <p:grpSpPr>
            <a:xfrm>
              <a:off x="5410080" y="517680"/>
              <a:ext cx="2164680" cy="988920"/>
              <a:chOff x="5410080" y="517680"/>
              <a:chExt cx="2164680" cy="988920"/>
            </a:xfrm>
          </p:grpSpPr>
          <p:grpSp>
            <p:nvGrpSpPr>
              <p:cNvPr id="2188" name=""/>
              <p:cNvGrpSpPr/>
              <p:nvPr/>
            </p:nvGrpSpPr>
            <p:grpSpPr>
              <a:xfrm>
                <a:off x="5410080" y="517680"/>
                <a:ext cx="2164680" cy="988920"/>
                <a:chOff x="5410080" y="517680"/>
                <a:chExt cx="2164680" cy="988920"/>
              </a:xfrm>
            </p:grpSpPr>
            <p:sp>
              <p:nvSpPr>
                <p:cNvPr id="2189" name=""/>
                <p:cNvSpPr/>
                <p:nvPr/>
              </p:nvSpPr>
              <p:spPr>
                <a:xfrm>
                  <a:off x="5543280" y="590760"/>
                  <a:ext cx="1949040" cy="86364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5479560" y="88128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 flipV="1">
                  <a:off x="5535360" y="593640"/>
                  <a:ext cx="59328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 flipH="1" flipV="1">
                  <a:off x="6120720" y="587520"/>
                  <a:ext cx="657000" cy="155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 flipH="1" flipV="1">
                  <a:off x="6858720" y="743040"/>
                  <a:ext cx="593640" cy="115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5410080" y="1052640"/>
                  <a:ext cx="18864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6021000" y="51768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6713280" y="670320"/>
                  <a:ext cx="19008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7386120" y="80352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8" name=""/>
              <p:cNvGrpSpPr/>
              <p:nvPr/>
            </p:nvGrpSpPr>
            <p:grpSpPr>
              <a:xfrm>
                <a:off x="5810040" y="654120"/>
                <a:ext cx="1326600" cy="774720"/>
                <a:chOff x="5810040" y="654120"/>
                <a:chExt cx="1326600" cy="774720"/>
              </a:xfrm>
            </p:grpSpPr>
            <p:sp>
              <p:nvSpPr>
                <p:cNvPr id="2199" name=""/>
                <p:cNvSpPr/>
                <p:nvPr/>
              </p:nvSpPr>
              <p:spPr>
                <a:xfrm>
                  <a:off x="6338160" y="654120"/>
                  <a:ext cx="25848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5810040" y="800280"/>
                  <a:ext cx="132660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01" name=""/>
            <p:cNvGrpSpPr/>
            <p:nvPr/>
          </p:nvGrpSpPr>
          <p:grpSpPr>
            <a:xfrm>
              <a:off x="4896000" y="555840"/>
              <a:ext cx="2164680" cy="988920"/>
              <a:chOff x="4896000" y="555840"/>
              <a:chExt cx="2164680" cy="988920"/>
            </a:xfrm>
          </p:grpSpPr>
          <p:grpSp>
            <p:nvGrpSpPr>
              <p:cNvPr id="2202" name=""/>
              <p:cNvGrpSpPr/>
              <p:nvPr/>
            </p:nvGrpSpPr>
            <p:grpSpPr>
              <a:xfrm>
                <a:off x="4896000" y="555840"/>
                <a:ext cx="2164680" cy="988920"/>
                <a:chOff x="4896000" y="555840"/>
                <a:chExt cx="2164680" cy="988920"/>
              </a:xfrm>
            </p:grpSpPr>
            <p:sp>
              <p:nvSpPr>
                <p:cNvPr id="2203" name=""/>
                <p:cNvSpPr/>
                <p:nvPr/>
              </p:nvSpPr>
              <p:spPr>
                <a:xfrm>
                  <a:off x="5029200" y="628920"/>
                  <a:ext cx="1949040" cy="86364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4965480" y="9194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 flipV="1">
                  <a:off x="5021280" y="631800"/>
                  <a:ext cx="593280" cy="54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 flipH="1" flipV="1">
                  <a:off x="5606640" y="625680"/>
                  <a:ext cx="657000" cy="15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 flipH="1" flipV="1">
                  <a:off x="6344640" y="781200"/>
                  <a:ext cx="593640" cy="1159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4896000" y="1090800"/>
                  <a:ext cx="18864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5506920" y="55584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6199200" y="708480"/>
                  <a:ext cx="19008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6872040" y="84168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2" name=""/>
              <p:cNvGrpSpPr/>
              <p:nvPr/>
            </p:nvGrpSpPr>
            <p:grpSpPr>
              <a:xfrm>
                <a:off x="5295960" y="692280"/>
                <a:ext cx="1326600" cy="774720"/>
                <a:chOff x="5295960" y="692280"/>
                <a:chExt cx="1326600" cy="774720"/>
              </a:xfrm>
            </p:grpSpPr>
            <p:sp>
              <p:nvSpPr>
                <p:cNvPr id="2213" name=""/>
                <p:cNvSpPr/>
                <p:nvPr/>
              </p:nvSpPr>
              <p:spPr>
                <a:xfrm>
                  <a:off x="5824080" y="692280"/>
                  <a:ext cx="25848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5295960" y="838440"/>
                  <a:ext cx="132660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15" name=""/>
          <p:cNvGrpSpPr/>
          <p:nvPr/>
        </p:nvGrpSpPr>
        <p:grpSpPr>
          <a:xfrm>
            <a:off x="4381560" y="555480"/>
            <a:ext cx="2678760" cy="1027080"/>
            <a:chOff x="4381560" y="555480"/>
            <a:chExt cx="2678760" cy="1027080"/>
          </a:xfrm>
        </p:grpSpPr>
        <p:grpSp>
          <p:nvGrpSpPr>
            <p:cNvPr id="2216" name=""/>
            <p:cNvGrpSpPr/>
            <p:nvPr/>
          </p:nvGrpSpPr>
          <p:grpSpPr>
            <a:xfrm>
              <a:off x="4895640" y="555480"/>
              <a:ext cx="2164680" cy="988920"/>
              <a:chOff x="4895640" y="555480"/>
              <a:chExt cx="2164680" cy="988920"/>
            </a:xfrm>
          </p:grpSpPr>
          <p:grpSp>
            <p:nvGrpSpPr>
              <p:cNvPr id="2217" name=""/>
              <p:cNvGrpSpPr/>
              <p:nvPr/>
            </p:nvGrpSpPr>
            <p:grpSpPr>
              <a:xfrm>
                <a:off x="4895640" y="555480"/>
                <a:ext cx="2164680" cy="988920"/>
                <a:chOff x="4895640" y="555480"/>
                <a:chExt cx="2164680" cy="988920"/>
              </a:xfrm>
            </p:grpSpPr>
            <p:sp>
              <p:nvSpPr>
                <p:cNvPr id="2218" name=""/>
                <p:cNvSpPr/>
                <p:nvPr/>
              </p:nvSpPr>
              <p:spPr>
                <a:xfrm>
                  <a:off x="5028840" y="628560"/>
                  <a:ext cx="1949040" cy="86364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4965120" y="91908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 flipV="1">
                  <a:off x="5020920" y="631440"/>
                  <a:ext cx="59328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flipH="1" flipV="1">
                  <a:off x="5606280" y="625320"/>
                  <a:ext cx="657000" cy="155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 flipH="1" flipV="1">
                  <a:off x="6344280" y="780840"/>
                  <a:ext cx="593640" cy="115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4895640" y="1090440"/>
                  <a:ext cx="18864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5506560" y="55548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6198840" y="708120"/>
                  <a:ext cx="19008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6871680" y="84132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7" name=""/>
              <p:cNvGrpSpPr/>
              <p:nvPr/>
            </p:nvGrpSpPr>
            <p:grpSpPr>
              <a:xfrm>
                <a:off x="5295600" y="691920"/>
                <a:ext cx="1326600" cy="774720"/>
                <a:chOff x="5295600" y="691920"/>
                <a:chExt cx="1326600" cy="774720"/>
              </a:xfrm>
            </p:grpSpPr>
            <p:sp>
              <p:nvSpPr>
                <p:cNvPr id="2228" name=""/>
                <p:cNvSpPr/>
                <p:nvPr/>
              </p:nvSpPr>
              <p:spPr>
                <a:xfrm>
                  <a:off x="5823720" y="691920"/>
                  <a:ext cx="25848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5295600" y="838080"/>
                  <a:ext cx="132660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0" name=""/>
            <p:cNvGrpSpPr/>
            <p:nvPr/>
          </p:nvGrpSpPr>
          <p:grpSpPr>
            <a:xfrm>
              <a:off x="4381560" y="593640"/>
              <a:ext cx="2164680" cy="988920"/>
              <a:chOff x="4381560" y="593640"/>
              <a:chExt cx="2164680" cy="988920"/>
            </a:xfrm>
          </p:grpSpPr>
          <p:grpSp>
            <p:nvGrpSpPr>
              <p:cNvPr id="2231" name=""/>
              <p:cNvGrpSpPr/>
              <p:nvPr/>
            </p:nvGrpSpPr>
            <p:grpSpPr>
              <a:xfrm>
                <a:off x="4381560" y="593640"/>
                <a:ext cx="2164680" cy="988920"/>
                <a:chOff x="4381560" y="593640"/>
                <a:chExt cx="2164680" cy="988920"/>
              </a:xfrm>
            </p:grpSpPr>
            <p:sp>
              <p:nvSpPr>
                <p:cNvPr id="2232" name=""/>
                <p:cNvSpPr/>
                <p:nvPr/>
              </p:nvSpPr>
              <p:spPr>
                <a:xfrm>
                  <a:off x="4514760" y="666720"/>
                  <a:ext cx="1949040" cy="86364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4451040" y="95724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flipV="1">
                  <a:off x="4506840" y="669600"/>
                  <a:ext cx="593280" cy="54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flipH="1" flipV="1">
                  <a:off x="5092200" y="663480"/>
                  <a:ext cx="657000" cy="15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 flipH="1" flipV="1">
                  <a:off x="5830200" y="819000"/>
                  <a:ext cx="593640" cy="1159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4381560" y="1128600"/>
                  <a:ext cx="18864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4992480" y="59364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5684760" y="746280"/>
                  <a:ext cx="19008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6357600" y="87948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1" name=""/>
              <p:cNvGrpSpPr/>
              <p:nvPr/>
            </p:nvGrpSpPr>
            <p:grpSpPr>
              <a:xfrm>
                <a:off x="4781520" y="730080"/>
                <a:ext cx="1326600" cy="774720"/>
                <a:chOff x="4781520" y="730080"/>
                <a:chExt cx="1326600" cy="774720"/>
              </a:xfrm>
            </p:grpSpPr>
            <p:sp>
              <p:nvSpPr>
                <p:cNvPr id="2242" name=""/>
                <p:cNvSpPr/>
                <p:nvPr/>
              </p:nvSpPr>
              <p:spPr>
                <a:xfrm>
                  <a:off x="5309640" y="730080"/>
                  <a:ext cx="25848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4781520" y="876240"/>
                  <a:ext cx="132660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44" name=""/>
          <p:cNvGrpSpPr/>
          <p:nvPr/>
        </p:nvGrpSpPr>
        <p:grpSpPr>
          <a:xfrm>
            <a:off x="3867120" y="593640"/>
            <a:ext cx="2679840" cy="1027080"/>
            <a:chOff x="3867120" y="593640"/>
            <a:chExt cx="2679840" cy="1027080"/>
          </a:xfrm>
        </p:grpSpPr>
        <p:grpSp>
          <p:nvGrpSpPr>
            <p:cNvPr id="2245" name=""/>
            <p:cNvGrpSpPr/>
            <p:nvPr/>
          </p:nvGrpSpPr>
          <p:grpSpPr>
            <a:xfrm>
              <a:off x="4381560" y="593640"/>
              <a:ext cx="2165400" cy="988920"/>
              <a:chOff x="4381560" y="593640"/>
              <a:chExt cx="2165400" cy="988920"/>
            </a:xfrm>
          </p:grpSpPr>
          <p:grpSp>
            <p:nvGrpSpPr>
              <p:cNvPr id="2246" name=""/>
              <p:cNvGrpSpPr/>
              <p:nvPr/>
            </p:nvGrpSpPr>
            <p:grpSpPr>
              <a:xfrm>
                <a:off x="4381560" y="593640"/>
                <a:ext cx="2165400" cy="988920"/>
                <a:chOff x="4381560" y="593640"/>
                <a:chExt cx="2165400" cy="988920"/>
              </a:xfrm>
            </p:grpSpPr>
            <p:sp>
              <p:nvSpPr>
                <p:cNvPr id="2247" name=""/>
                <p:cNvSpPr/>
                <p:nvPr/>
              </p:nvSpPr>
              <p:spPr>
                <a:xfrm>
                  <a:off x="4515120" y="666720"/>
                  <a:ext cx="1949400" cy="86364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4451400" y="957240"/>
                  <a:ext cx="199728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flipV="1">
                  <a:off x="4507200" y="669600"/>
                  <a:ext cx="59364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flipH="1" flipV="1">
                  <a:off x="5092920" y="663480"/>
                  <a:ext cx="657360" cy="155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flipH="1" flipV="1">
                  <a:off x="5830920" y="819000"/>
                  <a:ext cx="594000" cy="115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4381560" y="1128600"/>
                  <a:ext cx="18900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4992840" y="59364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5685120" y="746280"/>
                  <a:ext cx="19044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6357960" y="87948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6" name=""/>
              <p:cNvGrpSpPr/>
              <p:nvPr/>
            </p:nvGrpSpPr>
            <p:grpSpPr>
              <a:xfrm>
                <a:off x="4781880" y="730080"/>
                <a:ext cx="1326960" cy="774720"/>
                <a:chOff x="4781880" y="730080"/>
                <a:chExt cx="1326960" cy="774720"/>
              </a:xfrm>
            </p:grpSpPr>
            <p:sp>
              <p:nvSpPr>
                <p:cNvPr id="2257" name=""/>
                <p:cNvSpPr/>
                <p:nvPr/>
              </p:nvSpPr>
              <p:spPr>
                <a:xfrm>
                  <a:off x="5310360" y="730080"/>
                  <a:ext cx="25884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4781880" y="876240"/>
                  <a:ext cx="132696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59" name=""/>
            <p:cNvGrpSpPr/>
            <p:nvPr/>
          </p:nvGrpSpPr>
          <p:grpSpPr>
            <a:xfrm>
              <a:off x="3867120" y="631800"/>
              <a:ext cx="2165400" cy="988920"/>
              <a:chOff x="3867120" y="631800"/>
              <a:chExt cx="2165400" cy="988920"/>
            </a:xfrm>
          </p:grpSpPr>
          <p:grpSp>
            <p:nvGrpSpPr>
              <p:cNvPr id="2260" name=""/>
              <p:cNvGrpSpPr/>
              <p:nvPr/>
            </p:nvGrpSpPr>
            <p:grpSpPr>
              <a:xfrm>
                <a:off x="3867120" y="631800"/>
                <a:ext cx="2165400" cy="988920"/>
                <a:chOff x="3867120" y="631800"/>
                <a:chExt cx="2165400" cy="988920"/>
              </a:xfrm>
            </p:grpSpPr>
            <p:sp>
              <p:nvSpPr>
                <p:cNvPr id="2261" name=""/>
                <p:cNvSpPr/>
                <p:nvPr/>
              </p:nvSpPr>
              <p:spPr>
                <a:xfrm>
                  <a:off x="4000680" y="704880"/>
                  <a:ext cx="1949400" cy="86364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3936960" y="995400"/>
                  <a:ext cx="199728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flipV="1">
                  <a:off x="3992760" y="707760"/>
                  <a:ext cx="593640" cy="54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flipH="1" flipV="1">
                  <a:off x="4578480" y="701640"/>
                  <a:ext cx="657360" cy="15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flipH="1" flipV="1">
                  <a:off x="5316480" y="857160"/>
                  <a:ext cx="594000" cy="1159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3867120" y="1166760"/>
                  <a:ext cx="18900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4478400" y="63180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5170680" y="784440"/>
                  <a:ext cx="19044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5843520" y="91764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0" name=""/>
              <p:cNvGrpSpPr/>
              <p:nvPr/>
            </p:nvGrpSpPr>
            <p:grpSpPr>
              <a:xfrm>
                <a:off x="4267440" y="768240"/>
                <a:ext cx="1326960" cy="774720"/>
                <a:chOff x="4267440" y="768240"/>
                <a:chExt cx="1326960" cy="774720"/>
              </a:xfrm>
            </p:grpSpPr>
            <p:sp>
              <p:nvSpPr>
                <p:cNvPr id="2271" name=""/>
                <p:cNvSpPr/>
                <p:nvPr/>
              </p:nvSpPr>
              <p:spPr>
                <a:xfrm>
                  <a:off x="4795920" y="768240"/>
                  <a:ext cx="25884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4267440" y="914400"/>
                  <a:ext cx="132696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73" name=""/>
          <p:cNvGrpSpPr/>
          <p:nvPr/>
        </p:nvGrpSpPr>
        <p:grpSpPr>
          <a:xfrm>
            <a:off x="3352680" y="631800"/>
            <a:ext cx="2679840" cy="1027080"/>
            <a:chOff x="3352680" y="631800"/>
            <a:chExt cx="2679840" cy="1027080"/>
          </a:xfrm>
        </p:grpSpPr>
        <p:grpSp>
          <p:nvGrpSpPr>
            <p:cNvPr id="2274" name=""/>
            <p:cNvGrpSpPr/>
            <p:nvPr/>
          </p:nvGrpSpPr>
          <p:grpSpPr>
            <a:xfrm>
              <a:off x="3867120" y="631800"/>
              <a:ext cx="2165400" cy="988920"/>
              <a:chOff x="3867120" y="631800"/>
              <a:chExt cx="2165400" cy="988920"/>
            </a:xfrm>
          </p:grpSpPr>
          <p:grpSp>
            <p:nvGrpSpPr>
              <p:cNvPr id="2275" name=""/>
              <p:cNvGrpSpPr/>
              <p:nvPr/>
            </p:nvGrpSpPr>
            <p:grpSpPr>
              <a:xfrm>
                <a:off x="3867120" y="631800"/>
                <a:ext cx="2165400" cy="988920"/>
                <a:chOff x="3867120" y="631800"/>
                <a:chExt cx="2165400" cy="988920"/>
              </a:xfrm>
            </p:grpSpPr>
            <p:sp>
              <p:nvSpPr>
                <p:cNvPr id="2276" name=""/>
                <p:cNvSpPr/>
                <p:nvPr/>
              </p:nvSpPr>
              <p:spPr>
                <a:xfrm>
                  <a:off x="4000680" y="704880"/>
                  <a:ext cx="1949400" cy="86364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3936960" y="995400"/>
                  <a:ext cx="199728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flipV="1">
                  <a:off x="3992760" y="707760"/>
                  <a:ext cx="59364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 flipH="1" flipV="1">
                  <a:off x="4578480" y="701640"/>
                  <a:ext cx="657360" cy="155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 flipH="1" flipV="1">
                  <a:off x="5316480" y="857160"/>
                  <a:ext cx="594000" cy="115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3867120" y="1166760"/>
                  <a:ext cx="18900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4478400" y="63180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5170680" y="784440"/>
                  <a:ext cx="19044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5843520" y="91764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5" name=""/>
              <p:cNvGrpSpPr/>
              <p:nvPr/>
            </p:nvGrpSpPr>
            <p:grpSpPr>
              <a:xfrm>
                <a:off x="4267440" y="768240"/>
                <a:ext cx="1326960" cy="774720"/>
                <a:chOff x="4267440" y="768240"/>
                <a:chExt cx="1326960" cy="774720"/>
              </a:xfrm>
            </p:grpSpPr>
            <p:sp>
              <p:nvSpPr>
                <p:cNvPr id="2286" name=""/>
                <p:cNvSpPr/>
                <p:nvPr/>
              </p:nvSpPr>
              <p:spPr>
                <a:xfrm>
                  <a:off x="4795920" y="768240"/>
                  <a:ext cx="25884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4267440" y="914400"/>
                  <a:ext cx="132696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88" name=""/>
            <p:cNvGrpSpPr/>
            <p:nvPr/>
          </p:nvGrpSpPr>
          <p:grpSpPr>
            <a:xfrm>
              <a:off x="3352680" y="669960"/>
              <a:ext cx="2165400" cy="988920"/>
              <a:chOff x="3352680" y="669960"/>
              <a:chExt cx="2165400" cy="988920"/>
            </a:xfrm>
          </p:grpSpPr>
          <p:grpSp>
            <p:nvGrpSpPr>
              <p:cNvPr id="2289" name=""/>
              <p:cNvGrpSpPr/>
              <p:nvPr/>
            </p:nvGrpSpPr>
            <p:grpSpPr>
              <a:xfrm>
                <a:off x="3352680" y="669960"/>
                <a:ext cx="2165400" cy="988920"/>
                <a:chOff x="3352680" y="669960"/>
                <a:chExt cx="2165400" cy="988920"/>
              </a:xfrm>
            </p:grpSpPr>
            <p:sp>
              <p:nvSpPr>
                <p:cNvPr id="2290" name=""/>
                <p:cNvSpPr/>
                <p:nvPr/>
              </p:nvSpPr>
              <p:spPr>
                <a:xfrm>
                  <a:off x="3486240" y="743040"/>
                  <a:ext cx="1949400" cy="86364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3422520" y="1033560"/>
                  <a:ext cx="199728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 flipV="1">
                  <a:off x="3478320" y="745920"/>
                  <a:ext cx="593640" cy="54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 flipH="1" flipV="1">
                  <a:off x="4064040" y="739800"/>
                  <a:ext cx="657360" cy="15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 flipH="1" flipV="1">
                  <a:off x="4802040" y="895320"/>
                  <a:ext cx="594000" cy="1159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3352680" y="1204920"/>
                  <a:ext cx="18900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3963960" y="66996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4656240" y="822600"/>
                  <a:ext cx="19044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329080" y="95580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9" name=""/>
              <p:cNvGrpSpPr/>
              <p:nvPr/>
            </p:nvGrpSpPr>
            <p:grpSpPr>
              <a:xfrm>
                <a:off x="3753000" y="806400"/>
                <a:ext cx="1326960" cy="774720"/>
                <a:chOff x="3753000" y="806400"/>
                <a:chExt cx="1326960" cy="774720"/>
              </a:xfrm>
            </p:grpSpPr>
            <p:sp>
              <p:nvSpPr>
                <p:cNvPr id="2300" name=""/>
                <p:cNvSpPr/>
                <p:nvPr/>
              </p:nvSpPr>
              <p:spPr>
                <a:xfrm>
                  <a:off x="4281480" y="806400"/>
                  <a:ext cx="25884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3753000" y="952560"/>
                  <a:ext cx="132696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02" name=""/>
          <p:cNvGrpSpPr/>
          <p:nvPr/>
        </p:nvGrpSpPr>
        <p:grpSpPr>
          <a:xfrm>
            <a:off x="2838600" y="669960"/>
            <a:ext cx="2678760" cy="1027080"/>
            <a:chOff x="2838600" y="669960"/>
            <a:chExt cx="2678760" cy="1027080"/>
          </a:xfrm>
        </p:grpSpPr>
        <p:grpSp>
          <p:nvGrpSpPr>
            <p:cNvPr id="2303" name=""/>
            <p:cNvGrpSpPr/>
            <p:nvPr/>
          </p:nvGrpSpPr>
          <p:grpSpPr>
            <a:xfrm>
              <a:off x="3352680" y="669960"/>
              <a:ext cx="2164680" cy="988920"/>
              <a:chOff x="3352680" y="669960"/>
              <a:chExt cx="2164680" cy="988920"/>
            </a:xfrm>
          </p:grpSpPr>
          <p:grpSp>
            <p:nvGrpSpPr>
              <p:cNvPr id="2304" name=""/>
              <p:cNvGrpSpPr/>
              <p:nvPr/>
            </p:nvGrpSpPr>
            <p:grpSpPr>
              <a:xfrm>
                <a:off x="3352680" y="669960"/>
                <a:ext cx="2164680" cy="988920"/>
                <a:chOff x="3352680" y="669960"/>
                <a:chExt cx="2164680" cy="988920"/>
              </a:xfrm>
            </p:grpSpPr>
            <p:sp>
              <p:nvSpPr>
                <p:cNvPr id="2305" name=""/>
                <p:cNvSpPr/>
                <p:nvPr/>
              </p:nvSpPr>
              <p:spPr>
                <a:xfrm>
                  <a:off x="3485880" y="743040"/>
                  <a:ext cx="1949040" cy="86364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3422160" y="103356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 flipV="1">
                  <a:off x="3477960" y="745920"/>
                  <a:ext cx="59328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 flipH="1" flipV="1">
                  <a:off x="4063320" y="739800"/>
                  <a:ext cx="657000" cy="155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 flipH="1" flipV="1">
                  <a:off x="4801320" y="895320"/>
                  <a:ext cx="593640" cy="115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3352680" y="1204920"/>
                  <a:ext cx="18864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3963600" y="66996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4655880" y="822600"/>
                  <a:ext cx="19008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5328720" y="95580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4" name=""/>
              <p:cNvGrpSpPr/>
              <p:nvPr/>
            </p:nvGrpSpPr>
            <p:grpSpPr>
              <a:xfrm>
                <a:off x="3752640" y="806400"/>
                <a:ext cx="1326600" cy="774720"/>
                <a:chOff x="3752640" y="806400"/>
                <a:chExt cx="1326600" cy="774720"/>
              </a:xfrm>
            </p:grpSpPr>
            <p:sp>
              <p:nvSpPr>
                <p:cNvPr id="2315" name=""/>
                <p:cNvSpPr/>
                <p:nvPr/>
              </p:nvSpPr>
              <p:spPr>
                <a:xfrm>
                  <a:off x="4280760" y="806400"/>
                  <a:ext cx="25848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3752640" y="952560"/>
                  <a:ext cx="132660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7" name=""/>
            <p:cNvGrpSpPr/>
            <p:nvPr/>
          </p:nvGrpSpPr>
          <p:grpSpPr>
            <a:xfrm>
              <a:off x="2838600" y="708120"/>
              <a:ext cx="2164680" cy="988920"/>
              <a:chOff x="2838600" y="708120"/>
              <a:chExt cx="2164680" cy="988920"/>
            </a:xfrm>
          </p:grpSpPr>
          <p:grpSp>
            <p:nvGrpSpPr>
              <p:cNvPr id="2318" name=""/>
              <p:cNvGrpSpPr/>
              <p:nvPr/>
            </p:nvGrpSpPr>
            <p:grpSpPr>
              <a:xfrm>
                <a:off x="2838600" y="708120"/>
                <a:ext cx="2164680" cy="988920"/>
                <a:chOff x="2838600" y="708120"/>
                <a:chExt cx="2164680" cy="988920"/>
              </a:xfrm>
            </p:grpSpPr>
            <p:sp>
              <p:nvSpPr>
                <p:cNvPr id="2319" name=""/>
                <p:cNvSpPr/>
                <p:nvPr/>
              </p:nvSpPr>
              <p:spPr>
                <a:xfrm>
                  <a:off x="2971800" y="781200"/>
                  <a:ext cx="1949040" cy="86364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2908080" y="107172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 flipV="1">
                  <a:off x="2963880" y="784080"/>
                  <a:ext cx="593280" cy="54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 flipH="1" flipV="1">
                  <a:off x="3549240" y="777960"/>
                  <a:ext cx="657000" cy="15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 flipH="1" flipV="1">
                  <a:off x="4287240" y="933480"/>
                  <a:ext cx="593640" cy="1159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2838600" y="1243080"/>
                  <a:ext cx="18864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3449520" y="70812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4141800" y="860760"/>
                  <a:ext cx="19008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4814640" y="99396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8" name=""/>
              <p:cNvGrpSpPr/>
              <p:nvPr/>
            </p:nvGrpSpPr>
            <p:grpSpPr>
              <a:xfrm>
                <a:off x="3238560" y="844560"/>
                <a:ext cx="1326600" cy="774720"/>
                <a:chOff x="3238560" y="844560"/>
                <a:chExt cx="1326600" cy="774720"/>
              </a:xfrm>
            </p:grpSpPr>
            <p:sp>
              <p:nvSpPr>
                <p:cNvPr id="2329" name=""/>
                <p:cNvSpPr/>
                <p:nvPr/>
              </p:nvSpPr>
              <p:spPr>
                <a:xfrm>
                  <a:off x="3766680" y="844560"/>
                  <a:ext cx="25848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3238560" y="990720"/>
                  <a:ext cx="132660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31" name=""/>
          <p:cNvGrpSpPr/>
          <p:nvPr/>
        </p:nvGrpSpPr>
        <p:grpSpPr>
          <a:xfrm>
            <a:off x="2324160" y="708120"/>
            <a:ext cx="2678760" cy="1027080"/>
            <a:chOff x="2324160" y="708120"/>
            <a:chExt cx="2678760" cy="1027080"/>
          </a:xfrm>
        </p:grpSpPr>
        <p:grpSp>
          <p:nvGrpSpPr>
            <p:cNvPr id="2332" name=""/>
            <p:cNvGrpSpPr/>
            <p:nvPr/>
          </p:nvGrpSpPr>
          <p:grpSpPr>
            <a:xfrm>
              <a:off x="2838240" y="708120"/>
              <a:ext cx="2164680" cy="988920"/>
              <a:chOff x="2838240" y="708120"/>
              <a:chExt cx="2164680" cy="988920"/>
            </a:xfrm>
          </p:grpSpPr>
          <p:grpSp>
            <p:nvGrpSpPr>
              <p:cNvPr id="2333" name=""/>
              <p:cNvGrpSpPr/>
              <p:nvPr/>
            </p:nvGrpSpPr>
            <p:grpSpPr>
              <a:xfrm>
                <a:off x="2838240" y="708120"/>
                <a:ext cx="2164680" cy="988920"/>
                <a:chOff x="2838240" y="708120"/>
                <a:chExt cx="2164680" cy="988920"/>
              </a:xfrm>
            </p:grpSpPr>
            <p:sp>
              <p:nvSpPr>
                <p:cNvPr id="2334" name=""/>
                <p:cNvSpPr/>
                <p:nvPr/>
              </p:nvSpPr>
              <p:spPr>
                <a:xfrm>
                  <a:off x="2971440" y="781200"/>
                  <a:ext cx="1949040" cy="86364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2907720" y="107172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 flipV="1">
                  <a:off x="2963520" y="784080"/>
                  <a:ext cx="59328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 flipH="1" flipV="1">
                  <a:off x="3548880" y="777960"/>
                  <a:ext cx="657000" cy="155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 flipH="1" flipV="1">
                  <a:off x="4286880" y="933480"/>
                  <a:ext cx="593640" cy="115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2838240" y="1243080"/>
                  <a:ext cx="18864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3449160" y="70812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4141440" y="860760"/>
                  <a:ext cx="19008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4814280" y="993960"/>
                  <a:ext cx="18864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3" name=""/>
              <p:cNvGrpSpPr/>
              <p:nvPr/>
            </p:nvGrpSpPr>
            <p:grpSpPr>
              <a:xfrm>
                <a:off x="3238200" y="844560"/>
                <a:ext cx="1326600" cy="774720"/>
                <a:chOff x="3238200" y="844560"/>
                <a:chExt cx="1326600" cy="774720"/>
              </a:xfrm>
            </p:grpSpPr>
            <p:sp>
              <p:nvSpPr>
                <p:cNvPr id="2344" name=""/>
                <p:cNvSpPr/>
                <p:nvPr/>
              </p:nvSpPr>
              <p:spPr>
                <a:xfrm>
                  <a:off x="3766320" y="844560"/>
                  <a:ext cx="25848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3238200" y="990720"/>
                  <a:ext cx="132660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6" name=""/>
            <p:cNvGrpSpPr/>
            <p:nvPr/>
          </p:nvGrpSpPr>
          <p:grpSpPr>
            <a:xfrm>
              <a:off x="2324160" y="746280"/>
              <a:ext cx="2164680" cy="988920"/>
              <a:chOff x="2324160" y="746280"/>
              <a:chExt cx="2164680" cy="988920"/>
            </a:xfrm>
          </p:grpSpPr>
          <p:grpSp>
            <p:nvGrpSpPr>
              <p:cNvPr id="2347" name=""/>
              <p:cNvGrpSpPr/>
              <p:nvPr/>
            </p:nvGrpSpPr>
            <p:grpSpPr>
              <a:xfrm>
                <a:off x="2324160" y="746280"/>
                <a:ext cx="2164680" cy="988920"/>
                <a:chOff x="2324160" y="746280"/>
                <a:chExt cx="2164680" cy="988920"/>
              </a:xfrm>
            </p:grpSpPr>
            <p:sp>
              <p:nvSpPr>
                <p:cNvPr id="2348" name=""/>
                <p:cNvSpPr/>
                <p:nvPr/>
              </p:nvSpPr>
              <p:spPr>
                <a:xfrm>
                  <a:off x="2457360" y="819360"/>
                  <a:ext cx="1949040" cy="86364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2393640" y="1109880"/>
                  <a:ext cx="199692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 flipV="1">
                  <a:off x="2449440" y="822240"/>
                  <a:ext cx="593280" cy="54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 flipH="1" flipV="1">
                  <a:off x="3034800" y="816120"/>
                  <a:ext cx="657000" cy="15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 flipH="1" flipV="1">
                  <a:off x="3772800" y="971640"/>
                  <a:ext cx="593640" cy="1159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2324160" y="1281240"/>
                  <a:ext cx="18864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2935080" y="74628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3627360" y="898920"/>
                  <a:ext cx="19008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4300200" y="1032120"/>
                  <a:ext cx="18864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7" name=""/>
              <p:cNvGrpSpPr/>
              <p:nvPr/>
            </p:nvGrpSpPr>
            <p:grpSpPr>
              <a:xfrm>
                <a:off x="2724120" y="882720"/>
                <a:ext cx="1326600" cy="774720"/>
                <a:chOff x="2724120" y="882720"/>
                <a:chExt cx="1326600" cy="774720"/>
              </a:xfrm>
            </p:grpSpPr>
            <p:sp>
              <p:nvSpPr>
                <p:cNvPr id="2358" name=""/>
                <p:cNvSpPr/>
                <p:nvPr/>
              </p:nvSpPr>
              <p:spPr>
                <a:xfrm>
                  <a:off x="3252240" y="882720"/>
                  <a:ext cx="25848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2724120" y="1028880"/>
                  <a:ext cx="132660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60" name=""/>
          <p:cNvGrpSpPr/>
          <p:nvPr/>
        </p:nvGrpSpPr>
        <p:grpSpPr>
          <a:xfrm>
            <a:off x="1809720" y="746280"/>
            <a:ext cx="2679840" cy="1027080"/>
            <a:chOff x="1809720" y="746280"/>
            <a:chExt cx="2679840" cy="1027080"/>
          </a:xfrm>
        </p:grpSpPr>
        <p:grpSp>
          <p:nvGrpSpPr>
            <p:cNvPr id="2361" name=""/>
            <p:cNvGrpSpPr/>
            <p:nvPr/>
          </p:nvGrpSpPr>
          <p:grpSpPr>
            <a:xfrm>
              <a:off x="2324160" y="746280"/>
              <a:ext cx="2165400" cy="988920"/>
              <a:chOff x="2324160" y="746280"/>
              <a:chExt cx="2165400" cy="988920"/>
            </a:xfrm>
          </p:grpSpPr>
          <p:grpSp>
            <p:nvGrpSpPr>
              <p:cNvPr id="2362" name=""/>
              <p:cNvGrpSpPr/>
              <p:nvPr/>
            </p:nvGrpSpPr>
            <p:grpSpPr>
              <a:xfrm>
                <a:off x="2324160" y="746280"/>
                <a:ext cx="2165400" cy="988920"/>
                <a:chOff x="2324160" y="746280"/>
                <a:chExt cx="2165400" cy="988920"/>
              </a:xfrm>
            </p:grpSpPr>
            <p:sp>
              <p:nvSpPr>
                <p:cNvPr id="2363" name=""/>
                <p:cNvSpPr/>
                <p:nvPr/>
              </p:nvSpPr>
              <p:spPr>
                <a:xfrm>
                  <a:off x="2457720" y="819360"/>
                  <a:ext cx="1949400" cy="86364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2394000" y="1109880"/>
                  <a:ext cx="199728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 flipV="1">
                  <a:off x="2449800" y="822240"/>
                  <a:ext cx="59364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 flipH="1" flipV="1">
                  <a:off x="3035520" y="816120"/>
                  <a:ext cx="657360" cy="155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 flipH="1" flipV="1">
                  <a:off x="3773520" y="971640"/>
                  <a:ext cx="594000" cy="115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2324160" y="1281240"/>
                  <a:ext cx="18900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2935440" y="74628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3627720" y="898920"/>
                  <a:ext cx="19044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4300560" y="103212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2" name=""/>
              <p:cNvGrpSpPr/>
              <p:nvPr/>
            </p:nvGrpSpPr>
            <p:grpSpPr>
              <a:xfrm>
                <a:off x="2724480" y="882720"/>
                <a:ext cx="1326960" cy="774720"/>
                <a:chOff x="2724480" y="882720"/>
                <a:chExt cx="1326960" cy="774720"/>
              </a:xfrm>
            </p:grpSpPr>
            <p:sp>
              <p:nvSpPr>
                <p:cNvPr id="2373" name=""/>
                <p:cNvSpPr/>
                <p:nvPr/>
              </p:nvSpPr>
              <p:spPr>
                <a:xfrm>
                  <a:off x="3252960" y="882720"/>
                  <a:ext cx="25884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2724480" y="1028880"/>
                  <a:ext cx="132696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75" name=""/>
            <p:cNvGrpSpPr/>
            <p:nvPr/>
          </p:nvGrpSpPr>
          <p:grpSpPr>
            <a:xfrm>
              <a:off x="1809720" y="784440"/>
              <a:ext cx="2165400" cy="988920"/>
              <a:chOff x="1809720" y="784440"/>
              <a:chExt cx="2165400" cy="988920"/>
            </a:xfrm>
          </p:grpSpPr>
          <p:grpSp>
            <p:nvGrpSpPr>
              <p:cNvPr id="2376" name=""/>
              <p:cNvGrpSpPr/>
              <p:nvPr/>
            </p:nvGrpSpPr>
            <p:grpSpPr>
              <a:xfrm>
                <a:off x="1809720" y="784440"/>
                <a:ext cx="2165400" cy="988920"/>
                <a:chOff x="1809720" y="784440"/>
                <a:chExt cx="2165400" cy="988920"/>
              </a:xfrm>
            </p:grpSpPr>
            <p:sp>
              <p:nvSpPr>
                <p:cNvPr id="2377" name=""/>
                <p:cNvSpPr/>
                <p:nvPr/>
              </p:nvSpPr>
              <p:spPr>
                <a:xfrm>
                  <a:off x="1943280" y="857520"/>
                  <a:ext cx="1949400" cy="86364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1879560" y="1148040"/>
                  <a:ext cx="199728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 flipV="1">
                  <a:off x="1935360" y="860400"/>
                  <a:ext cx="593640" cy="54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flipH="1" flipV="1">
                  <a:off x="2521080" y="854280"/>
                  <a:ext cx="657360" cy="15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 flipH="1" flipV="1">
                  <a:off x="3259080" y="1009800"/>
                  <a:ext cx="594000" cy="1159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1809720" y="1319400"/>
                  <a:ext cx="18900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2421000" y="78444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3113280" y="937080"/>
                  <a:ext cx="19044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3786120" y="107028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6" name=""/>
              <p:cNvGrpSpPr/>
              <p:nvPr/>
            </p:nvGrpSpPr>
            <p:grpSpPr>
              <a:xfrm>
                <a:off x="2210040" y="920880"/>
                <a:ext cx="1326960" cy="774720"/>
                <a:chOff x="2210040" y="920880"/>
                <a:chExt cx="1326960" cy="774720"/>
              </a:xfrm>
            </p:grpSpPr>
            <p:sp>
              <p:nvSpPr>
                <p:cNvPr id="2387" name=""/>
                <p:cNvSpPr/>
                <p:nvPr/>
              </p:nvSpPr>
              <p:spPr>
                <a:xfrm>
                  <a:off x="2738520" y="920880"/>
                  <a:ext cx="25884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2210040" y="1067040"/>
                  <a:ext cx="132696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89" name=""/>
          <p:cNvGrpSpPr/>
          <p:nvPr/>
        </p:nvGrpSpPr>
        <p:grpSpPr>
          <a:xfrm>
            <a:off x="1295280" y="784080"/>
            <a:ext cx="2679840" cy="1027080"/>
            <a:chOff x="1295280" y="784080"/>
            <a:chExt cx="2679840" cy="1027080"/>
          </a:xfrm>
        </p:grpSpPr>
        <p:grpSp>
          <p:nvGrpSpPr>
            <p:cNvPr id="2390" name=""/>
            <p:cNvGrpSpPr/>
            <p:nvPr/>
          </p:nvGrpSpPr>
          <p:grpSpPr>
            <a:xfrm>
              <a:off x="1809720" y="784080"/>
              <a:ext cx="2165400" cy="988920"/>
              <a:chOff x="1809720" y="784080"/>
              <a:chExt cx="2165400" cy="988920"/>
            </a:xfrm>
          </p:grpSpPr>
          <p:grpSp>
            <p:nvGrpSpPr>
              <p:cNvPr id="2391" name=""/>
              <p:cNvGrpSpPr/>
              <p:nvPr/>
            </p:nvGrpSpPr>
            <p:grpSpPr>
              <a:xfrm>
                <a:off x="1809720" y="784080"/>
                <a:ext cx="2165400" cy="988920"/>
                <a:chOff x="1809720" y="784080"/>
                <a:chExt cx="2165400" cy="988920"/>
              </a:xfrm>
            </p:grpSpPr>
            <p:sp>
              <p:nvSpPr>
                <p:cNvPr id="2392" name=""/>
                <p:cNvSpPr/>
                <p:nvPr/>
              </p:nvSpPr>
              <p:spPr>
                <a:xfrm>
                  <a:off x="1943280" y="857160"/>
                  <a:ext cx="1949400" cy="86364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1879560" y="1147680"/>
                  <a:ext cx="199728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flipV="1">
                  <a:off x="1935360" y="860040"/>
                  <a:ext cx="59364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flipH="1" flipV="1">
                  <a:off x="2521080" y="853920"/>
                  <a:ext cx="657360" cy="155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 flipH="1" flipV="1">
                  <a:off x="3259080" y="1009440"/>
                  <a:ext cx="594000" cy="115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1809720" y="1319040"/>
                  <a:ext cx="18900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2421000" y="78408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3113280" y="936720"/>
                  <a:ext cx="19044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3786120" y="106992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1" name=""/>
              <p:cNvGrpSpPr/>
              <p:nvPr/>
            </p:nvGrpSpPr>
            <p:grpSpPr>
              <a:xfrm>
                <a:off x="2210040" y="920520"/>
                <a:ext cx="1326960" cy="774720"/>
                <a:chOff x="2210040" y="920520"/>
                <a:chExt cx="1326960" cy="774720"/>
              </a:xfrm>
            </p:grpSpPr>
            <p:sp>
              <p:nvSpPr>
                <p:cNvPr id="2402" name=""/>
                <p:cNvSpPr/>
                <p:nvPr/>
              </p:nvSpPr>
              <p:spPr>
                <a:xfrm>
                  <a:off x="2738520" y="920520"/>
                  <a:ext cx="25884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2210040" y="1066680"/>
                  <a:ext cx="132696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04" name=""/>
            <p:cNvGrpSpPr/>
            <p:nvPr/>
          </p:nvGrpSpPr>
          <p:grpSpPr>
            <a:xfrm>
              <a:off x="1295280" y="822240"/>
              <a:ext cx="2165400" cy="988920"/>
              <a:chOff x="1295280" y="822240"/>
              <a:chExt cx="2165400" cy="988920"/>
            </a:xfrm>
          </p:grpSpPr>
          <p:grpSp>
            <p:nvGrpSpPr>
              <p:cNvPr id="2405" name=""/>
              <p:cNvGrpSpPr/>
              <p:nvPr/>
            </p:nvGrpSpPr>
            <p:grpSpPr>
              <a:xfrm>
                <a:off x="1295280" y="822240"/>
                <a:ext cx="2165400" cy="988920"/>
                <a:chOff x="1295280" y="822240"/>
                <a:chExt cx="2165400" cy="988920"/>
              </a:xfrm>
            </p:grpSpPr>
            <p:sp>
              <p:nvSpPr>
                <p:cNvPr id="2406" name=""/>
                <p:cNvSpPr/>
                <p:nvPr/>
              </p:nvSpPr>
              <p:spPr>
                <a:xfrm>
                  <a:off x="1428840" y="895320"/>
                  <a:ext cx="1949400" cy="86364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1365120" y="1185840"/>
                  <a:ext cx="199728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noFill/>
                <a:ln w="1260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flipV="1">
                  <a:off x="1420920" y="898200"/>
                  <a:ext cx="593640" cy="54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flipH="1" flipV="1">
                  <a:off x="2006640" y="892080"/>
                  <a:ext cx="657360" cy="15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 flipH="1" flipV="1">
                  <a:off x="2744640" y="1047600"/>
                  <a:ext cx="594000" cy="1159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1295280" y="1357200"/>
                  <a:ext cx="189000" cy="1699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1906560" y="82224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2598840" y="974880"/>
                  <a:ext cx="190440" cy="1728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3271680" y="1108080"/>
                  <a:ext cx="189000" cy="1713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5" name=""/>
              <p:cNvGrpSpPr/>
              <p:nvPr/>
            </p:nvGrpSpPr>
            <p:grpSpPr>
              <a:xfrm>
                <a:off x="1695600" y="958680"/>
                <a:ext cx="1326960" cy="774720"/>
                <a:chOff x="1695600" y="958680"/>
                <a:chExt cx="1326960" cy="774720"/>
              </a:xfrm>
            </p:grpSpPr>
            <p:sp>
              <p:nvSpPr>
                <p:cNvPr id="2416" name=""/>
                <p:cNvSpPr/>
                <p:nvPr/>
              </p:nvSpPr>
              <p:spPr>
                <a:xfrm>
                  <a:off x="2224080" y="958680"/>
                  <a:ext cx="25884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1695600" y="1104840"/>
                  <a:ext cx="132696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18" name=""/>
          <p:cNvGrpSpPr/>
          <p:nvPr/>
        </p:nvGrpSpPr>
        <p:grpSpPr>
          <a:xfrm>
            <a:off x="1276200" y="1108080"/>
            <a:ext cx="2755800" cy="1535040"/>
            <a:chOff x="1276200" y="1108080"/>
            <a:chExt cx="2755800" cy="1535040"/>
          </a:xfrm>
        </p:grpSpPr>
        <p:grpSp>
          <p:nvGrpSpPr>
            <p:cNvPr id="2419" name=""/>
            <p:cNvGrpSpPr/>
            <p:nvPr/>
          </p:nvGrpSpPr>
          <p:grpSpPr>
            <a:xfrm>
              <a:off x="1276200" y="1108080"/>
              <a:ext cx="2755800" cy="1535040"/>
              <a:chOff x="1276200" y="1108080"/>
              <a:chExt cx="2755800" cy="1535040"/>
            </a:xfrm>
          </p:grpSpPr>
          <p:sp>
            <p:nvSpPr>
              <p:cNvPr id="2420" name=""/>
              <p:cNvSpPr/>
              <p:nvPr/>
            </p:nvSpPr>
            <p:spPr>
              <a:xfrm>
                <a:off x="1396800" y="1174680"/>
                <a:ext cx="2546280" cy="1422360"/>
              </a:xfrm>
              <a:custGeom>
                <a:avLst/>
                <a:gdLst/>
                <a:ahLst/>
                <a:rect l="l" t="t" r="r" b="b"/>
                <a:pathLst>
                  <a:path w="1604" h="896">
                    <a:moveTo>
                      <a:pt x="0" y="172"/>
                    </a:moveTo>
                    <a:lnTo>
                      <a:pt x="128" y="268"/>
                    </a:lnTo>
                    <a:lnTo>
                      <a:pt x="252" y="304"/>
                    </a:lnTo>
                    <a:lnTo>
                      <a:pt x="412" y="352"/>
                    </a:lnTo>
                    <a:lnTo>
                      <a:pt x="512" y="368"/>
                    </a:lnTo>
                    <a:lnTo>
                      <a:pt x="628" y="360"/>
                    </a:lnTo>
                    <a:lnTo>
                      <a:pt x="716" y="348"/>
                    </a:lnTo>
                    <a:lnTo>
                      <a:pt x="832" y="292"/>
                    </a:lnTo>
                    <a:lnTo>
                      <a:pt x="940" y="220"/>
                    </a:lnTo>
                    <a:lnTo>
                      <a:pt x="1068" y="124"/>
                    </a:lnTo>
                    <a:lnTo>
                      <a:pt x="1184" y="40"/>
                    </a:lnTo>
                    <a:lnTo>
                      <a:pt x="1228" y="0"/>
                    </a:lnTo>
                    <a:lnTo>
                      <a:pt x="1604" y="104"/>
                    </a:lnTo>
                    <a:lnTo>
                      <a:pt x="692" y="896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1346040" y="1185840"/>
                <a:ext cx="1996920" cy="625320"/>
              </a:xfrm>
              <a:custGeom>
                <a:avLst/>
                <a:gdLst/>
                <a:ahLst/>
                <a:rect l="l" t="t" r="r" b="b"/>
                <a:pathLst>
                  <a:path w="1392" h="454">
                    <a:moveTo>
                      <a:pt x="1392" y="0"/>
                    </a:moveTo>
                    <a:cubicBezTo>
                      <a:pt x="1187" y="169"/>
                      <a:pt x="982" y="338"/>
                      <a:pt x="804" y="396"/>
                    </a:cubicBezTo>
                    <a:cubicBezTo>
                      <a:pt x="626" y="454"/>
                      <a:pt x="458" y="384"/>
                      <a:pt x="324" y="348"/>
                    </a:cubicBezTo>
                    <a:cubicBezTo>
                      <a:pt x="190" y="312"/>
                      <a:pt x="95" y="246"/>
                      <a:pt x="0" y="180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3311280" y="1176120"/>
                <a:ext cx="593640" cy="158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H="1">
                <a:off x="2490480" y="1333440"/>
                <a:ext cx="1434960" cy="12700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H="1" flipV="1">
                <a:off x="1385640" y="1433160"/>
                <a:ext cx="1046160" cy="11113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377800" y="2469960"/>
                <a:ext cx="189000" cy="1731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1276200" y="1357200"/>
                <a:ext cx="188640" cy="169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3252600" y="1108080"/>
                <a:ext cx="188640" cy="171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843000" y="1260360"/>
                <a:ext cx="189000" cy="171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9" name=""/>
            <p:cNvGrpSpPr/>
            <p:nvPr/>
          </p:nvGrpSpPr>
          <p:grpSpPr>
            <a:xfrm>
              <a:off x="1955520" y="1263600"/>
              <a:ext cx="1682640" cy="780840"/>
              <a:chOff x="1955520" y="1263600"/>
              <a:chExt cx="1682640" cy="780840"/>
            </a:xfrm>
          </p:grpSpPr>
          <p:sp>
            <p:nvSpPr>
              <p:cNvPr id="2430" name=""/>
              <p:cNvSpPr/>
              <p:nvPr/>
            </p:nvSpPr>
            <p:spPr>
              <a:xfrm>
                <a:off x="2463480" y="1739880"/>
                <a:ext cx="717480" cy="260280"/>
              </a:xfrm>
              <a:custGeom>
                <a:avLst/>
                <a:gdLst/>
                <a:ahLst/>
                <a:rect l="l" t="t" r="r" b="b"/>
                <a:pathLst>
                  <a:path w="452" h="164">
                    <a:moveTo>
                      <a:pt x="452" y="164"/>
                    </a:moveTo>
                    <a:cubicBezTo>
                      <a:pt x="405" y="157"/>
                      <a:pt x="359" y="151"/>
                      <a:pt x="284" y="124"/>
                    </a:cubicBezTo>
                    <a:cubicBezTo>
                      <a:pt x="209" y="97"/>
                      <a:pt x="104" y="48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955520" y="1263600"/>
                <a:ext cx="1682640" cy="780840"/>
              </a:xfrm>
              <a:custGeom>
                <a:avLst/>
                <a:gdLst/>
                <a:ahLst/>
                <a:rect l="l" t="t" r="r" b="b"/>
                <a:pathLst>
                  <a:path w="1060" h="492">
                    <a:moveTo>
                      <a:pt x="0" y="492"/>
                    </a:moveTo>
                    <a:cubicBezTo>
                      <a:pt x="171" y="481"/>
                      <a:pt x="343" y="470"/>
                      <a:pt x="520" y="388"/>
                    </a:cubicBezTo>
                    <a:cubicBezTo>
                      <a:pt x="697" y="306"/>
                      <a:pt x="878" y="153"/>
                      <a:pt x="106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2" name=""/>
          <p:cNvGrpSpPr/>
          <p:nvPr/>
        </p:nvGrpSpPr>
        <p:grpSpPr>
          <a:xfrm>
            <a:off x="973080" y="285840"/>
            <a:ext cx="3753000" cy="2457360"/>
            <a:chOff x="973080" y="285840"/>
            <a:chExt cx="3753000" cy="2457360"/>
          </a:xfrm>
        </p:grpSpPr>
        <p:sp>
          <p:nvSpPr>
            <p:cNvPr id="2433" name=""/>
            <p:cNvSpPr/>
            <p:nvPr/>
          </p:nvSpPr>
          <p:spPr>
            <a:xfrm>
              <a:off x="973080" y="285840"/>
              <a:ext cx="3753000" cy="2457360"/>
            </a:xfrm>
            <a:custGeom>
              <a:avLst/>
              <a:gdLst/>
              <a:ahLst/>
              <a:rect l="l" t="t" r="r" b="b"/>
              <a:pathLst>
                <a:path w="2364" h="1548">
                  <a:moveTo>
                    <a:pt x="607" y="12"/>
                  </a:moveTo>
                  <a:cubicBezTo>
                    <a:pt x="672" y="5"/>
                    <a:pt x="848" y="0"/>
                    <a:pt x="979" y="0"/>
                  </a:cubicBezTo>
                  <a:cubicBezTo>
                    <a:pt x="1110" y="0"/>
                    <a:pt x="1281" y="5"/>
                    <a:pt x="1395" y="12"/>
                  </a:cubicBezTo>
                  <a:cubicBezTo>
                    <a:pt x="1509" y="19"/>
                    <a:pt x="1578" y="26"/>
                    <a:pt x="1663" y="44"/>
                  </a:cubicBezTo>
                  <a:cubicBezTo>
                    <a:pt x="1748" y="62"/>
                    <a:pt x="1818" y="81"/>
                    <a:pt x="1903" y="120"/>
                  </a:cubicBezTo>
                  <a:cubicBezTo>
                    <a:pt x="1988" y="159"/>
                    <a:pt x="2106" y="227"/>
                    <a:pt x="2171" y="276"/>
                  </a:cubicBezTo>
                  <a:cubicBezTo>
                    <a:pt x="2236" y="325"/>
                    <a:pt x="2269" y="364"/>
                    <a:pt x="2295" y="412"/>
                  </a:cubicBezTo>
                  <a:cubicBezTo>
                    <a:pt x="2321" y="460"/>
                    <a:pt x="2364" y="481"/>
                    <a:pt x="2327" y="564"/>
                  </a:cubicBezTo>
                  <a:cubicBezTo>
                    <a:pt x="2290" y="647"/>
                    <a:pt x="2177" y="797"/>
                    <a:pt x="2071" y="912"/>
                  </a:cubicBezTo>
                  <a:cubicBezTo>
                    <a:pt x="1965" y="1027"/>
                    <a:pt x="1798" y="1167"/>
                    <a:pt x="1691" y="1256"/>
                  </a:cubicBezTo>
                  <a:cubicBezTo>
                    <a:pt x="1584" y="1345"/>
                    <a:pt x="1517" y="1397"/>
                    <a:pt x="1427" y="1444"/>
                  </a:cubicBezTo>
                  <a:cubicBezTo>
                    <a:pt x="1337" y="1491"/>
                    <a:pt x="1278" y="1524"/>
                    <a:pt x="1151" y="1536"/>
                  </a:cubicBezTo>
                  <a:cubicBezTo>
                    <a:pt x="1024" y="1548"/>
                    <a:pt x="810" y="1548"/>
                    <a:pt x="663" y="1516"/>
                  </a:cubicBezTo>
                  <a:cubicBezTo>
                    <a:pt x="516" y="1484"/>
                    <a:pt x="364" y="1417"/>
                    <a:pt x="267" y="1344"/>
                  </a:cubicBezTo>
                  <a:cubicBezTo>
                    <a:pt x="170" y="1271"/>
                    <a:pt x="123" y="1217"/>
                    <a:pt x="79" y="1080"/>
                  </a:cubicBezTo>
                  <a:cubicBezTo>
                    <a:pt x="35" y="943"/>
                    <a:pt x="0" y="675"/>
                    <a:pt x="3" y="524"/>
                  </a:cubicBezTo>
                  <a:cubicBezTo>
                    <a:pt x="6" y="373"/>
                    <a:pt x="28" y="258"/>
                    <a:pt x="95" y="176"/>
                  </a:cubicBezTo>
                  <a:cubicBezTo>
                    <a:pt x="162" y="94"/>
                    <a:pt x="304" y="61"/>
                    <a:pt x="403" y="32"/>
                  </a:cubicBezTo>
                  <a:cubicBezTo>
                    <a:pt x="502" y="3"/>
                    <a:pt x="659" y="5"/>
                    <a:pt x="691" y="4"/>
                  </a:cubicBezTo>
                  <a:cubicBezTo>
                    <a:pt x="723" y="3"/>
                    <a:pt x="622" y="9"/>
                    <a:pt x="595" y="24"/>
                  </a:cubicBezTo>
                  <a:cubicBezTo>
                    <a:pt x="568" y="39"/>
                    <a:pt x="550" y="69"/>
                    <a:pt x="527" y="92"/>
                  </a:cubicBezTo>
                  <a:cubicBezTo>
                    <a:pt x="504" y="115"/>
                    <a:pt x="470" y="136"/>
                    <a:pt x="455" y="164"/>
                  </a:cubicBezTo>
                  <a:cubicBezTo>
                    <a:pt x="440" y="192"/>
                    <a:pt x="431" y="225"/>
                    <a:pt x="435" y="260"/>
                  </a:cubicBezTo>
                  <a:cubicBezTo>
                    <a:pt x="439" y="295"/>
                    <a:pt x="461" y="338"/>
                    <a:pt x="479" y="376"/>
                  </a:cubicBezTo>
                  <a:cubicBezTo>
                    <a:pt x="497" y="414"/>
                    <a:pt x="576" y="430"/>
                    <a:pt x="543" y="488"/>
                  </a:cubicBezTo>
                  <a:cubicBezTo>
                    <a:pt x="510" y="546"/>
                    <a:pt x="322" y="679"/>
                    <a:pt x="283" y="724"/>
                  </a:cubicBezTo>
                  <a:cubicBezTo>
                    <a:pt x="244" y="769"/>
                    <a:pt x="199" y="642"/>
                    <a:pt x="307" y="760"/>
                  </a:cubicBezTo>
                  <a:cubicBezTo>
                    <a:pt x="415" y="878"/>
                    <a:pt x="822" y="1319"/>
                    <a:pt x="931" y="1432"/>
                  </a:cubicBezTo>
                  <a:cubicBezTo>
                    <a:pt x="1040" y="1545"/>
                    <a:pt x="965" y="1439"/>
                    <a:pt x="963" y="1440"/>
                  </a:cubicBezTo>
                  <a:cubicBezTo>
                    <a:pt x="961" y="1441"/>
                    <a:pt x="916" y="1438"/>
                    <a:pt x="919" y="1436"/>
                  </a:cubicBezTo>
                  <a:cubicBezTo>
                    <a:pt x="922" y="1434"/>
                    <a:pt x="962" y="1436"/>
                    <a:pt x="983" y="1428"/>
                  </a:cubicBezTo>
                  <a:cubicBezTo>
                    <a:pt x="1004" y="1420"/>
                    <a:pt x="915" y="1501"/>
                    <a:pt x="1047" y="1388"/>
                  </a:cubicBezTo>
                  <a:cubicBezTo>
                    <a:pt x="1179" y="1275"/>
                    <a:pt x="1640" y="872"/>
                    <a:pt x="1775" y="752"/>
                  </a:cubicBezTo>
                  <a:cubicBezTo>
                    <a:pt x="1910" y="632"/>
                    <a:pt x="1850" y="686"/>
                    <a:pt x="1859" y="668"/>
                  </a:cubicBezTo>
                  <a:cubicBezTo>
                    <a:pt x="1868" y="650"/>
                    <a:pt x="1880" y="659"/>
                    <a:pt x="1827" y="644"/>
                  </a:cubicBezTo>
                  <a:cubicBezTo>
                    <a:pt x="1774" y="629"/>
                    <a:pt x="1598" y="590"/>
                    <a:pt x="1539" y="576"/>
                  </a:cubicBezTo>
                  <a:cubicBezTo>
                    <a:pt x="1480" y="562"/>
                    <a:pt x="1491" y="565"/>
                    <a:pt x="1475" y="560"/>
                  </a:cubicBezTo>
                  <a:cubicBezTo>
                    <a:pt x="1459" y="555"/>
                    <a:pt x="1502" y="557"/>
                    <a:pt x="1443" y="544"/>
                  </a:cubicBezTo>
                  <a:cubicBezTo>
                    <a:pt x="1384" y="531"/>
                    <a:pt x="1188" y="493"/>
                    <a:pt x="1123" y="480"/>
                  </a:cubicBezTo>
                  <a:cubicBezTo>
                    <a:pt x="1058" y="467"/>
                    <a:pt x="1069" y="467"/>
                    <a:pt x="1051" y="464"/>
                  </a:cubicBezTo>
                  <a:cubicBezTo>
                    <a:pt x="1033" y="461"/>
                    <a:pt x="1069" y="475"/>
                    <a:pt x="1015" y="464"/>
                  </a:cubicBezTo>
                  <a:cubicBezTo>
                    <a:pt x="961" y="453"/>
                    <a:pt x="783" y="410"/>
                    <a:pt x="727" y="396"/>
                  </a:cubicBezTo>
                  <a:cubicBezTo>
                    <a:pt x="671" y="382"/>
                    <a:pt x="697" y="375"/>
                    <a:pt x="679" y="380"/>
                  </a:cubicBezTo>
                  <a:cubicBezTo>
                    <a:pt x="661" y="385"/>
                    <a:pt x="636" y="411"/>
                    <a:pt x="619" y="424"/>
                  </a:cubicBezTo>
                  <a:cubicBezTo>
                    <a:pt x="602" y="437"/>
                    <a:pt x="602" y="465"/>
                    <a:pt x="579" y="456"/>
                  </a:cubicBezTo>
                  <a:cubicBezTo>
                    <a:pt x="556" y="447"/>
                    <a:pt x="503" y="411"/>
                    <a:pt x="479" y="368"/>
                  </a:cubicBezTo>
                  <a:cubicBezTo>
                    <a:pt x="455" y="325"/>
                    <a:pt x="422" y="252"/>
                    <a:pt x="435" y="200"/>
                  </a:cubicBezTo>
                  <a:cubicBezTo>
                    <a:pt x="448" y="148"/>
                    <a:pt x="530" y="87"/>
                    <a:pt x="559" y="56"/>
                  </a:cubicBezTo>
                  <a:cubicBezTo>
                    <a:pt x="588" y="25"/>
                    <a:pt x="597" y="21"/>
                    <a:pt x="607" y="12"/>
                  </a:cubicBez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V="1">
              <a:off x="1419120" y="898200"/>
              <a:ext cx="593640" cy="54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H="1" flipV="1">
              <a:off x="2004840" y="892080"/>
              <a:ext cx="657360" cy="155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 flipV="1">
              <a:off x="2742840" y="1047600"/>
              <a:ext cx="593640" cy="115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328920" y="1176480"/>
              <a:ext cx="593640" cy="158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H="1">
              <a:off x="2507760" y="1333440"/>
              <a:ext cx="1435320" cy="1270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H="1" flipV="1">
              <a:off x="1403280" y="1433160"/>
              <a:ext cx="1046160" cy="1111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2395440" y="2470320"/>
              <a:ext cx="189000" cy="1728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1293840" y="1357200"/>
              <a:ext cx="189000" cy="169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1905120" y="822240"/>
              <a:ext cx="188640" cy="171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597040" y="974880"/>
              <a:ext cx="190440" cy="1728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270240" y="1108080"/>
              <a:ext cx="189000" cy="171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860640" y="1260360"/>
              <a:ext cx="189000" cy="171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1452600" y="655560"/>
              <a:ext cx="1665360" cy="544680"/>
            </a:xfrm>
            <a:custGeom>
              <a:avLst/>
              <a:gdLst/>
              <a:ahLst/>
              <a:rect l="l" t="t" r="r" b="b"/>
              <a:pathLst>
                <a:path w="1049" h="343">
                  <a:moveTo>
                    <a:pt x="148" y="343"/>
                  </a:moveTo>
                  <a:cubicBezTo>
                    <a:pt x="74" y="231"/>
                    <a:pt x="0" y="120"/>
                    <a:pt x="76" y="63"/>
                  </a:cubicBezTo>
                  <a:cubicBezTo>
                    <a:pt x="152" y="6"/>
                    <a:pt x="453" y="0"/>
                    <a:pt x="604" y="3"/>
                  </a:cubicBezTo>
                  <a:cubicBezTo>
                    <a:pt x="755" y="6"/>
                    <a:pt x="919" y="36"/>
                    <a:pt x="984" y="83"/>
                  </a:cubicBezTo>
                  <a:cubicBezTo>
                    <a:pt x="1049" y="130"/>
                    <a:pt x="1020" y="208"/>
                    <a:pt x="992" y="28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1050840" y="415800"/>
              <a:ext cx="2746440" cy="1657440"/>
            </a:xfrm>
            <a:custGeom>
              <a:avLst/>
              <a:gdLst/>
              <a:ahLst/>
              <a:rect l="l" t="t" r="r" b="b"/>
              <a:pathLst>
                <a:path w="1730" h="1044">
                  <a:moveTo>
                    <a:pt x="573" y="1030"/>
                  </a:moveTo>
                  <a:cubicBezTo>
                    <a:pt x="500" y="1007"/>
                    <a:pt x="196" y="1044"/>
                    <a:pt x="133" y="894"/>
                  </a:cubicBezTo>
                  <a:cubicBezTo>
                    <a:pt x="70" y="744"/>
                    <a:pt x="0" y="260"/>
                    <a:pt x="197" y="130"/>
                  </a:cubicBezTo>
                  <a:cubicBezTo>
                    <a:pt x="394" y="0"/>
                    <a:pt x="1070" y="82"/>
                    <a:pt x="1317" y="114"/>
                  </a:cubicBezTo>
                  <a:cubicBezTo>
                    <a:pt x="1564" y="146"/>
                    <a:pt x="1624" y="252"/>
                    <a:pt x="1677" y="322"/>
                  </a:cubicBezTo>
                  <a:cubicBezTo>
                    <a:pt x="1730" y="392"/>
                    <a:pt x="1683" y="463"/>
                    <a:pt x="1637" y="53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341440" y="404640"/>
              <a:ext cx="2046240" cy="1649520"/>
            </a:xfrm>
            <a:custGeom>
              <a:avLst/>
              <a:gdLst/>
              <a:ahLst/>
              <a:rect l="l" t="t" r="r" b="b"/>
              <a:pathLst>
                <a:path w="1289" h="1039">
                  <a:moveTo>
                    <a:pt x="0" y="357"/>
                  </a:moveTo>
                  <a:cubicBezTo>
                    <a:pt x="51" y="223"/>
                    <a:pt x="102" y="90"/>
                    <a:pt x="260" y="45"/>
                  </a:cubicBezTo>
                  <a:cubicBezTo>
                    <a:pt x="418" y="0"/>
                    <a:pt x="778" y="14"/>
                    <a:pt x="948" y="89"/>
                  </a:cubicBezTo>
                  <a:cubicBezTo>
                    <a:pt x="1118" y="164"/>
                    <a:pt x="1289" y="349"/>
                    <a:pt x="1280" y="493"/>
                  </a:cubicBezTo>
                  <a:cubicBezTo>
                    <a:pt x="1271" y="637"/>
                    <a:pt x="1015" y="867"/>
                    <a:pt x="892" y="953"/>
                  </a:cubicBezTo>
                  <a:cubicBezTo>
                    <a:pt x="769" y="1039"/>
                    <a:pt x="656" y="1024"/>
                    <a:pt x="544" y="100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9" name=""/>
          <p:cNvGrpSpPr/>
          <p:nvPr/>
        </p:nvGrpSpPr>
        <p:grpSpPr>
          <a:xfrm>
            <a:off x="973080" y="285840"/>
            <a:ext cx="3753000" cy="2971800"/>
            <a:chOff x="973080" y="285840"/>
            <a:chExt cx="3753000" cy="2971800"/>
          </a:xfrm>
        </p:grpSpPr>
        <p:grpSp>
          <p:nvGrpSpPr>
            <p:cNvPr id="2450" name=""/>
            <p:cNvGrpSpPr/>
            <p:nvPr/>
          </p:nvGrpSpPr>
          <p:grpSpPr>
            <a:xfrm>
              <a:off x="1809720" y="784080"/>
              <a:ext cx="2165400" cy="988920"/>
              <a:chOff x="1809720" y="784080"/>
              <a:chExt cx="2165400" cy="988920"/>
            </a:xfrm>
          </p:grpSpPr>
          <p:grpSp>
            <p:nvGrpSpPr>
              <p:cNvPr id="2451" name=""/>
              <p:cNvGrpSpPr/>
              <p:nvPr/>
            </p:nvGrpSpPr>
            <p:grpSpPr>
              <a:xfrm>
                <a:off x="1809720" y="784080"/>
                <a:ext cx="2165400" cy="988920"/>
                <a:chOff x="1809720" y="784080"/>
                <a:chExt cx="2165400" cy="988920"/>
              </a:xfrm>
            </p:grpSpPr>
            <p:sp>
              <p:nvSpPr>
                <p:cNvPr id="2452" name=""/>
                <p:cNvSpPr/>
                <p:nvPr/>
              </p:nvSpPr>
              <p:spPr>
                <a:xfrm>
                  <a:off x="1943280" y="857160"/>
                  <a:ext cx="1949400" cy="863640"/>
                </a:xfrm>
                <a:custGeom>
                  <a:avLst/>
                  <a:gdLst/>
                  <a:ahLst/>
                  <a:rect l="l" t="t" r="r" b="b"/>
                  <a:pathLst>
                    <a:path w="1228" h="544">
                      <a:moveTo>
                        <a:pt x="0" y="344"/>
                      </a:moveTo>
                      <a:lnTo>
                        <a:pt x="372" y="0"/>
                      </a:lnTo>
                      <a:lnTo>
                        <a:pt x="808" y="104"/>
                      </a:lnTo>
                      <a:lnTo>
                        <a:pt x="1228" y="180"/>
                      </a:lnTo>
                      <a:lnTo>
                        <a:pt x="940" y="392"/>
                      </a:lnTo>
                      <a:lnTo>
                        <a:pt x="784" y="484"/>
                      </a:lnTo>
                      <a:lnTo>
                        <a:pt x="676" y="528"/>
                      </a:lnTo>
                      <a:lnTo>
                        <a:pt x="604" y="540"/>
                      </a:lnTo>
                      <a:lnTo>
                        <a:pt x="548" y="544"/>
                      </a:lnTo>
                      <a:lnTo>
                        <a:pt x="440" y="532"/>
                      </a:lnTo>
                      <a:lnTo>
                        <a:pt x="260" y="484"/>
                      </a:lnTo>
                      <a:lnTo>
                        <a:pt x="120" y="44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1879560" y="1147680"/>
                  <a:ext cx="1997280" cy="625320"/>
                </a:xfrm>
                <a:custGeom>
                  <a:avLst/>
                  <a:gdLst/>
                  <a:ahLst/>
                  <a:rect l="l" t="t" r="r" b="b"/>
                  <a:pathLst>
                    <a:path w="1392" h="454">
                      <a:moveTo>
                        <a:pt x="1392" y="0"/>
                      </a:moveTo>
                      <a:cubicBezTo>
                        <a:pt x="1187" y="169"/>
                        <a:pt x="982" y="338"/>
                        <a:pt x="804" y="396"/>
                      </a:cubicBezTo>
                      <a:cubicBezTo>
                        <a:pt x="626" y="454"/>
                        <a:pt x="458" y="384"/>
                        <a:pt x="324" y="348"/>
                      </a:cubicBezTo>
                      <a:cubicBezTo>
                        <a:pt x="190" y="312"/>
                        <a:pt x="95" y="246"/>
                        <a:pt x="0" y="180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 flipV="1">
                  <a:off x="1935360" y="860040"/>
                  <a:ext cx="59364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 flipH="1" flipV="1">
                  <a:off x="2521080" y="853920"/>
                  <a:ext cx="657360" cy="155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 flipH="1" flipV="1">
                  <a:off x="3259080" y="1009440"/>
                  <a:ext cx="594000" cy="115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1809720" y="1319040"/>
                  <a:ext cx="189000" cy="16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2421000" y="78408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3113280" y="936720"/>
                  <a:ext cx="190440" cy="172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3786120" y="1069920"/>
                  <a:ext cx="189000" cy="171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1" name=""/>
              <p:cNvGrpSpPr/>
              <p:nvPr/>
            </p:nvGrpSpPr>
            <p:grpSpPr>
              <a:xfrm>
                <a:off x="2210040" y="920520"/>
                <a:ext cx="1326960" cy="774720"/>
                <a:chOff x="2210040" y="920520"/>
                <a:chExt cx="1326960" cy="774720"/>
              </a:xfrm>
            </p:grpSpPr>
            <p:sp>
              <p:nvSpPr>
                <p:cNvPr id="2462" name=""/>
                <p:cNvSpPr/>
                <p:nvPr/>
              </p:nvSpPr>
              <p:spPr>
                <a:xfrm>
                  <a:off x="2738520" y="920520"/>
                  <a:ext cx="25884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2210040" y="1066680"/>
                  <a:ext cx="132696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64" name=""/>
            <p:cNvGrpSpPr/>
            <p:nvPr/>
          </p:nvGrpSpPr>
          <p:grpSpPr>
            <a:xfrm>
              <a:off x="1295280" y="822240"/>
              <a:ext cx="2165400" cy="988920"/>
              <a:chOff x="1295280" y="822240"/>
              <a:chExt cx="2165400" cy="988920"/>
            </a:xfrm>
          </p:grpSpPr>
          <p:sp>
            <p:nvSpPr>
              <p:cNvPr id="2465" name=""/>
              <p:cNvSpPr/>
              <p:nvPr/>
            </p:nvSpPr>
            <p:spPr>
              <a:xfrm>
                <a:off x="1428840" y="895320"/>
                <a:ext cx="1949400" cy="863640"/>
              </a:xfrm>
              <a:custGeom>
                <a:avLst/>
                <a:gdLst/>
                <a:ahLst/>
                <a:rect l="l" t="t" r="r" b="b"/>
                <a:pathLst>
                  <a:path w="1228" h="544">
                    <a:moveTo>
                      <a:pt x="0" y="344"/>
                    </a:moveTo>
                    <a:lnTo>
                      <a:pt x="372" y="0"/>
                    </a:lnTo>
                    <a:lnTo>
                      <a:pt x="808" y="104"/>
                    </a:lnTo>
                    <a:lnTo>
                      <a:pt x="1228" y="180"/>
                    </a:lnTo>
                    <a:lnTo>
                      <a:pt x="940" y="392"/>
                    </a:lnTo>
                    <a:lnTo>
                      <a:pt x="784" y="484"/>
                    </a:lnTo>
                    <a:lnTo>
                      <a:pt x="676" y="528"/>
                    </a:lnTo>
                    <a:lnTo>
                      <a:pt x="604" y="540"/>
                    </a:lnTo>
                    <a:lnTo>
                      <a:pt x="548" y="544"/>
                    </a:lnTo>
                    <a:lnTo>
                      <a:pt x="440" y="532"/>
                    </a:lnTo>
                    <a:lnTo>
                      <a:pt x="260" y="484"/>
                    </a:lnTo>
                    <a:lnTo>
                      <a:pt x="120" y="440"/>
                    </a:lnTo>
                    <a:lnTo>
                      <a:pt x="0" y="344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365120" y="1185840"/>
                <a:ext cx="1997280" cy="625320"/>
              </a:xfrm>
              <a:custGeom>
                <a:avLst/>
                <a:gdLst/>
                <a:ahLst/>
                <a:rect l="l" t="t" r="r" b="b"/>
                <a:pathLst>
                  <a:path w="1392" h="454">
                    <a:moveTo>
                      <a:pt x="1392" y="0"/>
                    </a:moveTo>
                    <a:cubicBezTo>
                      <a:pt x="1187" y="169"/>
                      <a:pt x="982" y="338"/>
                      <a:pt x="804" y="396"/>
                    </a:cubicBezTo>
                    <a:cubicBezTo>
                      <a:pt x="626" y="454"/>
                      <a:pt x="458" y="384"/>
                      <a:pt x="324" y="348"/>
                    </a:cubicBezTo>
                    <a:cubicBezTo>
                      <a:pt x="190" y="312"/>
                      <a:pt x="95" y="246"/>
                      <a:pt x="0" y="180"/>
                    </a:cubicBez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1420920" y="898200"/>
                <a:ext cx="593640" cy="546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 flipV="1">
                <a:off x="2006640" y="892080"/>
                <a:ext cx="657360" cy="155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 flipV="1">
                <a:off x="2744640" y="1047600"/>
                <a:ext cx="594000" cy="115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295280" y="1357200"/>
                <a:ext cx="189000" cy="16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906560" y="822240"/>
                <a:ext cx="189000" cy="171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2598840" y="974880"/>
                <a:ext cx="190440" cy="172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3271680" y="1108080"/>
                <a:ext cx="189000" cy="171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4" name=""/>
            <p:cNvGrpSpPr/>
            <p:nvPr/>
          </p:nvGrpSpPr>
          <p:grpSpPr>
            <a:xfrm>
              <a:off x="1276200" y="1108080"/>
              <a:ext cx="2755800" cy="1535040"/>
              <a:chOff x="1276200" y="1108080"/>
              <a:chExt cx="2755800" cy="1535040"/>
            </a:xfrm>
          </p:grpSpPr>
          <p:sp>
            <p:nvSpPr>
              <p:cNvPr id="2475" name=""/>
              <p:cNvSpPr/>
              <p:nvPr/>
            </p:nvSpPr>
            <p:spPr>
              <a:xfrm>
                <a:off x="1396800" y="1174680"/>
                <a:ext cx="2546280" cy="1422360"/>
              </a:xfrm>
              <a:custGeom>
                <a:avLst/>
                <a:gdLst/>
                <a:ahLst/>
                <a:rect l="l" t="t" r="r" b="b"/>
                <a:pathLst>
                  <a:path w="1604" h="896">
                    <a:moveTo>
                      <a:pt x="0" y="172"/>
                    </a:moveTo>
                    <a:lnTo>
                      <a:pt x="128" y="268"/>
                    </a:lnTo>
                    <a:lnTo>
                      <a:pt x="252" y="304"/>
                    </a:lnTo>
                    <a:lnTo>
                      <a:pt x="412" y="352"/>
                    </a:lnTo>
                    <a:lnTo>
                      <a:pt x="512" y="368"/>
                    </a:lnTo>
                    <a:lnTo>
                      <a:pt x="628" y="360"/>
                    </a:lnTo>
                    <a:lnTo>
                      <a:pt x="716" y="348"/>
                    </a:lnTo>
                    <a:lnTo>
                      <a:pt x="832" y="292"/>
                    </a:lnTo>
                    <a:lnTo>
                      <a:pt x="940" y="220"/>
                    </a:lnTo>
                    <a:lnTo>
                      <a:pt x="1068" y="124"/>
                    </a:lnTo>
                    <a:lnTo>
                      <a:pt x="1184" y="40"/>
                    </a:lnTo>
                    <a:lnTo>
                      <a:pt x="1228" y="0"/>
                    </a:lnTo>
                    <a:lnTo>
                      <a:pt x="1604" y="104"/>
                    </a:lnTo>
                    <a:lnTo>
                      <a:pt x="692" y="896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346040" y="1185840"/>
                <a:ext cx="1996920" cy="625320"/>
              </a:xfrm>
              <a:custGeom>
                <a:avLst/>
                <a:gdLst/>
                <a:ahLst/>
                <a:rect l="l" t="t" r="r" b="b"/>
                <a:pathLst>
                  <a:path w="1392" h="454">
                    <a:moveTo>
                      <a:pt x="1392" y="0"/>
                    </a:moveTo>
                    <a:cubicBezTo>
                      <a:pt x="1187" y="169"/>
                      <a:pt x="982" y="338"/>
                      <a:pt x="804" y="396"/>
                    </a:cubicBezTo>
                    <a:cubicBezTo>
                      <a:pt x="626" y="454"/>
                      <a:pt x="458" y="384"/>
                      <a:pt x="324" y="348"/>
                    </a:cubicBezTo>
                    <a:cubicBezTo>
                      <a:pt x="190" y="312"/>
                      <a:pt x="95" y="246"/>
                      <a:pt x="0" y="180"/>
                    </a:cubicBez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3311280" y="1176120"/>
                <a:ext cx="593640" cy="1587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>
                <a:off x="2490480" y="1333440"/>
                <a:ext cx="1434960" cy="1270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 flipV="1">
                <a:off x="1385640" y="1433160"/>
                <a:ext cx="1046160" cy="1111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2377800" y="2469960"/>
                <a:ext cx="189000" cy="173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276200" y="1357200"/>
                <a:ext cx="188640" cy="16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3252600" y="1108080"/>
                <a:ext cx="188640" cy="171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3843000" y="1260360"/>
                <a:ext cx="189000" cy="171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4" name=""/>
            <p:cNvSpPr/>
            <p:nvPr/>
          </p:nvSpPr>
          <p:spPr>
            <a:xfrm>
              <a:off x="973080" y="285840"/>
              <a:ext cx="3753000" cy="2457360"/>
            </a:xfrm>
            <a:custGeom>
              <a:avLst/>
              <a:gdLst/>
              <a:ahLst/>
              <a:rect l="l" t="t" r="r" b="b"/>
              <a:pathLst>
                <a:path w="2364" h="1548">
                  <a:moveTo>
                    <a:pt x="607" y="12"/>
                  </a:moveTo>
                  <a:cubicBezTo>
                    <a:pt x="672" y="5"/>
                    <a:pt x="848" y="0"/>
                    <a:pt x="979" y="0"/>
                  </a:cubicBezTo>
                  <a:cubicBezTo>
                    <a:pt x="1110" y="0"/>
                    <a:pt x="1281" y="5"/>
                    <a:pt x="1395" y="12"/>
                  </a:cubicBezTo>
                  <a:cubicBezTo>
                    <a:pt x="1509" y="19"/>
                    <a:pt x="1578" y="26"/>
                    <a:pt x="1663" y="44"/>
                  </a:cubicBezTo>
                  <a:cubicBezTo>
                    <a:pt x="1748" y="62"/>
                    <a:pt x="1818" y="81"/>
                    <a:pt x="1903" y="120"/>
                  </a:cubicBezTo>
                  <a:cubicBezTo>
                    <a:pt x="1988" y="159"/>
                    <a:pt x="2106" y="227"/>
                    <a:pt x="2171" y="276"/>
                  </a:cubicBezTo>
                  <a:cubicBezTo>
                    <a:pt x="2236" y="325"/>
                    <a:pt x="2269" y="364"/>
                    <a:pt x="2295" y="412"/>
                  </a:cubicBezTo>
                  <a:cubicBezTo>
                    <a:pt x="2321" y="460"/>
                    <a:pt x="2364" y="481"/>
                    <a:pt x="2327" y="564"/>
                  </a:cubicBezTo>
                  <a:cubicBezTo>
                    <a:pt x="2290" y="647"/>
                    <a:pt x="2177" y="797"/>
                    <a:pt x="2071" y="912"/>
                  </a:cubicBezTo>
                  <a:cubicBezTo>
                    <a:pt x="1965" y="1027"/>
                    <a:pt x="1798" y="1167"/>
                    <a:pt x="1691" y="1256"/>
                  </a:cubicBezTo>
                  <a:cubicBezTo>
                    <a:pt x="1584" y="1345"/>
                    <a:pt x="1517" y="1397"/>
                    <a:pt x="1427" y="1444"/>
                  </a:cubicBezTo>
                  <a:cubicBezTo>
                    <a:pt x="1337" y="1491"/>
                    <a:pt x="1278" y="1524"/>
                    <a:pt x="1151" y="1536"/>
                  </a:cubicBezTo>
                  <a:cubicBezTo>
                    <a:pt x="1024" y="1548"/>
                    <a:pt x="810" y="1548"/>
                    <a:pt x="663" y="1516"/>
                  </a:cubicBezTo>
                  <a:cubicBezTo>
                    <a:pt x="516" y="1484"/>
                    <a:pt x="364" y="1417"/>
                    <a:pt x="267" y="1344"/>
                  </a:cubicBezTo>
                  <a:cubicBezTo>
                    <a:pt x="170" y="1271"/>
                    <a:pt x="123" y="1217"/>
                    <a:pt x="79" y="1080"/>
                  </a:cubicBezTo>
                  <a:cubicBezTo>
                    <a:pt x="35" y="943"/>
                    <a:pt x="0" y="675"/>
                    <a:pt x="3" y="524"/>
                  </a:cubicBezTo>
                  <a:cubicBezTo>
                    <a:pt x="6" y="373"/>
                    <a:pt x="28" y="258"/>
                    <a:pt x="95" y="176"/>
                  </a:cubicBezTo>
                  <a:cubicBezTo>
                    <a:pt x="162" y="94"/>
                    <a:pt x="304" y="61"/>
                    <a:pt x="403" y="32"/>
                  </a:cubicBezTo>
                  <a:cubicBezTo>
                    <a:pt x="502" y="3"/>
                    <a:pt x="659" y="5"/>
                    <a:pt x="691" y="4"/>
                  </a:cubicBezTo>
                  <a:cubicBezTo>
                    <a:pt x="723" y="3"/>
                    <a:pt x="622" y="9"/>
                    <a:pt x="595" y="24"/>
                  </a:cubicBezTo>
                  <a:cubicBezTo>
                    <a:pt x="568" y="39"/>
                    <a:pt x="550" y="69"/>
                    <a:pt x="527" y="92"/>
                  </a:cubicBezTo>
                  <a:cubicBezTo>
                    <a:pt x="504" y="115"/>
                    <a:pt x="470" y="136"/>
                    <a:pt x="455" y="164"/>
                  </a:cubicBezTo>
                  <a:cubicBezTo>
                    <a:pt x="440" y="192"/>
                    <a:pt x="431" y="225"/>
                    <a:pt x="435" y="260"/>
                  </a:cubicBezTo>
                  <a:cubicBezTo>
                    <a:pt x="439" y="295"/>
                    <a:pt x="461" y="338"/>
                    <a:pt x="479" y="376"/>
                  </a:cubicBezTo>
                  <a:cubicBezTo>
                    <a:pt x="497" y="414"/>
                    <a:pt x="576" y="430"/>
                    <a:pt x="543" y="488"/>
                  </a:cubicBezTo>
                  <a:cubicBezTo>
                    <a:pt x="510" y="546"/>
                    <a:pt x="322" y="679"/>
                    <a:pt x="283" y="724"/>
                  </a:cubicBezTo>
                  <a:cubicBezTo>
                    <a:pt x="244" y="769"/>
                    <a:pt x="199" y="642"/>
                    <a:pt x="307" y="760"/>
                  </a:cubicBezTo>
                  <a:cubicBezTo>
                    <a:pt x="415" y="878"/>
                    <a:pt x="822" y="1319"/>
                    <a:pt x="931" y="1432"/>
                  </a:cubicBezTo>
                  <a:cubicBezTo>
                    <a:pt x="1040" y="1545"/>
                    <a:pt x="965" y="1439"/>
                    <a:pt x="963" y="1440"/>
                  </a:cubicBezTo>
                  <a:cubicBezTo>
                    <a:pt x="961" y="1441"/>
                    <a:pt x="916" y="1438"/>
                    <a:pt x="919" y="1436"/>
                  </a:cubicBezTo>
                  <a:cubicBezTo>
                    <a:pt x="922" y="1434"/>
                    <a:pt x="962" y="1436"/>
                    <a:pt x="983" y="1428"/>
                  </a:cubicBezTo>
                  <a:cubicBezTo>
                    <a:pt x="1004" y="1420"/>
                    <a:pt x="915" y="1501"/>
                    <a:pt x="1047" y="1388"/>
                  </a:cubicBezTo>
                  <a:cubicBezTo>
                    <a:pt x="1179" y="1275"/>
                    <a:pt x="1640" y="872"/>
                    <a:pt x="1775" y="752"/>
                  </a:cubicBezTo>
                  <a:cubicBezTo>
                    <a:pt x="1910" y="632"/>
                    <a:pt x="1850" y="686"/>
                    <a:pt x="1859" y="668"/>
                  </a:cubicBezTo>
                  <a:cubicBezTo>
                    <a:pt x="1868" y="650"/>
                    <a:pt x="1880" y="659"/>
                    <a:pt x="1827" y="644"/>
                  </a:cubicBezTo>
                  <a:cubicBezTo>
                    <a:pt x="1774" y="629"/>
                    <a:pt x="1598" y="590"/>
                    <a:pt x="1539" y="576"/>
                  </a:cubicBezTo>
                  <a:cubicBezTo>
                    <a:pt x="1480" y="562"/>
                    <a:pt x="1491" y="565"/>
                    <a:pt x="1475" y="560"/>
                  </a:cubicBezTo>
                  <a:cubicBezTo>
                    <a:pt x="1459" y="555"/>
                    <a:pt x="1502" y="557"/>
                    <a:pt x="1443" y="544"/>
                  </a:cubicBezTo>
                  <a:cubicBezTo>
                    <a:pt x="1384" y="531"/>
                    <a:pt x="1188" y="493"/>
                    <a:pt x="1123" y="480"/>
                  </a:cubicBezTo>
                  <a:cubicBezTo>
                    <a:pt x="1058" y="467"/>
                    <a:pt x="1069" y="467"/>
                    <a:pt x="1051" y="464"/>
                  </a:cubicBezTo>
                  <a:cubicBezTo>
                    <a:pt x="1033" y="461"/>
                    <a:pt x="1069" y="475"/>
                    <a:pt x="1015" y="464"/>
                  </a:cubicBezTo>
                  <a:cubicBezTo>
                    <a:pt x="961" y="453"/>
                    <a:pt x="783" y="410"/>
                    <a:pt x="727" y="396"/>
                  </a:cubicBezTo>
                  <a:cubicBezTo>
                    <a:pt x="671" y="382"/>
                    <a:pt x="697" y="375"/>
                    <a:pt x="679" y="380"/>
                  </a:cubicBezTo>
                  <a:cubicBezTo>
                    <a:pt x="661" y="385"/>
                    <a:pt x="636" y="411"/>
                    <a:pt x="619" y="424"/>
                  </a:cubicBezTo>
                  <a:cubicBezTo>
                    <a:pt x="602" y="437"/>
                    <a:pt x="602" y="465"/>
                    <a:pt x="579" y="456"/>
                  </a:cubicBezTo>
                  <a:cubicBezTo>
                    <a:pt x="556" y="447"/>
                    <a:pt x="503" y="411"/>
                    <a:pt x="479" y="368"/>
                  </a:cubicBezTo>
                  <a:cubicBezTo>
                    <a:pt x="455" y="325"/>
                    <a:pt x="422" y="252"/>
                    <a:pt x="435" y="200"/>
                  </a:cubicBezTo>
                  <a:cubicBezTo>
                    <a:pt x="448" y="148"/>
                    <a:pt x="530" y="87"/>
                    <a:pt x="559" y="56"/>
                  </a:cubicBezTo>
                  <a:cubicBezTo>
                    <a:pt x="588" y="25"/>
                    <a:pt x="597" y="21"/>
                    <a:pt x="607" y="12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V="1">
              <a:off x="1419120" y="898200"/>
              <a:ext cx="594000" cy="546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H="1" flipV="1">
              <a:off x="2004840" y="892080"/>
              <a:ext cx="657360" cy="155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H="1" flipV="1">
              <a:off x="2742840" y="1047600"/>
              <a:ext cx="593640" cy="115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328920" y="1176480"/>
              <a:ext cx="593640" cy="158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flipH="1">
              <a:off x="2507760" y="1333440"/>
              <a:ext cx="1435320" cy="1270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H="1" flipV="1">
              <a:off x="1403280" y="1433160"/>
              <a:ext cx="1046160" cy="111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2395440" y="2470320"/>
              <a:ext cx="189000" cy="172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293840" y="1357200"/>
              <a:ext cx="189000" cy="16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905120" y="822240"/>
              <a:ext cx="188640" cy="171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597040" y="974880"/>
              <a:ext cx="190440" cy="172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270240" y="1108080"/>
              <a:ext cx="189000" cy="171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3860640" y="1260360"/>
              <a:ext cx="189000" cy="17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7" name=""/>
            <p:cNvGrpSpPr/>
            <p:nvPr/>
          </p:nvGrpSpPr>
          <p:grpSpPr>
            <a:xfrm>
              <a:off x="1050840" y="404640"/>
              <a:ext cx="3336840" cy="1668600"/>
              <a:chOff x="1050840" y="404640"/>
              <a:chExt cx="3336840" cy="1668600"/>
            </a:xfrm>
          </p:grpSpPr>
          <p:grpSp>
            <p:nvGrpSpPr>
              <p:cNvPr id="2498" name=""/>
              <p:cNvGrpSpPr/>
              <p:nvPr/>
            </p:nvGrpSpPr>
            <p:grpSpPr>
              <a:xfrm>
                <a:off x="1695600" y="958680"/>
                <a:ext cx="1326960" cy="774720"/>
                <a:chOff x="1695600" y="958680"/>
                <a:chExt cx="1326960" cy="774720"/>
              </a:xfrm>
            </p:grpSpPr>
            <p:sp>
              <p:nvSpPr>
                <p:cNvPr id="2499" name=""/>
                <p:cNvSpPr/>
                <p:nvPr/>
              </p:nvSpPr>
              <p:spPr>
                <a:xfrm>
                  <a:off x="2224080" y="958680"/>
                  <a:ext cx="258840" cy="774720"/>
                </a:xfrm>
                <a:custGeom>
                  <a:avLst/>
                  <a:gdLst/>
                  <a:ahLst/>
                  <a:rect l="l" t="t" r="r" b="b"/>
                  <a:pathLst>
                    <a:path w="163" h="488">
                      <a:moveTo>
                        <a:pt x="163" y="488"/>
                      </a:moveTo>
                      <a:cubicBezTo>
                        <a:pt x="96" y="442"/>
                        <a:pt x="30" y="397"/>
                        <a:pt x="15" y="316"/>
                      </a:cubicBezTo>
                      <a:cubicBezTo>
                        <a:pt x="0" y="235"/>
                        <a:pt x="37" y="117"/>
                        <a:pt x="75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1695600" y="1104840"/>
                  <a:ext cx="1326960" cy="262080"/>
                </a:xfrm>
                <a:custGeom>
                  <a:avLst/>
                  <a:gdLst/>
                  <a:ahLst/>
                  <a:rect l="l" t="t" r="r" b="b"/>
                  <a:pathLst>
                    <a:path w="836" h="165">
                      <a:moveTo>
                        <a:pt x="0" y="60"/>
                      </a:moveTo>
                      <a:cubicBezTo>
                        <a:pt x="45" y="85"/>
                        <a:pt x="90" y="110"/>
                        <a:pt x="176" y="124"/>
                      </a:cubicBezTo>
                      <a:cubicBezTo>
                        <a:pt x="262" y="138"/>
                        <a:pt x="406" y="165"/>
                        <a:pt x="516" y="144"/>
                      </a:cubicBezTo>
                      <a:cubicBezTo>
                        <a:pt x="626" y="123"/>
                        <a:pt x="731" y="61"/>
                        <a:pt x="836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1" name=""/>
              <p:cNvGrpSpPr/>
              <p:nvPr/>
            </p:nvGrpSpPr>
            <p:grpSpPr>
              <a:xfrm>
                <a:off x="1955880" y="1263600"/>
                <a:ext cx="1682640" cy="780840"/>
                <a:chOff x="1955880" y="1263600"/>
                <a:chExt cx="1682640" cy="780840"/>
              </a:xfrm>
            </p:grpSpPr>
            <p:sp>
              <p:nvSpPr>
                <p:cNvPr id="2502" name=""/>
                <p:cNvSpPr/>
                <p:nvPr/>
              </p:nvSpPr>
              <p:spPr>
                <a:xfrm>
                  <a:off x="2463840" y="1739880"/>
                  <a:ext cx="717480" cy="260280"/>
                </a:xfrm>
                <a:custGeom>
                  <a:avLst/>
                  <a:gdLst/>
                  <a:ahLst/>
                  <a:rect l="l" t="t" r="r" b="b"/>
                  <a:pathLst>
                    <a:path w="452" h="164">
                      <a:moveTo>
                        <a:pt x="452" y="164"/>
                      </a:moveTo>
                      <a:cubicBezTo>
                        <a:pt x="405" y="157"/>
                        <a:pt x="359" y="151"/>
                        <a:pt x="284" y="124"/>
                      </a:cubicBezTo>
                      <a:cubicBezTo>
                        <a:pt x="209" y="97"/>
                        <a:pt x="104" y="4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1955880" y="1263600"/>
                  <a:ext cx="1682640" cy="780840"/>
                </a:xfrm>
                <a:custGeom>
                  <a:avLst/>
                  <a:gdLst/>
                  <a:ahLst/>
                  <a:rect l="l" t="t" r="r" b="b"/>
                  <a:pathLst>
                    <a:path w="1060" h="492">
                      <a:moveTo>
                        <a:pt x="0" y="492"/>
                      </a:moveTo>
                      <a:cubicBezTo>
                        <a:pt x="171" y="481"/>
                        <a:pt x="343" y="470"/>
                        <a:pt x="520" y="388"/>
                      </a:cubicBezTo>
                      <a:cubicBezTo>
                        <a:pt x="697" y="306"/>
                        <a:pt x="878" y="153"/>
                        <a:pt x="106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4" name=""/>
              <p:cNvSpPr/>
              <p:nvPr/>
            </p:nvSpPr>
            <p:spPr>
              <a:xfrm>
                <a:off x="1452600" y="655560"/>
                <a:ext cx="1665360" cy="544680"/>
              </a:xfrm>
              <a:custGeom>
                <a:avLst/>
                <a:gdLst/>
                <a:ahLst/>
                <a:rect l="l" t="t" r="r" b="b"/>
                <a:pathLst>
                  <a:path w="1049" h="343">
                    <a:moveTo>
                      <a:pt x="148" y="343"/>
                    </a:moveTo>
                    <a:cubicBezTo>
                      <a:pt x="74" y="231"/>
                      <a:pt x="0" y="120"/>
                      <a:pt x="76" y="63"/>
                    </a:cubicBezTo>
                    <a:cubicBezTo>
                      <a:pt x="152" y="6"/>
                      <a:pt x="453" y="0"/>
                      <a:pt x="604" y="3"/>
                    </a:cubicBezTo>
                    <a:cubicBezTo>
                      <a:pt x="755" y="6"/>
                      <a:pt x="919" y="36"/>
                      <a:pt x="984" y="83"/>
                    </a:cubicBezTo>
                    <a:cubicBezTo>
                      <a:pt x="1049" y="130"/>
                      <a:pt x="1020" y="208"/>
                      <a:pt x="992" y="28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050840" y="415800"/>
                <a:ext cx="2746440" cy="1657440"/>
              </a:xfrm>
              <a:custGeom>
                <a:avLst/>
                <a:gdLst/>
                <a:ahLst/>
                <a:rect l="l" t="t" r="r" b="b"/>
                <a:pathLst>
                  <a:path w="1730" h="1044">
                    <a:moveTo>
                      <a:pt x="573" y="1030"/>
                    </a:moveTo>
                    <a:cubicBezTo>
                      <a:pt x="500" y="1007"/>
                      <a:pt x="196" y="1044"/>
                      <a:pt x="133" y="894"/>
                    </a:cubicBezTo>
                    <a:cubicBezTo>
                      <a:pt x="70" y="744"/>
                      <a:pt x="0" y="260"/>
                      <a:pt x="197" y="130"/>
                    </a:cubicBezTo>
                    <a:cubicBezTo>
                      <a:pt x="394" y="0"/>
                      <a:pt x="1070" y="82"/>
                      <a:pt x="1317" y="114"/>
                    </a:cubicBezTo>
                    <a:cubicBezTo>
                      <a:pt x="1564" y="146"/>
                      <a:pt x="1624" y="252"/>
                      <a:pt x="1677" y="322"/>
                    </a:cubicBezTo>
                    <a:cubicBezTo>
                      <a:pt x="1730" y="392"/>
                      <a:pt x="1683" y="463"/>
                      <a:pt x="1637" y="53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2341440" y="404640"/>
                <a:ext cx="2046240" cy="1649520"/>
              </a:xfrm>
              <a:custGeom>
                <a:avLst/>
                <a:gdLst/>
                <a:ahLst/>
                <a:rect l="l" t="t" r="r" b="b"/>
                <a:pathLst>
                  <a:path w="1289" h="1039">
                    <a:moveTo>
                      <a:pt x="0" y="357"/>
                    </a:moveTo>
                    <a:cubicBezTo>
                      <a:pt x="51" y="223"/>
                      <a:pt x="102" y="90"/>
                      <a:pt x="260" y="45"/>
                    </a:cubicBezTo>
                    <a:cubicBezTo>
                      <a:pt x="418" y="0"/>
                      <a:pt x="778" y="14"/>
                      <a:pt x="948" y="89"/>
                    </a:cubicBezTo>
                    <a:cubicBezTo>
                      <a:pt x="1118" y="164"/>
                      <a:pt x="1289" y="349"/>
                      <a:pt x="1280" y="493"/>
                    </a:cubicBezTo>
                    <a:cubicBezTo>
                      <a:pt x="1271" y="637"/>
                      <a:pt x="1015" y="867"/>
                      <a:pt x="892" y="953"/>
                    </a:cubicBezTo>
                    <a:cubicBezTo>
                      <a:pt x="769" y="1039"/>
                      <a:pt x="656" y="1024"/>
                      <a:pt x="544" y="1009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7" name=""/>
            <p:cNvSpPr/>
            <p:nvPr/>
          </p:nvSpPr>
          <p:spPr>
            <a:xfrm>
              <a:off x="1181160" y="2266920"/>
              <a:ext cx="3066840" cy="990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9D8A-5D40-41DE-8162-DA7A58D1DA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structing contours from straight line seg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4777560" y="3120120"/>
            <a:ext cx="2413440" cy="2490120"/>
            <a:chOff x="4777560" y="3120120"/>
            <a:chExt cx="2413440" cy="2490120"/>
          </a:xfrm>
        </p:grpSpPr>
        <p:sp>
          <p:nvSpPr>
            <p:cNvPr id="2510" name=""/>
            <p:cNvSpPr/>
            <p:nvPr/>
          </p:nvSpPr>
          <p:spPr>
            <a:xfrm flipH="1" flipV="1">
              <a:off x="5125680" y="4222440"/>
              <a:ext cx="1552680" cy="97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672600" y="41421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V="1">
              <a:off x="5167440" y="3631680"/>
              <a:ext cx="657000" cy="628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H="1" flipV="1">
              <a:off x="5814720" y="3623760"/>
              <a:ext cx="726840" cy="179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 flipH="1" flipV="1">
              <a:off x="6630840" y="3803400"/>
              <a:ext cx="28800" cy="1352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027760" y="4159080"/>
              <a:ext cx="209520" cy="196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703840" y="3543480"/>
              <a:ext cx="209520" cy="196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470640" y="371952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567480" y="505296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4777560" y="37897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422320" y="312012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210720" y="324864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623280" y="515052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155200" y="35881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957280" y="32436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585760" y="465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524560" y="3924360"/>
              <a:ext cx="112392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H="1">
              <a:off x="5810400" y="3733920"/>
              <a:ext cx="380880" cy="93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8" name=""/>
          <p:cNvSpPr/>
          <p:nvPr/>
        </p:nvSpPr>
        <p:spPr>
          <a:xfrm>
            <a:off x="4880160" y="56376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x++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9" name=""/>
          <p:cNvGrpSpPr/>
          <p:nvPr/>
        </p:nvGrpSpPr>
        <p:grpSpPr>
          <a:xfrm>
            <a:off x="1024920" y="3138840"/>
            <a:ext cx="2921040" cy="1971000"/>
            <a:chOff x="1024920" y="3138840"/>
            <a:chExt cx="2921040" cy="1971000"/>
          </a:xfrm>
        </p:grpSpPr>
        <p:sp>
          <p:nvSpPr>
            <p:cNvPr id="2530" name=""/>
            <p:cNvSpPr/>
            <p:nvPr/>
          </p:nvSpPr>
          <p:spPr>
            <a:xfrm flipV="1">
              <a:off x="1414440" y="3650760"/>
              <a:ext cx="657360" cy="628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H="1" flipV="1">
              <a:off x="2062080" y="3642840"/>
              <a:ext cx="765360" cy="28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H="1">
              <a:off x="2833200" y="3740040"/>
              <a:ext cx="746280" cy="190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951200" y="3562200"/>
              <a:ext cx="209520" cy="196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717640" y="3840120"/>
              <a:ext cx="20988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024920" y="38088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669680" y="313884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457720" y="32677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3378240" y="323892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402200" y="36072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204640" y="326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091320" y="34056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594880" y="465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2454120" y="3790800"/>
              <a:ext cx="370080" cy="8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803240" y="3822840"/>
              <a:ext cx="1422720" cy="480960"/>
            </a:xfrm>
            <a:custGeom>
              <a:avLst/>
              <a:gdLst/>
              <a:ahLst/>
              <a:rect l="l" t="t" r="r" b="b"/>
              <a:pathLst>
                <a:path w="876" h="234">
                  <a:moveTo>
                    <a:pt x="0" y="48"/>
                  </a:moveTo>
                  <a:cubicBezTo>
                    <a:pt x="68" y="76"/>
                    <a:pt x="272" y="198"/>
                    <a:pt x="396" y="216"/>
                  </a:cubicBezTo>
                  <a:cubicBezTo>
                    <a:pt x="520" y="234"/>
                    <a:pt x="664" y="192"/>
                    <a:pt x="744" y="156"/>
                  </a:cubicBezTo>
                  <a:cubicBezTo>
                    <a:pt x="824" y="120"/>
                    <a:pt x="849" y="32"/>
                    <a:pt x="87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390680" y="3753000"/>
              <a:ext cx="2197080" cy="960120"/>
            </a:xfrm>
            <a:custGeom>
              <a:avLst/>
              <a:gdLst/>
              <a:ahLst/>
              <a:rect l="l" t="t" r="r" b="b"/>
              <a:pathLst>
                <a:path w="1384" h="605">
                  <a:moveTo>
                    <a:pt x="0" y="332"/>
                  </a:moveTo>
                  <a:cubicBezTo>
                    <a:pt x="172" y="451"/>
                    <a:pt x="345" y="571"/>
                    <a:pt x="552" y="588"/>
                  </a:cubicBezTo>
                  <a:cubicBezTo>
                    <a:pt x="759" y="605"/>
                    <a:pt x="1101" y="534"/>
                    <a:pt x="1240" y="436"/>
                  </a:cubicBezTo>
                  <a:cubicBezTo>
                    <a:pt x="1379" y="338"/>
                    <a:pt x="1381" y="169"/>
                    <a:pt x="1384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475080" y="36496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274760" y="4178160"/>
              <a:ext cx="209520" cy="196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44A-B112-4F39-8B21-1C51AF6A72C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8" name=""/>
          <p:cNvGrpSpPr/>
          <p:nvPr/>
        </p:nvGrpSpPr>
        <p:grpSpPr>
          <a:xfrm>
            <a:off x="2324160" y="1732320"/>
            <a:ext cx="4445640" cy="3088800"/>
            <a:chOff x="2324160" y="1732320"/>
            <a:chExt cx="4445640" cy="3088800"/>
          </a:xfrm>
        </p:grpSpPr>
        <p:grpSp>
          <p:nvGrpSpPr>
            <p:cNvPr id="2549" name=""/>
            <p:cNvGrpSpPr/>
            <p:nvPr/>
          </p:nvGrpSpPr>
          <p:grpSpPr>
            <a:xfrm>
              <a:off x="4591080" y="2171880"/>
              <a:ext cx="1924200" cy="2286000"/>
              <a:chOff x="4591080" y="2171880"/>
              <a:chExt cx="1924200" cy="2286000"/>
            </a:xfrm>
          </p:grpSpPr>
          <p:sp>
            <p:nvSpPr>
              <p:cNvPr id="2550" name=""/>
              <p:cNvSpPr/>
              <p:nvPr/>
            </p:nvSpPr>
            <p:spPr>
              <a:xfrm flipV="1">
                <a:off x="4591080" y="2495160"/>
                <a:ext cx="762120" cy="9334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V="1">
                <a:off x="5353200" y="2190240"/>
                <a:ext cx="1162080" cy="304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flipH="1">
                <a:off x="4667400" y="2171880"/>
                <a:ext cx="1828800" cy="2286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 flipV="1">
                <a:off x="4591080" y="3409560"/>
                <a:ext cx="76320" cy="10479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4" name=""/>
            <p:cNvSpPr/>
            <p:nvPr/>
          </p:nvSpPr>
          <p:spPr>
            <a:xfrm>
              <a:off x="4225320" y="30088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965840" y="203724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397200" y="1732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3903120" y="436140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2324160" y="3219480"/>
              <a:ext cx="2838240" cy="1498680"/>
            </a:xfrm>
            <a:custGeom>
              <a:avLst/>
              <a:gdLst/>
              <a:ahLst/>
              <a:rect l="l" t="t" r="r" b="b"/>
              <a:pathLst>
                <a:path w="1788" h="944">
                  <a:moveTo>
                    <a:pt x="0" y="696"/>
                  </a:moveTo>
                  <a:cubicBezTo>
                    <a:pt x="195" y="820"/>
                    <a:pt x="390" y="944"/>
                    <a:pt x="552" y="912"/>
                  </a:cubicBezTo>
                  <a:cubicBezTo>
                    <a:pt x="714" y="880"/>
                    <a:pt x="766" y="656"/>
                    <a:pt x="972" y="504"/>
                  </a:cubicBezTo>
                  <a:cubicBezTo>
                    <a:pt x="1178" y="352"/>
                    <a:pt x="1483" y="176"/>
                    <a:pt x="178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ing a dual with convex 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801720" y="3129120"/>
            <a:ext cx="2832840" cy="1969560"/>
            <a:chOff x="801720" y="3129120"/>
            <a:chExt cx="2832840" cy="1969560"/>
          </a:xfrm>
        </p:grpSpPr>
        <p:sp>
          <p:nvSpPr>
            <p:cNvPr id="2561" name=""/>
            <p:cNvSpPr/>
            <p:nvPr/>
          </p:nvSpPr>
          <p:spPr>
            <a:xfrm flipV="1">
              <a:off x="842400" y="3137040"/>
              <a:ext cx="656640" cy="628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H="1" flipV="1">
              <a:off x="1490400" y="3129120"/>
              <a:ext cx="726120" cy="180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H="1" flipV="1">
              <a:off x="2306880" y="3309120"/>
              <a:ext cx="656640" cy="133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955600" y="3456720"/>
              <a:ext cx="656640" cy="18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>
              <a:off x="2047680" y="3636720"/>
              <a:ext cx="1586880" cy="1461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H="1" flipV="1">
              <a:off x="825120" y="3751920"/>
              <a:ext cx="1156680" cy="127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801720" y="3456720"/>
              <a:ext cx="2108880" cy="757800"/>
            </a:xfrm>
            <a:custGeom>
              <a:avLst/>
              <a:gdLst/>
              <a:ahLst/>
              <a:rect l="l" t="t" r="r" b="b"/>
              <a:pathLst>
                <a:path w="1034" h="375">
                  <a:moveTo>
                    <a:pt x="1034" y="0"/>
                  </a:moveTo>
                  <a:lnTo>
                    <a:pt x="942" y="231"/>
                  </a:lnTo>
                  <a:lnTo>
                    <a:pt x="620" y="375"/>
                  </a:lnTo>
                  <a:lnTo>
                    <a:pt x="309" y="331"/>
                  </a:lnTo>
                  <a:lnTo>
                    <a:pt x="0" y="157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8" name=""/>
          <p:cNvSpPr/>
          <p:nvPr/>
        </p:nvSpPr>
        <p:spPr>
          <a:xfrm>
            <a:off x="1922400" y="494676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703440" y="3664080"/>
            <a:ext cx="209520" cy="196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1379520" y="3048120"/>
            <a:ext cx="209520" cy="196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2146320" y="322416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2890800" y="3376440"/>
            <a:ext cx="209520" cy="198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3544920" y="355284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1666440" y="50806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3594960" y="3204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53240" y="32947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1098000" y="262476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1867320" y="338184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2756160" y="295956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085040" y="41756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2561760" y="4380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0880" y="3093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1709280" y="2786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2405520" y="2904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833120" y="3754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172680" y="31755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514760" y="2209680"/>
            <a:ext cx="3924360" cy="33530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8" name=""/>
          <p:cNvGrpSpPr/>
          <p:nvPr/>
        </p:nvGrpSpPr>
        <p:grpSpPr>
          <a:xfrm>
            <a:off x="4494240" y="2108160"/>
            <a:ext cx="3886200" cy="3551400"/>
            <a:chOff x="4494240" y="2108160"/>
            <a:chExt cx="3886200" cy="3551400"/>
          </a:xfrm>
        </p:grpSpPr>
        <p:sp>
          <p:nvSpPr>
            <p:cNvPr id="2589" name=""/>
            <p:cNvSpPr/>
            <p:nvPr/>
          </p:nvSpPr>
          <p:spPr>
            <a:xfrm>
              <a:off x="6380280" y="210816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427880" y="5232240"/>
              <a:ext cx="209520" cy="19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8151840" y="44704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8170920" y="3174840"/>
              <a:ext cx="209520" cy="19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427880" y="237492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294160" y="5175360"/>
              <a:ext cx="20988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551480" y="43750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494240" y="33274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256360" y="24130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323040" y="5460840"/>
              <a:ext cx="209520" cy="19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C97-6A02-4798-95BA-4DD247C5AB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9" name=""/>
          <p:cNvGrpSpPr/>
          <p:nvPr/>
        </p:nvGrpSpPr>
        <p:grpSpPr>
          <a:xfrm>
            <a:off x="2781360" y="2018160"/>
            <a:ext cx="5347800" cy="3965040"/>
            <a:chOff x="2781360" y="2018160"/>
            <a:chExt cx="5347800" cy="3965040"/>
          </a:xfrm>
        </p:grpSpPr>
        <p:grpSp>
          <p:nvGrpSpPr>
            <p:cNvPr id="2600" name=""/>
            <p:cNvGrpSpPr/>
            <p:nvPr/>
          </p:nvGrpSpPr>
          <p:grpSpPr>
            <a:xfrm>
              <a:off x="4648320" y="2018160"/>
              <a:ext cx="3480840" cy="3965040"/>
              <a:chOff x="4648320" y="2018160"/>
              <a:chExt cx="3480840" cy="3965040"/>
            </a:xfrm>
          </p:grpSpPr>
          <p:sp>
            <p:nvSpPr>
              <p:cNvPr id="2601" name=""/>
              <p:cNvSpPr/>
              <p:nvPr/>
            </p:nvSpPr>
            <p:spPr>
              <a:xfrm>
                <a:off x="6477120" y="2171880"/>
                <a:ext cx="1104840" cy="3045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524720" y="2457360"/>
                <a:ext cx="19080" cy="283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4648320" y="4495680"/>
                <a:ext cx="780840" cy="819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5372280" y="5257800"/>
                <a:ext cx="1085760" cy="3240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 flipH="1">
                <a:off x="6419880" y="5334120"/>
                <a:ext cx="1123920" cy="209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5063400" y="527580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278040" y="5523480"/>
                <a:ext cx="57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7363080" y="5333040"/>
                <a:ext cx="76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A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7385400" y="201816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A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0" name=""/>
            <p:cNvSpPr/>
            <p:nvPr/>
          </p:nvSpPr>
          <p:spPr>
            <a:xfrm>
              <a:off x="2781360" y="4381560"/>
              <a:ext cx="3295440" cy="876240"/>
            </a:xfrm>
            <a:custGeom>
              <a:avLst/>
              <a:gdLst/>
              <a:ahLst/>
              <a:rect l="l" t="t" r="r" b="b"/>
              <a:pathLst>
                <a:path w="2076" h="552">
                  <a:moveTo>
                    <a:pt x="0" y="552"/>
                  </a:moveTo>
                  <a:cubicBezTo>
                    <a:pt x="159" y="459"/>
                    <a:pt x="318" y="366"/>
                    <a:pt x="576" y="336"/>
                  </a:cubicBezTo>
                  <a:cubicBezTo>
                    <a:pt x="834" y="306"/>
                    <a:pt x="1298" y="428"/>
                    <a:pt x="1548" y="372"/>
                  </a:cubicBezTo>
                  <a:cubicBezTo>
                    <a:pt x="1798" y="316"/>
                    <a:pt x="1937" y="158"/>
                    <a:pt x="20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1" name=""/>
          <p:cNvGrpSpPr/>
          <p:nvPr/>
        </p:nvGrpSpPr>
        <p:grpSpPr>
          <a:xfrm>
            <a:off x="4591080" y="2171880"/>
            <a:ext cx="1924200" cy="2286000"/>
            <a:chOff x="4591080" y="2171880"/>
            <a:chExt cx="1924200" cy="2286000"/>
          </a:xfrm>
        </p:grpSpPr>
        <p:sp>
          <p:nvSpPr>
            <p:cNvPr id="2612" name=""/>
            <p:cNvSpPr/>
            <p:nvPr/>
          </p:nvSpPr>
          <p:spPr>
            <a:xfrm flipV="1">
              <a:off x="4591080" y="2495160"/>
              <a:ext cx="762120" cy="933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V="1">
              <a:off x="5353200" y="2190240"/>
              <a:ext cx="116208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H="1">
              <a:off x="4667400" y="2171880"/>
              <a:ext cx="18288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H="1" flipV="1">
              <a:off x="4591080" y="3409560"/>
              <a:ext cx="76320" cy="10479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6" name=""/>
          <p:cNvGrpSpPr/>
          <p:nvPr/>
        </p:nvGrpSpPr>
        <p:grpSpPr>
          <a:xfrm>
            <a:off x="801720" y="3129120"/>
            <a:ext cx="2832840" cy="1969560"/>
            <a:chOff x="801720" y="3129120"/>
            <a:chExt cx="2832840" cy="1969560"/>
          </a:xfrm>
        </p:grpSpPr>
        <p:sp>
          <p:nvSpPr>
            <p:cNvPr id="2617" name=""/>
            <p:cNvSpPr/>
            <p:nvPr/>
          </p:nvSpPr>
          <p:spPr>
            <a:xfrm flipV="1">
              <a:off x="842400" y="3137040"/>
              <a:ext cx="656640" cy="628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H="1" flipV="1">
              <a:off x="1490400" y="3129120"/>
              <a:ext cx="726120" cy="180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H="1" flipV="1">
              <a:off x="2306880" y="3309120"/>
              <a:ext cx="656640" cy="133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955600" y="3456720"/>
              <a:ext cx="656640" cy="18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H="1">
              <a:off x="2047680" y="3636720"/>
              <a:ext cx="1586880" cy="1461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H="1" flipV="1">
              <a:off x="825120" y="3751920"/>
              <a:ext cx="1156680" cy="127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801720" y="3456720"/>
              <a:ext cx="2108880" cy="757800"/>
            </a:xfrm>
            <a:custGeom>
              <a:avLst/>
              <a:gdLst/>
              <a:ahLst/>
              <a:rect l="l" t="t" r="r" b="b"/>
              <a:pathLst>
                <a:path w="1034" h="375">
                  <a:moveTo>
                    <a:pt x="1034" y="0"/>
                  </a:moveTo>
                  <a:lnTo>
                    <a:pt x="942" y="231"/>
                  </a:lnTo>
                  <a:lnTo>
                    <a:pt x="620" y="375"/>
                  </a:lnTo>
                  <a:lnTo>
                    <a:pt x="309" y="331"/>
                  </a:lnTo>
                  <a:lnTo>
                    <a:pt x="0" y="157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4" name=""/>
          <p:cNvSpPr/>
          <p:nvPr/>
        </p:nvSpPr>
        <p:spPr>
          <a:xfrm>
            <a:off x="1922400" y="494676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703440" y="3664080"/>
            <a:ext cx="209520" cy="196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1379520" y="3048120"/>
            <a:ext cx="209520" cy="196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2146320" y="322416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2890800" y="3376440"/>
            <a:ext cx="209520" cy="198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3544920" y="355284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1666440" y="50806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3594960" y="3204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453240" y="32947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1098000" y="262476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1867320" y="338184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2756160" y="295956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1085040" y="41756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2561760" y="4380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830880" y="3093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1709280" y="2786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2405520" y="2904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1833120" y="3754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3172680" y="31755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4514760" y="2209680"/>
            <a:ext cx="3924360" cy="33530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4" name=""/>
          <p:cNvGrpSpPr/>
          <p:nvPr/>
        </p:nvGrpSpPr>
        <p:grpSpPr>
          <a:xfrm>
            <a:off x="4494240" y="2108160"/>
            <a:ext cx="3886200" cy="3551400"/>
            <a:chOff x="4494240" y="2108160"/>
            <a:chExt cx="3886200" cy="3551400"/>
          </a:xfrm>
        </p:grpSpPr>
        <p:sp>
          <p:nvSpPr>
            <p:cNvPr id="2645" name=""/>
            <p:cNvSpPr/>
            <p:nvPr/>
          </p:nvSpPr>
          <p:spPr>
            <a:xfrm>
              <a:off x="6380280" y="210816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427880" y="5232240"/>
              <a:ext cx="209520" cy="19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8151840" y="44704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8170920" y="3174840"/>
              <a:ext cx="209520" cy="19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427880" y="237492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294160" y="5175360"/>
              <a:ext cx="20988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551480" y="43750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494240" y="33274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256360" y="24130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323040" y="5460840"/>
              <a:ext cx="209520" cy="19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5" name=""/>
          <p:cNvSpPr/>
          <p:nvPr/>
        </p:nvSpPr>
        <p:spPr>
          <a:xfrm>
            <a:off x="4225320" y="30088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4965840" y="203724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6397200" y="1732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3903120" y="436140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ing a dual with convex 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27B-8F1E-4DAF-8313-2BDBF8BF90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0" name=""/>
          <p:cNvGrpSpPr/>
          <p:nvPr/>
        </p:nvGrpSpPr>
        <p:grpSpPr>
          <a:xfrm>
            <a:off x="1695600" y="2018160"/>
            <a:ext cx="7329600" cy="3774600"/>
            <a:chOff x="1695600" y="2018160"/>
            <a:chExt cx="7329600" cy="3774600"/>
          </a:xfrm>
        </p:grpSpPr>
        <p:sp>
          <p:nvSpPr>
            <p:cNvPr id="2661" name=""/>
            <p:cNvSpPr/>
            <p:nvPr/>
          </p:nvSpPr>
          <p:spPr>
            <a:xfrm>
              <a:off x="7363080" y="533304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7385400" y="201816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7543800" y="2476440"/>
              <a:ext cx="762120" cy="800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 flipH="1">
              <a:off x="8267400" y="3257640"/>
              <a:ext cx="19080" cy="1314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H="1">
              <a:off x="7543440" y="4572000"/>
              <a:ext cx="723960" cy="781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8451360" y="438048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8551080" y="28753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695600" y="2054160"/>
              <a:ext cx="6153120" cy="1832040"/>
            </a:xfrm>
            <a:custGeom>
              <a:avLst/>
              <a:gdLst/>
              <a:ahLst/>
              <a:rect l="l" t="t" r="r" b="b"/>
              <a:pathLst>
                <a:path w="3876" h="1154">
                  <a:moveTo>
                    <a:pt x="0" y="962"/>
                  </a:moveTo>
                  <a:cubicBezTo>
                    <a:pt x="300" y="483"/>
                    <a:pt x="600" y="4"/>
                    <a:pt x="1056" y="2"/>
                  </a:cubicBezTo>
                  <a:cubicBezTo>
                    <a:pt x="1512" y="0"/>
                    <a:pt x="2266" y="758"/>
                    <a:pt x="2736" y="950"/>
                  </a:cubicBezTo>
                  <a:cubicBezTo>
                    <a:pt x="3206" y="1142"/>
                    <a:pt x="3541" y="1148"/>
                    <a:pt x="3876" y="11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9" name=""/>
          <p:cNvSpPr/>
          <p:nvPr/>
        </p:nvSpPr>
        <p:spPr>
          <a:xfrm>
            <a:off x="6477120" y="2171880"/>
            <a:ext cx="1104840" cy="304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7524720" y="2457360"/>
            <a:ext cx="19080" cy="283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4648320" y="4495680"/>
            <a:ext cx="780840" cy="819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5372280" y="5257800"/>
            <a:ext cx="1085760" cy="324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 flipH="1">
            <a:off x="6419880" y="5334120"/>
            <a:ext cx="1123920" cy="209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5063400" y="5275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6278040" y="552348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6" name=""/>
          <p:cNvGrpSpPr/>
          <p:nvPr/>
        </p:nvGrpSpPr>
        <p:grpSpPr>
          <a:xfrm>
            <a:off x="4591080" y="2171880"/>
            <a:ext cx="1924200" cy="2286000"/>
            <a:chOff x="4591080" y="2171880"/>
            <a:chExt cx="1924200" cy="2286000"/>
          </a:xfrm>
        </p:grpSpPr>
        <p:sp>
          <p:nvSpPr>
            <p:cNvPr id="2677" name=""/>
            <p:cNvSpPr/>
            <p:nvPr/>
          </p:nvSpPr>
          <p:spPr>
            <a:xfrm flipV="1">
              <a:off x="4591080" y="2495160"/>
              <a:ext cx="762120" cy="933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V="1">
              <a:off x="5353200" y="2190240"/>
              <a:ext cx="116208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H="1">
              <a:off x="4667400" y="2171880"/>
              <a:ext cx="18288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H="1" flipV="1">
              <a:off x="4591080" y="3409560"/>
              <a:ext cx="76320" cy="10479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1" name=""/>
          <p:cNvGrpSpPr/>
          <p:nvPr/>
        </p:nvGrpSpPr>
        <p:grpSpPr>
          <a:xfrm>
            <a:off x="801720" y="3129120"/>
            <a:ext cx="2832840" cy="1969560"/>
            <a:chOff x="801720" y="3129120"/>
            <a:chExt cx="2832840" cy="1969560"/>
          </a:xfrm>
        </p:grpSpPr>
        <p:sp>
          <p:nvSpPr>
            <p:cNvPr id="2682" name=""/>
            <p:cNvSpPr/>
            <p:nvPr/>
          </p:nvSpPr>
          <p:spPr>
            <a:xfrm flipV="1">
              <a:off x="842400" y="3137040"/>
              <a:ext cx="656640" cy="628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flipH="1" flipV="1">
              <a:off x="1490400" y="3129120"/>
              <a:ext cx="726120" cy="180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H="1" flipV="1">
              <a:off x="2306880" y="3309120"/>
              <a:ext cx="656640" cy="133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955600" y="3456720"/>
              <a:ext cx="656640" cy="18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2047680" y="3636720"/>
              <a:ext cx="1586880" cy="1461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 flipV="1">
              <a:off x="825120" y="3751920"/>
              <a:ext cx="1156680" cy="127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801720" y="3456720"/>
              <a:ext cx="2108880" cy="757800"/>
            </a:xfrm>
            <a:custGeom>
              <a:avLst/>
              <a:gdLst/>
              <a:ahLst/>
              <a:rect l="l" t="t" r="r" b="b"/>
              <a:pathLst>
                <a:path w="1034" h="375">
                  <a:moveTo>
                    <a:pt x="1034" y="0"/>
                  </a:moveTo>
                  <a:lnTo>
                    <a:pt x="942" y="231"/>
                  </a:lnTo>
                  <a:lnTo>
                    <a:pt x="620" y="375"/>
                  </a:lnTo>
                  <a:lnTo>
                    <a:pt x="309" y="331"/>
                  </a:lnTo>
                  <a:lnTo>
                    <a:pt x="0" y="157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9" name=""/>
          <p:cNvSpPr/>
          <p:nvPr/>
        </p:nvSpPr>
        <p:spPr>
          <a:xfrm>
            <a:off x="1922400" y="494676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703440" y="3664080"/>
            <a:ext cx="209520" cy="196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1379520" y="3048120"/>
            <a:ext cx="209520" cy="196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2146320" y="322416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2890800" y="3376440"/>
            <a:ext cx="209520" cy="198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544920" y="355284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1666440" y="50806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3594960" y="3204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453240" y="32947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1098000" y="262476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1867320" y="338184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2756160" y="295956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1085040" y="41756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2561760" y="4380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830880" y="3093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1709280" y="2786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2405520" y="2904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833120" y="3754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3172680" y="31755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4514760" y="2209680"/>
            <a:ext cx="3924360" cy="33530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9" name=""/>
          <p:cNvGrpSpPr/>
          <p:nvPr/>
        </p:nvGrpSpPr>
        <p:grpSpPr>
          <a:xfrm>
            <a:off x="4494240" y="2108160"/>
            <a:ext cx="3886200" cy="3551400"/>
            <a:chOff x="4494240" y="2108160"/>
            <a:chExt cx="3886200" cy="3551400"/>
          </a:xfrm>
        </p:grpSpPr>
        <p:sp>
          <p:nvSpPr>
            <p:cNvPr id="2710" name=""/>
            <p:cNvSpPr/>
            <p:nvPr/>
          </p:nvSpPr>
          <p:spPr>
            <a:xfrm>
              <a:off x="6380280" y="210816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7427880" y="5232240"/>
              <a:ext cx="209520" cy="19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151840" y="44704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8170920" y="3174840"/>
              <a:ext cx="209520" cy="19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427880" y="237492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294160" y="5175360"/>
              <a:ext cx="20988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551480" y="43750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494240" y="33274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256360" y="24130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323040" y="5460840"/>
              <a:ext cx="209520" cy="19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0" name=""/>
          <p:cNvSpPr/>
          <p:nvPr/>
        </p:nvSpPr>
        <p:spPr>
          <a:xfrm>
            <a:off x="4225320" y="30088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4965840" y="203724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6397200" y="1732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3903120" y="436140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ing a dual with convex 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A28-E6A6-4841-A9FC-990449EDFA1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"/>
          <p:cNvSpPr/>
          <p:nvPr/>
        </p:nvSpPr>
        <p:spPr>
          <a:xfrm>
            <a:off x="7363080" y="533304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7385400" y="201816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7543800" y="2476440"/>
            <a:ext cx="76212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 flipH="1">
            <a:off x="8267400" y="3257640"/>
            <a:ext cx="19080" cy="1314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 flipH="1">
            <a:off x="7543440" y="4572000"/>
            <a:ext cx="72396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8451360" y="438048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8551080" y="28753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6477120" y="2171880"/>
            <a:ext cx="1104840" cy="304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7524720" y="2457360"/>
            <a:ext cx="19080" cy="283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4648320" y="4495680"/>
            <a:ext cx="780840" cy="819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5372280" y="5257800"/>
            <a:ext cx="1085760" cy="324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 flipH="1">
            <a:off x="6419880" y="5334120"/>
            <a:ext cx="1123920" cy="209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5063400" y="5275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6278040" y="552348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9" name=""/>
          <p:cNvGrpSpPr/>
          <p:nvPr/>
        </p:nvGrpSpPr>
        <p:grpSpPr>
          <a:xfrm>
            <a:off x="4591080" y="2171880"/>
            <a:ext cx="1924200" cy="2286000"/>
            <a:chOff x="4591080" y="2171880"/>
            <a:chExt cx="1924200" cy="2286000"/>
          </a:xfrm>
        </p:grpSpPr>
        <p:sp>
          <p:nvSpPr>
            <p:cNvPr id="2740" name=""/>
            <p:cNvSpPr/>
            <p:nvPr/>
          </p:nvSpPr>
          <p:spPr>
            <a:xfrm flipV="1">
              <a:off x="4591080" y="2495160"/>
              <a:ext cx="762120" cy="933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 flipV="1">
              <a:off x="5353200" y="2190240"/>
              <a:ext cx="116208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H="1">
              <a:off x="4667400" y="2171880"/>
              <a:ext cx="18288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 flipH="1" flipV="1">
              <a:off x="4591080" y="3409560"/>
              <a:ext cx="76320" cy="10479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structing inside ar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5" name=""/>
          <p:cNvGrpSpPr/>
          <p:nvPr/>
        </p:nvGrpSpPr>
        <p:grpSpPr>
          <a:xfrm>
            <a:off x="801720" y="3129120"/>
            <a:ext cx="2832840" cy="1969560"/>
            <a:chOff x="801720" y="3129120"/>
            <a:chExt cx="2832840" cy="1969560"/>
          </a:xfrm>
        </p:grpSpPr>
        <p:sp>
          <p:nvSpPr>
            <p:cNvPr id="2746" name=""/>
            <p:cNvSpPr/>
            <p:nvPr/>
          </p:nvSpPr>
          <p:spPr>
            <a:xfrm flipV="1">
              <a:off x="842400" y="3137040"/>
              <a:ext cx="656640" cy="628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H="1" flipV="1">
              <a:off x="1490400" y="3129120"/>
              <a:ext cx="726120" cy="180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 flipV="1">
              <a:off x="2306880" y="3309120"/>
              <a:ext cx="656640" cy="133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955600" y="3456720"/>
              <a:ext cx="656640" cy="18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H="1">
              <a:off x="2047680" y="3636720"/>
              <a:ext cx="1586880" cy="1461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 flipH="1" flipV="1">
              <a:off x="825120" y="3751920"/>
              <a:ext cx="1156680" cy="127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01720" y="3456720"/>
              <a:ext cx="2108880" cy="757800"/>
            </a:xfrm>
            <a:custGeom>
              <a:avLst/>
              <a:gdLst/>
              <a:ahLst/>
              <a:rect l="l" t="t" r="r" b="b"/>
              <a:pathLst>
                <a:path w="1034" h="375">
                  <a:moveTo>
                    <a:pt x="1034" y="0"/>
                  </a:moveTo>
                  <a:lnTo>
                    <a:pt x="942" y="231"/>
                  </a:lnTo>
                  <a:lnTo>
                    <a:pt x="620" y="375"/>
                  </a:lnTo>
                  <a:lnTo>
                    <a:pt x="309" y="331"/>
                  </a:lnTo>
                  <a:lnTo>
                    <a:pt x="0" y="157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3" name=""/>
          <p:cNvSpPr/>
          <p:nvPr/>
        </p:nvSpPr>
        <p:spPr>
          <a:xfrm>
            <a:off x="1922400" y="494676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703440" y="3664080"/>
            <a:ext cx="209520" cy="196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1379520" y="3048120"/>
            <a:ext cx="209520" cy="196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2146320" y="322416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2890800" y="3376440"/>
            <a:ext cx="209520" cy="198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3544920" y="355284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1666440" y="50806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3594960" y="3204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453240" y="32947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1098000" y="262476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1867320" y="338184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2756160" y="295956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1085040" y="41756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2561760" y="4380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830880" y="3093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1709280" y="2786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2405520" y="2904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1833120" y="3754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3172680" y="31755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514760" y="2209680"/>
            <a:ext cx="3924360" cy="33530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3" name=""/>
          <p:cNvGrpSpPr/>
          <p:nvPr/>
        </p:nvGrpSpPr>
        <p:grpSpPr>
          <a:xfrm>
            <a:off x="4494240" y="2108160"/>
            <a:ext cx="3886200" cy="3551400"/>
            <a:chOff x="4494240" y="2108160"/>
            <a:chExt cx="3886200" cy="3551400"/>
          </a:xfrm>
        </p:grpSpPr>
        <p:sp>
          <p:nvSpPr>
            <p:cNvPr id="2774" name=""/>
            <p:cNvSpPr/>
            <p:nvPr/>
          </p:nvSpPr>
          <p:spPr>
            <a:xfrm>
              <a:off x="6380280" y="210816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427880" y="5232240"/>
              <a:ext cx="209520" cy="19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151840" y="44704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170920" y="3174840"/>
              <a:ext cx="209520" cy="19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427880" y="237492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5294160" y="5175360"/>
              <a:ext cx="20988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551480" y="43750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494240" y="33274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256360" y="24130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323040" y="5460840"/>
              <a:ext cx="209520" cy="19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4" name=""/>
          <p:cNvSpPr/>
          <p:nvPr/>
        </p:nvSpPr>
        <p:spPr>
          <a:xfrm>
            <a:off x="4225320" y="30088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4965840" y="203724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6397200" y="1732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3903120" y="436140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8" name=""/>
          <p:cNvGrpSpPr/>
          <p:nvPr/>
        </p:nvGrpSpPr>
        <p:grpSpPr>
          <a:xfrm>
            <a:off x="4315680" y="1975320"/>
            <a:ext cx="1728360" cy="2136240"/>
            <a:chOff x="4315680" y="1975320"/>
            <a:chExt cx="1728360" cy="2136240"/>
          </a:xfrm>
        </p:grpSpPr>
        <p:grpSp>
          <p:nvGrpSpPr>
            <p:cNvPr id="2789" name=""/>
            <p:cNvGrpSpPr/>
            <p:nvPr/>
          </p:nvGrpSpPr>
          <p:grpSpPr>
            <a:xfrm>
              <a:off x="4628880" y="2362320"/>
              <a:ext cx="1238040" cy="1562040"/>
              <a:chOff x="4628880" y="2362320"/>
              <a:chExt cx="1238040" cy="1562040"/>
            </a:xfrm>
          </p:grpSpPr>
          <p:sp>
            <p:nvSpPr>
              <p:cNvPr id="2790" name=""/>
              <p:cNvSpPr/>
              <p:nvPr/>
            </p:nvSpPr>
            <p:spPr>
              <a:xfrm>
                <a:off x="4991040" y="2952720"/>
                <a:ext cx="552600" cy="399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 flipH="1">
                <a:off x="4628880" y="2362320"/>
                <a:ext cx="1238040" cy="156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2" name=""/>
            <p:cNvSpPr/>
            <p:nvPr/>
          </p:nvSpPr>
          <p:spPr>
            <a:xfrm>
              <a:off x="5668200" y="19753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315680" y="36518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658760" y="2566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554080" y="31755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34B-F256-4F4C-933C-AC83D3C8ED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"/>
          <p:cNvSpPr/>
          <p:nvPr/>
        </p:nvSpPr>
        <p:spPr>
          <a:xfrm>
            <a:off x="7363080" y="533304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7385400" y="201816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7543800" y="2476440"/>
            <a:ext cx="76212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 flipH="1">
            <a:off x="8267400" y="3257640"/>
            <a:ext cx="19080" cy="1314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 flipH="1">
            <a:off x="7543440" y="4572000"/>
            <a:ext cx="72396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8451360" y="438048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8551080" y="28753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6477120" y="2171880"/>
            <a:ext cx="1104840" cy="304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7524720" y="2457360"/>
            <a:ext cx="19080" cy="283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4648320" y="4495680"/>
            <a:ext cx="780840" cy="819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5372280" y="5257800"/>
            <a:ext cx="1085760" cy="324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 flipH="1">
            <a:off x="6419880" y="5334120"/>
            <a:ext cx="1123920" cy="209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5063400" y="5275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6278040" y="552348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0" name=""/>
          <p:cNvGrpSpPr/>
          <p:nvPr/>
        </p:nvGrpSpPr>
        <p:grpSpPr>
          <a:xfrm>
            <a:off x="4591080" y="2171880"/>
            <a:ext cx="1924200" cy="2286000"/>
            <a:chOff x="4591080" y="2171880"/>
            <a:chExt cx="1924200" cy="2286000"/>
          </a:xfrm>
        </p:grpSpPr>
        <p:sp>
          <p:nvSpPr>
            <p:cNvPr id="2811" name=""/>
            <p:cNvSpPr/>
            <p:nvPr/>
          </p:nvSpPr>
          <p:spPr>
            <a:xfrm flipV="1">
              <a:off x="4591080" y="2495160"/>
              <a:ext cx="762120" cy="933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V="1">
              <a:off x="5353200" y="2190240"/>
              <a:ext cx="116208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 flipH="1">
              <a:off x="4667400" y="2171880"/>
              <a:ext cx="18288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H="1" flipV="1">
              <a:off x="4591080" y="3409560"/>
              <a:ext cx="76320" cy="10479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structing inside ar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6" name=""/>
          <p:cNvGrpSpPr/>
          <p:nvPr/>
        </p:nvGrpSpPr>
        <p:grpSpPr>
          <a:xfrm>
            <a:off x="801720" y="3129120"/>
            <a:ext cx="2832840" cy="1969560"/>
            <a:chOff x="801720" y="3129120"/>
            <a:chExt cx="2832840" cy="1969560"/>
          </a:xfrm>
        </p:grpSpPr>
        <p:sp>
          <p:nvSpPr>
            <p:cNvPr id="2817" name=""/>
            <p:cNvSpPr/>
            <p:nvPr/>
          </p:nvSpPr>
          <p:spPr>
            <a:xfrm flipV="1">
              <a:off x="842400" y="3137040"/>
              <a:ext cx="656640" cy="628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 flipV="1">
              <a:off x="1490400" y="3129120"/>
              <a:ext cx="726120" cy="180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H="1" flipV="1">
              <a:off x="2306880" y="3309120"/>
              <a:ext cx="656640" cy="133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2955600" y="3456720"/>
              <a:ext cx="656640" cy="18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2047680" y="3636720"/>
              <a:ext cx="1586880" cy="1461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H="1" flipV="1">
              <a:off x="825120" y="3751920"/>
              <a:ext cx="1156680" cy="127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01720" y="3456720"/>
              <a:ext cx="2108880" cy="757800"/>
            </a:xfrm>
            <a:custGeom>
              <a:avLst/>
              <a:gdLst/>
              <a:ahLst/>
              <a:rect l="l" t="t" r="r" b="b"/>
              <a:pathLst>
                <a:path w="1034" h="375">
                  <a:moveTo>
                    <a:pt x="1034" y="0"/>
                  </a:moveTo>
                  <a:lnTo>
                    <a:pt x="942" y="231"/>
                  </a:lnTo>
                  <a:lnTo>
                    <a:pt x="620" y="375"/>
                  </a:lnTo>
                  <a:lnTo>
                    <a:pt x="309" y="331"/>
                  </a:lnTo>
                  <a:lnTo>
                    <a:pt x="0" y="157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4" name=""/>
          <p:cNvSpPr/>
          <p:nvPr/>
        </p:nvSpPr>
        <p:spPr>
          <a:xfrm>
            <a:off x="1922400" y="494676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703440" y="3664080"/>
            <a:ext cx="209520" cy="196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379520" y="3048120"/>
            <a:ext cx="209520" cy="196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146320" y="322416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890800" y="3376440"/>
            <a:ext cx="209520" cy="198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3544920" y="355284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666440" y="50806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3594960" y="3204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453240" y="32947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1098000" y="262476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867320" y="338184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2756160" y="295956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1085040" y="41756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2561760" y="4380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830880" y="3093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1709280" y="2786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2405520" y="2904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1833120" y="3754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3172680" y="31755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4514760" y="2209680"/>
            <a:ext cx="3924360" cy="33530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4" name=""/>
          <p:cNvGrpSpPr/>
          <p:nvPr/>
        </p:nvGrpSpPr>
        <p:grpSpPr>
          <a:xfrm>
            <a:off x="4494240" y="2108160"/>
            <a:ext cx="3886200" cy="3551400"/>
            <a:chOff x="4494240" y="2108160"/>
            <a:chExt cx="3886200" cy="3551400"/>
          </a:xfrm>
        </p:grpSpPr>
        <p:sp>
          <p:nvSpPr>
            <p:cNvPr id="2845" name=""/>
            <p:cNvSpPr/>
            <p:nvPr/>
          </p:nvSpPr>
          <p:spPr>
            <a:xfrm>
              <a:off x="6380280" y="210816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427880" y="5232240"/>
              <a:ext cx="209520" cy="19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8151840" y="44704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8170920" y="3174840"/>
              <a:ext cx="209520" cy="19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427880" y="237492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294160" y="5175360"/>
              <a:ext cx="20988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551480" y="43750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494240" y="33274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256360" y="24130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323040" y="5460840"/>
              <a:ext cx="209520" cy="19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5" name=""/>
          <p:cNvSpPr/>
          <p:nvPr/>
        </p:nvSpPr>
        <p:spPr>
          <a:xfrm>
            <a:off x="4225320" y="30088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4965840" y="203724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6397200" y="1732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3903120" y="436140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9" name=""/>
          <p:cNvGrpSpPr/>
          <p:nvPr/>
        </p:nvGrpSpPr>
        <p:grpSpPr>
          <a:xfrm>
            <a:off x="4628880" y="2362320"/>
            <a:ext cx="1238040" cy="1562040"/>
            <a:chOff x="4628880" y="2362320"/>
            <a:chExt cx="1238040" cy="1562040"/>
          </a:xfrm>
        </p:grpSpPr>
        <p:sp>
          <p:nvSpPr>
            <p:cNvPr id="2860" name=""/>
            <p:cNvSpPr/>
            <p:nvPr/>
          </p:nvSpPr>
          <p:spPr>
            <a:xfrm>
              <a:off x="4991040" y="2952720"/>
              <a:ext cx="55260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H="1">
              <a:off x="4628880" y="2362320"/>
              <a:ext cx="1238040" cy="15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2" name=""/>
          <p:cNvGrpSpPr/>
          <p:nvPr/>
        </p:nvGrpSpPr>
        <p:grpSpPr>
          <a:xfrm>
            <a:off x="4791960" y="1899000"/>
            <a:ext cx="2870640" cy="3965040"/>
            <a:chOff x="4791960" y="1899000"/>
            <a:chExt cx="2870640" cy="3965040"/>
          </a:xfrm>
        </p:grpSpPr>
        <p:grpSp>
          <p:nvGrpSpPr>
            <p:cNvPr id="2863" name=""/>
            <p:cNvGrpSpPr/>
            <p:nvPr/>
          </p:nvGrpSpPr>
          <p:grpSpPr>
            <a:xfrm>
              <a:off x="5010120" y="2305080"/>
              <a:ext cx="2533680" cy="3143160"/>
              <a:chOff x="5010120" y="2305080"/>
              <a:chExt cx="2533680" cy="3143160"/>
            </a:xfrm>
          </p:grpSpPr>
          <p:sp>
            <p:nvSpPr>
              <p:cNvPr id="2864" name=""/>
              <p:cNvSpPr/>
              <p:nvPr/>
            </p:nvSpPr>
            <p:spPr>
              <a:xfrm>
                <a:off x="5543640" y="3352680"/>
                <a:ext cx="1428840" cy="209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V="1">
                <a:off x="5010120" y="2305080"/>
                <a:ext cx="1962360" cy="257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flipV="1">
                <a:off x="5867280" y="3847680"/>
                <a:ext cx="1676520" cy="156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7" name=""/>
            <p:cNvSpPr/>
            <p:nvPr/>
          </p:nvSpPr>
          <p:spPr>
            <a:xfrm>
              <a:off x="6887520" y="18990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791960" y="47185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868440" y="5404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554080" y="31755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569560" y="53280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283880" y="35182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30FF-F859-4E50-85D2-5F128C9406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"/>
          <p:cNvSpPr/>
          <p:nvPr/>
        </p:nvSpPr>
        <p:spPr>
          <a:xfrm>
            <a:off x="7363080" y="533304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7385400" y="201816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7543800" y="2476440"/>
            <a:ext cx="76212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 flipH="1">
            <a:off x="8267400" y="3257640"/>
            <a:ext cx="19080" cy="1314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 flipH="1">
            <a:off x="7543440" y="4572000"/>
            <a:ext cx="72396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8451360" y="438048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8551080" y="28753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6477120" y="2171880"/>
            <a:ext cx="1104840" cy="304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7524720" y="2457360"/>
            <a:ext cx="19080" cy="283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4648320" y="4495680"/>
            <a:ext cx="780840" cy="819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5372280" y="5257800"/>
            <a:ext cx="1085760" cy="324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 flipH="1">
            <a:off x="6419880" y="5334120"/>
            <a:ext cx="1123920" cy="209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5063400" y="5275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278040" y="552348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7" name=""/>
          <p:cNvGrpSpPr/>
          <p:nvPr/>
        </p:nvGrpSpPr>
        <p:grpSpPr>
          <a:xfrm>
            <a:off x="4591080" y="2171880"/>
            <a:ext cx="1924200" cy="2286000"/>
            <a:chOff x="4591080" y="2171880"/>
            <a:chExt cx="1924200" cy="2286000"/>
          </a:xfrm>
        </p:grpSpPr>
        <p:sp>
          <p:nvSpPr>
            <p:cNvPr id="2888" name=""/>
            <p:cNvSpPr/>
            <p:nvPr/>
          </p:nvSpPr>
          <p:spPr>
            <a:xfrm flipV="1">
              <a:off x="4591080" y="2495160"/>
              <a:ext cx="762120" cy="933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 flipV="1">
              <a:off x="5353200" y="2190240"/>
              <a:ext cx="116208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 flipH="1">
              <a:off x="4667400" y="2171880"/>
              <a:ext cx="18288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 flipH="1" flipV="1">
              <a:off x="4591080" y="3409560"/>
              <a:ext cx="76320" cy="10479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2" name=""/>
          <p:cNvGrpSpPr/>
          <p:nvPr/>
        </p:nvGrpSpPr>
        <p:grpSpPr>
          <a:xfrm>
            <a:off x="801720" y="3129120"/>
            <a:ext cx="2832840" cy="1969560"/>
            <a:chOff x="801720" y="3129120"/>
            <a:chExt cx="2832840" cy="1969560"/>
          </a:xfrm>
        </p:grpSpPr>
        <p:sp>
          <p:nvSpPr>
            <p:cNvPr id="2893" name=""/>
            <p:cNvSpPr/>
            <p:nvPr/>
          </p:nvSpPr>
          <p:spPr>
            <a:xfrm flipV="1">
              <a:off x="842400" y="3137040"/>
              <a:ext cx="656640" cy="628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H="1" flipV="1">
              <a:off x="1490400" y="3129120"/>
              <a:ext cx="726120" cy="180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2306880" y="3309120"/>
              <a:ext cx="656640" cy="133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2955600" y="3456720"/>
              <a:ext cx="656640" cy="18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H="1">
              <a:off x="2047680" y="3636720"/>
              <a:ext cx="1586880" cy="1461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 flipV="1">
              <a:off x="825120" y="3751920"/>
              <a:ext cx="1156680" cy="127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801720" y="3456720"/>
              <a:ext cx="2108880" cy="757800"/>
            </a:xfrm>
            <a:custGeom>
              <a:avLst/>
              <a:gdLst/>
              <a:ahLst/>
              <a:rect l="l" t="t" r="r" b="b"/>
              <a:pathLst>
                <a:path w="1034" h="375">
                  <a:moveTo>
                    <a:pt x="1034" y="0"/>
                  </a:moveTo>
                  <a:lnTo>
                    <a:pt x="942" y="231"/>
                  </a:lnTo>
                  <a:lnTo>
                    <a:pt x="620" y="375"/>
                  </a:lnTo>
                  <a:lnTo>
                    <a:pt x="309" y="331"/>
                  </a:lnTo>
                  <a:lnTo>
                    <a:pt x="0" y="157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0" name=""/>
          <p:cNvSpPr/>
          <p:nvPr/>
        </p:nvSpPr>
        <p:spPr>
          <a:xfrm>
            <a:off x="1922400" y="494676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703440" y="3664080"/>
            <a:ext cx="209520" cy="196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1379520" y="3048120"/>
            <a:ext cx="209520" cy="196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2146320" y="322416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2890800" y="3376440"/>
            <a:ext cx="209520" cy="198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3544920" y="355284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1666440" y="508068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3594960" y="3204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453240" y="32947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1098000" y="262476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1867320" y="338184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2756160" y="295956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1085040" y="41756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2561760" y="4380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830880" y="3093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1709280" y="2786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2405520" y="2904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1833120" y="3754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3172680" y="31755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4514760" y="2209680"/>
            <a:ext cx="3924360" cy="33530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0" name=""/>
          <p:cNvGrpSpPr/>
          <p:nvPr/>
        </p:nvGrpSpPr>
        <p:grpSpPr>
          <a:xfrm>
            <a:off x="4494240" y="2108160"/>
            <a:ext cx="3886200" cy="3551400"/>
            <a:chOff x="4494240" y="2108160"/>
            <a:chExt cx="3886200" cy="3551400"/>
          </a:xfrm>
        </p:grpSpPr>
        <p:sp>
          <p:nvSpPr>
            <p:cNvPr id="2921" name=""/>
            <p:cNvSpPr/>
            <p:nvPr/>
          </p:nvSpPr>
          <p:spPr>
            <a:xfrm>
              <a:off x="6380280" y="210816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427880" y="5232240"/>
              <a:ext cx="209520" cy="19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8151840" y="44704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8170920" y="3174840"/>
              <a:ext cx="209520" cy="19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427880" y="237492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294160" y="5175360"/>
              <a:ext cx="20988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551480" y="43750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494240" y="33274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256360" y="2413080"/>
              <a:ext cx="209520" cy="198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6323040" y="5460840"/>
              <a:ext cx="209520" cy="19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1" name=""/>
          <p:cNvSpPr/>
          <p:nvPr/>
        </p:nvSpPr>
        <p:spPr>
          <a:xfrm>
            <a:off x="4225320" y="30088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4965840" y="203724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6397200" y="1732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3903120" y="436140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5" name=""/>
          <p:cNvGrpSpPr/>
          <p:nvPr/>
        </p:nvGrpSpPr>
        <p:grpSpPr>
          <a:xfrm>
            <a:off x="4628880" y="2362320"/>
            <a:ext cx="1238040" cy="1562040"/>
            <a:chOff x="4628880" y="2362320"/>
            <a:chExt cx="1238040" cy="1562040"/>
          </a:xfrm>
        </p:grpSpPr>
        <p:sp>
          <p:nvSpPr>
            <p:cNvPr id="2936" name=""/>
            <p:cNvSpPr/>
            <p:nvPr/>
          </p:nvSpPr>
          <p:spPr>
            <a:xfrm>
              <a:off x="4991040" y="2952720"/>
              <a:ext cx="55260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4628880" y="2362320"/>
              <a:ext cx="1238040" cy="15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8" name=""/>
          <p:cNvGrpSpPr/>
          <p:nvPr/>
        </p:nvGrpSpPr>
        <p:grpSpPr>
          <a:xfrm>
            <a:off x="5010120" y="2305080"/>
            <a:ext cx="2533680" cy="3143160"/>
            <a:chOff x="5010120" y="2305080"/>
            <a:chExt cx="2533680" cy="3143160"/>
          </a:xfrm>
        </p:grpSpPr>
        <p:sp>
          <p:nvSpPr>
            <p:cNvPr id="2939" name=""/>
            <p:cNvSpPr/>
            <p:nvPr/>
          </p:nvSpPr>
          <p:spPr>
            <a:xfrm>
              <a:off x="5543640" y="3352680"/>
              <a:ext cx="1428840" cy="209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 flipV="1">
              <a:off x="5010120" y="2305080"/>
              <a:ext cx="1962360" cy="257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 flipV="1">
              <a:off x="5867280" y="3847680"/>
              <a:ext cx="1676520" cy="15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2" name=""/>
          <p:cNvGrpSpPr/>
          <p:nvPr/>
        </p:nvGrpSpPr>
        <p:grpSpPr>
          <a:xfrm>
            <a:off x="7283880" y="2489760"/>
            <a:ext cx="1388520" cy="2783880"/>
            <a:chOff x="7283880" y="2489760"/>
            <a:chExt cx="1388520" cy="2783880"/>
          </a:xfrm>
        </p:grpSpPr>
        <p:grpSp>
          <p:nvGrpSpPr>
            <p:cNvPr id="2943" name=""/>
            <p:cNvGrpSpPr/>
            <p:nvPr/>
          </p:nvGrpSpPr>
          <p:grpSpPr>
            <a:xfrm>
              <a:off x="7524720" y="2838600"/>
              <a:ext cx="762120" cy="2095200"/>
              <a:chOff x="7524720" y="2838600"/>
              <a:chExt cx="762120" cy="2095200"/>
            </a:xfrm>
          </p:grpSpPr>
          <p:sp>
            <p:nvSpPr>
              <p:cNvPr id="2944" name=""/>
              <p:cNvSpPr/>
              <p:nvPr/>
            </p:nvSpPr>
            <p:spPr>
              <a:xfrm>
                <a:off x="7886880" y="2838600"/>
                <a:ext cx="18720" cy="209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524720" y="3828960"/>
                <a:ext cx="762120" cy="5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>
              <a:off x="7840080" y="4813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878240" y="24897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8293680" y="36327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283880" y="35182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structing inside ar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75A-A046-43C0-8881-CF019E73CF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"/>
          <p:cNvSpPr/>
          <p:nvPr/>
        </p:nvSpPr>
        <p:spPr>
          <a:xfrm>
            <a:off x="6054120" y="51044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5158800" y="20563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5676840" y="2666880"/>
            <a:ext cx="76212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 flipH="1">
            <a:off x="6400440" y="3448080"/>
            <a:ext cx="19080" cy="1314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 flipH="1">
            <a:off x="5676480" y="4762440"/>
            <a:ext cx="72396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6585480" y="3885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6093720" y="2646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4610160" y="2362320"/>
            <a:ext cx="1104840" cy="304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5657760" y="2647800"/>
            <a:ext cx="19080" cy="283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2781360" y="4686480"/>
            <a:ext cx="78084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3505320" y="5448240"/>
            <a:ext cx="1085760" cy="324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 flipH="1">
            <a:off x="4552920" y="5524560"/>
            <a:ext cx="1123920" cy="209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3764520" y="55616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4987440" y="5580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5" name=""/>
          <p:cNvGrpSpPr/>
          <p:nvPr/>
        </p:nvGrpSpPr>
        <p:grpSpPr>
          <a:xfrm>
            <a:off x="2724120" y="2362320"/>
            <a:ext cx="1924200" cy="2286000"/>
            <a:chOff x="2724120" y="2362320"/>
            <a:chExt cx="1924200" cy="2286000"/>
          </a:xfrm>
        </p:grpSpPr>
        <p:sp>
          <p:nvSpPr>
            <p:cNvPr id="2966" name=""/>
            <p:cNvSpPr/>
            <p:nvPr/>
          </p:nvSpPr>
          <p:spPr>
            <a:xfrm flipV="1">
              <a:off x="2724120" y="2685600"/>
              <a:ext cx="762120" cy="933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 flipV="1">
              <a:off x="3486240" y="2380680"/>
              <a:ext cx="116208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flipH="1">
              <a:off x="2800440" y="2362320"/>
              <a:ext cx="18288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H="1" flipV="1">
              <a:off x="2724120" y="3600000"/>
              <a:ext cx="76320" cy="10479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0" name=""/>
          <p:cNvSpPr/>
          <p:nvPr/>
        </p:nvSpPr>
        <p:spPr>
          <a:xfrm>
            <a:off x="2647800" y="2400480"/>
            <a:ext cx="3924360" cy="33526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4513320" y="229860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5560920" y="542304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6284880" y="466092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6303960" y="336564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5560920" y="256536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3427560" y="536580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2684520" y="4565520"/>
            <a:ext cx="209520" cy="198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2627280" y="351792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3389400" y="260352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4456080" y="565164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2282040" y="38469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2777400" y="27230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3882240" y="20563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2036160" y="455184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5" name=""/>
          <p:cNvGrpSpPr/>
          <p:nvPr/>
        </p:nvGrpSpPr>
        <p:grpSpPr>
          <a:xfrm>
            <a:off x="2761920" y="2552760"/>
            <a:ext cx="1238040" cy="1562040"/>
            <a:chOff x="2761920" y="2552760"/>
            <a:chExt cx="1238040" cy="1562040"/>
          </a:xfrm>
        </p:grpSpPr>
        <p:sp>
          <p:nvSpPr>
            <p:cNvPr id="2986" name=""/>
            <p:cNvSpPr/>
            <p:nvPr/>
          </p:nvSpPr>
          <p:spPr>
            <a:xfrm>
              <a:off x="3124080" y="3143160"/>
              <a:ext cx="55260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H="1">
              <a:off x="2761920" y="2552760"/>
              <a:ext cx="1238040" cy="15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8" name=""/>
          <p:cNvGrpSpPr/>
          <p:nvPr/>
        </p:nvGrpSpPr>
        <p:grpSpPr>
          <a:xfrm>
            <a:off x="3143160" y="2495520"/>
            <a:ext cx="2533680" cy="3143160"/>
            <a:chOff x="3143160" y="2495520"/>
            <a:chExt cx="2533680" cy="3143160"/>
          </a:xfrm>
        </p:grpSpPr>
        <p:sp>
          <p:nvSpPr>
            <p:cNvPr id="2989" name=""/>
            <p:cNvSpPr/>
            <p:nvPr/>
          </p:nvSpPr>
          <p:spPr>
            <a:xfrm>
              <a:off x="3676680" y="3543120"/>
              <a:ext cx="1428840" cy="209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 flipV="1">
              <a:off x="3143160" y="2495520"/>
              <a:ext cx="1962360" cy="257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 flipV="1">
              <a:off x="4000320" y="4038120"/>
              <a:ext cx="1676520" cy="15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2" name=""/>
          <p:cNvGrpSpPr/>
          <p:nvPr/>
        </p:nvGrpSpPr>
        <p:grpSpPr>
          <a:xfrm>
            <a:off x="5657760" y="3029040"/>
            <a:ext cx="762120" cy="2095200"/>
            <a:chOff x="5657760" y="3029040"/>
            <a:chExt cx="762120" cy="2095200"/>
          </a:xfrm>
        </p:grpSpPr>
        <p:sp>
          <p:nvSpPr>
            <p:cNvPr id="2993" name=""/>
            <p:cNvSpPr/>
            <p:nvPr/>
          </p:nvSpPr>
          <p:spPr>
            <a:xfrm>
              <a:off x="6019920" y="3029040"/>
              <a:ext cx="18720" cy="20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657760" y="4019400"/>
              <a:ext cx="762120" cy="5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5" name=""/>
          <p:cNvSpPr/>
          <p:nvPr/>
        </p:nvSpPr>
        <p:spPr>
          <a:xfrm>
            <a:off x="2777400" y="49899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side ar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62C-0838-47F1-B651-5621E1FBC4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30120" y="438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36920" y="4603680"/>
            <a:ext cx="69840" cy="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9560" y="4133880"/>
            <a:ext cx="69840" cy="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60480" y="4621320"/>
            <a:ext cx="69840" cy="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14480" y="4906800"/>
            <a:ext cx="69840" cy="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86080" y="3728880"/>
            <a:ext cx="176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75000" y="3645000"/>
            <a:ext cx="1440" cy="168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3360" y="3662280"/>
            <a:ext cx="14148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403000" y="3662280"/>
            <a:ext cx="14148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5000" y="3645000"/>
            <a:ext cx="69840" cy="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03520" y="4890960"/>
            <a:ext cx="104760" cy="84240"/>
          </a:xfrm>
          <a:custGeom>
            <a:avLst/>
            <a:gdLst/>
            <a:ahLst/>
            <a:rect l="l" t="t" r="r" b="b"/>
            <a:pathLst>
              <a:path w="66" h="53">
                <a:moveTo>
                  <a:pt x="66" y="0"/>
                </a:moveTo>
                <a:lnTo>
                  <a:pt x="0" y="21"/>
                </a:lnTo>
                <a:lnTo>
                  <a:pt x="55" y="53"/>
                </a:lnTo>
                <a:lnTo>
                  <a:pt x="44" y="21"/>
                </a:lnTo>
                <a:lnTo>
                  <a:pt x="6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073160" y="3728880"/>
            <a:ext cx="2131200" cy="1397160"/>
            <a:chOff x="1073160" y="3728880"/>
            <a:chExt cx="2131200" cy="1397160"/>
          </a:xfrm>
        </p:grpSpPr>
        <p:sp>
          <p:nvSpPr>
            <p:cNvPr id="110" name=""/>
            <p:cNvSpPr/>
            <p:nvPr/>
          </p:nvSpPr>
          <p:spPr>
            <a:xfrm>
              <a:off x="1073160" y="4570560"/>
              <a:ext cx="630360" cy="5554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89240" y="4570560"/>
              <a:ext cx="6984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65400" y="4856040"/>
              <a:ext cx="88560" cy="84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19040" y="4856040"/>
              <a:ext cx="7020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24160" y="4722840"/>
              <a:ext cx="87120" cy="84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76360" y="4722840"/>
              <a:ext cx="6984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38440" y="3728880"/>
              <a:ext cx="1068120" cy="119556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2" y="0"/>
                  </a:moveTo>
                  <a:lnTo>
                    <a:pt x="42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6" y="3"/>
                  </a:lnTo>
                  <a:lnTo>
                    <a:pt x="47" y="3"/>
                  </a:lnTo>
                  <a:lnTo>
                    <a:pt x="47" y="4"/>
                  </a:lnTo>
                  <a:lnTo>
                    <a:pt x="48" y="4"/>
                  </a:lnTo>
                  <a:lnTo>
                    <a:pt x="49" y="5"/>
                  </a:lnTo>
                  <a:lnTo>
                    <a:pt x="49" y="6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1" y="8"/>
                  </a:lnTo>
                  <a:lnTo>
                    <a:pt x="52" y="9"/>
                  </a:lnTo>
                  <a:lnTo>
                    <a:pt x="52" y="10"/>
                  </a:lnTo>
                  <a:lnTo>
                    <a:pt x="53" y="10"/>
                  </a:lnTo>
                  <a:lnTo>
                    <a:pt x="53" y="11"/>
                  </a:lnTo>
                  <a:lnTo>
                    <a:pt x="54" y="12"/>
                  </a:lnTo>
                  <a:lnTo>
                    <a:pt x="54" y="13"/>
                  </a:lnTo>
                  <a:lnTo>
                    <a:pt x="55" y="14"/>
                  </a:lnTo>
                  <a:lnTo>
                    <a:pt x="55" y="15"/>
                  </a:lnTo>
                  <a:lnTo>
                    <a:pt x="56" y="16"/>
                  </a:lnTo>
                  <a:lnTo>
                    <a:pt x="56" y="17"/>
                  </a:lnTo>
                  <a:lnTo>
                    <a:pt x="57" y="18"/>
                  </a:lnTo>
                  <a:lnTo>
                    <a:pt x="57" y="19"/>
                  </a:lnTo>
                  <a:lnTo>
                    <a:pt x="58" y="20"/>
                  </a:lnTo>
                  <a:lnTo>
                    <a:pt x="58" y="21"/>
                  </a:lnTo>
                  <a:lnTo>
                    <a:pt x="58" y="22"/>
                  </a:lnTo>
                  <a:lnTo>
                    <a:pt x="59" y="23"/>
                  </a:lnTo>
                  <a:lnTo>
                    <a:pt x="59" y="24"/>
                  </a:lnTo>
                  <a:lnTo>
                    <a:pt x="59" y="25"/>
                  </a:lnTo>
                  <a:lnTo>
                    <a:pt x="60" y="26"/>
                  </a:lnTo>
                  <a:lnTo>
                    <a:pt x="60" y="27"/>
                  </a:lnTo>
                  <a:lnTo>
                    <a:pt x="60" y="28"/>
                  </a:lnTo>
                  <a:lnTo>
                    <a:pt x="60" y="29"/>
                  </a:lnTo>
                  <a:lnTo>
                    <a:pt x="60" y="30"/>
                  </a:lnTo>
                  <a:lnTo>
                    <a:pt x="61" y="31"/>
                  </a:lnTo>
                  <a:lnTo>
                    <a:pt x="61" y="32"/>
                  </a:lnTo>
                  <a:lnTo>
                    <a:pt x="61" y="33"/>
                  </a:lnTo>
                  <a:lnTo>
                    <a:pt x="61" y="34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61" y="37"/>
                  </a:lnTo>
                  <a:lnTo>
                    <a:pt x="61" y="38"/>
                  </a:lnTo>
                  <a:lnTo>
                    <a:pt x="61" y="39"/>
                  </a:lnTo>
                  <a:lnTo>
                    <a:pt x="61" y="40"/>
                  </a:lnTo>
                  <a:lnTo>
                    <a:pt x="60" y="41"/>
                  </a:lnTo>
                  <a:lnTo>
                    <a:pt x="60" y="42"/>
                  </a:lnTo>
                  <a:lnTo>
                    <a:pt x="60" y="43"/>
                  </a:lnTo>
                  <a:lnTo>
                    <a:pt x="60" y="44"/>
                  </a:lnTo>
                  <a:lnTo>
                    <a:pt x="59" y="45"/>
                  </a:lnTo>
                  <a:lnTo>
                    <a:pt x="59" y="46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58" y="49"/>
                  </a:lnTo>
                  <a:lnTo>
                    <a:pt x="58" y="50"/>
                  </a:lnTo>
                  <a:lnTo>
                    <a:pt x="57" y="51"/>
                  </a:lnTo>
                  <a:lnTo>
                    <a:pt x="57" y="52"/>
                  </a:lnTo>
                  <a:lnTo>
                    <a:pt x="56" y="53"/>
                  </a:lnTo>
                  <a:lnTo>
                    <a:pt x="55" y="54"/>
                  </a:lnTo>
                  <a:lnTo>
                    <a:pt x="55" y="55"/>
                  </a:lnTo>
                  <a:lnTo>
                    <a:pt x="54" y="56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52" y="58"/>
                  </a:lnTo>
                  <a:lnTo>
                    <a:pt x="51" y="59"/>
                  </a:lnTo>
                  <a:lnTo>
                    <a:pt x="50" y="60"/>
                  </a:lnTo>
                  <a:lnTo>
                    <a:pt x="49" y="61"/>
                  </a:lnTo>
                  <a:lnTo>
                    <a:pt x="48" y="61"/>
                  </a:lnTo>
                  <a:lnTo>
                    <a:pt x="47" y="62"/>
                  </a:lnTo>
                  <a:lnTo>
                    <a:pt x="46" y="63"/>
                  </a:lnTo>
                  <a:lnTo>
                    <a:pt x="45" y="63"/>
                  </a:lnTo>
                  <a:lnTo>
                    <a:pt x="44" y="64"/>
                  </a:lnTo>
                  <a:lnTo>
                    <a:pt x="43" y="65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9" y="67"/>
                  </a:lnTo>
                  <a:lnTo>
                    <a:pt x="38" y="67"/>
                  </a:lnTo>
                  <a:lnTo>
                    <a:pt x="36" y="68"/>
                  </a:lnTo>
                  <a:lnTo>
                    <a:pt x="35" y="68"/>
                  </a:lnTo>
                  <a:lnTo>
                    <a:pt x="33" y="68"/>
                  </a:lnTo>
                  <a:lnTo>
                    <a:pt x="32" y="69"/>
                  </a:lnTo>
                  <a:lnTo>
                    <a:pt x="30" y="69"/>
                  </a:lnTo>
                  <a:lnTo>
                    <a:pt x="29" y="70"/>
                  </a:lnTo>
                  <a:lnTo>
                    <a:pt x="27" y="70"/>
                  </a:lnTo>
                  <a:lnTo>
                    <a:pt x="25" y="70"/>
                  </a:lnTo>
                  <a:lnTo>
                    <a:pt x="23" y="70"/>
                  </a:lnTo>
                  <a:lnTo>
                    <a:pt x="21" y="71"/>
                  </a:lnTo>
                  <a:lnTo>
                    <a:pt x="20" y="71"/>
                  </a:lnTo>
                  <a:lnTo>
                    <a:pt x="18" y="71"/>
                  </a:lnTo>
                  <a:lnTo>
                    <a:pt x="16" y="71"/>
                  </a:lnTo>
                  <a:lnTo>
                    <a:pt x="14" y="71"/>
                  </a:lnTo>
                  <a:lnTo>
                    <a:pt x="11" y="71"/>
                  </a:lnTo>
                  <a:lnTo>
                    <a:pt x="9" y="71"/>
                  </a:lnTo>
                  <a:lnTo>
                    <a:pt x="7" y="71"/>
                  </a:lnTo>
                  <a:lnTo>
                    <a:pt x="5" y="71"/>
                  </a:lnTo>
                  <a:lnTo>
                    <a:pt x="2" y="71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24960" y="4083120"/>
              <a:ext cx="77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pann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0440" y="3174840"/>
            <a:ext cx="2830320" cy="2497320"/>
            <a:chOff x="460440" y="3174840"/>
            <a:chExt cx="2830320" cy="2497320"/>
          </a:xfrm>
        </p:grpSpPr>
        <p:sp>
          <p:nvSpPr>
            <p:cNvPr id="119" name=""/>
            <p:cNvSpPr/>
            <p:nvPr/>
          </p:nvSpPr>
          <p:spPr>
            <a:xfrm>
              <a:off x="1676520" y="3174840"/>
              <a:ext cx="49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raph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2320" y="3713040"/>
              <a:ext cx="1681200" cy="17319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63680" y="3476520"/>
              <a:ext cx="33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re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0440" y="3406680"/>
              <a:ext cx="2830320" cy="226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664240" y="2782800"/>
            <a:ext cx="34797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are three contours: graph, tree and oth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four zones: one outside all contours, one just in graph, one in graph and tree and one in all three contour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one existential spide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2738520"/>
            <a:ext cx="230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451320" y="4722840"/>
            <a:ext cx="2309760" cy="1618200"/>
            <a:chOff x="3451320" y="4722840"/>
            <a:chExt cx="2309760" cy="1618200"/>
          </a:xfrm>
        </p:grpSpPr>
        <p:grpSp>
          <p:nvGrpSpPr>
            <p:cNvPr id="126" name=""/>
            <p:cNvGrpSpPr/>
            <p:nvPr/>
          </p:nvGrpSpPr>
          <p:grpSpPr>
            <a:xfrm>
              <a:off x="3497040" y="4722840"/>
              <a:ext cx="1974960" cy="565200"/>
              <a:chOff x="3497040" y="4722840"/>
              <a:chExt cx="1974960" cy="565200"/>
            </a:xfrm>
          </p:grpSpPr>
          <p:sp>
            <p:nvSpPr>
              <p:cNvPr id="127" name=""/>
              <p:cNvSpPr/>
              <p:nvPr/>
            </p:nvSpPr>
            <p:spPr>
              <a:xfrm flipH="1" flipV="1">
                <a:off x="3549600" y="4722840"/>
                <a:ext cx="1922400" cy="565200"/>
              </a:xfrm>
              <a:custGeom>
                <a:avLst/>
                <a:gdLst/>
                <a:ahLst/>
                <a:rect l="l" t="t" r="r" b="b"/>
                <a:pathLst>
                  <a:path w="1211" h="356">
                    <a:moveTo>
                      <a:pt x="0" y="356"/>
                    </a:moveTo>
                    <a:cubicBezTo>
                      <a:pt x="160" y="200"/>
                      <a:pt x="320" y="44"/>
                      <a:pt x="522" y="22"/>
                    </a:cubicBezTo>
                    <a:cubicBezTo>
                      <a:pt x="724" y="0"/>
                      <a:pt x="967" y="111"/>
                      <a:pt x="1211" y="2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flipV="1" rot="6911400">
                <a:off x="3482640" y="4894920"/>
                <a:ext cx="181080" cy="83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3451320" y="5272200"/>
              <a:ext cx="2309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generate a diagra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86360" y="203832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51460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rete 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551400" y="3922560"/>
            <a:ext cx="1974960" cy="565200"/>
            <a:chOff x="3551400" y="3922560"/>
            <a:chExt cx="1974960" cy="565200"/>
          </a:xfrm>
        </p:grpSpPr>
        <p:sp>
          <p:nvSpPr>
            <p:cNvPr id="134" name=""/>
            <p:cNvSpPr/>
            <p:nvPr/>
          </p:nvSpPr>
          <p:spPr>
            <a:xfrm>
              <a:off x="3551400" y="3922560"/>
              <a:ext cx="1922400" cy="565200"/>
            </a:xfrm>
            <a:custGeom>
              <a:avLst/>
              <a:gdLst/>
              <a:ahLst/>
              <a:rect l="l" t="t" r="r" b="b"/>
              <a:pathLst>
                <a:path w="1211" h="356">
                  <a:moveTo>
                    <a:pt x="0" y="356"/>
                  </a:moveTo>
                  <a:cubicBezTo>
                    <a:pt x="160" y="200"/>
                    <a:pt x="320" y="44"/>
                    <a:pt x="522" y="22"/>
                  </a:cubicBezTo>
                  <a:cubicBezTo>
                    <a:pt x="724" y="0"/>
                    <a:pt x="967" y="111"/>
                    <a:pt x="1211" y="2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6911400">
              <a:off x="5359320" y="4231440"/>
              <a:ext cx="181080" cy="83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175-0209-4EF6-863F-23A1A05A9C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"/>
          <p:cNvSpPr/>
          <p:nvPr/>
        </p:nvSpPr>
        <p:spPr>
          <a:xfrm>
            <a:off x="5676840" y="2666880"/>
            <a:ext cx="76212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 flipH="1">
            <a:off x="6400440" y="3448080"/>
            <a:ext cx="19080" cy="1314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 flipH="1">
            <a:off x="5676480" y="4762440"/>
            <a:ext cx="72396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6585480" y="3885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6093720" y="2646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4610160" y="2362320"/>
            <a:ext cx="1104840" cy="304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5657760" y="2647800"/>
            <a:ext cx="19080" cy="283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2781360" y="4686480"/>
            <a:ext cx="78084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3505320" y="5448240"/>
            <a:ext cx="1085760" cy="324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 flipH="1">
            <a:off x="4552920" y="5524560"/>
            <a:ext cx="1123920" cy="209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3764520" y="55616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8" name=""/>
          <p:cNvGrpSpPr/>
          <p:nvPr/>
        </p:nvGrpSpPr>
        <p:grpSpPr>
          <a:xfrm>
            <a:off x="2724120" y="2362320"/>
            <a:ext cx="1924200" cy="2286000"/>
            <a:chOff x="2724120" y="2362320"/>
            <a:chExt cx="1924200" cy="2286000"/>
          </a:xfrm>
        </p:grpSpPr>
        <p:sp>
          <p:nvSpPr>
            <p:cNvPr id="3009" name=""/>
            <p:cNvSpPr/>
            <p:nvPr/>
          </p:nvSpPr>
          <p:spPr>
            <a:xfrm flipV="1">
              <a:off x="2724120" y="2685600"/>
              <a:ext cx="762120" cy="933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 flipV="1">
              <a:off x="3486240" y="2380680"/>
              <a:ext cx="116208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2800440" y="2362320"/>
              <a:ext cx="18288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H="1" flipV="1">
              <a:off x="2724120" y="3600000"/>
              <a:ext cx="76320" cy="10479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structing outside ar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2647800" y="2400480"/>
            <a:ext cx="3924360" cy="33526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4513320" y="229860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5560920" y="542304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6284880" y="466092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6303960" y="336564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5560920" y="256536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3427560" y="536580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2684520" y="4565520"/>
            <a:ext cx="209520" cy="198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2627280" y="351792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3389400" y="260352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4456080" y="565164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2282040" y="38469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2777400" y="27230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2036160" y="455184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8" name=""/>
          <p:cNvGrpSpPr/>
          <p:nvPr/>
        </p:nvGrpSpPr>
        <p:grpSpPr>
          <a:xfrm>
            <a:off x="2761920" y="2552760"/>
            <a:ext cx="1238040" cy="1562040"/>
            <a:chOff x="2761920" y="2552760"/>
            <a:chExt cx="1238040" cy="1562040"/>
          </a:xfrm>
        </p:grpSpPr>
        <p:sp>
          <p:nvSpPr>
            <p:cNvPr id="3029" name=""/>
            <p:cNvSpPr/>
            <p:nvPr/>
          </p:nvSpPr>
          <p:spPr>
            <a:xfrm>
              <a:off x="3124080" y="3143160"/>
              <a:ext cx="55260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H="1">
              <a:off x="2761920" y="2552760"/>
              <a:ext cx="1238040" cy="15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1" name=""/>
          <p:cNvGrpSpPr/>
          <p:nvPr/>
        </p:nvGrpSpPr>
        <p:grpSpPr>
          <a:xfrm>
            <a:off x="3143160" y="2495520"/>
            <a:ext cx="2533680" cy="3143160"/>
            <a:chOff x="3143160" y="2495520"/>
            <a:chExt cx="2533680" cy="3143160"/>
          </a:xfrm>
        </p:grpSpPr>
        <p:sp>
          <p:nvSpPr>
            <p:cNvPr id="3032" name=""/>
            <p:cNvSpPr/>
            <p:nvPr/>
          </p:nvSpPr>
          <p:spPr>
            <a:xfrm>
              <a:off x="3676680" y="3543120"/>
              <a:ext cx="1428840" cy="209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 flipV="1">
              <a:off x="3143160" y="2495520"/>
              <a:ext cx="1962360" cy="257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V="1">
              <a:off x="4000320" y="4038120"/>
              <a:ext cx="1676520" cy="15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5657760" y="3029040"/>
            <a:ext cx="762120" cy="2095200"/>
            <a:chOff x="5657760" y="3029040"/>
            <a:chExt cx="762120" cy="2095200"/>
          </a:xfrm>
        </p:grpSpPr>
        <p:sp>
          <p:nvSpPr>
            <p:cNvPr id="3036" name=""/>
            <p:cNvSpPr/>
            <p:nvPr/>
          </p:nvSpPr>
          <p:spPr>
            <a:xfrm>
              <a:off x="6019920" y="3029040"/>
              <a:ext cx="18720" cy="20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657760" y="4019400"/>
              <a:ext cx="762120" cy="5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8" name=""/>
          <p:cNvSpPr/>
          <p:nvPr/>
        </p:nvSpPr>
        <p:spPr>
          <a:xfrm>
            <a:off x="2777400" y="49899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3772080" y="1968480"/>
            <a:ext cx="1593720" cy="603360"/>
          </a:xfrm>
          <a:custGeom>
            <a:avLst/>
            <a:gdLst/>
            <a:ahLst/>
            <a:rect l="l" t="t" r="r" b="b"/>
            <a:pathLst>
              <a:path w="1004" h="380">
                <a:moveTo>
                  <a:pt x="132" y="380"/>
                </a:moveTo>
                <a:cubicBezTo>
                  <a:pt x="66" y="273"/>
                  <a:pt x="0" y="166"/>
                  <a:pt x="72" y="104"/>
                </a:cubicBezTo>
                <a:cubicBezTo>
                  <a:pt x="144" y="42"/>
                  <a:pt x="416" y="0"/>
                  <a:pt x="564" y="8"/>
                </a:cubicBezTo>
                <a:cubicBezTo>
                  <a:pt x="712" y="16"/>
                  <a:pt x="916" y="96"/>
                  <a:pt x="960" y="152"/>
                </a:cubicBezTo>
                <a:cubicBezTo>
                  <a:pt x="1004" y="208"/>
                  <a:pt x="848" y="312"/>
                  <a:pt x="828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5067360" y="5124600"/>
            <a:ext cx="1063440" cy="882360"/>
          </a:xfrm>
          <a:custGeom>
            <a:avLst/>
            <a:gdLst/>
            <a:ahLst/>
            <a:rect l="l" t="t" r="r" b="b"/>
            <a:pathLst>
              <a:path w="670" h="556">
                <a:moveTo>
                  <a:pt x="0" y="312"/>
                </a:moveTo>
                <a:cubicBezTo>
                  <a:pt x="75" y="430"/>
                  <a:pt x="150" y="548"/>
                  <a:pt x="252" y="552"/>
                </a:cubicBezTo>
                <a:cubicBezTo>
                  <a:pt x="354" y="556"/>
                  <a:pt x="554" y="428"/>
                  <a:pt x="612" y="336"/>
                </a:cubicBezTo>
                <a:cubicBezTo>
                  <a:pt x="670" y="244"/>
                  <a:pt x="635" y="122"/>
                  <a:pt x="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048-CE13-41F4-80F1-6B15800BA81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"/>
          <p:cNvSpPr/>
          <p:nvPr/>
        </p:nvSpPr>
        <p:spPr>
          <a:xfrm>
            <a:off x="5676840" y="2666880"/>
            <a:ext cx="76212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 flipH="1">
            <a:off x="6400440" y="3448080"/>
            <a:ext cx="19080" cy="1314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 flipH="1">
            <a:off x="5676480" y="4762440"/>
            <a:ext cx="72396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4610160" y="2362320"/>
            <a:ext cx="1104840" cy="304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5657760" y="2647800"/>
            <a:ext cx="19080" cy="283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2781360" y="4686480"/>
            <a:ext cx="78084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3505320" y="5448240"/>
            <a:ext cx="1085760" cy="324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 flipH="1">
            <a:off x="4552920" y="5524560"/>
            <a:ext cx="1123920" cy="209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9" name=""/>
          <p:cNvGrpSpPr/>
          <p:nvPr/>
        </p:nvGrpSpPr>
        <p:grpSpPr>
          <a:xfrm>
            <a:off x="2724120" y="2362320"/>
            <a:ext cx="1924200" cy="2286000"/>
            <a:chOff x="2724120" y="2362320"/>
            <a:chExt cx="1924200" cy="2286000"/>
          </a:xfrm>
        </p:grpSpPr>
        <p:sp>
          <p:nvSpPr>
            <p:cNvPr id="3050" name=""/>
            <p:cNvSpPr/>
            <p:nvPr/>
          </p:nvSpPr>
          <p:spPr>
            <a:xfrm flipV="1">
              <a:off x="2724120" y="2685600"/>
              <a:ext cx="762120" cy="933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 flipV="1">
              <a:off x="3486240" y="2380680"/>
              <a:ext cx="116208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H="1">
              <a:off x="2800440" y="2362320"/>
              <a:ext cx="18288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 flipV="1">
              <a:off x="2724120" y="3600000"/>
              <a:ext cx="76320" cy="10479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2647800" y="2400480"/>
            <a:ext cx="3924360" cy="33526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4513320" y="229860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5560920" y="542304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6284880" y="466092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6303960" y="336564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5560920" y="256536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3427560" y="536580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2684520" y="4565520"/>
            <a:ext cx="209520" cy="198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2627280" y="351792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3389400" y="260352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4456080" y="565164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2282040" y="38469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2036160" y="455184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7" name=""/>
          <p:cNvGrpSpPr/>
          <p:nvPr/>
        </p:nvGrpSpPr>
        <p:grpSpPr>
          <a:xfrm>
            <a:off x="2761920" y="2552760"/>
            <a:ext cx="1238040" cy="1562040"/>
            <a:chOff x="2761920" y="2552760"/>
            <a:chExt cx="1238040" cy="1562040"/>
          </a:xfrm>
        </p:grpSpPr>
        <p:sp>
          <p:nvSpPr>
            <p:cNvPr id="3068" name=""/>
            <p:cNvSpPr/>
            <p:nvPr/>
          </p:nvSpPr>
          <p:spPr>
            <a:xfrm>
              <a:off x="3124080" y="3143160"/>
              <a:ext cx="55260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 flipH="1">
              <a:off x="2761920" y="2552760"/>
              <a:ext cx="1238040" cy="15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0" name=""/>
          <p:cNvGrpSpPr/>
          <p:nvPr/>
        </p:nvGrpSpPr>
        <p:grpSpPr>
          <a:xfrm>
            <a:off x="3143160" y="2495520"/>
            <a:ext cx="2533680" cy="3143160"/>
            <a:chOff x="3143160" y="2495520"/>
            <a:chExt cx="2533680" cy="3143160"/>
          </a:xfrm>
        </p:grpSpPr>
        <p:sp>
          <p:nvSpPr>
            <p:cNvPr id="3071" name=""/>
            <p:cNvSpPr/>
            <p:nvPr/>
          </p:nvSpPr>
          <p:spPr>
            <a:xfrm>
              <a:off x="3676680" y="3543120"/>
              <a:ext cx="1428840" cy="209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143160" y="2495520"/>
              <a:ext cx="1962360" cy="257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 flipV="1">
              <a:off x="4000320" y="4038120"/>
              <a:ext cx="1676520" cy="15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4" name=""/>
          <p:cNvGrpSpPr/>
          <p:nvPr/>
        </p:nvGrpSpPr>
        <p:grpSpPr>
          <a:xfrm>
            <a:off x="5657760" y="3029040"/>
            <a:ext cx="762120" cy="2095200"/>
            <a:chOff x="5657760" y="3029040"/>
            <a:chExt cx="762120" cy="2095200"/>
          </a:xfrm>
        </p:grpSpPr>
        <p:sp>
          <p:nvSpPr>
            <p:cNvPr id="3075" name=""/>
            <p:cNvSpPr/>
            <p:nvPr/>
          </p:nvSpPr>
          <p:spPr>
            <a:xfrm>
              <a:off x="6019920" y="3029040"/>
              <a:ext cx="18720" cy="20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657760" y="4019400"/>
              <a:ext cx="762120" cy="5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7" name=""/>
          <p:cNvSpPr/>
          <p:nvPr/>
        </p:nvSpPr>
        <p:spPr>
          <a:xfrm>
            <a:off x="2777400" y="49899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3772080" y="1968480"/>
            <a:ext cx="1593720" cy="603360"/>
          </a:xfrm>
          <a:custGeom>
            <a:avLst/>
            <a:gdLst/>
            <a:ahLst/>
            <a:rect l="l" t="t" r="r" b="b"/>
            <a:pathLst>
              <a:path w="1004" h="380">
                <a:moveTo>
                  <a:pt x="132" y="380"/>
                </a:moveTo>
                <a:cubicBezTo>
                  <a:pt x="66" y="273"/>
                  <a:pt x="0" y="166"/>
                  <a:pt x="72" y="104"/>
                </a:cubicBezTo>
                <a:cubicBezTo>
                  <a:pt x="144" y="42"/>
                  <a:pt x="416" y="0"/>
                  <a:pt x="564" y="8"/>
                </a:cubicBezTo>
                <a:cubicBezTo>
                  <a:pt x="712" y="16"/>
                  <a:pt x="916" y="96"/>
                  <a:pt x="960" y="152"/>
                </a:cubicBezTo>
                <a:cubicBezTo>
                  <a:pt x="1004" y="208"/>
                  <a:pt x="848" y="312"/>
                  <a:pt x="828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5067360" y="5124600"/>
            <a:ext cx="1063440" cy="882360"/>
          </a:xfrm>
          <a:custGeom>
            <a:avLst/>
            <a:gdLst/>
            <a:ahLst/>
            <a:rect l="l" t="t" r="r" b="b"/>
            <a:pathLst>
              <a:path w="670" h="556">
                <a:moveTo>
                  <a:pt x="0" y="312"/>
                </a:moveTo>
                <a:cubicBezTo>
                  <a:pt x="75" y="430"/>
                  <a:pt x="150" y="548"/>
                  <a:pt x="252" y="552"/>
                </a:cubicBezTo>
                <a:cubicBezTo>
                  <a:pt x="354" y="556"/>
                  <a:pt x="554" y="428"/>
                  <a:pt x="612" y="336"/>
                </a:cubicBezTo>
                <a:cubicBezTo>
                  <a:pt x="670" y="244"/>
                  <a:pt x="635" y="122"/>
                  <a:pt x="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2705040" y="1679400"/>
            <a:ext cx="3718080" cy="1444680"/>
          </a:xfrm>
          <a:custGeom>
            <a:avLst/>
            <a:gdLst/>
            <a:ahLst/>
            <a:rect l="l" t="t" r="r" b="b"/>
            <a:pathLst>
              <a:path w="2342" h="910">
                <a:moveTo>
                  <a:pt x="264" y="910"/>
                </a:moveTo>
                <a:cubicBezTo>
                  <a:pt x="132" y="795"/>
                  <a:pt x="0" y="680"/>
                  <a:pt x="60" y="550"/>
                </a:cubicBezTo>
                <a:cubicBezTo>
                  <a:pt x="120" y="420"/>
                  <a:pt x="398" y="214"/>
                  <a:pt x="624" y="130"/>
                </a:cubicBezTo>
                <a:cubicBezTo>
                  <a:pt x="850" y="46"/>
                  <a:pt x="1148" y="0"/>
                  <a:pt x="1416" y="46"/>
                </a:cubicBezTo>
                <a:cubicBezTo>
                  <a:pt x="1684" y="92"/>
                  <a:pt x="2122" y="274"/>
                  <a:pt x="2232" y="406"/>
                </a:cubicBezTo>
                <a:cubicBezTo>
                  <a:pt x="2342" y="538"/>
                  <a:pt x="2209" y="688"/>
                  <a:pt x="2076" y="83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3749760" y="4076640"/>
            <a:ext cx="3101760" cy="2190960"/>
          </a:xfrm>
          <a:custGeom>
            <a:avLst/>
            <a:gdLst/>
            <a:ahLst/>
            <a:rect l="l" t="t" r="r" b="b"/>
            <a:pathLst>
              <a:path w="1954" h="1380">
                <a:moveTo>
                  <a:pt x="158" y="960"/>
                </a:moveTo>
                <a:cubicBezTo>
                  <a:pt x="79" y="1029"/>
                  <a:pt x="0" y="1098"/>
                  <a:pt x="74" y="1164"/>
                </a:cubicBezTo>
                <a:cubicBezTo>
                  <a:pt x="148" y="1230"/>
                  <a:pt x="406" y="1334"/>
                  <a:pt x="602" y="1356"/>
                </a:cubicBezTo>
                <a:cubicBezTo>
                  <a:pt x="798" y="1378"/>
                  <a:pt x="1050" y="1380"/>
                  <a:pt x="1250" y="1296"/>
                </a:cubicBezTo>
                <a:cubicBezTo>
                  <a:pt x="1450" y="1212"/>
                  <a:pt x="1688" y="1034"/>
                  <a:pt x="1802" y="852"/>
                </a:cubicBezTo>
                <a:cubicBezTo>
                  <a:pt x="1916" y="670"/>
                  <a:pt x="1954" y="346"/>
                  <a:pt x="1934" y="204"/>
                </a:cubicBezTo>
                <a:cubicBezTo>
                  <a:pt x="1914" y="62"/>
                  <a:pt x="1798" y="31"/>
                  <a:pt x="168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structing outside ar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F22-2CB0-4EDE-AA7E-B8DB136378D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"/>
          <p:cNvSpPr/>
          <p:nvPr/>
        </p:nvSpPr>
        <p:spPr>
          <a:xfrm>
            <a:off x="5676840" y="2666880"/>
            <a:ext cx="76212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 flipH="1">
            <a:off x="6400440" y="3448080"/>
            <a:ext cx="19080" cy="1314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 flipH="1">
            <a:off x="5676480" y="4762440"/>
            <a:ext cx="72396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4610160" y="2362320"/>
            <a:ext cx="1104840" cy="304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5657760" y="2647800"/>
            <a:ext cx="19080" cy="283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2781360" y="4686480"/>
            <a:ext cx="78084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3505320" y="5448240"/>
            <a:ext cx="1085760" cy="324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 flipH="1">
            <a:off x="4552920" y="5524560"/>
            <a:ext cx="1123920" cy="209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1" name=""/>
          <p:cNvGrpSpPr/>
          <p:nvPr/>
        </p:nvGrpSpPr>
        <p:grpSpPr>
          <a:xfrm>
            <a:off x="2724120" y="2362320"/>
            <a:ext cx="1924200" cy="2286000"/>
            <a:chOff x="2724120" y="2362320"/>
            <a:chExt cx="1924200" cy="2286000"/>
          </a:xfrm>
        </p:grpSpPr>
        <p:sp>
          <p:nvSpPr>
            <p:cNvPr id="3092" name=""/>
            <p:cNvSpPr/>
            <p:nvPr/>
          </p:nvSpPr>
          <p:spPr>
            <a:xfrm flipV="1">
              <a:off x="2724120" y="2685600"/>
              <a:ext cx="762120" cy="933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3486240" y="2380680"/>
              <a:ext cx="116208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H="1">
              <a:off x="2800440" y="2362320"/>
              <a:ext cx="18288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 flipH="1" flipV="1">
              <a:off x="2724120" y="3600000"/>
              <a:ext cx="76320" cy="10479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6" name=""/>
          <p:cNvSpPr/>
          <p:nvPr/>
        </p:nvSpPr>
        <p:spPr>
          <a:xfrm>
            <a:off x="2647800" y="2400480"/>
            <a:ext cx="3924360" cy="33526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4513320" y="229860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5560920" y="542304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6284880" y="466092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6303960" y="336564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5560920" y="256536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3427560" y="536580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2684520" y="4565520"/>
            <a:ext cx="209520" cy="198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2627280" y="351792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3389400" y="260352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4456080" y="5651640"/>
            <a:ext cx="209520" cy="198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2036160" y="455184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8" name=""/>
          <p:cNvGrpSpPr/>
          <p:nvPr/>
        </p:nvGrpSpPr>
        <p:grpSpPr>
          <a:xfrm>
            <a:off x="2761920" y="2552760"/>
            <a:ext cx="1238040" cy="1562040"/>
            <a:chOff x="2761920" y="2552760"/>
            <a:chExt cx="1238040" cy="1562040"/>
          </a:xfrm>
        </p:grpSpPr>
        <p:sp>
          <p:nvSpPr>
            <p:cNvPr id="3109" name=""/>
            <p:cNvSpPr/>
            <p:nvPr/>
          </p:nvSpPr>
          <p:spPr>
            <a:xfrm>
              <a:off x="3124080" y="3143160"/>
              <a:ext cx="55260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 flipH="1">
              <a:off x="2761920" y="2552760"/>
              <a:ext cx="1238040" cy="15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1" name=""/>
          <p:cNvGrpSpPr/>
          <p:nvPr/>
        </p:nvGrpSpPr>
        <p:grpSpPr>
          <a:xfrm>
            <a:off x="3143160" y="2495520"/>
            <a:ext cx="2533680" cy="3143160"/>
            <a:chOff x="3143160" y="2495520"/>
            <a:chExt cx="2533680" cy="3143160"/>
          </a:xfrm>
        </p:grpSpPr>
        <p:sp>
          <p:nvSpPr>
            <p:cNvPr id="3112" name=""/>
            <p:cNvSpPr/>
            <p:nvPr/>
          </p:nvSpPr>
          <p:spPr>
            <a:xfrm>
              <a:off x="3676680" y="3543120"/>
              <a:ext cx="1428840" cy="209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 flipV="1">
              <a:off x="3143160" y="2495520"/>
              <a:ext cx="1962360" cy="257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 flipV="1">
              <a:off x="4000320" y="4038120"/>
              <a:ext cx="1676520" cy="15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5" name=""/>
          <p:cNvGrpSpPr/>
          <p:nvPr/>
        </p:nvGrpSpPr>
        <p:grpSpPr>
          <a:xfrm>
            <a:off x="5657760" y="3029040"/>
            <a:ext cx="762120" cy="2095200"/>
            <a:chOff x="5657760" y="3029040"/>
            <a:chExt cx="762120" cy="2095200"/>
          </a:xfrm>
        </p:grpSpPr>
        <p:sp>
          <p:nvSpPr>
            <p:cNvPr id="3116" name=""/>
            <p:cNvSpPr/>
            <p:nvPr/>
          </p:nvSpPr>
          <p:spPr>
            <a:xfrm>
              <a:off x="6019920" y="3029040"/>
              <a:ext cx="18720" cy="20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657760" y="4019400"/>
              <a:ext cx="762120" cy="5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8" name=""/>
          <p:cNvSpPr/>
          <p:nvPr/>
        </p:nvSpPr>
        <p:spPr>
          <a:xfrm>
            <a:off x="3772080" y="1968480"/>
            <a:ext cx="1593720" cy="603360"/>
          </a:xfrm>
          <a:custGeom>
            <a:avLst/>
            <a:gdLst/>
            <a:ahLst/>
            <a:rect l="l" t="t" r="r" b="b"/>
            <a:pathLst>
              <a:path w="1004" h="380">
                <a:moveTo>
                  <a:pt x="132" y="380"/>
                </a:moveTo>
                <a:cubicBezTo>
                  <a:pt x="66" y="273"/>
                  <a:pt x="0" y="166"/>
                  <a:pt x="72" y="104"/>
                </a:cubicBezTo>
                <a:cubicBezTo>
                  <a:pt x="144" y="42"/>
                  <a:pt x="416" y="0"/>
                  <a:pt x="564" y="8"/>
                </a:cubicBezTo>
                <a:cubicBezTo>
                  <a:pt x="712" y="16"/>
                  <a:pt x="916" y="96"/>
                  <a:pt x="960" y="152"/>
                </a:cubicBezTo>
                <a:cubicBezTo>
                  <a:pt x="1004" y="208"/>
                  <a:pt x="848" y="312"/>
                  <a:pt x="828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5067360" y="5124600"/>
            <a:ext cx="1063440" cy="882360"/>
          </a:xfrm>
          <a:custGeom>
            <a:avLst/>
            <a:gdLst/>
            <a:ahLst/>
            <a:rect l="l" t="t" r="r" b="b"/>
            <a:pathLst>
              <a:path w="670" h="556">
                <a:moveTo>
                  <a:pt x="0" y="312"/>
                </a:moveTo>
                <a:cubicBezTo>
                  <a:pt x="75" y="430"/>
                  <a:pt x="150" y="548"/>
                  <a:pt x="252" y="552"/>
                </a:cubicBezTo>
                <a:cubicBezTo>
                  <a:pt x="354" y="556"/>
                  <a:pt x="554" y="428"/>
                  <a:pt x="612" y="336"/>
                </a:cubicBezTo>
                <a:cubicBezTo>
                  <a:pt x="670" y="244"/>
                  <a:pt x="635" y="122"/>
                  <a:pt x="60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2705040" y="1679400"/>
            <a:ext cx="3718080" cy="1444680"/>
          </a:xfrm>
          <a:custGeom>
            <a:avLst/>
            <a:gdLst/>
            <a:ahLst/>
            <a:rect l="l" t="t" r="r" b="b"/>
            <a:pathLst>
              <a:path w="2342" h="910">
                <a:moveTo>
                  <a:pt x="264" y="910"/>
                </a:moveTo>
                <a:cubicBezTo>
                  <a:pt x="132" y="795"/>
                  <a:pt x="0" y="680"/>
                  <a:pt x="60" y="550"/>
                </a:cubicBezTo>
                <a:cubicBezTo>
                  <a:pt x="120" y="420"/>
                  <a:pt x="398" y="214"/>
                  <a:pt x="624" y="130"/>
                </a:cubicBezTo>
                <a:cubicBezTo>
                  <a:pt x="850" y="46"/>
                  <a:pt x="1148" y="0"/>
                  <a:pt x="1416" y="46"/>
                </a:cubicBezTo>
                <a:cubicBezTo>
                  <a:pt x="1684" y="92"/>
                  <a:pt x="2122" y="274"/>
                  <a:pt x="2232" y="406"/>
                </a:cubicBezTo>
                <a:cubicBezTo>
                  <a:pt x="2342" y="538"/>
                  <a:pt x="2209" y="688"/>
                  <a:pt x="2076" y="83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3749760" y="4076640"/>
            <a:ext cx="3101760" cy="2190960"/>
          </a:xfrm>
          <a:custGeom>
            <a:avLst/>
            <a:gdLst/>
            <a:ahLst/>
            <a:rect l="l" t="t" r="r" b="b"/>
            <a:pathLst>
              <a:path w="1954" h="1380">
                <a:moveTo>
                  <a:pt x="158" y="960"/>
                </a:moveTo>
                <a:cubicBezTo>
                  <a:pt x="79" y="1029"/>
                  <a:pt x="0" y="1098"/>
                  <a:pt x="74" y="1164"/>
                </a:cubicBezTo>
                <a:cubicBezTo>
                  <a:pt x="148" y="1230"/>
                  <a:pt x="406" y="1334"/>
                  <a:pt x="602" y="1356"/>
                </a:cubicBezTo>
                <a:cubicBezTo>
                  <a:pt x="798" y="1378"/>
                  <a:pt x="1050" y="1380"/>
                  <a:pt x="1250" y="1296"/>
                </a:cubicBezTo>
                <a:cubicBezTo>
                  <a:pt x="1450" y="1212"/>
                  <a:pt x="1688" y="1034"/>
                  <a:pt x="1802" y="852"/>
                </a:cubicBezTo>
                <a:cubicBezTo>
                  <a:pt x="1916" y="670"/>
                  <a:pt x="1954" y="346"/>
                  <a:pt x="1934" y="204"/>
                </a:cubicBezTo>
                <a:cubicBezTo>
                  <a:pt x="1914" y="62"/>
                  <a:pt x="1798" y="31"/>
                  <a:pt x="168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1987560" y="1434960"/>
            <a:ext cx="5435640" cy="5172120"/>
          </a:xfrm>
          <a:custGeom>
            <a:avLst/>
            <a:gdLst/>
            <a:ahLst/>
            <a:rect l="l" t="t" r="r" b="b"/>
            <a:pathLst>
              <a:path w="3424" h="3258">
                <a:moveTo>
                  <a:pt x="740" y="2288"/>
                </a:moveTo>
                <a:cubicBezTo>
                  <a:pt x="618" y="2392"/>
                  <a:pt x="496" y="2496"/>
                  <a:pt x="488" y="2600"/>
                </a:cubicBezTo>
                <a:cubicBezTo>
                  <a:pt x="480" y="2704"/>
                  <a:pt x="504" y="2818"/>
                  <a:pt x="692" y="2912"/>
                </a:cubicBezTo>
                <a:cubicBezTo>
                  <a:pt x="880" y="3006"/>
                  <a:pt x="1282" y="3138"/>
                  <a:pt x="1616" y="3164"/>
                </a:cubicBezTo>
                <a:cubicBezTo>
                  <a:pt x="1950" y="3190"/>
                  <a:pt x="2410" y="3258"/>
                  <a:pt x="2696" y="3068"/>
                </a:cubicBezTo>
                <a:cubicBezTo>
                  <a:pt x="2982" y="2878"/>
                  <a:pt x="3240" y="2370"/>
                  <a:pt x="3332" y="2024"/>
                </a:cubicBezTo>
                <a:cubicBezTo>
                  <a:pt x="3424" y="1678"/>
                  <a:pt x="3362" y="1302"/>
                  <a:pt x="3248" y="992"/>
                </a:cubicBezTo>
                <a:cubicBezTo>
                  <a:pt x="3134" y="682"/>
                  <a:pt x="2982" y="320"/>
                  <a:pt x="2648" y="164"/>
                </a:cubicBezTo>
                <a:cubicBezTo>
                  <a:pt x="2314" y="8"/>
                  <a:pt x="1624" y="0"/>
                  <a:pt x="1244" y="56"/>
                </a:cubicBezTo>
                <a:cubicBezTo>
                  <a:pt x="864" y="112"/>
                  <a:pt x="572" y="272"/>
                  <a:pt x="368" y="500"/>
                </a:cubicBezTo>
                <a:cubicBezTo>
                  <a:pt x="164" y="728"/>
                  <a:pt x="0" y="1228"/>
                  <a:pt x="20" y="1424"/>
                </a:cubicBezTo>
                <a:cubicBezTo>
                  <a:pt x="40" y="1620"/>
                  <a:pt x="264" y="1648"/>
                  <a:pt x="488" y="167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structing outside ar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41B-CF16-463D-80D5-982D00297B7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4" name=""/>
          <p:cNvGrpSpPr/>
          <p:nvPr/>
        </p:nvGrpSpPr>
        <p:grpSpPr>
          <a:xfrm>
            <a:off x="1987560" y="1434960"/>
            <a:ext cx="5435640" cy="5172120"/>
            <a:chOff x="1987560" y="1434960"/>
            <a:chExt cx="5435640" cy="5172120"/>
          </a:xfrm>
        </p:grpSpPr>
        <p:grpSp>
          <p:nvGrpSpPr>
            <p:cNvPr id="3125" name=""/>
            <p:cNvGrpSpPr/>
            <p:nvPr/>
          </p:nvGrpSpPr>
          <p:grpSpPr>
            <a:xfrm>
              <a:off x="2761920" y="2552760"/>
              <a:ext cx="1238040" cy="1562040"/>
              <a:chOff x="2761920" y="2552760"/>
              <a:chExt cx="1238040" cy="1562040"/>
            </a:xfrm>
          </p:grpSpPr>
          <p:sp>
            <p:nvSpPr>
              <p:cNvPr id="3126" name=""/>
              <p:cNvSpPr/>
              <p:nvPr/>
            </p:nvSpPr>
            <p:spPr>
              <a:xfrm>
                <a:off x="3124080" y="3143160"/>
                <a:ext cx="552600" cy="399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 flipH="1">
                <a:off x="2761920" y="2552760"/>
                <a:ext cx="1238040" cy="156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8" name=""/>
            <p:cNvGrpSpPr/>
            <p:nvPr/>
          </p:nvGrpSpPr>
          <p:grpSpPr>
            <a:xfrm>
              <a:off x="3143160" y="2495520"/>
              <a:ext cx="2533680" cy="3143160"/>
              <a:chOff x="3143160" y="2495520"/>
              <a:chExt cx="2533680" cy="3143160"/>
            </a:xfrm>
          </p:grpSpPr>
          <p:sp>
            <p:nvSpPr>
              <p:cNvPr id="3129" name=""/>
              <p:cNvSpPr/>
              <p:nvPr/>
            </p:nvSpPr>
            <p:spPr>
              <a:xfrm>
                <a:off x="3676680" y="3543120"/>
                <a:ext cx="1428840" cy="209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flipV="1">
                <a:off x="3143160" y="2495520"/>
                <a:ext cx="1962360" cy="257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 flipV="1">
                <a:off x="4000320" y="4038120"/>
                <a:ext cx="1676520" cy="156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2" name=""/>
            <p:cNvGrpSpPr/>
            <p:nvPr/>
          </p:nvGrpSpPr>
          <p:grpSpPr>
            <a:xfrm>
              <a:off x="5657760" y="3029040"/>
              <a:ext cx="762120" cy="2095200"/>
              <a:chOff x="5657760" y="3029040"/>
              <a:chExt cx="762120" cy="2095200"/>
            </a:xfrm>
          </p:grpSpPr>
          <p:sp>
            <p:nvSpPr>
              <p:cNvPr id="3133" name=""/>
              <p:cNvSpPr/>
              <p:nvPr/>
            </p:nvSpPr>
            <p:spPr>
              <a:xfrm>
                <a:off x="6019920" y="3029040"/>
                <a:ext cx="18720" cy="209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5657760" y="4019400"/>
                <a:ext cx="762120" cy="5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5" name=""/>
            <p:cNvSpPr/>
            <p:nvPr/>
          </p:nvSpPr>
          <p:spPr>
            <a:xfrm>
              <a:off x="3772080" y="1968480"/>
              <a:ext cx="1593720" cy="603360"/>
            </a:xfrm>
            <a:custGeom>
              <a:avLst/>
              <a:gdLst/>
              <a:ahLst/>
              <a:rect l="l" t="t" r="r" b="b"/>
              <a:pathLst>
                <a:path w="1004" h="380">
                  <a:moveTo>
                    <a:pt x="132" y="380"/>
                  </a:moveTo>
                  <a:cubicBezTo>
                    <a:pt x="66" y="273"/>
                    <a:pt x="0" y="166"/>
                    <a:pt x="72" y="104"/>
                  </a:cubicBezTo>
                  <a:cubicBezTo>
                    <a:pt x="144" y="42"/>
                    <a:pt x="416" y="0"/>
                    <a:pt x="564" y="8"/>
                  </a:cubicBezTo>
                  <a:cubicBezTo>
                    <a:pt x="712" y="16"/>
                    <a:pt x="916" y="96"/>
                    <a:pt x="960" y="152"/>
                  </a:cubicBezTo>
                  <a:cubicBezTo>
                    <a:pt x="1004" y="208"/>
                    <a:pt x="848" y="312"/>
                    <a:pt x="828" y="34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5067360" y="5124600"/>
              <a:ext cx="1063440" cy="882360"/>
            </a:xfrm>
            <a:custGeom>
              <a:avLst/>
              <a:gdLst/>
              <a:ahLst/>
              <a:rect l="l" t="t" r="r" b="b"/>
              <a:pathLst>
                <a:path w="670" h="556">
                  <a:moveTo>
                    <a:pt x="0" y="312"/>
                  </a:moveTo>
                  <a:cubicBezTo>
                    <a:pt x="75" y="430"/>
                    <a:pt x="150" y="548"/>
                    <a:pt x="252" y="552"/>
                  </a:cubicBezTo>
                  <a:cubicBezTo>
                    <a:pt x="354" y="556"/>
                    <a:pt x="554" y="428"/>
                    <a:pt x="612" y="336"/>
                  </a:cubicBezTo>
                  <a:cubicBezTo>
                    <a:pt x="670" y="244"/>
                    <a:pt x="635" y="122"/>
                    <a:pt x="60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705040" y="1679400"/>
              <a:ext cx="3718080" cy="1444680"/>
            </a:xfrm>
            <a:custGeom>
              <a:avLst/>
              <a:gdLst/>
              <a:ahLst/>
              <a:rect l="l" t="t" r="r" b="b"/>
              <a:pathLst>
                <a:path w="2342" h="910">
                  <a:moveTo>
                    <a:pt x="264" y="910"/>
                  </a:moveTo>
                  <a:cubicBezTo>
                    <a:pt x="132" y="795"/>
                    <a:pt x="0" y="680"/>
                    <a:pt x="60" y="550"/>
                  </a:cubicBezTo>
                  <a:cubicBezTo>
                    <a:pt x="120" y="420"/>
                    <a:pt x="398" y="214"/>
                    <a:pt x="624" y="130"/>
                  </a:cubicBezTo>
                  <a:cubicBezTo>
                    <a:pt x="850" y="46"/>
                    <a:pt x="1148" y="0"/>
                    <a:pt x="1416" y="46"/>
                  </a:cubicBezTo>
                  <a:cubicBezTo>
                    <a:pt x="1684" y="92"/>
                    <a:pt x="2122" y="274"/>
                    <a:pt x="2232" y="406"/>
                  </a:cubicBezTo>
                  <a:cubicBezTo>
                    <a:pt x="2342" y="538"/>
                    <a:pt x="2209" y="688"/>
                    <a:pt x="2076" y="83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3749760" y="4076640"/>
              <a:ext cx="3101760" cy="2190960"/>
            </a:xfrm>
            <a:custGeom>
              <a:avLst/>
              <a:gdLst/>
              <a:ahLst/>
              <a:rect l="l" t="t" r="r" b="b"/>
              <a:pathLst>
                <a:path w="1954" h="1380">
                  <a:moveTo>
                    <a:pt x="158" y="960"/>
                  </a:moveTo>
                  <a:cubicBezTo>
                    <a:pt x="79" y="1029"/>
                    <a:pt x="0" y="1098"/>
                    <a:pt x="74" y="1164"/>
                  </a:cubicBezTo>
                  <a:cubicBezTo>
                    <a:pt x="148" y="1230"/>
                    <a:pt x="406" y="1334"/>
                    <a:pt x="602" y="1356"/>
                  </a:cubicBezTo>
                  <a:cubicBezTo>
                    <a:pt x="798" y="1378"/>
                    <a:pt x="1050" y="1380"/>
                    <a:pt x="1250" y="1296"/>
                  </a:cubicBezTo>
                  <a:cubicBezTo>
                    <a:pt x="1450" y="1212"/>
                    <a:pt x="1688" y="1034"/>
                    <a:pt x="1802" y="852"/>
                  </a:cubicBezTo>
                  <a:cubicBezTo>
                    <a:pt x="1916" y="670"/>
                    <a:pt x="1954" y="346"/>
                    <a:pt x="1934" y="204"/>
                  </a:cubicBezTo>
                  <a:cubicBezTo>
                    <a:pt x="1914" y="62"/>
                    <a:pt x="1798" y="31"/>
                    <a:pt x="168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1987560" y="1434960"/>
              <a:ext cx="5435640" cy="5172120"/>
            </a:xfrm>
            <a:custGeom>
              <a:avLst/>
              <a:gdLst/>
              <a:ahLst/>
              <a:rect l="l" t="t" r="r" b="b"/>
              <a:pathLst>
                <a:path w="3424" h="3258">
                  <a:moveTo>
                    <a:pt x="740" y="2288"/>
                  </a:moveTo>
                  <a:cubicBezTo>
                    <a:pt x="618" y="2392"/>
                    <a:pt x="496" y="2496"/>
                    <a:pt x="488" y="2600"/>
                  </a:cubicBezTo>
                  <a:cubicBezTo>
                    <a:pt x="480" y="2704"/>
                    <a:pt x="504" y="2818"/>
                    <a:pt x="692" y="2912"/>
                  </a:cubicBezTo>
                  <a:cubicBezTo>
                    <a:pt x="880" y="3006"/>
                    <a:pt x="1282" y="3138"/>
                    <a:pt x="1616" y="3164"/>
                  </a:cubicBezTo>
                  <a:cubicBezTo>
                    <a:pt x="1950" y="3190"/>
                    <a:pt x="2410" y="3258"/>
                    <a:pt x="2696" y="3068"/>
                  </a:cubicBezTo>
                  <a:cubicBezTo>
                    <a:pt x="2982" y="2878"/>
                    <a:pt x="3240" y="2370"/>
                    <a:pt x="3332" y="2024"/>
                  </a:cubicBezTo>
                  <a:cubicBezTo>
                    <a:pt x="3424" y="1678"/>
                    <a:pt x="3362" y="1302"/>
                    <a:pt x="3248" y="992"/>
                  </a:cubicBezTo>
                  <a:cubicBezTo>
                    <a:pt x="3134" y="682"/>
                    <a:pt x="2982" y="320"/>
                    <a:pt x="2648" y="164"/>
                  </a:cubicBezTo>
                  <a:cubicBezTo>
                    <a:pt x="2314" y="8"/>
                    <a:pt x="1624" y="0"/>
                    <a:pt x="1244" y="56"/>
                  </a:cubicBezTo>
                  <a:cubicBezTo>
                    <a:pt x="864" y="112"/>
                    <a:pt x="572" y="272"/>
                    <a:pt x="368" y="500"/>
                  </a:cubicBezTo>
                  <a:cubicBezTo>
                    <a:pt x="164" y="728"/>
                    <a:pt x="0" y="1228"/>
                    <a:pt x="20" y="1424"/>
                  </a:cubicBezTo>
                  <a:cubicBezTo>
                    <a:pt x="40" y="1620"/>
                    <a:pt x="264" y="1648"/>
                    <a:pt x="488" y="16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8FA-D8D3-47DC-A3CB-BFF3C182436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d conditions in f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wanted z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717480" y="5292000"/>
            <a:ext cx="73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id construction of new z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3" name=""/>
          <p:cNvGrpSpPr/>
          <p:nvPr/>
        </p:nvGrpSpPr>
        <p:grpSpPr>
          <a:xfrm>
            <a:off x="5541480" y="2283480"/>
            <a:ext cx="2397960" cy="2005200"/>
            <a:chOff x="5541480" y="2283480"/>
            <a:chExt cx="2397960" cy="2005200"/>
          </a:xfrm>
        </p:grpSpPr>
        <p:sp>
          <p:nvSpPr>
            <p:cNvPr id="3144" name=""/>
            <p:cNvSpPr/>
            <p:nvPr/>
          </p:nvSpPr>
          <p:spPr>
            <a:xfrm flipH="1">
              <a:off x="5895000" y="2283480"/>
              <a:ext cx="570240" cy="163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H="1">
              <a:off x="6836040" y="2598120"/>
              <a:ext cx="589680" cy="16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786280" y="2611440"/>
              <a:ext cx="2153160" cy="71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541480" y="3314520"/>
              <a:ext cx="2086920" cy="72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8" name=""/>
          <p:cNvGrpSpPr/>
          <p:nvPr/>
        </p:nvGrpSpPr>
        <p:grpSpPr>
          <a:xfrm>
            <a:off x="4901760" y="1830960"/>
            <a:ext cx="3691800" cy="2923560"/>
            <a:chOff x="4901760" y="1830960"/>
            <a:chExt cx="3691800" cy="2923560"/>
          </a:xfrm>
        </p:grpSpPr>
        <p:sp>
          <p:nvSpPr>
            <p:cNvPr id="3149" name=""/>
            <p:cNvSpPr/>
            <p:nvPr/>
          </p:nvSpPr>
          <p:spPr>
            <a:xfrm rot="1152600">
              <a:off x="5428800" y="2209680"/>
              <a:ext cx="2667240" cy="2152800"/>
            </a:xfrm>
            <a:custGeom>
              <a:avLst/>
              <a:gdLst/>
              <a:ahLst/>
              <a:rect l="l" t="t" r="r" b="b"/>
              <a:pathLst>
                <a:path w="1680" h="1356">
                  <a:moveTo>
                    <a:pt x="780" y="0"/>
                  </a:moveTo>
                  <a:lnTo>
                    <a:pt x="1380" y="216"/>
                  </a:lnTo>
                  <a:lnTo>
                    <a:pt x="1680" y="660"/>
                  </a:lnTo>
                  <a:lnTo>
                    <a:pt x="1392" y="1164"/>
                  </a:lnTo>
                  <a:lnTo>
                    <a:pt x="792" y="1356"/>
                  </a:lnTo>
                  <a:lnTo>
                    <a:pt x="204" y="1140"/>
                  </a:lnTo>
                  <a:lnTo>
                    <a:pt x="0" y="696"/>
                  </a:lnTo>
                  <a:lnTo>
                    <a:pt x="216" y="264"/>
                  </a:lnTo>
                  <a:lnTo>
                    <a:pt x="780" y="0"/>
                  </a:lnTo>
                  <a:close/>
                </a:path>
              </a:pathLst>
            </a:custGeom>
            <a:noFill/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863760" y="18752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7852680" y="254196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8019720" y="349452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7218720" y="42184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982840" y="4294800"/>
              <a:ext cx="57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015160" y="362808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B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4901760" y="2599200"/>
              <a:ext cx="6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B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858640" y="189432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433640" y="21992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633360" y="42566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7963560" y="30754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5467680" y="22755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7719480" y="38757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5204880" y="31136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5609520" y="38566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6295320" y="19134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6" name=""/>
          <p:cNvGrpSpPr/>
          <p:nvPr/>
        </p:nvGrpSpPr>
        <p:grpSpPr>
          <a:xfrm>
            <a:off x="1687320" y="3060720"/>
            <a:ext cx="4884840" cy="855360"/>
            <a:chOff x="1687320" y="3060720"/>
            <a:chExt cx="4884840" cy="855360"/>
          </a:xfrm>
        </p:grpSpPr>
        <p:sp>
          <p:nvSpPr>
            <p:cNvPr id="3167" name=""/>
            <p:cNvSpPr/>
            <p:nvPr/>
          </p:nvSpPr>
          <p:spPr>
            <a:xfrm>
              <a:off x="1687320" y="3456360"/>
              <a:ext cx="168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ew zon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3219480" y="3060720"/>
              <a:ext cx="3352680" cy="501480"/>
            </a:xfrm>
            <a:custGeom>
              <a:avLst/>
              <a:gdLst/>
              <a:ahLst/>
              <a:rect l="l" t="t" r="r" b="b"/>
              <a:pathLst>
                <a:path w="2112" h="316">
                  <a:moveTo>
                    <a:pt x="0" y="316"/>
                  </a:moveTo>
                  <a:cubicBezTo>
                    <a:pt x="358" y="186"/>
                    <a:pt x="716" y="56"/>
                    <a:pt x="1068" y="28"/>
                  </a:cubicBezTo>
                  <a:cubicBezTo>
                    <a:pt x="1420" y="0"/>
                    <a:pt x="1766" y="74"/>
                    <a:pt x="2112" y="1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4E05-24FB-41A8-B4E3-7BD69FAE063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d conditions in f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iple point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 occ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ing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e boundary g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C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 avoid  A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F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CA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DED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C 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1" name=""/>
          <p:cNvGrpSpPr/>
          <p:nvPr/>
        </p:nvGrpSpPr>
        <p:grpSpPr>
          <a:xfrm>
            <a:off x="3996720" y="1580040"/>
            <a:ext cx="4302360" cy="3088800"/>
            <a:chOff x="3996720" y="1580040"/>
            <a:chExt cx="4302360" cy="3088800"/>
          </a:xfrm>
        </p:grpSpPr>
        <p:sp>
          <p:nvSpPr>
            <p:cNvPr id="3172" name=""/>
            <p:cNvSpPr/>
            <p:nvPr/>
          </p:nvSpPr>
          <p:spPr>
            <a:xfrm>
              <a:off x="4648320" y="1981080"/>
              <a:ext cx="2971800" cy="2248200"/>
            </a:xfrm>
            <a:prstGeom prst="hexagon">
              <a:avLst>
                <a:gd name="adj" fmla="val 33046"/>
                <a:gd name="vf" fmla="val 115470"/>
              </a:avLst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3996720" y="28375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023800" y="1637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6847920" y="165636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533000" y="28375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6849720" y="4209120"/>
              <a:ext cx="57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5120640" y="4151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701600" y="36183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7216200" y="22467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4663440" y="22086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7234920" y="36374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936040" y="42091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879160" y="158004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5" name=""/>
          <p:cNvGrpSpPr/>
          <p:nvPr/>
        </p:nvGrpSpPr>
        <p:grpSpPr>
          <a:xfrm>
            <a:off x="5010120" y="1981080"/>
            <a:ext cx="2228760" cy="2229120"/>
            <a:chOff x="5010120" y="1981080"/>
            <a:chExt cx="2228760" cy="2229120"/>
          </a:xfrm>
        </p:grpSpPr>
        <p:sp>
          <p:nvSpPr>
            <p:cNvPr id="3186" name=""/>
            <p:cNvSpPr/>
            <p:nvPr/>
          </p:nvSpPr>
          <p:spPr>
            <a:xfrm>
              <a:off x="6076800" y="1981080"/>
              <a:ext cx="0" cy="222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5048280" y="2514600"/>
              <a:ext cx="2190600" cy="11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 flipV="1">
              <a:off x="5010120" y="2533320"/>
              <a:ext cx="222876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6EC-2E5A-4158-887D-F262BE4140A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d conditions in f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 word-obstruction appears in a planar dual graph, is it worth trying to come up wth a different planar representation without the word-probl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these word-obstructions be resolved in any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4B7-85FB-4844-8B02-77857547137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1852560" y="3403440"/>
            <a:ext cx="1800" cy="128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6048000" y="2102760"/>
            <a:ext cx="22032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str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uler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3106800" y="2674800"/>
            <a:ext cx="2762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3394080" y="2297160"/>
            <a:ext cx="19940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3447360" y="17344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2874960" y="3279600"/>
            <a:ext cx="3271680" cy="1648080"/>
          </a:xfrm>
          <a:custGeom>
            <a:avLst/>
            <a:gdLst/>
            <a:ahLst/>
            <a:rect l="l" t="t" r="r" b="b"/>
            <a:pathLst>
              <a:path w="2061" h="1038">
                <a:moveTo>
                  <a:pt x="2023" y="0"/>
                </a:moveTo>
                <a:cubicBezTo>
                  <a:pt x="1982" y="141"/>
                  <a:pt x="2061" y="688"/>
                  <a:pt x="1778" y="845"/>
                </a:cubicBezTo>
                <a:cubicBezTo>
                  <a:pt x="1495" y="1002"/>
                  <a:pt x="619" y="1038"/>
                  <a:pt x="323" y="945"/>
                </a:cubicBezTo>
                <a:cubicBezTo>
                  <a:pt x="27" y="852"/>
                  <a:pt x="67" y="426"/>
                  <a:pt x="0" y="28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3590280" y="394884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6372360" y="4899960"/>
            <a:ext cx="17474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a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796320" y="2216880"/>
            <a:ext cx="22032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r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uler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1127520" y="4901400"/>
            <a:ext cx="17474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a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7248600" y="3655440"/>
            <a:ext cx="1896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3710520" y="5598360"/>
            <a:ext cx="144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-160200" y="3598200"/>
            <a:ext cx="2533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x 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undary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2994120" y="5478480"/>
            <a:ext cx="3157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 flipV="1">
            <a:off x="7145280" y="3298680"/>
            <a:ext cx="0" cy="132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1A17-65E1-4171-85B6-579C8671816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 and current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1108800" y="1902960"/>
            <a:ext cx="70189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’s the best planarising algorithm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bstract dual grap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an we overcome the fact tha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-conditions are a feature of the plane du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not a feature of the abstract du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an we make the outcome look “nic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ess convoluted - easier to read by ey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6896160" y="2305080"/>
            <a:ext cx="438120" cy="590400"/>
          </a:xfrm>
          <a:custGeom>
            <a:avLst/>
            <a:gdLst/>
            <a:ahLst/>
            <a:rect l="l" t="t" r="r" b="b"/>
            <a:pathLst>
              <a:path w="576" h="804">
                <a:moveTo>
                  <a:pt x="0" y="600"/>
                </a:moveTo>
                <a:lnTo>
                  <a:pt x="180" y="804"/>
                </a:lnTo>
                <a:lnTo>
                  <a:pt x="57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6877080" y="4248000"/>
            <a:ext cx="438120" cy="590760"/>
          </a:xfrm>
          <a:custGeom>
            <a:avLst/>
            <a:gdLst/>
            <a:ahLst/>
            <a:rect l="l" t="t" r="r" b="b"/>
            <a:pathLst>
              <a:path w="576" h="804">
                <a:moveTo>
                  <a:pt x="0" y="600"/>
                </a:moveTo>
                <a:lnTo>
                  <a:pt x="180" y="804"/>
                </a:lnTo>
                <a:lnTo>
                  <a:pt x="57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B74-5E25-4852-8428-C5CD2F8A3BA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uler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6880" y="4365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71840" y="4394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76320" y="4133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7240" y="462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9400" y="46972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4840" y="3409920"/>
            <a:ext cx="2836800" cy="2271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46640" y="3174840"/>
            <a:ext cx="49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9440" y="3713040"/>
            <a:ext cx="1680840" cy="17319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347652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9920" y="4570560"/>
            <a:ext cx="630360" cy="5554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24160" y="4361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84400" y="4352760"/>
            <a:ext cx="43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32360" y="3449520"/>
            <a:ext cx="31561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are three contours: graph, tree and oth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four zones: one outside all contours, one just in graph, one in graph and tree and one in all three cont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86360" y="250524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50524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rete 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2738520"/>
            <a:ext cx="230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451320" y="4722840"/>
            <a:ext cx="2309760" cy="1618200"/>
            <a:chOff x="3451320" y="4722840"/>
            <a:chExt cx="2309760" cy="1618200"/>
          </a:xfrm>
        </p:grpSpPr>
        <p:grpSp>
          <p:nvGrpSpPr>
            <p:cNvPr id="154" name=""/>
            <p:cNvGrpSpPr/>
            <p:nvPr/>
          </p:nvGrpSpPr>
          <p:grpSpPr>
            <a:xfrm>
              <a:off x="3497040" y="4722840"/>
              <a:ext cx="1974960" cy="565200"/>
              <a:chOff x="3497040" y="4722840"/>
              <a:chExt cx="1974960" cy="565200"/>
            </a:xfrm>
          </p:grpSpPr>
          <p:sp>
            <p:nvSpPr>
              <p:cNvPr id="155" name=""/>
              <p:cNvSpPr/>
              <p:nvPr/>
            </p:nvSpPr>
            <p:spPr>
              <a:xfrm flipH="1" flipV="1">
                <a:off x="3549600" y="4722840"/>
                <a:ext cx="1922400" cy="565200"/>
              </a:xfrm>
              <a:custGeom>
                <a:avLst/>
                <a:gdLst/>
                <a:ahLst/>
                <a:rect l="l" t="t" r="r" b="b"/>
                <a:pathLst>
                  <a:path w="1211" h="356">
                    <a:moveTo>
                      <a:pt x="0" y="356"/>
                    </a:moveTo>
                    <a:cubicBezTo>
                      <a:pt x="160" y="200"/>
                      <a:pt x="320" y="44"/>
                      <a:pt x="522" y="22"/>
                    </a:cubicBezTo>
                    <a:cubicBezTo>
                      <a:pt x="724" y="0"/>
                      <a:pt x="967" y="111"/>
                      <a:pt x="1211" y="2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 rot="6911400">
                <a:off x="3482640" y="4894920"/>
                <a:ext cx="181080" cy="83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3451320" y="5272200"/>
              <a:ext cx="2309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generate a diagra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551400" y="3922560"/>
            <a:ext cx="1974960" cy="565200"/>
            <a:chOff x="3551400" y="3922560"/>
            <a:chExt cx="1974960" cy="565200"/>
          </a:xfrm>
        </p:grpSpPr>
        <p:sp>
          <p:nvSpPr>
            <p:cNvPr id="159" name=""/>
            <p:cNvSpPr/>
            <p:nvPr/>
          </p:nvSpPr>
          <p:spPr>
            <a:xfrm>
              <a:off x="3551400" y="3922560"/>
              <a:ext cx="1922400" cy="565200"/>
            </a:xfrm>
            <a:custGeom>
              <a:avLst/>
              <a:gdLst/>
              <a:ahLst/>
              <a:rect l="l" t="t" r="r" b="b"/>
              <a:pathLst>
                <a:path w="1211" h="356">
                  <a:moveTo>
                    <a:pt x="0" y="356"/>
                  </a:moveTo>
                  <a:cubicBezTo>
                    <a:pt x="160" y="200"/>
                    <a:pt x="320" y="44"/>
                    <a:pt x="522" y="22"/>
                  </a:cubicBezTo>
                  <a:cubicBezTo>
                    <a:pt x="724" y="0"/>
                    <a:pt x="967" y="111"/>
                    <a:pt x="1211" y="2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6911400">
              <a:off x="5359320" y="4231440"/>
              <a:ext cx="181080" cy="83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368-EE20-4759-BFD1-F8063F97D6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uler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040" y="434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71840" y="4336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4480" y="4114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95400" y="4602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49400" y="4640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85880" y="31561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7240" y="3693960"/>
            <a:ext cx="1681200" cy="1731960"/>
          </a:xfrm>
          <a:prstGeom prst="ellipse">
            <a:avLst/>
          </a:prstGeom>
          <a:solidFill>
            <a:srgbClr val="99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345744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8080" y="4551480"/>
            <a:ext cx="630360" cy="55548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24160" y="4303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99160" y="3554280"/>
            <a:ext cx="34448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are thre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ou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A, B, C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fou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on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{},{A},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{A,B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{A,B,C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24000" y="43340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86360" y="252396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52396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rete 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7280" y="3427560"/>
            <a:ext cx="2733480" cy="2152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2738520"/>
            <a:ext cx="230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1320" y="4722840"/>
            <a:ext cx="2309760" cy="1618200"/>
            <a:chOff x="3451320" y="4722840"/>
            <a:chExt cx="2309760" cy="1618200"/>
          </a:xfrm>
        </p:grpSpPr>
        <p:grpSp>
          <p:nvGrpSpPr>
            <p:cNvPr id="179" name=""/>
            <p:cNvGrpSpPr/>
            <p:nvPr/>
          </p:nvGrpSpPr>
          <p:grpSpPr>
            <a:xfrm>
              <a:off x="3497040" y="4722840"/>
              <a:ext cx="1974960" cy="565200"/>
              <a:chOff x="3497040" y="4722840"/>
              <a:chExt cx="1974960" cy="565200"/>
            </a:xfrm>
          </p:grpSpPr>
          <p:sp>
            <p:nvSpPr>
              <p:cNvPr id="180" name=""/>
              <p:cNvSpPr/>
              <p:nvPr/>
            </p:nvSpPr>
            <p:spPr>
              <a:xfrm flipH="1" flipV="1">
                <a:off x="3549600" y="4722840"/>
                <a:ext cx="1922400" cy="565200"/>
              </a:xfrm>
              <a:custGeom>
                <a:avLst/>
                <a:gdLst/>
                <a:ahLst/>
                <a:rect l="l" t="t" r="r" b="b"/>
                <a:pathLst>
                  <a:path w="1211" h="356">
                    <a:moveTo>
                      <a:pt x="0" y="356"/>
                    </a:moveTo>
                    <a:cubicBezTo>
                      <a:pt x="160" y="200"/>
                      <a:pt x="320" y="44"/>
                      <a:pt x="522" y="22"/>
                    </a:cubicBezTo>
                    <a:cubicBezTo>
                      <a:pt x="724" y="0"/>
                      <a:pt x="967" y="111"/>
                      <a:pt x="1211" y="2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 rot="6911400">
                <a:off x="3482640" y="4894920"/>
                <a:ext cx="181080" cy="83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3451320" y="5272200"/>
              <a:ext cx="2309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generate a diagra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551400" y="3922560"/>
            <a:ext cx="1974960" cy="565200"/>
            <a:chOff x="3551400" y="3922560"/>
            <a:chExt cx="1974960" cy="565200"/>
          </a:xfrm>
        </p:grpSpPr>
        <p:sp>
          <p:nvSpPr>
            <p:cNvPr id="184" name=""/>
            <p:cNvSpPr/>
            <p:nvPr/>
          </p:nvSpPr>
          <p:spPr>
            <a:xfrm>
              <a:off x="3551400" y="3922560"/>
              <a:ext cx="1922400" cy="565200"/>
            </a:xfrm>
            <a:custGeom>
              <a:avLst/>
              <a:gdLst/>
              <a:ahLst/>
              <a:rect l="l" t="t" r="r" b="b"/>
              <a:pathLst>
                <a:path w="1211" h="356">
                  <a:moveTo>
                    <a:pt x="0" y="356"/>
                  </a:moveTo>
                  <a:cubicBezTo>
                    <a:pt x="160" y="200"/>
                    <a:pt x="320" y="44"/>
                    <a:pt x="522" y="22"/>
                  </a:cubicBezTo>
                  <a:cubicBezTo>
                    <a:pt x="724" y="0"/>
                    <a:pt x="967" y="111"/>
                    <a:pt x="1211" y="2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6911400">
              <a:off x="5359320" y="4231440"/>
              <a:ext cx="181080" cy="83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5B7-AF8C-4938-A153-221FA4B065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ll-formed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71840" y="4336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49400" y="4640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24160" y="4303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320" y="2355840"/>
            <a:ext cx="2925720" cy="2424240"/>
            <a:chOff x="22320" y="2355840"/>
            <a:chExt cx="2925720" cy="2424240"/>
          </a:xfrm>
        </p:grpSpPr>
        <p:sp>
          <p:nvSpPr>
            <p:cNvPr id="191" name=""/>
            <p:cNvSpPr/>
            <p:nvPr/>
          </p:nvSpPr>
          <p:spPr>
            <a:xfrm>
              <a:off x="22320" y="3546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71760" y="33148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52680" y="380196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43160" y="23558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4520" y="2894040"/>
              <a:ext cx="1681200" cy="1731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28880" y="265752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17560" y="3465360"/>
              <a:ext cx="630360" cy="5558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14720" y="3267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4200" y="2627280"/>
              <a:ext cx="2733840" cy="2152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571840" y="1446840"/>
            <a:ext cx="3752280" cy="1163160"/>
            <a:chOff x="2571840" y="1446840"/>
            <a:chExt cx="3752280" cy="1163160"/>
          </a:xfrm>
        </p:grpSpPr>
        <p:sp>
          <p:nvSpPr>
            <p:cNvPr id="201" name=""/>
            <p:cNvSpPr/>
            <p:nvPr/>
          </p:nvSpPr>
          <p:spPr>
            <a:xfrm flipH="1">
              <a:off x="2571840" y="1791000"/>
              <a:ext cx="609840" cy="81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83840" y="1446840"/>
              <a:ext cx="314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imple closed curv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038320" y="4057200"/>
            <a:ext cx="4077360" cy="1344960"/>
            <a:chOff x="2038320" y="4057200"/>
            <a:chExt cx="4077360" cy="1344960"/>
          </a:xfrm>
        </p:grpSpPr>
        <p:sp>
          <p:nvSpPr>
            <p:cNvPr id="204" name=""/>
            <p:cNvSpPr/>
            <p:nvPr/>
          </p:nvSpPr>
          <p:spPr>
            <a:xfrm flipH="1" flipV="1">
              <a:off x="2038320" y="4057200"/>
              <a:ext cx="1162080" cy="100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89080" y="4942440"/>
              <a:ext cx="3126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verse cross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977200" y="5276880"/>
            <a:ext cx="4585680" cy="792000"/>
            <a:chOff x="2977200" y="5276880"/>
            <a:chExt cx="4585680" cy="792000"/>
          </a:xfrm>
        </p:grpSpPr>
        <p:sp>
          <p:nvSpPr>
            <p:cNvPr id="207" name=""/>
            <p:cNvSpPr/>
            <p:nvPr/>
          </p:nvSpPr>
          <p:spPr>
            <a:xfrm flipV="1">
              <a:off x="5334120" y="5276880"/>
              <a:ext cx="2228760" cy="49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77200" y="5609160"/>
              <a:ext cx="2363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 triple poi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515280" y="2546280"/>
            <a:ext cx="2466360" cy="1827000"/>
            <a:chOff x="6515280" y="2546280"/>
            <a:chExt cx="2466360" cy="1827000"/>
          </a:xfrm>
        </p:grpSpPr>
        <p:sp>
          <p:nvSpPr>
            <p:cNvPr id="210" name=""/>
            <p:cNvSpPr/>
            <p:nvPr/>
          </p:nvSpPr>
          <p:spPr>
            <a:xfrm>
              <a:off x="7162920" y="2762280"/>
              <a:ext cx="1066680" cy="148572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15280" y="3314880"/>
              <a:ext cx="1390320" cy="495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15200" y="3352680"/>
              <a:ext cx="1390680" cy="495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15280" y="3314880"/>
              <a:ext cx="1390320" cy="495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62920" y="2762280"/>
              <a:ext cx="1066680" cy="1485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10400" y="254628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15080" y="311796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10680" y="31939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75960" y="3913560"/>
              <a:ext cx="805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629400" y="4552920"/>
            <a:ext cx="2000160" cy="1630080"/>
            <a:chOff x="6629400" y="4552920"/>
            <a:chExt cx="2000160" cy="1630080"/>
          </a:xfrm>
        </p:grpSpPr>
        <p:grpSp>
          <p:nvGrpSpPr>
            <p:cNvPr id="220" name=""/>
            <p:cNvGrpSpPr/>
            <p:nvPr/>
          </p:nvGrpSpPr>
          <p:grpSpPr>
            <a:xfrm>
              <a:off x="6629400" y="4552920"/>
              <a:ext cx="2000160" cy="1257120"/>
              <a:chOff x="6629400" y="4552920"/>
              <a:chExt cx="2000160" cy="1257120"/>
            </a:xfrm>
          </p:grpSpPr>
          <p:sp>
            <p:nvSpPr>
              <p:cNvPr id="221" name=""/>
              <p:cNvSpPr/>
              <p:nvPr/>
            </p:nvSpPr>
            <p:spPr>
              <a:xfrm>
                <a:off x="7429320" y="4552920"/>
                <a:ext cx="1066680" cy="723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62880" y="5086080"/>
                <a:ext cx="1066680" cy="723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629400" y="4895640"/>
                <a:ext cx="1066680" cy="723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6872400" y="5723280"/>
              <a:ext cx="805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043080" y="2535840"/>
            <a:ext cx="4596120" cy="1922760"/>
            <a:chOff x="3043080" y="2535840"/>
            <a:chExt cx="4596120" cy="1922760"/>
          </a:xfrm>
        </p:grpSpPr>
        <p:sp>
          <p:nvSpPr>
            <p:cNvPr id="226" name=""/>
            <p:cNvSpPr/>
            <p:nvPr/>
          </p:nvSpPr>
          <p:spPr>
            <a:xfrm>
              <a:off x="5810400" y="2905200"/>
              <a:ext cx="1828800" cy="333360"/>
            </a:xfrm>
            <a:custGeom>
              <a:avLst/>
              <a:gdLst/>
              <a:ahLst/>
              <a:rect l="l" t="t" r="r" b="b"/>
              <a:pathLst>
                <a:path w="1152" h="210">
                  <a:moveTo>
                    <a:pt x="0" y="210"/>
                  </a:moveTo>
                  <a:cubicBezTo>
                    <a:pt x="162" y="123"/>
                    <a:pt x="324" y="36"/>
                    <a:pt x="516" y="18"/>
                  </a:cubicBezTo>
                  <a:cubicBezTo>
                    <a:pt x="708" y="0"/>
                    <a:pt x="930" y="51"/>
                    <a:pt x="1152" y="1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810400" y="3857760"/>
              <a:ext cx="1828800" cy="333360"/>
            </a:xfrm>
            <a:custGeom>
              <a:avLst/>
              <a:gdLst/>
              <a:ahLst/>
              <a:rect l="l" t="t" r="r" b="b"/>
              <a:pathLst>
                <a:path w="1152" h="210">
                  <a:moveTo>
                    <a:pt x="0" y="210"/>
                  </a:moveTo>
                  <a:cubicBezTo>
                    <a:pt x="162" y="123"/>
                    <a:pt x="324" y="36"/>
                    <a:pt x="516" y="18"/>
                  </a:cubicBezTo>
                  <a:cubicBezTo>
                    <a:pt x="708" y="0"/>
                    <a:pt x="930" y="51"/>
                    <a:pt x="1152" y="1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3080" y="2535840"/>
              <a:ext cx="3550320" cy="192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nnected compon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f the compl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re identif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y the contou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ntaining th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B1F-09C3-4783-8D55-BBC399BE49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1840" y="4336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49400" y="4640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24160" y="43038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720" y="1841400"/>
            <a:ext cx="8910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aper presents work on an algorithm for cr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well-formed Euler diagram from an abstract Euler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entral idea is that of “the dual graph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a concrete Euler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C309-5F68-4B9C-9249-4A404BFF51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447920" y="3535920"/>
            <a:ext cx="6837120" cy="2344320"/>
            <a:chOff x="1447920" y="3535920"/>
            <a:chExt cx="6837120" cy="2344320"/>
          </a:xfrm>
        </p:grpSpPr>
        <p:grpSp>
          <p:nvGrpSpPr>
            <p:cNvPr id="235" name=""/>
            <p:cNvGrpSpPr/>
            <p:nvPr/>
          </p:nvGrpSpPr>
          <p:grpSpPr>
            <a:xfrm>
              <a:off x="1447920" y="3909960"/>
              <a:ext cx="2853720" cy="1970280"/>
              <a:chOff x="1447920" y="3909960"/>
              <a:chExt cx="2853720" cy="1970280"/>
            </a:xfrm>
          </p:grpSpPr>
          <p:sp>
            <p:nvSpPr>
              <p:cNvPr id="236" name=""/>
              <p:cNvSpPr/>
              <p:nvPr/>
            </p:nvSpPr>
            <p:spPr>
              <a:xfrm>
                <a:off x="1447920" y="4248000"/>
                <a:ext cx="2209680" cy="720720"/>
              </a:xfrm>
              <a:custGeom>
                <a:avLst/>
                <a:gdLst/>
                <a:ahLst/>
                <a:rect l="l" t="t" r="r" b="b"/>
                <a:pathLst>
                  <a:path w="1392" h="454">
                    <a:moveTo>
                      <a:pt x="1392" y="0"/>
                    </a:moveTo>
                    <a:cubicBezTo>
                      <a:pt x="1187" y="169"/>
                      <a:pt x="982" y="338"/>
                      <a:pt x="804" y="396"/>
                    </a:cubicBezTo>
                    <a:cubicBezTo>
                      <a:pt x="626" y="454"/>
                      <a:pt x="458" y="384"/>
                      <a:pt x="324" y="348"/>
                    </a:cubicBezTo>
                    <a:cubicBezTo>
                      <a:pt x="190" y="312"/>
                      <a:pt x="95" y="246"/>
                      <a:pt x="0" y="180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509840" y="3917880"/>
                <a:ext cx="657000" cy="6285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flipV="1">
                <a:off x="2157120" y="3909960"/>
                <a:ext cx="726840" cy="1792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2973240" y="4088880"/>
                <a:ext cx="657360" cy="1335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22680" y="4237200"/>
                <a:ext cx="657360" cy="182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714400" y="4417920"/>
                <a:ext cx="1587240" cy="14623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1491840" y="4532400"/>
                <a:ext cx="1157400" cy="12794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5966280" y="3535920"/>
              <a:ext cx="231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Comic Sans MS"/>
                </a:rPr>
                <a:t>Dual Edg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dual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17640" y="1642320"/>
            <a:ext cx="6411240" cy="3858480"/>
            <a:chOff x="917640" y="1642320"/>
            <a:chExt cx="6411240" cy="3858480"/>
          </a:xfrm>
        </p:grpSpPr>
        <p:sp>
          <p:nvSpPr>
            <p:cNvPr id="246" name=""/>
            <p:cNvSpPr/>
            <p:nvPr/>
          </p:nvSpPr>
          <p:spPr>
            <a:xfrm>
              <a:off x="917640" y="2297160"/>
              <a:ext cx="3014640" cy="320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49360" y="3051000"/>
              <a:ext cx="1965240" cy="153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06520" y="3506760"/>
              <a:ext cx="2535480" cy="1665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52120" y="1642320"/>
              <a:ext cx="28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uler diagra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370160" y="2710800"/>
            <a:ext cx="6791760" cy="3214800"/>
            <a:chOff x="1370160" y="2710800"/>
            <a:chExt cx="6791760" cy="3214800"/>
          </a:xfrm>
        </p:grpSpPr>
        <p:sp>
          <p:nvSpPr>
            <p:cNvPr id="251" name=""/>
            <p:cNvSpPr/>
            <p:nvPr/>
          </p:nvSpPr>
          <p:spPr>
            <a:xfrm>
              <a:off x="2589480" y="5727600"/>
              <a:ext cx="209160" cy="198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70160" y="4444560"/>
              <a:ext cx="209160" cy="198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46600" y="3828240"/>
              <a:ext cx="209160" cy="198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13400" y="4004640"/>
              <a:ext cx="209160" cy="198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57160" y="4156920"/>
              <a:ext cx="209160" cy="198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920" y="4333680"/>
              <a:ext cx="209160" cy="198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62160" y="2710800"/>
              <a:ext cx="239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Dual Nod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119960" y="3405600"/>
            <a:ext cx="6928200" cy="2915640"/>
            <a:chOff x="1119960" y="3405600"/>
            <a:chExt cx="6928200" cy="2915640"/>
          </a:xfrm>
        </p:grpSpPr>
        <p:sp>
          <p:nvSpPr>
            <p:cNvPr id="259" name=""/>
            <p:cNvSpPr/>
            <p:nvPr/>
          </p:nvSpPr>
          <p:spPr>
            <a:xfrm>
              <a:off x="2333160" y="58615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62040" y="3985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19960" y="407556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64720" y="340560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34040" y="416304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22880" y="374076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01480" y="4290120"/>
              <a:ext cx="214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Comic Sans MS"/>
                </a:rPr>
                <a:t>Node labe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719360" y="1908000"/>
            <a:ext cx="6323040" cy="2157480"/>
            <a:chOff x="1719360" y="1908000"/>
            <a:chExt cx="6323040" cy="2157480"/>
          </a:xfrm>
        </p:grpSpPr>
        <p:sp>
          <p:nvSpPr>
            <p:cNvPr id="267" name=""/>
            <p:cNvSpPr/>
            <p:nvPr/>
          </p:nvSpPr>
          <p:spPr>
            <a:xfrm>
              <a:off x="1719360" y="1908000"/>
              <a:ext cx="89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24200" y="2641680"/>
              <a:ext cx="88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05480" y="3544920"/>
              <a:ext cx="89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74200" y="2129400"/>
              <a:ext cx="296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Contour labe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497600" y="3567600"/>
            <a:ext cx="6480000" cy="2053440"/>
            <a:chOff x="1497600" y="3567600"/>
            <a:chExt cx="6480000" cy="2053440"/>
          </a:xfrm>
        </p:grpSpPr>
        <p:sp>
          <p:nvSpPr>
            <p:cNvPr id="272" name=""/>
            <p:cNvSpPr/>
            <p:nvPr/>
          </p:nvSpPr>
          <p:spPr>
            <a:xfrm>
              <a:off x="1751760" y="49568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28480" y="5161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97600" y="38739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76000" y="35676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72240" y="36849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99840" y="4536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39400" y="39564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9320" y="5074560"/>
              <a:ext cx="207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Comic Sans MS"/>
                </a:rPr>
                <a:t>Edge labe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8DBC-2FF2-42F8-98BA-DAA6D3E7A1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5T12:24:18Z</dcterms:created>
  <dc:creator>Jean Flower</dc:creator>
  <dc:description/>
  <dc:language>en-US</dc:language>
  <cp:lastModifiedBy>jean flower</cp:lastModifiedBy>
  <cp:lastPrinted>2002-04-03T12:45:05Z</cp:lastPrinted>
  <dcterms:modified xsi:type="dcterms:W3CDTF">2002-04-26T12:51:24Z</dcterms:modified>
  <cp:revision>26</cp:revision>
  <dc:subject/>
  <dc:title>Generating CDiagrams</dc:title>
</cp:coreProperties>
</file>