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9CCD-391C-4B8E-95FB-44C02E92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7BB-6C3E-4E31-9F93-8B608448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3B1D-6398-4117-B230-EFF06FE7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B46-8E53-43ED-BF10-9C61BDB4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C257-6C8F-4D1B-B693-02668F1C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C7C-F5EA-4635-B8D0-4605BE47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EC15-36E8-4F9E-BBE9-691D1964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49B-822C-48D2-9A34-6F31EFB6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4748-222F-472C-B3CD-CAB37343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A04-FFD0-4AB5-9C91-0FB0F7E8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538-B46F-4CD9-8A5A-CA652CED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D8C3-5A29-4D41-9D30-ADACACB4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1072-7376-4D81-899B-E89071CEE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sting in Eule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5040" y="362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2419200"/>
            <a:ext cx="8366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an Flower, John Howse and John Tay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versity of Brighton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.a.flower@brighton.ac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hn.howse@brighton.ac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hn.taylor@brighton.ac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sual Modell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cmis.brighton.ac.uk/research/vm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10A-7E04-49F1-8A2C-0D8CDF22AB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gorithm strengt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71840" y="43369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49400" y="4640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24160" y="43038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1656720"/>
            <a:ext cx="88315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lgorithm identifies all undrawable diagrams as well as drawing all drawable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ongoing work seeks to resolve undrawable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adding zones (which would be sha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avoid creating new problem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ned paper: “Drawing undrawable Euler diagram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33200" y="4818600"/>
            <a:ext cx="4223160" cy="1726560"/>
            <a:chOff x="133200" y="4818600"/>
            <a:chExt cx="4223160" cy="1726560"/>
          </a:xfrm>
        </p:grpSpPr>
        <p:sp>
          <p:nvSpPr>
            <p:cNvPr id="261" name=""/>
            <p:cNvSpPr/>
            <p:nvPr/>
          </p:nvSpPr>
          <p:spPr>
            <a:xfrm>
              <a:off x="133200" y="5022720"/>
              <a:ext cx="1814760" cy="14353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7840" y="5051520"/>
              <a:ext cx="1735200" cy="13827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23240" y="48186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21400" y="515340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50920" y="5792760"/>
              <a:ext cx="35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90840" y="5110200"/>
              <a:ext cx="1814400" cy="143496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08280" y="5240160"/>
              <a:ext cx="1397160" cy="11480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80520" y="490572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78680" y="524088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024520" y="5057640"/>
            <a:ext cx="3459240" cy="1335240"/>
            <a:chOff x="5024520" y="5057640"/>
            <a:chExt cx="3459240" cy="1335240"/>
          </a:xfrm>
        </p:grpSpPr>
        <p:sp>
          <p:nvSpPr>
            <p:cNvPr id="271" name=""/>
            <p:cNvSpPr/>
            <p:nvPr/>
          </p:nvSpPr>
          <p:spPr>
            <a:xfrm>
              <a:off x="7299360" y="5581800"/>
              <a:ext cx="399960" cy="261720"/>
            </a:xfrm>
            <a:custGeom>
              <a:avLst/>
              <a:gdLst/>
              <a:ahLst/>
              <a:rect l="l" t="t" r="r" b="b"/>
              <a:pathLst>
                <a:path w="252" h="165">
                  <a:moveTo>
                    <a:pt x="1" y="147"/>
                  </a:moveTo>
                  <a:lnTo>
                    <a:pt x="55" y="68"/>
                  </a:lnTo>
                  <a:lnTo>
                    <a:pt x="130" y="15"/>
                  </a:lnTo>
                  <a:lnTo>
                    <a:pt x="169" y="0"/>
                  </a:lnTo>
                  <a:lnTo>
                    <a:pt x="195" y="60"/>
                  </a:lnTo>
                  <a:lnTo>
                    <a:pt x="252" y="110"/>
                  </a:lnTo>
                  <a:lnTo>
                    <a:pt x="163" y="152"/>
                  </a:lnTo>
                  <a:lnTo>
                    <a:pt x="73" y="165"/>
                  </a:lnTo>
                  <a:lnTo>
                    <a:pt x="0" y="158"/>
                  </a:lnTo>
                  <a:lnTo>
                    <a:pt x="1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24520" y="5114880"/>
              <a:ext cx="938160" cy="795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03880" y="5267160"/>
              <a:ext cx="938160" cy="7956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54640" y="5597640"/>
              <a:ext cx="938160" cy="79524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3640" y="5724360"/>
              <a:ext cx="35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5760" y="5057640"/>
              <a:ext cx="938160" cy="795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45240" y="5057640"/>
              <a:ext cx="938520" cy="7956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65880" y="5540400"/>
              <a:ext cx="938160" cy="79524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9218-B7C8-403A-BE23-4214F22732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gorithm weakn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71840" y="43369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49400" y="4640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24160" y="43038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98440" y="247680"/>
            <a:ext cx="8636040" cy="2835720"/>
            <a:chOff x="298440" y="247680"/>
            <a:chExt cx="8636040" cy="2835720"/>
          </a:xfrm>
        </p:grpSpPr>
        <p:sp>
          <p:nvSpPr>
            <p:cNvPr id="284" name=""/>
            <p:cNvSpPr/>
            <p:nvPr/>
          </p:nvSpPr>
          <p:spPr>
            <a:xfrm>
              <a:off x="298440" y="1892160"/>
              <a:ext cx="5543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algorithm doesn’t “see” when a diagram could be presented in two parts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1"/>
            <a:srcRect l="20298" t="28364" r="51689" b="14198"/>
            <a:stretch/>
          </p:blipFill>
          <p:spPr>
            <a:xfrm>
              <a:off x="6375240" y="247680"/>
              <a:ext cx="2559240" cy="258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3243240" y="5561280"/>
            <a:ext cx="45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meant by “parts” or “subdiagram”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0" y="3994200"/>
            <a:ext cx="8636040" cy="2863800"/>
            <a:chOff x="0" y="3994200"/>
            <a:chExt cx="8636040" cy="2863800"/>
          </a:xfrm>
        </p:grpSpPr>
        <p:pic>
          <p:nvPicPr>
            <p:cNvPr id="288" name="" descr=""/>
            <p:cNvPicPr/>
            <p:nvPr/>
          </p:nvPicPr>
          <p:blipFill>
            <a:blip r:embed="rId2"/>
            <a:srcRect l="13044" t="31039" r="31920" b="14018"/>
            <a:stretch/>
          </p:blipFill>
          <p:spPr>
            <a:xfrm>
              <a:off x="0" y="3994200"/>
              <a:ext cx="3083040" cy="28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2690640" y="4046760"/>
              <a:ext cx="594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ffectiveness : inevitability of triple points - apply check to subdiagram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130120" y="319932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ficiency : non-linear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123-4964-465E-9AF0-4D7E5C0F97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5737320" y="1523520"/>
            <a:ext cx="33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ours {A, B, 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{}, {A}, {A, B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C}, {A,C}, {A, B, C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41640" y="3090960"/>
            <a:ext cx="901440" cy="507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83080" y="2085840"/>
            <a:ext cx="1571400" cy="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atomic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563200" y="3173400"/>
            <a:ext cx="4001040" cy="1846080"/>
            <a:chOff x="2563200" y="3173400"/>
            <a:chExt cx="4001040" cy="1846080"/>
          </a:xfrm>
        </p:grpSpPr>
        <p:sp>
          <p:nvSpPr>
            <p:cNvPr id="296" name=""/>
            <p:cNvSpPr/>
            <p:nvPr/>
          </p:nvSpPr>
          <p:spPr>
            <a:xfrm flipH="1">
              <a:off x="4348080" y="4272120"/>
              <a:ext cx="1013040" cy="330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3278160" y="4158720"/>
              <a:ext cx="1077840" cy="427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764320" y="3173400"/>
              <a:ext cx="799920" cy="4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4182840" y="4084200"/>
              <a:ext cx="1130040" cy="2048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4175280" y="3645000"/>
              <a:ext cx="500040" cy="426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4668480" y="3639960"/>
              <a:ext cx="554040" cy="122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5226120" y="3749760"/>
              <a:ext cx="109440" cy="506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244680" y="4076640"/>
              <a:ext cx="878040" cy="100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71960" y="4091040"/>
              <a:ext cx="160200" cy="135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68720" y="4002120"/>
              <a:ext cx="160560" cy="135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84600" y="3584520"/>
              <a:ext cx="158760" cy="133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68880" y="3703680"/>
              <a:ext cx="158760" cy="135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78320" y="4214880"/>
              <a:ext cx="160560" cy="1332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63200" y="407088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96560" y="36532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01640" y="322308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64320" y="33055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64360" y="413604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268880" y="4524480"/>
              <a:ext cx="160200" cy="1332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350960" y="455976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534960" y="1119240"/>
            <a:ext cx="1697040" cy="2232000"/>
            <a:chOff x="534960" y="1119240"/>
            <a:chExt cx="1697040" cy="2232000"/>
          </a:xfrm>
        </p:grpSpPr>
        <p:sp>
          <p:nvSpPr>
            <p:cNvPr id="317" name=""/>
            <p:cNvSpPr/>
            <p:nvPr/>
          </p:nvSpPr>
          <p:spPr>
            <a:xfrm>
              <a:off x="534960" y="1455840"/>
              <a:ext cx="1697040" cy="158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35200" y="1830240"/>
              <a:ext cx="609480" cy="75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001880" y="2095560"/>
              <a:ext cx="722160" cy="1255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06480" y="1119240"/>
              <a:ext cx="50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16080" y="1563840"/>
              <a:ext cx="50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92280" y="1984320"/>
              <a:ext cx="50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2779-859E-40EC-9092-B7303E547C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737320" y="1523520"/>
            <a:ext cx="33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ours {A, B, 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{}, {A}, {A, B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A,C}, {A, B, C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3080" y="2085840"/>
            <a:ext cx="1571400" cy="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nested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34960" y="1119240"/>
            <a:ext cx="1697040" cy="1925640"/>
            <a:chOff x="534960" y="1119240"/>
            <a:chExt cx="1697040" cy="1925640"/>
          </a:xfrm>
        </p:grpSpPr>
        <p:sp>
          <p:nvSpPr>
            <p:cNvPr id="327" name=""/>
            <p:cNvSpPr/>
            <p:nvPr/>
          </p:nvSpPr>
          <p:spPr>
            <a:xfrm>
              <a:off x="534960" y="1455840"/>
              <a:ext cx="1697040" cy="158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5200" y="1830240"/>
              <a:ext cx="609480" cy="75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01880" y="2095560"/>
              <a:ext cx="72216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06480" y="1119240"/>
              <a:ext cx="50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16080" y="1563840"/>
              <a:ext cx="50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592280" y="1984320"/>
              <a:ext cx="50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141640" y="3090960"/>
            <a:ext cx="4422600" cy="1504800"/>
            <a:chOff x="2141640" y="3090960"/>
            <a:chExt cx="4422600" cy="1504800"/>
          </a:xfrm>
        </p:grpSpPr>
        <p:sp>
          <p:nvSpPr>
            <p:cNvPr id="334" name=""/>
            <p:cNvSpPr/>
            <p:nvPr/>
          </p:nvSpPr>
          <p:spPr>
            <a:xfrm>
              <a:off x="2141640" y="3090960"/>
              <a:ext cx="901440" cy="50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764320" y="3173400"/>
              <a:ext cx="799920" cy="4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4182840" y="4084200"/>
              <a:ext cx="1130040" cy="2048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4175280" y="3645000"/>
              <a:ext cx="500040" cy="426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flipV="1">
              <a:off x="4668480" y="3639960"/>
              <a:ext cx="554040" cy="122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5226120" y="3749760"/>
              <a:ext cx="109440" cy="506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244680" y="4076640"/>
              <a:ext cx="878040" cy="100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71960" y="4091040"/>
              <a:ext cx="160200" cy="135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68720" y="4002120"/>
              <a:ext cx="160560" cy="135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84600" y="3584520"/>
              <a:ext cx="158760" cy="133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68880" y="3703680"/>
              <a:ext cx="158760" cy="135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78320" y="4214880"/>
              <a:ext cx="160560" cy="1332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63200" y="407088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96560" y="36532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01640" y="322308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864320" y="33055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364360" y="413604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1700-2F8C-4D56-B6D2-FCB2D545A9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5737320" y="1523520"/>
            <a:ext cx="33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ours {A, B, 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{}, {A}, {A, B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A,C}, {A, B, C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83080" y="2085840"/>
            <a:ext cx="1571400" cy="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sing nesting to draw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755680" y="3160440"/>
            <a:ext cx="3368880" cy="2700360"/>
            <a:chOff x="5755680" y="3160440"/>
            <a:chExt cx="3368880" cy="2700360"/>
          </a:xfrm>
        </p:grpSpPr>
        <p:sp>
          <p:nvSpPr>
            <p:cNvPr id="355" name=""/>
            <p:cNvSpPr/>
            <p:nvPr/>
          </p:nvSpPr>
          <p:spPr>
            <a:xfrm flipV="1">
              <a:off x="7631280" y="3160440"/>
              <a:ext cx="2880" cy="143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7375320" y="5349600"/>
              <a:ext cx="1130040" cy="2048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7367760" y="4910040"/>
              <a:ext cx="500040" cy="426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7860960" y="4905360"/>
              <a:ext cx="554040" cy="122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8418600" y="5014440"/>
              <a:ext cx="109440" cy="506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437160" y="5342040"/>
              <a:ext cx="878040" cy="100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64440" y="5356080"/>
              <a:ext cx="160200" cy="135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61200" y="5267160"/>
              <a:ext cx="160200" cy="135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77080" y="4849920"/>
              <a:ext cx="158760" cy="1332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361360" y="4968720"/>
              <a:ext cx="158760" cy="135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470800" y="5479920"/>
              <a:ext cx="160560" cy="133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55680" y="53359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989040" y="49186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94120" y="448848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056800" y="45709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556840" y="540108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34960" y="1119240"/>
            <a:ext cx="2430360" cy="2529000"/>
            <a:chOff x="534960" y="1119240"/>
            <a:chExt cx="2430360" cy="2529000"/>
          </a:xfrm>
        </p:grpSpPr>
        <p:sp>
          <p:nvSpPr>
            <p:cNvPr id="372" name=""/>
            <p:cNvSpPr/>
            <p:nvPr/>
          </p:nvSpPr>
          <p:spPr>
            <a:xfrm>
              <a:off x="2206800" y="2698920"/>
              <a:ext cx="75852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534960" y="1119240"/>
              <a:ext cx="1697040" cy="1925640"/>
              <a:chOff x="534960" y="1119240"/>
              <a:chExt cx="1697040" cy="1925640"/>
            </a:xfrm>
          </p:grpSpPr>
          <p:sp>
            <p:nvSpPr>
              <p:cNvPr id="374" name=""/>
              <p:cNvSpPr/>
              <p:nvPr/>
            </p:nvSpPr>
            <p:spPr>
              <a:xfrm>
                <a:off x="534960" y="1455840"/>
                <a:ext cx="1697040" cy="1589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35200" y="1830240"/>
                <a:ext cx="609480" cy="758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001880" y="2095560"/>
                <a:ext cx="722160" cy="72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906480" y="1119240"/>
                <a:ext cx="501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216080" y="1563840"/>
                <a:ext cx="501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92280" y="1984320"/>
                <a:ext cx="501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1851120" y="3046320"/>
              <a:ext cx="182520" cy="60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836720" y="3530520"/>
            <a:ext cx="1771200" cy="1782720"/>
            <a:chOff x="1836720" y="3530520"/>
            <a:chExt cx="1771200" cy="1782720"/>
          </a:xfrm>
        </p:grpSpPr>
        <p:sp>
          <p:nvSpPr>
            <p:cNvPr id="382" name=""/>
            <p:cNvSpPr/>
            <p:nvPr/>
          </p:nvSpPr>
          <p:spPr>
            <a:xfrm>
              <a:off x="1836720" y="3797280"/>
              <a:ext cx="609480" cy="75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03400" y="4062240"/>
              <a:ext cx="72216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17600" y="3530520"/>
              <a:ext cx="50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593800" y="3951360"/>
              <a:ext cx="50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2773080" y="4740120"/>
              <a:ext cx="834840" cy="57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075120" y="2523960"/>
            <a:ext cx="1600200" cy="1416240"/>
            <a:chOff x="3075120" y="2523960"/>
            <a:chExt cx="1600200" cy="1416240"/>
          </a:xfrm>
        </p:grpSpPr>
        <p:sp>
          <p:nvSpPr>
            <p:cNvPr id="388" name=""/>
            <p:cNvSpPr/>
            <p:nvPr/>
          </p:nvSpPr>
          <p:spPr>
            <a:xfrm>
              <a:off x="3075120" y="2925720"/>
              <a:ext cx="639720" cy="75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28920" y="2523960"/>
              <a:ext cx="50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3840120" y="3367080"/>
              <a:ext cx="835200" cy="57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226680" y="3697560"/>
            <a:ext cx="3258360" cy="2506320"/>
            <a:chOff x="3226680" y="3697560"/>
            <a:chExt cx="3258360" cy="2506320"/>
          </a:xfrm>
        </p:grpSpPr>
        <p:grpSp>
          <p:nvGrpSpPr>
            <p:cNvPr id="392" name=""/>
            <p:cNvGrpSpPr/>
            <p:nvPr/>
          </p:nvGrpSpPr>
          <p:grpSpPr>
            <a:xfrm>
              <a:off x="4241520" y="3697560"/>
              <a:ext cx="1665720" cy="876960"/>
              <a:chOff x="4241520" y="3697560"/>
              <a:chExt cx="1665720" cy="876960"/>
            </a:xfrm>
          </p:grpSpPr>
          <p:sp>
            <p:nvSpPr>
              <p:cNvPr id="393" name=""/>
              <p:cNvSpPr/>
              <p:nvPr/>
            </p:nvSpPr>
            <p:spPr>
              <a:xfrm flipV="1">
                <a:off x="4923000" y="4120560"/>
                <a:ext cx="877680" cy="99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49920" y="4135320"/>
                <a:ext cx="160200" cy="13464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746680" y="4046400"/>
                <a:ext cx="160560" cy="13464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241520" y="4114800"/>
                <a:ext cx="71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nu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474520" y="369756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3226680" y="4831200"/>
              <a:ext cx="2125440" cy="1372680"/>
              <a:chOff x="3226680" y="4831200"/>
              <a:chExt cx="2125440" cy="1372680"/>
            </a:xfrm>
          </p:grpSpPr>
          <p:sp>
            <p:nvSpPr>
              <p:cNvPr id="399" name=""/>
              <p:cNvSpPr/>
              <p:nvPr/>
            </p:nvSpPr>
            <p:spPr>
              <a:xfrm flipH="1" flipV="1">
                <a:off x="3602880" y="5692320"/>
                <a:ext cx="1130040" cy="204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3595320" y="5253120"/>
                <a:ext cx="499680" cy="426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 flipV="1">
                <a:off x="4089240" y="5248080"/>
                <a:ext cx="553680" cy="122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flipV="1">
                <a:off x="4646160" y="5357520"/>
                <a:ext cx="109440" cy="5065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489120" y="5610240"/>
                <a:ext cx="159840" cy="1350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005000" y="5192640"/>
                <a:ext cx="158400" cy="133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589280" y="5311800"/>
                <a:ext cx="158400" cy="1350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698720" y="5823000"/>
                <a:ext cx="159840" cy="1332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21680" y="4831200"/>
                <a:ext cx="57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b2b2b2"/>
                    </a:solidFill>
                    <a:latin typeface="Comic Sans MS"/>
                  </a:rPr>
                  <a:t>A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84360" y="4914000"/>
                <a:ext cx="76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b2b2b2"/>
                    </a:solidFill>
                    <a:latin typeface="Comic Sans MS"/>
                  </a:rPr>
                  <a:t>A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84400" y="5744160"/>
                <a:ext cx="56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b2b2b2"/>
                    </a:solidFill>
                    <a:latin typeface="Comic Sans MS"/>
                  </a:rPr>
                  <a:t>A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226680" y="559980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b2b2b2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5764320" y="4586400"/>
              <a:ext cx="720720" cy="54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5081760" y="5508360"/>
              <a:ext cx="601560" cy="12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8B71-EDD1-4E68-9C7C-E10965528A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471840" y="43369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24160" y="43038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5362200" y="692280"/>
            <a:ext cx="3552840" cy="2370960"/>
            <a:chOff x="5362200" y="692280"/>
            <a:chExt cx="3552840" cy="2370960"/>
          </a:xfrm>
        </p:grpSpPr>
        <p:sp>
          <p:nvSpPr>
            <p:cNvPr id="416" name=""/>
            <p:cNvSpPr/>
            <p:nvPr/>
          </p:nvSpPr>
          <p:spPr>
            <a:xfrm flipH="1" flipV="1">
              <a:off x="5662800" y="2063520"/>
              <a:ext cx="109440" cy="506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762880" y="2147760"/>
              <a:ext cx="593640" cy="416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691240" y="2509560"/>
              <a:ext cx="160560" cy="1332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42480" y="2603520"/>
              <a:ext cx="50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E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5648400" y="1626480"/>
              <a:ext cx="593640" cy="417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6221520" y="1631520"/>
              <a:ext cx="109440" cy="505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7831080" y="1750320"/>
              <a:ext cx="500400" cy="426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7165800" y="1553760"/>
              <a:ext cx="1130040" cy="204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7158240" y="1113840"/>
              <a:ext cx="500040" cy="426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7651440" y="1109520"/>
              <a:ext cx="554040" cy="121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8209080" y="1218960"/>
              <a:ext cx="109440" cy="506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6228000" y="1545480"/>
              <a:ext cx="877680" cy="9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54920" y="1560240"/>
              <a:ext cx="160200" cy="134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51680" y="1471320"/>
              <a:ext cx="160560" cy="134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67560" y="1053720"/>
              <a:ext cx="158760" cy="1332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151840" y="1172880"/>
              <a:ext cx="158760" cy="134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261280" y="1684080"/>
              <a:ext cx="160560" cy="1328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20960" y="1239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79520" y="112212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84600" y="69228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47280" y="7747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347320" y="160488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724880" y="2107800"/>
              <a:ext cx="160200" cy="134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90800" y="22413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74080" y="2097000"/>
              <a:ext cx="160200" cy="1328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05120" y="2030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77120" y="1989000"/>
              <a:ext cx="160200" cy="1328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362200" y="175248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90080" y="3417840"/>
            <a:ext cx="4532760" cy="3133080"/>
            <a:chOff x="190080" y="3417840"/>
            <a:chExt cx="4532760" cy="3133080"/>
          </a:xfrm>
        </p:grpSpPr>
        <p:sp>
          <p:nvSpPr>
            <p:cNvPr id="445" name=""/>
            <p:cNvSpPr/>
            <p:nvPr/>
          </p:nvSpPr>
          <p:spPr>
            <a:xfrm flipH="1">
              <a:off x="1995480" y="4397400"/>
              <a:ext cx="339840" cy="37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190080" y="3417840"/>
              <a:ext cx="4532760" cy="3133080"/>
              <a:chOff x="190080" y="3417840"/>
              <a:chExt cx="4532760" cy="313308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861840" y="5056200"/>
                <a:ext cx="2071080" cy="1494720"/>
                <a:chOff x="861840" y="5056200"/>
                <a:chExt cx="2071080" cy="149472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861840" y="5154840"/>
                  <a:ext cx="1857600" cy="13960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557080" y="5056200"/>
                  <a:ext cx="375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0" name=""/>
              <p:cNvSpPr/>
              <p:nvPr/>
            </p:nvSpPr>
            <p:spPr>
              <a:xfrm>
                <a:off x="1179360" y="5349960"/>
                <a:ext cx="636840" cy="6397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432080" y="5648400"/>
                <a:ext cx="884160" cy="7966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929160" y="571068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194920" y="5521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1666800" y="5753520"/>
                <a:ext cx="586440" cy="581760"/>
                <a:chOff x="1666800" y="5753520"/>
                <a:chExt cx="586440" cy="58176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1666800" y="5945040"/>
                  <a:ext cx="379440" cy="3902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1850040" y="5753520"/>
                  <a:ext cx="40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Comic Sans MS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190080" y="4289760"/>
                <a:ext cx="1639800" cy="937440"/>
                <a:chOff x="190080" y="4289760"/>
                <a:chExt cx="1639800" cy="93744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65120" y="4734360"/>
                  <a:ext cx="954720" cy="492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875160" y="4578480"/>
                  <a:ext cx="954720" cy="492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90080" y="476568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Comic Sans MS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175400" y="428976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 flipH="1">
                <a:off x="1382400" y="3417840"/>
                <a:ext cx="12600" cy="847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922120" y="5400720"/>
                <a:ext cx="560520" cy="79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flipV="1">
                <a:off x="3065400" y="5947920"/>
                <a:ext cx="1657440" cy="27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713880" y="1605600"/>
            <a:ext cx="2149560" cy="1617120"/>
            <a:chOff x="713880" y="1605600"/>
            <a:chExt cx="2149560" cy="1617120"/>
          </a:xfrm>
        </p:grpSpPr>
        <p:grpSp>
          <p:nvGrpSpPr>
            <p:cNvPr id="466" name=""/>
            <p:cNvGrpSpPr/>
            <p:nvPr/>
          </p:nvGrpSpPr>
          <p:grpSpPr>
            <a:xfrm>
              <a:off x="713880" y="1605600"/>
              <a:ext cx="1694520" cy="1617120"/>
              <a:chOff x="713880" y="1605600"/>
              <a:chExt cx="1694520" cy="1617120"/>
            </a:xfrm>
          </p:grpSpPr>
          <p:sp>
            <p:nvSpPr>
              <p:cNvPr id="467" name=""/>
              <p:cNvSpPr/>
              <p:nvPr/>
            </p:nvSpPr>
            <p:spPr>
              <a:xfrm>
                <a:off x="992160" y="2257560"/>
                <a:ext cx="990720" cy="965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417680" y="1952640"/>
                <a:ext cx="990720" cy="965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13880" y="25372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731240" y="16056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 flipH="1">
              <a:off x="2550600" y="2319480"/>
              <a:ext cx="312840" cy="10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2405160" y="3467520"/>
            <a:ext cx="1406160" cy="1104480"/>
            <a:chOff x="2405160" y="3467520"/>
            <a:chExt cx="1406160" cy="1104480"/>
          </a:xfrm>
        </p:grpSpPr>
        <p:grpSp>
          <p:nvGrpSpPr>
            <p:cNvPr id="473" name=""/>
            <p:cNvGrpSpPr/>
            <p:nvPr/>
          </p:nvGrpSpPr>
          <p:grpSpPr>
            <a:xfrm>
              <a:off x="2405160" y="3467520"/>
              <a:ext cx="1190880" cy="1104480"/>
              <a:chOff x="2405160" y="3467520"/>
              <a:chExt cx="1190880" cy="1104480"/>
            </a:xfrm>
          </p:grpSpPr>
          <p:sp>
            <p:nvSpPr>
              <p:cNvPr id="474" name=""/>
              <p:cNvSpPr/>
              <p:nvPr/>
            </p:nvSpPr>
            <p:spPr>
              <a:xfrm>
                <a:off x="2405160" y="3606840"/>
                <a:ext cx="990360" cy="965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220200" y="346752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 flipH="1">
              <a:off x="3498480" y="3476520"/>
              <a:ext cx="31284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3584520" y="4097880"/>
            <a:ext cx="1472400" cy="1712520"/>
            <a:chOff x="3584520" y="4097880"/>
            <a:chExt cx="1472400" cy="1712520"/>
          </a:xfrm>
        </p:grpSpPr>
        <p:grpSp>
          <p:nvGrpSpPr>
            <p:cNvPr id="478" name=""/>
            <p:cNvGrpSpPr/>
            <p:nvPr/>
          </p:nvGrpSpPr>
          <p:grpSpPr>
            <a:xfrm>
              <a:off x="3584520" y="4097880"/>
              <a:ext cx="1472400" cy="1712520"/>
              <a:chOff x="3584520" y="4097880"/>
              <a:chExt cx="1472400" cy="1712520"/>
            </a:xfrm>
          </p:grpSpPr>
          <p:sp>
            <p:nvSpPr>
              <p:cNvPr id="479" name=""/>
              <p:cNvSpPr/>
              <p:nvPr/>
            </p:nvSpPr>
            <p:spPr>
              <a:xfrm>
                <a:off x="3584520" y="4483080"/>
                <a:ext cx="990720" cy="965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867120" y="4844880"/>
                <a:ext cx="990720" cy="965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80440" y="409788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84320" y="4705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 flipH="1">
              <a:off x="4686480" y="4599000"/>
              <a:ext cx="31248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5127480" y="5249880"/>
            <a:ext cx="1346040" cy="1222200"/>
            <a:chOff x="5127480" y="5249880"/>
            <a:chExt cx="1346040" cy="1222200"/>
          </a:xfrm>
        </p:grpSpPr>
        <p:grpSp>
          <p:nvGrpSpPr>
            <p:cNvPr id="485" name=""/>
            <p:cNvGrpSpPr/>
            <p:nvPr/>
          </p:nvGrpSpPr>
          <p:grpSpPr>
            <a:xfrm>
              <a:off x="5127480" y="5367960"/>
              <a:ext cx="1204200" cy="1104120"/>
              <a:chOff x="5127480" y="5367960"/>
              <a:chExt cx="1204200" cy="1104120"/>
            </a:xfrm>
          </p:grpSpPr>
          <p:sp>
            <p:nvSpPr>
              <p:cNvPr id="486" name=""/>
              <p:cNvSpPr/>
              <p:nvPr/>
            </p:nvSpPr>
            <p:spPr>
              <a:xfrm>
                <a:off x="5127480" y="5506920"/>
                <a:ext cx="990720" cy="965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928480" y="536796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 flipH="1">
              <a:off x="6160680" y="5249880"/>
              <a:ext cx="31284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720160" y="1288080"/>
            <a:ext cx="5396400" cy="4185360"/>
            <a:chOff x="2720160" y="1288080"/>
            <a:chExt cx="5396400" cy="4185360"/>
          </a:xfrm>
        </p:grpSpPr>
        <p:grpSp>
          <p:nvGrpSpPr>
            <p:cNvPr id="490" name=""/>
            <p:cNvGrpSpPr/>
            <p:nvPr/>
          </p:nvGrpSpPr>
          <p:grpSpPr>
            <a:xfrm>
              <a:off x="2720160" y="1288080"/>
              <a:ext cx="2501280" cy="1823400"/>
              <a:chOff x="2720160" y="1288080"/>
              <a:chExt cx="2501280" cy="1823400"/>
            </a:xfrm>
          </p:grpSpPr>
          <p:grpSp>
            <p:nvGrpSpPr>
              <p:cNvPr id="491" name=""/>
              <p:cNvGrpSpPr/>
              <p:nvPr/>
            </p:nvGrpSpPr>
            <p:grpSpPr>
              <a:xfrm>
                <a:off x="2720160" y="1288080"/>
                <a:ext cx="1393200" cy="1823400"/>
                <a:chOff x="2720160" y="1288080"/>
                <a:chExt cx="1393200" cy="1823400"/>
              </a:xfrm>
            </p:grpSpPr>
            <p:sp>
              <p:nvSpPr>
                <p:cNvPr id="492" name=""/>
                <p:cNvSpPr/>
                <p:nvPr/>
              </p:nvSpPr>
              <p:spPr>
                <a:xfrm flipH="1" flipV="1">
                  <a:off x="3020400" y="2111040"/>
                  <a:ext cx="109800" cy="506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V="1">
                  <a:off x="3120840" y="2195640"/>
                  <a:ext cx="593640" cy="417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049560" y="2557440"/>
                  <a:ext cx="160200" cy="133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800800" y="2651760"/>
                  <a:ext cx="50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cc"/>
                      </a:solidFill>
                      <a:latin typeface="Comic Sans MS"/>
                    </a:rPr>
                    <a:t>E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3006720" y="1674720"/>
                  <a:ext cx="593640" cy="4172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flipV="1">
                  <a:off x="3579840" y="1679400"/>
                  <a:ext cx="109440" cy="506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512880" y="1608120"/>
                  <a:ext cx="160560" cy="135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879280" y="1288080"/>
                  <a:ext cx="717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cc"/>
                      </a:solidFill>
                      <a:latin typeface="Comic Sans MS"/>
                    </a:rPr>
                    <a:t>nul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632040" y="2144880"/>
                  <a:ext cx="160200" cy="1332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763440" y="20786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cc"/>
                      </a:solidFill>
                      <a:latin typeface="Comic Sans MS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935080" y="2036880"/>
                  <a:ext cx="160560" cy="1332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720160" y="180072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cc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 flipH="1">
                <a:off x="4098960" y="1924200"/>
                <a:ext cx="112248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3337920" y="2432160"/>
              <a:ext cx="2117880" cy="933120"/>
              <a:chOff x="3337920" y="2432160"/>
              <a:chExt cx="2117880" cy="93312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3337920" y="2788200"/>
                <a:ext cx="1690920" cy="577080"/>
                <a:chOff x="3337920" y="2788200"/>
                <a:chExt cx="1690920" cy="577080"/>
              </a:xfrm>
            </p:grpSpPr>
            <p:sp>
              <p:nvSpPr>
                <p:cNvPr id="507" name=""/>
                <p:cNvSpPr/>
                <p:nvPr/>
              </p:nvSpPr>
              <p:spPr>
                <a:xfrm flipV="1">
                  <a:off x="4044600" y="3211560"/>
                  <a:ext cx="878040" cy="100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971880" y="3225960"/>
                  <a:ext cx="160200" cy="135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4868640" y="3137040"/>
                  <a:ext cx="160200" cy="135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337920" y="2905560"/>
                  <a:ext cx="717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cc"/>
                      </a:solidFill>
                      <a:latin typeface="Comic Sans MS"/>
                    </a:rPr>
                    <a:t>nul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596480" y="2788200"/>
                  <a:ext cx="375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cc"/>
                      </a:solidFill>
                      <a:latin typeface="Comic Sans MS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2" name=""/>
              <p:cNvSpPr/>
              <p:nvPr/>
            </p:nvSpPr>
            <p:spPr>
              <a:xfrm flipH="1">
                <a:off x="4830480" y="2432160"/>
                <a:ext cx="625320" cy="36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4282200" y="2602080"/>
              <a:ext cx="2135520" cy="2328120"/>
              <a:chOff x="4282200" y="2602080"/>
              <a:chExt cx="2135520" cy="232812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4282200" y="3557880"/>
                <a:ext cx="2135520" cy="1372320"/>
                <a:chOff x="4282200" y="3557880"/>
                <a:chExt cx="2135520" cy="1372320"/>
              </a:xfrm>
            </p:grpSpPr>
            <p:sp>
              <p:nvSpPr>
                <p:cNvPr id="515" name=""/>
                <p:cNvSpPr/>
                <p:nvPr/>
              </p:nvSpPr>
              <p:spPr>
                <a:xfrm flipH="1" flipV="1">
                  <a:off x="4668480" y="4419360"/>
                  <a:ext cx="1130400" cy="2044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V="1">
                  <a:off x="4660560" y="3979440"/>
                  <a:ext cx="500040" cy="426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 flipV="1">
                  <a:off x="5154120" y="3974400"/>
                  <a:ext cx="554040" cy="1220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 flipV="1">
                  <a:off x="5711760" y="4084200"/>
                  <a:ext cx="109440" cy="505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4554360" y="4336920"/>
                  <a:ext cx="160200" cy="13464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70240" y="3919320"/>
                  <a:ext cx="158760" cy="1332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5654520" y="4038480"/>
                  <a:ext cx="158760" cy="13464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763960" y="4549680"/>
                  <a:ext cx="160560" cy="13284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282200" y="3987720"/>
                  <a:ext cx="375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b2b2b2"/>
                      </a:solidFill>
                      <a:latin typeface="Comic Sans MS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787280" y="3557880"/>
                  <a:ext cx="573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b2b2b2"/>
                      </a:solidFill>
                      <a:latin typeface="Comic Sans MS"/>
                    </a:rPr>
                    <a:t>A</a:t>
                  </a:r>
                  <a:r>
                    <a:rPr b="0" lang="en-US" sz="2400" spc="-1" strike="noStrike">
                      <a:solidFill>
                        <a:srgbClr val="3333cc"/>
                      </a:solidFill>
                      <a:latin typeface="Comic Sans MS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5349960" y="3639960"/>
                  <a:ext cx="766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b2b2b2"/>
                      </a:solidFill>
                      <a:latin typeface="Comic Sans MS"/>
                    </a:rPr>
                    <a:t>A</a:t>
                  </a:r>
                  <a:r>
                    <a:rPr b="0" lang="en-US" sz="2400" spc="-1" strike="noStrike">
                      <a:solidFill>
                        <a:srgbClr val="3333cc"/>
                      </a:solidFill>
                      <a:latin typeface="Comic Sans MS"/>
                    </a:rPr>
                    <a:t>B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850000" y="4470480"/>
                  <a:ext cx="567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b2b2b2"/>
                      </a:solidFill>
                      <a:latin typeface="Comic Sans MS"/>
                    </a:rPr>
                    <a:t>A</a:t>
                  </a:r>
                  <a:r>
                    <a:rPr b="0" lang="en-US" sz="2400" spc="-1" strike="noStrike">
                      <a:solidFill>
                        <a:srgbClr val="3333cc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 flipH="1">
                <a:off x="5951520" y="2602080"/>
                <a:ext cx="457200" cy="88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6592320" y="2576520"/>
              <a:ext cx="1524240" cy="2896920"/>
              <a:chOff x="6592320" y="2576520"/>
              <a:chExt cx="1524240" cy="289692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6592320" y="4377240"/>
                <a:ext cx="1524240" cy="1096200"/>
                <a:chOff x="6592320" y="4377240"/>
                <a:chExt cx="1524240" cy="1096200"/>
              </a:xfrm>
            </p:grpSpPr>
            <p:sp>
              <p:nvSpPr>
                <p:cNvPr id="530" name=""/>
                <p:cNvSpPr/>
                <p:nvPr/>
              </p:nvSpPr>
              <p:spPr>
                <a:xfrm flipV="1">
                  <a:off x="7032960" y="4522680"/>
                  <a:ext cx="500040" cy="426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463160" y="4456080"/>
                  <a:ext cx="160200" cy="1332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7548840" y="4377240"/>
                  <a:ext cx="567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b2b2b2"/>
                      </a:solidFill>
                      <a:latin typeface="Comic Sans MS"/>
                    </a:rPr>
                    <a:t>A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926400" y="4879800"/>
                  <a:ext cx="160200" cy="135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592320" y="5013720"/>
                  <a:ext cx="79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b2b2b2"/>
                      </a:solidFill>
                      <a:latin typeface="Comic Sans MS"/>
                    </a:rPr>
                    <a:t>AC</a:t>
                  </a:r>
                  <a:r>
                    <a:rPr b="0" lang="en-US" sz="2400" spc="-1" strike="noStrike">
                      <a:solidFill>
                        <a:srgbClr val="3333cc"/>
                      </a:solidFill>
                      <a:latin typeface="Comic Sans MS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5" name=""/>
              <p:cNvSpPr/>
              <p:nvPr/>
            </p:nvSpPr>
            <p:spPr>
              <a:xfrm>
                <a:off x="7139160" y="2576520"/>
                <a:ext cx="117360" cy="1603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sing nesting to dr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294-7CA3-4024-8147-2D23814976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sting in a concrete diagram: equivalent defin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71840" y="43369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24160" y="43038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952560" y="1675440"/>
            <a:ext cx="7856280" cy="1496520"/>
            <a:chOff x="952560" y="1675440"/>
            <a:chExt cx="7856280" cy="1496520"/>
          </a:xfrm>
        </p:grpSpPr>
        <p:sp>
          <p:nvSpPr>
            <p:cNvPr id="541" name=""/>
            <p:cNvSpPr/>
            <p:nvPr/>
          </p:nvSpPr>
          <p:spPr>
            <a:xfrm>
              <a:off x="952560" y="1774800"/>
              <a:ext cx="1857240" cy="13971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47080" y="16754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80960" y="2009880"/>
              <a:ext cx="551160" cy="56340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8760" y="2273400"/>
              <a:ext cx="765000" cy="7016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38680" y="23007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34520" y="21340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939040" y="1938960"/>
              <a:ext cx="58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Red contours never cross blue contou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1670400" y="2480040"/>
            <a:ext cx="6488280" cy="1496520"/>
            <a:chOff x="1670400" y="2480040"/>
            <a:chExt cx="6488280" cy="1496520"/>
          </a:xfrm>
        </p:grpSpPr>
        <p:sp>
          <p:nvSpPr>
            <p:cNvPr id="549" name=""/>
            <p:cNvSpPr/>
            <p:nvPr/>
          </p:nvSpPr>
          <p:spPr>
            <a:xfrm>
              <a:off x="6087960" y="2579760"/>
              <a:ext cx="1857600" cy="1396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82840" y="24800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516720" y="2814480"/>
              <a:ext cx="550800" cy="563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734160" y="3078000"/>
              <a:ext cx="765360" cy="702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74440" y="310572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70280" y="2939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221520" y="2674800"/>
              <a:ext cx="1536480" cy="1208160"/>
            </a:xfrm>
            <a:custGeom>
              <a:avLst/>
              <a:gdLst/>
              <a:ahLst/>
              <a:rect l="l" t="t" r="r" b="b"/>
              <a:pathLst>
                <a:path w="968" h="761">
                  <a:moveTo>
                    <a:pt x="533" y="23"/>
                  </a:moveTo>
                  <a:cubicBezTo>
                    <a:pt x="616" y="46"/>
                    <a:pt x="801" y="100"/>
                    <a:pt x="873" y="159"/>
                  </a:cubicBezTo>
                  <a:cubicBezTo>
                    <a:pt x="945" y="218"/>
                    <a:pt x="968" y="300"/>
                    <a:pt x="965" y="375"/>
                  </a:cubicBezTo>
                  <a:cubicBezTo>
                    <a:pt x="962" y="450"/>
                    <a:pt x="909" y="550"/>
                    <a:pt x="855" y="611"/>
                  </a:cubicBezTo>
                  <a:cubicBezTo>
                    <a:pt x="801" y="672"/>
                    <a:pt x="735" y="725"/>
                    <a:pt x="643" y="743"/>
                  </a:cubicBezTo>
                  <a:cubicBezTo>
                    <a:pt x="551" y="761"/>
                    <a:pt x="403" y="753"/>
                    <a:pt x="303" y="717"/>
                  </a:cubicBezTo>
                  <a:cubicBezTo>
                    <a:pt x="203" y="681"/>
                    <a:pt x="90" y="599"/>
                    <a:pt x="45" y="529"/>
                  </a:cubicBezTo>
                  <a:cubicBezTo>
                    <a:pt x="0" y="459"/>
                    <a:pt x="14" y="368"/>
                    <a:pt x="31" y="297"/>
                  </a:cubicBezTo>
                  <a:cubicBezTo>
                    <a:pt x="48" y="226"/>
                    <a:pt x="92" y="149"/>
                    <a:pt x="149" y="103"/>
                  </a:cubicBezTo>
                  <a:cubicBezTo>
                    <a:pt x="206" y="57"/>
                    <a:pt x="308" y="32"/>
                    <a:pt x="373" y="19"/>
                  </a:cubicBezTo>
                  <a:cubicBezTo>
                    <a:pt x="438" y="6"/>
                    <a:pt x="450" y="0"/>
                    <a:pt x="533" y="23"/>
                  </a:cubicBezTo>
                  <a:close/>
                </a:path>
              </a:pathLst>
            </a:custGeom>
            <a:noFill/>
            <a:ln w="381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0400" y="3242160"/>
              <a:ext cx="434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Existence of a “splitting path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825480" y="3787920"/>
            <a:ext cx="7195680" cy="1396800"/>
            <a:chOff x="825480" y="3787920"/>
            <a:chExt cx="7195680" cy="1396800"/>
          </a:xfrm>
        </p:grpSpPr>
        <p:sp>
          <p:nvSpPr>
            <p:cNvPr id="558" name=""/>
            <p:cNvSpPr/>
            <p:nvPr/>
          </p:nvSpPr>
          <p:spPr>
            <a:xfrm>
              <a:off x="825480" y="3787920"/>
              <a:ext cx="1857240" cy="1396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54240" y="4022640"/>
              <a:ext cx="550800" cy="563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471680" y="4286160"/>
              <a:ext cx="765000" cy="701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42040" y="4267800"/>
              <a:ext cx="537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onnectedness of union of contou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149480" y="4772520"/>
            <a:ext cx="7096320" cy="1510920"/>
            <a:chOff x="1149480" y="4772520"/>
            <a:chExt cx="7096320" cy="1510920"/>
          </a:xfrm>
        </p:grpSpPr>
        <p:sp>
          <p:nvSpPr>
            <p:cNvPr id="563" name=""/>
            <p:cNvSpPr/>
            <p:nvPr/>
          </p:nvSpPr>
          <p:spPr>
            <a:xfrm>
              <a:off x="6175440" y="4871880"/>
              <a:ext cx="1857240" cy="13971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869960" y="477252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03840" y="5106960"/>
              <a:ext cx="551160" cy="56376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21640" y="5370480"/>
              <a:ext cx="765000" cy="7016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361560" y="539784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457400" y="523116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149480" y="5457960"/>
              <a:ext cx="501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Blue contours lie within a zone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the red dia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F05E-552C-4764-8A5E-51E5095BDB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sting in an abstract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471840" y="43369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424160" y="43038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74640" y="1588680"/>
            <a:ext cx="33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ours {A, B, 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{}, {A}, {A, B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A,C}, {A, B, C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3700080" y="2220480"/>
            <a:ext cx="1862280" cy="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351040" y="1578240"/>
            <a:ext cx="3368520" cy="1372320"/>
            <a:chOff x="5351040" y="1578240"/>
            <a:chExt cx="3368520" cy="1372320"/>
          </a:xfrm>
        </p:grpSpPr>
        <p:sp>
          <p:nvSpPr>
            <p:cNvPr id="576" name=""/>
            <p:cNvSpPr/>
            <p:nvPr/>
          </p:nvSpPr>
          <p:spPr>
            <a:xfrm flipH="1" flipV="1">
              <a:off x="6970680" y="2439720"/>
              <a:ext cx="1130400" cy="204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6962760" y="1999800"/>
              <a:ext cx="500040" cy="426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 flipV="1">
              <a:off x="7455960" y="1995480"/>
              <a:ext cx="554040" cy="121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flipV="1">
              <a:off x="8013600" y="2104920"/>
              <a:ext cx="109440" cy="506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6032520" y="2432160"/>
              <a:ext cx="877680" cy="9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959440" y="2446200"/>
              <a:ext cx="160200" cy="134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856200" y="2357280"/>
              <a:ext cx="160560" cy="134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72440" y="1940040"/>
              <a:ext cx="158760" cy="1328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956360" y="2058840"/>
              <a:ext cx="158760" cy="134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066160" y="2570040"/>
              <a:ext cx="160200" cy="1332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51040" y="242568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84040" y="20084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89120" y="157824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652160" y="1660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151840" y="249084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555840" y="3574080"/>
            <a:ext cx="44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 abstract diagram is n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199040" y="4050000"/>
            <a:ext cx="47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and only if the full dua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s a “cut vertex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471320" y="5018760"/>
            <a:ext cx="3368520" cy="1372320"/>
            <a:chOff x="1471320" y="5018760"/>
            <a:chExt cx="3368520" cy="1372320"/>
          </a:xfrm>
        </p:grpSpPr>
        <p:sp>
          <p:nvSpPr>
            <p:cNvPr id="594" name=""/>
            <p:cNvSpPr/>
            <p:nvPr/>
          </p:nvSpPr>
          <p:spPr>
            <a:xfrm flipH="1" flipV="1">
              <a:off x="3090960" y="5879880"/>
              <a:ext cx="1130400" cy="2048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083040" y="5439960"/>
              <a:ext cx="500040" cy="427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3576240" y="5435640"/>
              <a:ext cx="554040" cy="122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4133880" y="5544720"/>
              <a:ext cx="109440" cy="506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2152800" y="5872320"/>
              <a:ext cx="877680" cy="1000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079720" y="5886360"/>
              <a:ext cx="160200" cy="135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976480" y="5797440"/>
              <a:ext cx="160560" cy="1350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492720" y="5380200"/>
              <a:ext cx="158760" cy="1332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076640" y="5499000"/>
              <a:ext cx="158760" cy="135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186440" y="6010200"/>
              <a:ext cx="160200" cy="133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471320" y="586656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756880" y="54108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209400" y="501876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72440" y="51012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72120" y="593136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773320" y="4988160"/>
            <a:ext cx="2116080" cy="1372320"/>
            <a:chOff x="5773320" y="4988160"/>
            <a:chExt cx="2116080" cy="1372320"/>
          </a:xfrm>
        </p:grpSpPr>
        <p:sp>
          <p:nvSpPr>
            <p:cNvPr id="610" name=""/>
            <p:cNvSpPr/>
            <p:nvPr/>
          </p:nvSpPr>
          <p:spPr>
            <a:xfrm flipH="1" flipV="1">
              <a:off x="6625800" y="5405400"/>
              <a:ext cx="554040" cy="121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 flipV="1">
              <a:off x="7183440" y="5514840"/>
              <a:ext cx="109440" cy="506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381720" y="5841720"/>
              <a:ext cx="160200" cy="134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541920" y="5349600"/>
              <a:ext cx="158760" cy="1332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26200" y="5468760"/>
              <a:ext cx="158760" cy="134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35640" y="5979960"/>
              <a:ext cx="160560" cy="1328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773320" y="582120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258960" y="498816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821640" y="50706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321680" y="590076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4630680" y="5753160"/>
            <a:ext cx="887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74D8-1B79-44A9-B446-76FD9625BB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sting at the semantic leve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471840" y="43369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24160" y="43038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7400" y="1466280"/>
            <a:ext cx="5144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crete Euler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stract Euler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semantics of an Euler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592880" y="2541600"/>
            <a:ext cx="20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{}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Comic Sans MS"/>
              </a:rPr>
              <a:t>{A}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{A,B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{A,C},{A,B,C}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5837400" y="976680"/>
            <a:ext cx="2070360" cy="1471320"/>
            <a:chOff x="5837400" y="976680"/>
            <a:chExt cx="2070360" cy="1471320"/>
          </a:xfrm>
        </p:grpSpPr>
        <p:sp>
          <p:nvSpPr>
            <p:cNvPr id="627" name=""/>
            <p:cNvSpPr/>
            <p:nvPr/>
          </p:nvSpPr>
          <p:spPr>
            <a:xfrm>
              <a:off x="5837400" y="1050840"/>
              <a:ext cx="1857240" cy="1397160"/>
            </a:xfrm>
            <a:prstGeom prst="ellipse">
              <a:avLst/>
            </a:prstGeom>
            <a:solidFill>
              <a:srgbClr val="ccff99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531920" y="9766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265800" y="1311120"/>
              <a:ext cx="551160" cy="563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483600" y="1574640"/>
              <a:ext cx="765000" cy="701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023520" y="16023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119360" y="1435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265800" y="1311120"/>
              <a:ext cx="551160" cy="56376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583560" y="4293000"/>
            <a:ext cx="1171080" cy="459720"/>
            <a:chOff x="583560" y="4293000"/>
            <a:chExt cx="1171080" cy="459720"/>
          </a:xfrm>
        </p:grpSpPr>
        <p:sp>
          <p:nvSpPr>
            <p:cNvPr id="635" name=""/>
            <p:cNvSpPr/>
            <p:nvPr/>
          </p:nvSpPr>
          <p:spPr>
            <a:xfrm>
              <a:off x="583560" y="4293000"/>
              <a:ext cx="117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(A</a:t>
              </a:r>
              <a:r>
                <a:rPr b="0" lang="en-GB" sz="2400" spc="-1" strike="noStrike">
                  <a:solidFill>
                    <a:srgbClr val="000000"/>
                  </a:solidFill>
                  <a:latin typeface="Euclid Symbol"/>
                  <a:ea typeface="Euclid Symbol"/>
                </a:rPr>
                <a:t>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en-GB" sz="2400" spc="-1" strike="noStrike">
                  <a:solidFill>
                    <a:srgbClr val="000000"/>
                  </a:solidFill>
                  <a:latin typeface="Euclid Symbol"/>
                  <a:ea typeface="Euclid Symbol"/>
                </a:rPr>
                <a:t>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76440" y="4329000"/>
              <a:ext cx="19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095480" y="4329000"/>
              <a:ext cx="19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476360" y="4329000"/>
              <a:ext cx="19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4907880" y="4293000"/>
            <a:ext cx="1171080" cy="459720"/>
            <a:chOff x="4907880" y="4293000"/>
            <a:chExt cx="1171080" cy="459720"/>
          </a:xfrm>
        </p:grpSpPr>
        <p:sp>
          <p:nvSpPr>
            <p:cNvPr id="640" name=""/>
            <p:cNvSpPr/>
            <p:nvPr/>
          </p:nvSpPr>
          <p:spPr>
            <a:xfrm>
              <a:off x="4907880" y="4293000"/>
              <a:ext cx="117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(A</a:t>
              </a:r>
              <a:r>
                <a:rPr b="0" lang="en-GB" sz="2400" spc="-1" strike="noStrike">
                  <a:solidFill>
                    <a:srgbClr val="000000"/>
                  </a:solidFill>
                  <a:latin typeface="Euclid Symbol"/>
                  <a:ea typeface="Euclid Symbol"/>
                </a:rPr>
                <a:t>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en-GB" sz="2400" spc="-1" strike="noStrike">
                  <a:solidFill>
                    <a:srgbClr val="000000"/>
                  </a:solidFill>
                  <a:latin typeface="Euclid Symbol"/>
                  <a:ea typeface="Euclid Symbol"/>
                </a:rPr>
                <a:t>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19440" y="4329000"/>
              <a:ext cx="19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2025000" y="4293000"/>
            <a:ext cx="1171080" cy="459720"/>
            <a:chOff x="2025000" y="4293000"/>
            <a:chExt cx="1171080" cy="459720"/>
          </a:xfrm>
        </p:grpSpPr>
        <p:sp>
          <p:nvSpPr>
            <p:cNvPr id="643" name=""/>
            <p:cNvSpPr/>
            <p:nvPr/>
          </p:nvSpPr>
          <p:spPr>
            <a:xfrm>
              <a:off x="2025000" y="4293000"/>
              <a:ext cx="117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(A</a:t>
              </a:r>
              <a:r>
                <a:rPr b="0" lang="en-GB" sz="2400" spc="-1" strike="noStrike">
                  <a:solidFill>
                    <a:srgbClr val="000000"/>
                  </a:solidFill>
                  <a:latin typeface="Euclid Symbol"/>
                  <a:ea typeface="Euclid Symbol"/>
                </a:rPr>
                <a:t>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en-GB" sz="2400" spc="-1" strike="noStrike">
                  <a:solidFill>
                    <a:srgbClr val="000000"/>
                  </a:solidFill>
                  <a:latin typeface="Euclid Symbol"/>
                  <a:ea typeface="Euclid Symbol"/>
                </a:rPr>
                <a:t>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536920" y="4329000"/>
              <a:ext cx="19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917800" y="4329000"/>
              <a:ext cx="19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3466440" y="4293000"/>
            <a:ext cx="1171080" cy="459720"/>
            <a:chOff x="3466440" y="4293000"/>
            <a:chExt cx="1171080" cy="459720"/>
          </a:xfrm>
        </p:grpSpPr>
        <p:sp>
          <p:nvSpPr>
            <p:cNvPr id="647" name=""/>
            <p:cNvSpPr/>
            <p:nvPr/>
          </p:nvSpPr>
          <p:spPr>
            <a:xfrm>
              <a:off x="3466440" y="4293000"/>
              <a:ext cx="117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(A</a:t>
              </a:r>
              <a:r>
                <a:rPr b="0" lang="en-GB" sz="2400" spc="-1" strike="noStrike">
                  <a:solidFill>
                    <a:srgbClr val="000000"/>
                  </a:solidFill>
                  <a:latin typeface="Euclid Symbol"/>
                  <a:ea typeface="Euclid Symbol"/>
                </a:rPr>
                <a:t>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en-GB" sz="2400" spc="-1" strike="noStrike">
                  <a:solidFill>
                    <a:srgbClr val="000000"/>
                  </a:solidFill>
                  <a:latin typeface="Euclid Symbol"/>
                  <a:ea typeface="Euclid Symbol"/>
                </a:rPr>
                <a:t>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59600" y="4329000"/>
              <a:ext cx="19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6350760" y="4293000"/>
            <a:ext cx="11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A</a:t>
            </a:r>
            <a:r>
              <a:rPr b="0" lang="en-GB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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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752120" y="4347360"/>
            <a:ext cx="2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209400" y="4366440"/>
            <a:ext cx="2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639680" y="4338000"/>
            <a:ext cx="2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84360" y="4371120"/>
            <a:ext cx="2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546680" y="4275720"/>
            <a:ext cx="5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63440" y="4977360"/>
            <a:ext cx="8055000" cy="975600"/>
            <a:chOff x="163440" y="4977360"/>
            <a:chExt cx="8055000" cy="975600"/>
          </a:xfrm>
        </p:grpSpPr>
        <p:grpSp>
          <p:nvGrpSpPr>
            <p:cNvPr id="656" name=""/>
            <p:cNvGrpSpPr/>
            <p:nvPr/>
          </p:nvGrpSpPr>
          <p:grpSpPr>
            <a:xfrm>
              <a:off x="163440" y="4977360"/>
              <a:ext cx="1726200" cy="467640"/>
              <a:chOff x="163440" y="4977360"/>
              <a:chExt cx="1726200" cy="467640"/>
            </a:xfrm>
          </p:grpSpPr>
          <p:sp>
            <p:nvSpPr>
              <p:cNvPr id="657" name=""/>
              <p:cNvSpPr/>
              <p:nvPr/>
            </p:nvSpPr>
            <p:spPr>
              <a:xfrm>
                <a:off x="163440" y="4977360"/>
                <a:ext cx="55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3300"/>
                    </a:solidFill>
                    <a:latin typeface="Comic Sans MS"/>
                  </a:rPr>
                  <a:t>(A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57120" y="5038560"/>
                <a:ext cx="1954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30520" y="4977360"/>
                <a:ext cx="55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3300"/>
                    </a:solidFill>
                    <a:latin typeface="Comic Sans MS"/>
                  </a:rPr>
                  <a:t>(A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58440" y="5031720"/>
                <a:ext cx="26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3300"/>
                    </a:solidFill>
                    <a:latin typeface="Euclid Symbol"/>
                    <a:ea typeface="Euclid Symbol"/>
                  </a:rPr>
                  <a:t>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12560" y="4985280"/>
                <a:ext cx="57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3300"/>
                    </a:solidFill>
                    <a:latin typeface="Comic Sans MS"/>
                  </a:rPr>
                  <a:t>=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2256480" y="4980600"/>
              <a:ext cx="184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Comic Sans MS"/>
                </a:rPr>
                <a:t>(B </a:t>
              </a:r>
              <a:r>
                <a:rPr b="0" lang="en-GB" sz="2400" spc="-1" strike="noStrike">
                  <a:solidFill>
                    <a:srgbClr val="008000"/>
                  </a:solidFill>
                  <a:latin typeface="Euclid Symbol"/>
                  <a:ea typeface="Euclid Symbol"/>
                </a:rPr>
                <a:t></a:t>
              </a:r>
              <a:r>
                <a:rPr b="0" lang="en-GB" sz="2400" spc="-1" strike="noStrike">
                  <a:solidFill>
                    <a:srgbClr val="008000"/>
                  </a:solidFill>
                  <a:latin typeface="Comic Sans MS"/>
                </a:rPr>
                <a:t> A, C </a:t>
              </a:r>
              <a:r>
                <a:rPr b="0" lang="en-GB" sz="2400" spc="-1" strike="noStrike">
                  <a:solidFill>
                    <a:srgbClr val="008000"/>
                  </a:solidFill>
                  <a:latin typeface="Euclid Symbol"/>
                  <a:ea typeface="Euclid Symbol"/>
                </a:rPr>
                <a:t></a:t>
              </a:r>
              <a:r>
                <a:rPr b="0" lang="en-GB" sz="2400" spc="-1" strike="noStrike">
                  <a:solidFill>
                    <a:srgbClr val="008000"/>
                  </a:solidFill>
                  <a:latin typeface="Comic Sans MS"/>
                </a:rPr>
                <a:t> 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127320" y="5432760"/>
              <a:ext cx="12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(B</a:t>
              </a:r>
              <a:r>
                <a:rPr b="0" lang="en-GB" sz="2400" spc="-1" strike="noStrike">
                  <a:solidFill>
                    <a:srgbClr val="3333cc"/>
                  </a:solidFill>
                  <a:latin typeface="Euclid Symbol"/>
                  <a:ea typeface="Euclid Symbol"/>
                </a:rPr>
                <a:t></a:t>
              </a: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C </a:t>
              </a:r>
              <a:r>
                <a:rPr b="0" lang="en-GB" sz="2400" spc="-1" strike="noStrike">
                  <a:solidFill>
                    <a:srgbClr val="3333cc"/>
                  </a:solidFill>
                  <a:latin typeface="Euclid Symbol"/>
                  <a:ea typeface="Euclid Symbol"/>
                </a:rPr>
                <a:t></a:t>
              </a: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208320" y="5456160"/>
              <a:ext cx="1951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589200" y="5456160"/>
              <a:ext cx="1954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875640" y="5432760"/>
              <a:ext cx="86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(B</a:t>
              </a:r>
              <a:r>
                <a:rPr b="0" lang="en-GB" sz="2400" spc="-1" strike="noStrike">
                  <a:solidFill>
                    <a:srgbClr val="3333cc"/>
                  </a:solidFill>
                  <a:latin typeface="Euclid Symbol"/>
                  <a:ea typeface="Euclid Symbol"/>
                </a:rPr>
                <a:t></a:t>
              </a: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76760" y="5432760"/>
              <a:ext cx="86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(B</a:t>
              </a:r>
              <a:r>
                <a:rPr b="0" lang="en-GB" sz="2400" spc="-1" strike="noStrike">
                  <a:solidFill>
                    <a:srgbClr val="3333cc"/>
                  </a:solidFill>
                  <a:latin typeface="Euclid Symbol"/>
                  <a:ea typeface="Euclid Symbol"/>
                </a:rPr>
                <a:t></a:t>
              </a: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00560" y="5456160"/>
              <a:ext cx="1954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775480" y="5432760"/>
              <a:ext cx="86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(B</a:t>
              </a:r>
              <a:r>
                <a:rPr b="0" lang="en-GB" sz="2400" spc="-1" strike="noStrike">
                  <a:solidFill>
                    <a:srgbClr val="3333cc"/>
                  </a:solidFill>
                  <a:latin typeface="Euclid Symbol"/>
                  <a:ea typeface="Euclid Symbol"/>
                </a:rPr>
                <a:t></a:t>
              </a: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918040" y="5456160"/>
              <a:ext cx="1954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426920" y="546516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Euclid Symbol"/>
                  <a:ea typeface="Euclid Symbol"/>
                </a:rPr>
                <a:t>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506560" y="544932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Euclid Symbol"/>
                  <a:ea typeface="Euclid Symbol"/>
                </a:rPr>
                <a:t>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616080" y="546192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cc"/>
                  </a:solidFill>
                  <a:latin typeface="Euclid Symbol"/>
                  <a:ea typeface="Euclid Symbol"/>
                </a:rPr>
                <a:t>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69080" y="54169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=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823760" y="503604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Euclid Symbol"/>
                  <a:ea typeface="Euclid Symbol"/>
                </a:rPr>
                <a:t>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801880" y="549324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Euclid Symbol"/>
                  <a:ea typeface="Euclid Symbol"/>
                </a:rPr>
                <a:t>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220A-79A5-47A7-B2AD-3C57ABAC2A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3471840" y="43369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424160" y="43038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unting nested dia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193680" y="1357200"/>
          <a:ext cx="8686800" cy="45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357200"/>
                    <a:ext cx="868680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0F6E-A30E-4F0E-A169-61D4348656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ackground: constraint dia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03800" y="3564000"/>
            <a:ext cx="345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graph which is not a tree has at least two trees which are spanning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17800" y="50450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54240" y="45356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2120" y="3135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2720" y="49687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1320" y="4765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41240" y="2422440"/>
            <a:ext cx="4114800" cy="3828960"/>
            <a:chOff x="741240" y="2422440"/>
            <a:chExt cx="4114800" cy="3828960"/>
          </a:xfrm>
        </p:grpSpPr>
        <p:grpSp>
          <p:nvGrpSpPr>
            <p:cNvPr id="52" name=""/>
            <p:cNvGrpSpPr/>
            <p:nvPr/>
          </p:nvGrpSpPr>
          <p:grpSpPr>
            <a:xfrm>
              <a:off x="3541680" y="3135240"/>
              <a:ext cx="254160" cy="255600"/>
              <a:chOff x="3541680" y="3135240"/>
              <a:chExt cx="254160" cy="255600"/>
            </a:xfrm>
          </p:grpSpPr>
          <p:sp>
            <p:nvSpPr>
              <p:cNvPr id="53" name=""/>
              <p:cNvSpPr/>
              <p:nvPr/>
            </p:nvSpPr>
            <p:spPr>
              <a:xfrm>
                <a:off x="3541680" y="3262320"/>
                <a:ext cx="254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668760" y="3135240"/>
                <a:ext cx="1440" cy="255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567240" y="3160800"/>
                <a:ext cx="203040" cy="204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3567240" y="3160800"/>
                <a:ext cx="203040" cy="204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2535480" y="2422440"/>
              <a:ext cx="715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rap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20600" y="3236760"/>
              <a:ext cx="2444760" cy="2622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77920" y="2881440"/>
              <a:ext cx="482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tre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1240" y="2822400"/>
              <a:ext cx="4114800" cy="3429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49520" y="5019840"/>
              <a:ext cx="152280" cy="126720"/>
            </a:xfrm>
            <a:custGeom>
              <a:avLst/>
              <a:gdLst/>
              <a:ahLst/>
              <a:rect l="l" t="t" r="r" b="b"/>
              <a:pathLst>
                <a:path w="96" h="80">
                  <a:moveTo>
                    <a:pt x="96" y="0"/>
                  </a:moveTo>
                  <a:lnTo>
                    <a:pt x="0" y="32"/>
                  </a:lnTo>
                  <a:lnTo>
                    <a:pt x="80" y="80"/>
                  </a:lnTo>
                  <a:lnTo>
                    <a:pt x="64" y="3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31880" y="4535640"/>
              <a:ext cx="917640" cy="841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13040" y="4968720"/>
              <a:ext cx="126720" cy="127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1640" y="4765680"/>
              <a:ext cx="126720" cy="127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10000" y="3390840"/>
              <a:ext cx="1292040" cy="1698840"/>
            </a:xfrm>
            <a:custGeom>
              <a:avLst/>
              <a:gdLst/>
              <a:ahLst/>
              <a:rect l="l" t="t" r="r" b="b"/>
              <a:pathLst>
                <a:path w="814" h="1070">
                  <a:moveTo>
                    <a:pt x="684" y="0"/>
                  </a:moveTo>
                  <a:cubicBezTo>
                    <a:pt x="702" y="92"/>
                    <a:pt x="814" y="388"/>
                    <a:pt x="792" y="552"/>
                  </a:cubicBezTo>
                  <a:cubicBezTo>
                    <a:pt x="770" y="716"/>
                    <a:pt x="684" y="898"/>
                    <a:pt x="552" y="984"/>
                  </a:cubicBezTo>
                  <a:cubicBezTo>
                    <a:pt x="420" y="1070"/>
                    <a:pt x="115" y="1050"/>
                    <a:pt x="0" y="106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34920" y="3797280"/>
              <a:ext cx="113616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pann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F40-0AA3-46E1-8B0C-3E83667FAC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3471840" y="43369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424160" y="43038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1200" y="2310120"/>
            <a:ext cx="818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raw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re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re quickl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better - nesting is visibly ev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bdiagram shape is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bdiagrams could be library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bdiagrams easily smooth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rcRect l="9821" t="27028" r="6041" b="5825"/>
          <a:stretch/>
        </p:blipFill>
        <p:spPr>
          <a:xfrm>
            <a:off x="3002040" y="452520"/>
            <a:ext cx="5254560" cy="173196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2"/>
          <a:srcRect l="17747" t="30666" r="10223" b="12446"/>
          <a:stretch/>
        </p:blipFill>
        <p:spPr>
          <a:xfrm>
            <a:off x="5305320" y="4586400"/>
            <a:ext cx="2295720" cy="220824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3"/>
          <a:srcRect l="18667" t="29608" r="8444" b="10934"/>
          <a:stretch/>
        </p:blipFill>
        <p:spPr>
          <a:xfrm>
            <a:off x="654120" y="3770280"/>
            <a:ext cx="2805120" cy="27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6DD-64ED-42CD-BFB9-7DF405DC54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3471840" y="43369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424160" y="43038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17960" y="3001680"/>
            <a:ext cx="5828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ill leaves (rare?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 atomic examples to be tidied up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lanned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moothing algorithm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uler diagram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rcRect l="12175" t="27663" r="3584" b="9140"/>
          <a:stretch/>
        </p:blipFill>
        <p:spPr>
          <a:xfrm>
            <a:off x="5268960" y="3862440"/>
            <a:ext cx="3065400" cy="280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BF82-3BFA-42DD-9B14-7187BB32C3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062680" y="3070080"/>
            <a:ext cx="38620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are three contours: graph, tree and oth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four zon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outside all contou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just in grap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in graph and tre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one in all three contour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one universal spider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29160" y="1752480"/>
            <a:ext cx="32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tract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1752480"/>
            <a:ext cx="37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rete 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straint dia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41240" y="2422440"/>
            <a:ext cx="4114800" cy="3828960"/>
            <a:chOff x="741240" y="2422440"/>
            <a:chExt cx="4114800" cy="3828960"/>
          </a:xfrm>
        </p:grpSpPr>
        <p:grpSp>
          <p:nvGrpSpPr>
            <p:cNvPr id="72" name=""/>
            <p:cNvGrpSpPr/>
            <p:nvPr/>
          </p:nvGrpSpPr>
          <p:grpSpPr>
            <a:xfrm>
              <a:off x="3541680" y="3135240"/>
              <a:ext cx="254160" cy="255600"/>
              <a:chOff x="3541680" y="3135240"/>
              <a:chExt cx="254160" cy="255600"/>
            </a:xfrm>
          </p:grpSpPr>
          <p:sp>
            <p:nvSpPr>
              <p:cNvPr id="73" name=""/>
              <p:cNvSpPr/>
              <p:nvPr/>
            </p:nvSpPr>
            <p:spPr>
              <a:xfrm>
                <a:off x="3541680" y="3262320"/>
                <a:ext cx="254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668760" y="3135240"/>
                <a:ext cx="1440" cy="255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567240" y="3160800"/>
                <a:ext cx="203040" cy="204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3567240" y="3160800"/>
                <a:ext cx="203040" cy="204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2535480" y="2422440"/>
              <a:ext cx="715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rap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20600" y="3236760"/>
              <a:ext cx="2444760" cy="2622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77920" y="2881440"/>
              <a:ext cx="482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tre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1240" y="2822400"/>
              <a:ext cx="4114800" cy="3429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49520" y="5019840"/>
              <a:ext cx="152280" cy="126720"/>
            </a:xfrm>
            <a:custGeom>
              <a:avLst/>
              <a:gdLst/>
              <a:ahLst/>
              <a:rect l="l" t="t" r="r" b="b"/>
              <a:pathLst>
                <a:path w="96" h="80">
                  <a:moveTo>
                    <a:pt x="96" y="0"/>
                  </a:moveTo>
                  <a:lnTo>
                    <a:pt x="0" y="32"/>
                  </a:lnTo>
                  <a:lnTo>
                    <a:pt x="80" y="80"/>
                  </a:lnTo>
                  <a:lnTo>
                    <a:pt x="64" y="3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31880" y="4535640"/>
              <a:ext cx="917640" cy="841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13040" y="4968720"/>
              <a:ext cx="126720" cy="127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41640" y="4765680"/>
              <a:ext cx="126720" cy="127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10000" y="3390840"/>
              <a:ext cx="1292040" cy="1698840"/>
            </a:xfrm>
            <a:custGeom>
              <a:avLst/>
              <a:gdLst/>
              <a:ahLst/>
              <a:rect l="l" t="t" r="r" b="b"/>
              <a:pathLst>
                <a:path w="814" h="1070">
                  <a:moveTo>
                    <a:pt x="684" y="0"/>
                  </a:moveTo>
                  <a:cubicBezTo>
                    <a:pt x="702" y="92"/>
                    <a:pt x="814" y="388"/>
                    <a:pt x="792" y="552"/>
                  </a:cubicBezTo>
                  <a:cubicBezTo>
                    <a:pt x="770" y="716"/>
                    <a:pt x="684" y="898"/>
                    <a:pt x="552" y="984"/>
                  </a:cubicBezTo>
                  <a:cubicBezTo>
                    <a:pt x="420" y="1070"/>
                    <a:pt x="115" y="1050"/>
                    <a:pt x="0" y="106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34920" y="3797280"/>
              <a:ext cx="113616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pann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455E-DFFD-4C7B-80B3-8C1D987964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664240" y="2782800"/>
            <a:ext cx="347976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are three contours: graph, tree and oth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four zon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outside all contours, one just in grap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in graph and tree and one in all three contour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one universal spider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2738520"/>
            <a:ext cx="230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a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451320" y="4722840"/>
            <a:ext cx="2309760" cy="1618200"/>
            <a:chOff x="3451320" y="4722840"/>
            <a:chExt cx="2309760" cy="1618200"/>
          </a:xfrm>
        </p:grpSpPr>
        <p:grpSp>
          <p:nvGrpSpPr>
            <p:cNvPr id="90" name=""/>
            <p:cNvGrpSpPr/>
            <p:nvPr/>
          </p:nvGrpSpPr>
          <p:grpSpPr>
            <a:xfrm>
              <a:off x="3497040" y="4722840"/>
              <a:ext cx="1974960" cy="565200"/>
              <a:chOff x="3497040" y="4722840"/>
              <a:chExt cx="1974960" cy="565200"/>
            </a:xfrm>
          </p:grpSpPr>
          <p:sp>
            <p:nvSpPr>
              <p:cNvPr id="91" name=""/>
              <p:cNvSpPr/>
              <p:nvPr/>
            </p:nvSpPr>
            <p:spPr>
              <a:xfrm flipH="1" flipV="1">
                <a:off x="3549600" y="4722840"/>
                <a:ext cx="1922400" cy="565200"/>
              </a:xfrm>
              <a:custGeom>
                <a:avLst/>
                <a:gdLst/>
                <a:ahLst/>
                <a:rect l="l" t="t" r="r" b="b"/>
                <a:pathLst>
                  <a:path w="1211" h="356">
                    <a:moveTo>
                      <a:pt x="0" y="356"/>
                    </a:moveTo>
                    <a:cubicBezTo>
                      <a:pt x="160" y="200"/>
                      <a:pt x="320" y="44"/>
                      <a:pt x="522" y="22"/>
                    </a:cubicBezTo>
                    <a:cubicBezTo>
                      <a:pt x="724" y="0"/>
                      <a:pt x="967" y="111"/>
                      <a:pt x="1211" y="2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flipV="1" rot="6911400">
                <a:off x="3482640" y="4894920"/>
                <a:ext cx="181080" cy="83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451320" y="5272200"/>
              <a:ext cx="2309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generate a diagra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86360" y="2038320"/>
            <a:ext cx="32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tract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514600"/>
            <a:ext cx="37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rete 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1400" y="3922560"/>
            <a:ext cx="1974960" cy="565200"/>
            <a:chOff x="3551400" y="3922560"/>
            <a:chExt cx="1974960" cy="565200"/>
          </a:xfrm>
        </p:grpSpPr>
        <p:sp>
          <p:nvSpPr>
            <p:cNvPr id="98" name=""/>
            <p:cNvSpPr/>
            <p:nvPr/>
          </p:nvSpPr>
          <p:spPr>
            <a:xfrm>
              <a:off x="3551400" y="3922560"/>
              <a:ext cx="1922400" cy="565200"/>
            </a:xfrm>
            <a:custGeom>
              <a:avLst/>
              <a:gdLst/>
              <a:ahLst/>
              <a:rect l="l" t="t" r="r" b="b"/>
              <a:pathLst>
                <a:path w="1211" h="356">
                  <a:moveTo>
                    <a:pt x="0" y="356"/>
                  </a:moveTo>
                  <a:cubicBezTo>
                    <a:pt x="160" y="200"/>
                    <a:pt x="320" y="44"/>
                    <a:pt x="522" y="22"/>
                  </a:cubicBezTo>
                  <a:cubicBezTo>
                    <a:pt x="724" y="0"/>
                    <a:pt x="967" y="111"/>
                    <a:pt x="1211" y="2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6911400">
              <a:off x="5359320" y="4231440"/>
              <a:ext cx="181080" cy="83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06280" y="3236760"/>
            <a:ext cx="2998080" cy="2706840"/>
            <a:chOff x="206280" y="3236760"/>
            <a:chExt cx="2998080" cy="2706840"/>
          </a:xfrm>
        </p:grpSpPr>
        <p:sp>
          <p:nvSpPr>
            <p:cNvPr id="101" name=""/>
            <p:cNvSpPr/>
            <p:nvPr/>
          </p:nvSpPr>
          <p:spPr>
            <a:xfrm>
              <a:off x="330120" y="43848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171880" y="3792600"/>
              <a:ext cx="177480" cy="176040"/>
              <a:chOff x="2171880" y="3792600"/>
              <a:chExt cx="177480" cy="176040"/>
            </a:xfrm>
          </p:grpSpPr>
          <p:sp>
            <p:nvSpPr>
              <p:cNvPr id="103" name=""/>
              <p:cNvSpPr/>
              <p:nvPr/>
            </p:nvSpPr>
            <p:spPr>
              <a:xfrm>
                <a:off x="2171880" y="3880080"/>
                <a:ext cx="1774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260440" y="3792600"/>
                <a:ext cx="720" cy="17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89520" y="3809880"/>
                <a:ext cx="141840" cy="141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2189520" y="3809880"/>
                <a:ext cx="141840" cy="141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359360" y="3236760"/>
              <a:ext cx="715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rap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3200" y="3862440"/>
              <a:ext cx="1714680" cy="1809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73160" y="3552840"/>
              <a:ext cx="482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tre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6280" y="3576600"/>
              <a:ext cx="2887920" cy="2367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74920" y="5092560"/>
              <a:ext cx="107640" cy="88920"/>
            </a:xfrm>
            <a:custGeom>
              <a:avLst/>
              <a:gdLst/>
              <a:ahLst/>
              <a:rect l="l" t="t" r="r" b="b"/>
              <a:pathLst>
                <a:path w="96" h="80">
                  <a:moveTo>
                    <a:pt x="96" y="0"/>
                  </a:moveTo>
                  <a:lnTo>
                    <a:pt x="0" y="32"/>
                  </a:lnTo>
                  <a:lnTo>
                    <a:pt x="80" y="80"/>
                  </a:lnTo>
                  <a:lnTo>
                    <a:pt x="64" y="3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1960" y="4759200"/>
              <a:ext cx="642960" cy="5810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28880" y="5057640"/>
              <a:ext cx="88560" cy="874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89080" y="4917960"/>
              <a:ext cx="88920" cy="874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17760" y="3968640"/>
              <a:ext cx="906480" cy="1173240"/>
            </a:xfrm>
            <a:custGeom>
              <a:avLst/>
              <a:gdLst/>
              <a:ahLst/>
              <a:rect l="l" t="t" r="r" b="b"/>
              <a:pathLst>
                <a:path w="814" h="1070">
                  <a:moveTo>
                    <a:pt x="684" y="0"/>
                  </a:moveTo>
                  <a:cubicBezTo>
                    <a:pt x="702" y="92"/>
                    <a:pt x="814" y="388"/>
                    <a:pt x="792" y="552"/>
                  </a:cubicBezTo>
                  <a:cubicBezTo>
                    <a:pt x="770" y="716"/>
                    <a:pt x="684" y="898"/>
                    <a:pt x="552" y="984"/>
                  </a:cubicBezTo>
                  <a:cubicBezTo>
                    <a:pt x="420" y="1070"/>
                    <a:pt x="115" y="1050"/>
                    <a:pt x="0" y="106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68200" y="4249800"/>
              <a:ext cx="113616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pann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3E0B-C88B-4F93-B637-B2965F9D64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uler dia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71840" y="4394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76320" y="41338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57240" y="462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49400" y="46972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24160" y="43610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32360" y="3449520"/>
            <a:ext cx="33116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are three contours: graph, tree and oth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four zon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outside all contours, one just in grap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in graph and tree and one in all three cont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86360" y="2505240"/>
            <a:ext cx="32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tract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505240"/>
            <a:ext cx="37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rete 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2738520"/>
            <a:ext cx="230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a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451320" y="4722840"/>
            <a:ext cx="2309760" cy="1618200"/>
            <a:chOff x="3451320" y="4722840"/>
            <a:chExt cx="2309760" cy="1618200"/>
          </a:xfrm>
        </p:grpSpPr>
        <p:grpSp>
          <p:nvGrpSpPr>
            <p:cNvPr id="128" name=""/>
            <p:cNvGrpSpPr/>
            <p:nvPr/>
          </p:nvGrpSpPr>
          <p:grpSpPr>
            <a:xfrm>
              <a:off x="3497040" y="4722840"/>
              <a:ext cx="1974960" cy="565200"/>
              <a:chOff x="3497040" y="4722840"/>
              <a:chExt cx="1974960" cy="565200"/>
            </a:xfrm>
          </p:grpSpPr>
          <p:sp>
            <p:nvSpPr>
              <p:cNvPr id="129" name=""/>
              <p:cNvSpPr/>
              <p:nvPr/>
            </p:nvSpPr>
            <p:spPr>
              <a:xfrm flipH="1" flipV="1">
                <a:off x="3549600" y="4722840"/>
                <a:ext cx="1922400" cy="565200"/>
              </a:xfrm>
              <a:custGeom>
                <a:avLst/>
                <a:gdLst/>
                <a:ahLst/>
                <a:rect l="l" t="t" r="r" b="b"/>
                <a:pathLst>
                  <a:path w="1211" h="356">
                    <a:moveTo>
                      <a:pt x="0" y="356"/>
                    </a:moveTo>
                    <a:cubicBezTo>
                      <a:pt x="160" y="200"/>
                      <a:pt x="320" y="44"/>
                      <a:pt x="522" y="22"/>
                    </a:cubicBezTo>
                    <a:cubicBezTo>
                      <a:pt x="724" y="0"/>
                      <a:pt x="967" y="111"/>
                      <a:pt x="1211" y="2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flipV="1" rot="6911400">
                <a:off x="3482640" y="4894920"/>
                <a:ext cx="181080" cy="83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451320" y="5272200"/>
              <a:ext cx="2309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generate a diagra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551400" y="3922560"/>
            <a:ext cx="1974960" cy="565200"/>
            <a:chOff x="3551400" y="3922560"/>
            <a:chExt cx="1974960" cy="565200"/>
          </a:xfrm>
        </p:grpSpPr>
        <p:sp>
          <p:nvSpPr>
            <p:cNvPr id="133" name=""/>
            <p:cNvSpPr/>
            <p:nvPr/>
          </p:nvSpPr>
          <p:spPr>
            <a:xfrm>
              <a:off x="3551400" y="3922560"/>
              <a:ext cx="1922400" cy="565200"/>
            </a:xfrm>
            <a:custGeom>
              <a:avLst/>
              <a:gdLst/>
              <a:ahLst/>
              <a:rect l="l" t="t" r="r" b="b"/>
              <a:pathLst>
                <a:path w="1211" h="356">
                  <a:moveTo>
                    <a:pt x="0" y="356"/>
                  </a:moveTo>
                  <a:cubicBezTo>
                    <a:pt x="160" y="200"/>
                    <a:pt x="320" y="44"/>
                    <a:pt x="522" y="22"/>
                  </a:cubicBezTo>
                  <a:cubicBezTo>
                    <a:pt x="724" y="0"/>
                    <a:pt x="967" y="111"/>
                    <a:pt x="1211" y="2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6911400">
              <a:off x="5359320" y="4231440"/>
              <a:ext cx="181080" cy="83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06280" y="3236760"/>
            <a:ext cx="2887920" cy="2706840"/>
            <a:chOff x="206280" y="3236760"/>
            <a:chExt cx="2887920" cy="2706840"/>
          </a:xfrm>
        </p:grpSpPr>
        <p:sp>
          <p:nvSpPr>
            <p:cNvPr id="136" name=""/>
            <p:cNvSpPr/>
            <p:nvPr/>
          </p:nvSpPr>
          <p:spPr>
            <a:xfrm>
              <a:off x="1359360" y="3236760"/>
              <a:ext cx="715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rap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3200" y="3862440"/>
              <a:ext cx="1714680" cy="1809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73160" y="3552840"/>
              <a:ext cx="482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tre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6280" y="3576600"/>
              <a:ext cx="2887920" cy="2367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1960" y="4759200"/>
              <a:ext cx="642960" cy="5810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9280" y="4460760"/>
              <a:ext cx="637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1528-6470-4832-AA85-4AFDA1E176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uler dia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71840" y="43369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14480" y="41148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95400" y="4602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49400" y="4640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24160" y="43038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99160" y="3554280"/>
            <a:ext cx="34448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are thre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ou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A, B, C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four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on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{},{A},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{A,B}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{A,B,C}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86360" y="2523960"/>
            <a:ext cx="32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tract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523960"/>
            <a:ext cx="37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rete 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2738520"/>
            <a:ext cx="230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a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451320" y="4722840"/>
            <a:ext cx="2309760" cy="1618200"/>
            <a:chOff x="3451320" y="4722840"/>
            <a:chExt cx="2309760" cy="1618200"/>
          </a:xfrm>
        </p:grpSpPr>
        <p:grpSp>
          <p:nvGrpSpPr>
            <p:cNvPr id="153" name=""/>
            <p:cNvGrpSpPr/>
            <p:nvPr/>
          </p:nvGrpSpPr>
          <p:grpSpPr>
            <a:xfrm>
              <a:off x="3497040" y="4722840"/>
              <a:ext cx="1974960" cy="565200"/>
              <a:chOff x="3497040" y="4722840"/>
              <a:chExt cx="1974960" cy="565200"/>
            </a:xfrm>
          </p:grpSpPr>
          <p:sp>
            <p:nvSpPr>
              <p:cNvPr id="154" name=""/>
              <p:cNvSpPr/>
              <p:nvPr/>
            </p:nvSpPr>
            <p:spPr>
              <a:xfrm flipH="1" flipV="1">
                <a:off x="3549600" y="4722840"/>
                <a:ext cx="1922400" cy="565200"/>
              </a:xfrm>
              <a:custGeom>
                <a:avLst/>
                <a:gdLst/>
                <a:ahLst/>
                <a:rect l="l" t="t" r="r" b="b"/>
                <a:pathLst>
                  <a:path w="1211" h="356">
                    <a:moveTo>
                      <a:pt x="0" y="356"/>
                    </a:moveTo>
                    <a:cubicBezTo>
                      <a:pt x="160" y="200"/>
                      <a:pt x="320" y="44"/>
                      <a:pt x="522" y="22"/>
                    </a:cubicBezTo>
                    <a:cubicBezTo>
                      <a:pt x="724" y="0"/>
                      <a:pt x="967" y="111"/>
                      <a:pt x="1211" y="2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 rot="6911400">
                <a:off x="3482640" y="4894920"/>
                <a:ext cx="181080" cy="83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3451320" y="5272200"/>
              <a:ext cx="2309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generate a diagra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551400" y="3922560"/>
            <a:ext cx="1974960" cy="565200"/>
            <a:chOff x="3551400" y="3922560"/>
            <a:chExt cx="1974960" cy="565200"/>
          </a:xfrm>
        </p:grpSpPr>
        <p:sp>
          <p:nvSpPr>
            <p:cNvPr id="158" name=""/>
            <p:cNvSpPr/>
            <p:nvPr/>
          </p:nvSpPr>
          <p:spPr>
            <a:xfrm>
              <a:off x="3551400" y="3922560"/>
              <a:ext cx="1922400" cy="565200"/>
            </a:xfrm>
            <a:custGeom>
              <a:avLst/>
              <a:gdLst/>
              <a:ahLst/>
              <a:rect l="l" t="t" r="r" b="b"/>
              <a:pathLst>
                <a:path w="1211" h="356">
                  <a:moveTo>
                    <a:pt x="0" y="356"/>
                  </a:moveTo>
                  <a:cubicBezTo>
                    <a:pt x="160" y="200"/>
                    <a:pt x="320" y="44"/>
                    <a:pt x="522" y="22"/>
                  </a:cubicBezTo>
                  <a:cubicBezTo>
                    <a:pt x="724" y="0"/>
                    <a:pt x="967" y="111"/>
                    <a:pt x="1211" y="2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6911400">
              <a:off x="5359320" y="4231440"/>
              <a:ext cx="181080" cy="83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6280" y="3236760"/>
            <a:ext cx="2887920" cy="2706840"/>
            <a:chOff x="206280" y="3236760"/>
            <a:chExt cx="2887920" cy="2706840"/>
          </a:xfrm>
        </p:grpSpPr>
        <p:sp>
          <p:nvSpPr>
            <p:cNvPr id="161" name=""/>
            <p:cNvSpPr/>
            <p:nvPr/>
          </p:nvSpPr>
          <p:spPr>
            <a:xfrm>
              <a:off x="365040" y="4346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3600" y="323676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3200" y="3862440"/>
              <a:ext cx="1714680" cy="1809720"/>
            </a:xfrm>
            <a:prstGeom prst="ellipse">
              <a:avLst/>
            </a:prstGeom>
            <a:solidFill>
              <a:srgbClr val="33cc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20400" y="3552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6280" y="3576600"/>
              <a:ext cx="2887920" cy="2367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1960" y="4759200"/>
              <a:ext cx="642960" cy="581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36720" y="44607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F9D6-E869-4E75-AFD0-0CBE7A2112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ll-formed dia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71840" y="43369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49400" y="4640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24160" y="43038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571840" y="1446840"/>
            <a:ext cx="3752280" cy="1163160"/>
            <a:chOff x="2571840" y="1446840"/>
            <a:chExt cx="3752280" cy="1163160"/>
          </a:xfrm>
        </p:grpSpPr>
        <p:sp>
          <p:nvSpPr>
            <p:cNvPr id="173" name=""/>
            <p:cNvSpPr/>
            <p:nvPr/>
          </p:nvSpPr>
          <p:spPr>
            <a:xfrm flipH="1">
              <a:off x="2571840" y="1791000"/>
              <a:ext cx="609840" cy="81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83840" y="1446840"/>
              <a:ext cx="314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imple closed curv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909800" y="4084200"/>
            <a:ext cx="4077360" cy="1344960"/>
            <a:chOff x="1909800" y="4084200"/>
            <a:chExt cx="4077360" cy="1344960"/>
          </a:xfrm>
        </p:grpSpPr>
        <p:sp>
          <p:nvSpPr>
            <p:cNvPr id="176" name=""/>
            <p:cNvSpPr/>
            <p:nvPr/>
          </p:nvSpPr>
          <p:spPr>
            <a:xfrm flipH="1" flipV="1">
              <a:off x="1909800" y="4084200"/>
              <a:ext cx="1162080" cy="1009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60560" y="4969440"/>
              <a:ext cx="3126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verse cross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977200" y="5276880"/>
            <a:ext cx="4585680" cy="792000"/>
            <a:chOff x="2977200" y="5276880"/>
            <a:chExt cx="4585680" cy="792000"/>
          </a:xfrm>
        </p:grpSpPr>
        <p:sp>
          <p:nvSpPr>
            <p:cNvPr id="179" name=""/>
            <p:cNvSpPr/>
            <p:nvPr/>
          </p:nvSpPr>
          <p:spPr>
            <a:xfrm flipV="1">
              <a:off x="5334120" y="5276880"/>
              <a:ext cx="2228760" cy="49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7200" y="5609160"/>
              <a:ext cx="2363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 triple poi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515280" y="2546280"/>
            <a:ext cx="2466360" cy="1827000"/>
            <a:chOff x="6515280" y="2546280"/>
            <a:chExt cx="2466360" cy="1827000"/>
          </a:xfrm>
        </p:grpSpPr>
        <p:sp>
          <p:nvSpPr>
            <p:cNvPr id="182" name=""/>
            <p:cNvSpPr/>
            <p:nvPr/>
          </p:nvSpPr>
          <p:spPr>
            <a:xfrm>
              <a:off x="7162920" y="2762280"/>
              <a:ext cx="1066680" cy="1485720"/>
            </a:xfrm>
            <a:prstGeom prst="ellipse">
              <a:avLst/>
            </a:prstGeom>
            <a:solidFill>
              <a:srgbClr val="99ff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15280" y="3314880"/>
              <a:ext cx="1390320" cy="495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15200" y="3352680"/>
              <a:ext cx="1390680" cy="495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15280" y="3314880"/>
              <a:ext cx="1390320" cy="495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2920" y="2762280"/>
              <a:ext cx="1066680" cy="1485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10400" y="254628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15080" y="311796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10680" y="31939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75960" y="3913560"/>
              <a:ext cx="805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629400" y="4552920"/>
            <a:ext cx="2000160" cy="1630080"/>
            <a:chOff x="6629400" y="4552920"/>
            <a:chExt cx="2000160" cy="1630080"/>
          </a:xfrm>
        </p:grpSpPr>
        <p:grpSp>
          <p:nvGrpSpPr>
            <p:cNvPr id="192" name=""/>
            <p:cNvGrpSpPr/>
            <p:nvPr/>
          </p:nvGrpSpPr>
          <p:grpSpPr>
            <a:xfrm>
              <a:off x="6629400" y="4552920"/>
              <a:ext cx="2000160" cy="1257120"/>
              <a:chOff x="6629400" y="4552920"/>
              <a:chExt cx="2000160" cy="1257120"/>
            </a:xfrm>
          </p:grpSpPr>
          <p:sp>
            <p:nvSpPr>
              <p:cNvPr id="193" name=""/>
              <p:cNvSpPr/>
              <p:nvPr/>
            </p:nvSpPr>
            <p:spPr>
              <a:xfrm>
                <a:off x="7429320" y="4552920"/>
                <a:ext cx="1066680" cy="723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562880" y="5086080"/>
                <a:ext cx="1066680" cy="7239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629400" y="4895640"/>
                <a:ext cx="1066680" cy="7239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6872400" y="5723280"/>
              <a:ext cx="805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724560" y="2901600"/>
            <a:ext cx="3914640" cy="1289520"/>
            <a:chOff x="3724560" y="2901600"/>
            <a:chExt cx="3914640" cy="1289520"/>
          </a:xfrm>
        </p:grpSpPr>
        <p:sp>
          <p:nvSpPr>
            <p:cNvPr id="198" name=""/>
            <p:cNvSpPr/>
            <p:nvPr/>
          </p:nvSpPr>
          <p:spPr>
            <a:xfrm>
              <a:off x="5810400" y="2905200"/>
              <a:ext cx="1828800" cy="333360"/>
            </a:xfrm>
            <a:custGeom>
              <a:avLst/>
              <a:gdLst/>
              <a:ahLst/>
              <a:rect l="l" t="t" r="r" b="b"/>
              <a:pathLst>
                <a:path w="1152" h="210">
                  <a:moveTo>
                    <a:pt x="0" y="210"/>
                  </a:moveTo>
                  <a:cubicBezTo>
                    <a:pt x="162" y="123"/>
                    <a:pt x="324" y="36"/>
                    <a:pt x="516" y="18"/>
                  </a:cubicBezTo>
                  <a:cubicBezTo>
                    <a:pt x="708" y="0"/>
                    <a:pt x="930" y="51"/>
                    <a:pt x="1152" y="10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810400" y="3857760"/>
              <a:ext cx="1828800" cy="333360"/>
            </a:xfrm>
            <a:custGeom>
              <a:avLst/>
              <a:gdLst/>
              <a:ahLst/>
              <a:rect l="l" t="t" r="r" b="b"/>
              <a:pathLst>
                <a:path w="1152" h="210">
                  <a:moveTo>
                    <a:pt x="0" y="210"/>
                  </a:moveTo>
                  <a:cubicBezTo>
                    <a:pt x="162" y="123"/>
                    <a:pt x="324" y="36"/>
                    <a:pt x="516" y="18"/>
                  </a:cubicBezTo>
                  <a:cubicBezTo>
                    <a:pt x="708" y="0"/>
                    <a:pt x="930" y="51"/>
                    <a:pt x="1152" y="10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24560" y="2901600"/>
              <a:ext cx="219996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isconnec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zones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66680" y="2257560"/>
            <a:ext cx="2638440" cy="2236680"/>
            <a:chOff x="166680" y="2257560"/>
            <a:chExt cx="2638440" cy="2236680"/>
          </a:xfrm>
        </p:grpSpPr>
        <p:sp>
          <p:nvSpPr>
            <p:cNvPr id="202" name=""/>
            <p:cNvSpPr/>
            <p:nvPr/>
          </p:nvSpPr>
          <p:spPr>
            <a:xfrm>
              <a:off x="1584000" y="225756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3600" y="2882880"/>
              <a:ext cx="1714320" cy="1469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80800" y="257328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6680" y="2597040"/>
              <a:ext cx="2638440" cy="189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66920" y="3076560"/>
              <a:ext cx="1282680" cy="996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01760" y="31687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FDB-8DC1-48EB-94EC-D292636C6D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71840" y="43369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49400" y="4640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24160" y="43038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2291760"/>
            <a:ext cx="88311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pril: presented work on an algorithm for cr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well-formed Euler diagram from an abstract Euler dia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sk:  try drawing a concrete vers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ours ={A, B, C},  zones = {{ }, {A}, {A, B}, {A, C}, {C}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5160" y="5001120"/>
            <a:ext cx="3722400" cy="877320"/>
            <a:chOff x="2585160" y="5001120"/>
            <a:chExt cx="3722400" cy="877320"/>
          </a:xfrm>
        </p:grpSpPr>
        <p:sp>
          <p:nvSpPr>
            <p:cNvPr id="214" name=""/>
            <p:cNvSpPr/>
            <p:nvPr/>
          </p:nvSpPr>
          <p:spPr>
            <a:xfrm>
              <a:off x="2979720" y="5002200"/>
              <a:ext cx="2392560" cy="876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5272200"/>
              <a:ext cx="857520" cy="4190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73680" y="5230800"/>
              <a:ext cx="1047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34960" y="5001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89760" y="52455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85160" y="52264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C1E-9F2F-4989-8813-4278F84277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gorithm ske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9680" y="5260320"/>
            <a:ext cx="883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sues: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nectivity / planarity of the dua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ing disconnected zones / multipl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37320" y="1523520"/>
            <a:ext cx="33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ours {A, B, 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{}, {A}, {A, B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C}, {A,C}, {A, B, C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98280" y="2792880"/>
            <a:ext cx="4001040" cy="1796400"/>
            <a:chOff x="2798280" y="2792880"/>
            <a:chExt cx="4001040" cy="1796400"/>
          </a:xfrm>
        </p:grpSpPr>
        <p:sp>
          <p:nvSpPr>
            <p:cNvPr id="224" name=""/>
            <p:cNvSpPr/>
            <p:nvPr/>
          </p:nvSpPr>
          <p:spPr>
            <a:xfrm flipV="1">
              <a:off x="5999040" y="3068640"/>
              <a:ext cx="800280" cy="4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4582800" y="3841920"/>
              <a:ext cx="1012680" cy="330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3513240" y="3728520"/>
              <a:ext cx="1077840" cy="427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5999040" y="3068640"/>
              <a:ext cx="800280" cy="4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4417920" y="3654000"/>
              <a:ext cx="1130400" cy="2048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410000" y="3214800"/>
              <a:ext cx="500040" cy="426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4903560" y="3209760"/>
              <a:ext cx="554040" cy="122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5460480" y="3319560"/>
              <a:ext cx="109800" cy="506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3479760" y="3646440"/>
              <a:ext cx="878040" cy="100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06680" y="3660840"/>
              <a:ext cx="160560" cy="135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03800" y="3571920"/>
              <a:ext cx="160200" cy="135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19680" y="3154320"/>
              <a:ext cx="158760" cy="133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03960" y="3273480"/>
              <a:ext cx="158760" cy="135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13400" y="3784680"/>
              <a:ext cx="160200" cy="1332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98280" y="364068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1640" y="32230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36720" y="279288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99400" y="28753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99440" y="370584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03600" y="4094280"/>
              <a:ext cx="160560" cy="1332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85680" y="412956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34960" y="1119240"/>
            <a:ext cx="4619520" cy="2479680"/>
            <a:chOff x="534960" y="1119240"/>
            <a:chExt cx="4619520" cy="2479680"/>
          </a:xfrm>
        </p:grpSpPr>
        <p:sp>
          <p:nvSpPr>
            <p:cNvPr id="246" name=""/>
            <p:cNvSpPr/>
            <p:nvPr/>
          </p:nvSpPr>
          <p:spPr>
            <a:xfrm>
              <a:off x="2141640" y="3090960"/>
              <a:ext cx="901440" cy="50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83080" y="2085840"/>
              <a:ext cx="1571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34960" y="1119240"/>
              <a:ext cx="1697040" cy="2232000"/>
              <a:chOff x="534960" y="1119240"/>
              <a:chExt cx="1697040" cy="2232000"/>
            </a:xfrm>
          </p:grpSpPr>
          <p:sp>
            <p:nvSpPr>
              <p:cNvPr id="249" name=""/>
              <p:cNvSpPr/>
              <p:nvPr/>
            </p:nvSpPr>
            <p:spPr>
              <a:xfrm>
                <a:off x="534960" y="1455840"/>
                <a:ext cx="1697040" cy="1589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35200" y="1830240"/>
                <a:ext cx="609480" cy="758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001880" y="2095560"/>
                <a:ext cx="722160" cy="1255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906480" y="1119240"/>
                <a:ext cx="501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16080" y="1563840"/>
                <a:ext cx="501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92280" y="1984320"/>
                <a:ext cx="501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4D7B-9390-4D22-B7E9-1A62423021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5T12:24:18Z</dcterms:created>
  <dc:creator>Jean Flower</dc:creator>
  <dc:description/>
  <dc:language>en-US</dc:language>
  <cp:lastModifiedBy>Jean Flower</cp:lastModifiedBy>
  <cp:lastPrinted>2002-10-08T08:56:10Z</cp:lastPrinted>
  <dcterms:modified xsi:type="dcterms:W3CDTF">2002-12-18T09:23:09Z</dcterms:modified>
  <cp:revision>38</cp:revision>
  <dc:subject/>
  <dc:title>Generating CDiagrams</dc:title>
</cp:coreProperties>
</file>