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C3D8-F700-481B-B1CD-A7695D68E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2880-FDA0-4548-A88E-28F9393E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5811-3846-4C20-9CEB-F9C801C8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438D-9044-45AA-A280-14F89B5E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9113-9291-405E-9303-A444656D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571F-06B5-4926-9737-970296EF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122F-3E6C-4365-8576-226A8F1A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9466-E4CD-4986-AE98-AE0EC000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84F5-D7BD-469B-ACB4-1F912837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DA26-0E0A-4B8F-A801-75EA4EA2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1E6F-E896-4B4B-888C-A65012FE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D235-53C8-4403-B6AB-452FBDDB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80DF-1B47-43D6-A841-1F196545A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Using DAG transformation rul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y Nik Swoboda and Gerald Allwein presented at GT-VMT, Barcelona 2002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terpreted by JAF/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Uses DAG deltas to capture differences between Euler diagra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nks Euler diagrams and logic stat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102200" y="4740120"/>
            <a:ext cx="1341360" cy="800280"/>
          </a:xfrm>
          <a:prstGeom prst="ellipse">
            <a:avLst/>
          </a:prstGeom>
          <a:solidFill>
            <a:srgbClr val="cc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92400" y="2379600"/>
            <a:ext cx="911520" cy="7873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24920" y="2256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65640" y="2022480"/>
            <a:ext cx="2392200" cy="13780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90480" y="2572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4080" y="1611720"/>
            <a:ext cx="35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al of shaded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17920" y="2693880"/>
            <a:ext cx="6649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-235080" y="3358080"/>
            <a:ext cx="55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22600" y="4395960"/>
            <a:ext cx="625320" cy="469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617920" y="5430960"/>
            <a:ext cx="587160" cy="691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7760" y="5761080"/>
            <a:ext cx="915840" cy="780840"/>
          </a:xfrm>
          <a:prstGeom prst="ellipse">
            <a:avLst/>
          </a:prstGeom>
          <a:solidFill>
            <a:srgbClr val="cc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30400" y="5414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6440" y="5459400"/>
            <a:ext cx="2406600" cy="13651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6760" y="588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2440" y="2327400"/>
            <a:ext cx="911160" cy="787320"/>
          </a:xfrm>
          <a:prstGeom prst="ellipse">
            <a:avLst/>
          </a:prstGeom>
          <a:solidFill>
            <a:srgbClr val="cc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7520" y="1978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2920" y="2022480"/>
            <a:ext cx="2392200" cy="13780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96760" y="2247840"/>
            <a:ext cx="1341720" cy="8002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79720" y="1991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25880" y="1816560"/>
            <a:ext cx="3321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smoothed into cur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the remaining cur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d out to rem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tended intersection.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le described at diagram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57520" y="4819680"/>
            <a:ext cx="911160" cy="7873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32600" y="4470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48000" y="4514760"/>
            <a:ext cx="2392560" cy="13780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12680" y="483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85160" y="4483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25600" y="4802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924000" y="5052960"/>
            <a:ext cx="260280" cy="381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41120" y="3708720"/>
            <a:ext cx="2392200" cy="1421640"/>
            <a:chOff x="141120" y="3708720"/>
            <a:chExt cx="2392200" cy="1421640"/>
          </a:xfrm>
        </p:grpSpPr>
        <p:sp>
          <p:nvSpPr>
            <p:cNvPr id="218" name=""/>
            <p:cNvSpPr/>
            <p:nvPr/>
          </p:nvSpPr>
          <p:spPr>
            <a:xfrm>
              <a:off x="350640" y="4057560"/>
              <a:ext cx="911160" cy="7869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25720" y="3708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1120" y="3752640"/>
              <a:ext cx="2392200" cy="13777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43960" y="4184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135680" y="503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50040" y="500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330440" y="5218200"/>
            <a:ext cx="260280" cy="381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5160" y="609120"/>
            <a:ext cx="803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Inference Rul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352440" y="2327400"/>
            <a:ext cx="911160" cy="7873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45760" y="2424600"/>
            <a:ext cx="729000" cy="489960"/>
            <a:chOff x="545760" y="2424600"/>
            <a:chExt cx="729000" cy="489960"/>
          </a:xfrm>
        </p:grpSpPr>
        <p:sp>
          <p:nvSpPr>
            <p:cNvPr id="228" name=""/>
            <p:cNvSpPr/>
            <p:nvPr/>
          </p:nvSpPr>
          <p:spPr>
            <a:xfrm>
              <a:off x="545760" y="24548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58320" y="2424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757080" y="2674800"/>
              <a:ext cx="260640" cy="381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3457440" y="2217600"/>
            <a:ext cx="1812960" cy="10573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37480" y="2103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inference ru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converting diagrams to DAG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DAG delt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ecking homogeneous diagram chan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ifi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ogic and DAG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Comic Sans MS"/>
              </a:rPr>
              <a:t>Diagrams to DAGs -- Tag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tag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s a subset o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wher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s a set of labels of a diagram) containing at most one of     and      for each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tag is 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complete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f it contains one of     and     for each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tag is like our “split”, our “zonal region”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complete tag corresponds to our “zone”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038480" y="2036880"/>
          <a:ext cx="2203560" cy="55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2036880"/>
                    <a:ext cx="220356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7404120" y="2057400"/>
          <a:ext cx="1206360" cy="46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04120" y="2057400"/>
                    <a:ext cx="12063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2793960" y="2921040"/>
          <a:ext cx="46980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93960" y="2921040"/>
                    <a:ext cx="4698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3936960" y="2870280"/>
          <a:ext cx="425520" cy="60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36960" y="2870280"/>
                    <a:ext cx="4255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7088040" y="3940200"/>
          <a:ext cx="47016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88040" y="3940200"/>
                    <a:ext cx="4701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8229600" y="3902040"/>
          <a:ext cx="4255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229600" y="3902040"/>
                    <a:ext cx="4255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Comic Sans MS"/>
              </a:rPr>
              <a:t>Diagrams to DAG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1138320" y="2209680"/>
            <a:ext cx="1218960" cy="12193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064160" y="1942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28800" y="1905120"/>
            <a:ext cx="3200400" cy="2133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62880" y="2413080"/>
            <a:ext cx="304560" cy="30456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88720" y="2030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29360" y="2946240"/>
            <a:ext cx="30492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845680" y="2649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6372000" y="2665440"/>
            <a:ext cx="338040" cy="324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7198560" y="2946240"/>
            <a:ext cx="30492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7386840" y="2649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923160" y="2665440"/>
            <a:ext cx="338040" cy="324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7484760" y="275112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76640" y="5186880"/>
            <a:ext cx="735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re is one node for each zonal region. The tag for each zonal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rresponds to “the split with most label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94320" y="2894040"/>
            <a:ext cx="860400" cy="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90360" y="3480480"/>
            <a:ext cx="2945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s of the 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“tags” = “split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edges are from reg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“cover” reg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050840" y="2616120"/>
            <a:ext cx="2444760" cy="151920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65960" y="2475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41320" y="2311560"/>
            <a:ext cx="3200400" cy="2133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08640" y="3344760"/>
            <a:ext cx="860400" cy="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73280" y="2908440"/>
            <a:ext cx="1519200" cy="103644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67000" y="2754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575400" y="2819520"/>
            <a:ext cx="304920" cy="30456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501240" y="2437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16680" y="3352680"/>
            <a:ext cx="30492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758560" y="3056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6284520" y="3071880"/>
            <a:ext cx="338040" cy="323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7135920" y="3352680"/>
            <a:ext cx="30456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7300800" y="3056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34240" y="3071880"/>
            <a:ext cx="338040" cy="323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7395840" y="315756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743960" y="4038480"/>
            <a:ext cx="30456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00960" y="4038480"/>
            <a:ext cx="30456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05320" y="4038480"/>
            <a:ext cx="30492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53200" y="3614760"/>
            <a:ext cx="385560" cy="4525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96200" y="3619440"/>
            <a:ext cx="423720" cy="447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6848280" y="3619440"/>
            <a:ext cx="361800" cy="447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553000" y="3614760"/>
            <a:ext cx="480960" cy="4618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141160" y="430884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55520" y="430884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74120" y="4405320"/>
            <a:ext cx="2044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72320" y="440532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598520" y="430884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896240" y="440532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Comic Sans MS"/>
              </a:rPr>
              <a:t>Diagrams to DAG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Comic Sans MS"/>
              </a:rPr>
              <a:t>Diagrams to DAG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1050840" y="2616120"/>
            <a:ext cx="2444760" cy="1519200"/>
          </a:xfrm>
          <a:prstGeom prst="ellipse">
            <a:avLst/>
          </a:prstGeom>
          <a:solidFill>
            <a:srgbClr val="cc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65960" y="2475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41320" y="2311560"/>
            <a:ext cx="3200400" cy="2133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08640" y="3344760"/>
            <a:ext cx="860400" cy="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73280" y="2908440"/>
            <a:ext cx="1519200" cy="103644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67000" y="2754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575400" y="2819520"/>
            <a:ext cx="304920" cy="30456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501240" y="2437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16680" y="3352680"/>
            <a:ext cx="30492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58560" y="3056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6284520" y="3071880"/>
            <a:ext cx="338040" cy="323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7135920" y="3352680"/>
            <a:ext cx="30456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7300800" y="3056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34240" y="3071880"/>
            <a:ext cx="338040" cy="323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395840" y="315756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743960" y="4038480"/>
            <a:ext cx="30456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00960" y="4038480"/>
            <a:ext cx="304560" cy="304920"/>
          </a:xfrm>
          <a:prstGeom prst="ellipse">
            <a:avLst/>
          </a:prstGeom>
          <a:solidFill>
            <a:srgbClr val="cc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05320" y="4038480"/>
            <a:ext cx="30492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53200" y="3614760"/>
            <a:ext cx="385560" cy="4525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396200" y="3619440"/>
            <a:ext cx="423720" cy="447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6848280" y="3619440"/>
            <a:ext cx="361800" cy="447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5553000" y="3614760"/>
            <a:ext cx="480960" cy="4618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41160" y="430884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55520" y="430884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74120" y="4405320"/>
            <a:ext cx="2044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772320" y="440532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598520" y="430884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896240" y="440532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084320" y="2612880"/>
            <a:ext cx="2444760" cy="1519560"/>
          </a:xfrm>
          <a:prstGeom prst="ellipse">
            <a:avLst/>
          </a:prstGeom>
          <a:solidFill>
            <a:srgbClr val="cc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99080" y="247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74800" y="2308320"/>
            <a:ext cx="3200400" cy="2133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06400" y="2905200"/>
            <a:ext cx="1519560" cy="103644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00480" y="2751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608880" y="2816280"/>
            <a:ext cx="30456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534720" y="2434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49800" y="3349800"/>
            <a:ext cx="304920" cy="304560"/>
          </a:xfrm>
          <a:prstGeom prst="ellipse">
            <a:avLst/>
          </a:prstGeom>
          <a:solidFill>
            <a:srgbClr val="ccccff"/>
          </a:solidFill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91680" y="3053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6318000" y="3068640"/>
            <a:ext cx="338040" cy="324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7168320" y="3349800"/>
            <a:ext cx="304920" cy="30456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7333920" y="3053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67360" y="3068640"/>
            <a:ext cx="338400" cy="324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7429680" y="3154320"/>
            <a:ext cx="2044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777080" y="4035600"/>
            <a:ext cx="304920" cy="30456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34080" y="4035600"/>
            <a:ext cx="304920" cy="304560"/>
          </a:xfrm>
          <a:prstGeom prst="ellipse">
            <a:avLst/>
          </a:prstGeom>
          <a:solidFill>
            <a:srgbClr val="cc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8800" y="4035600"/>
            <a:ext cx="304920" cy="304560"/>
          </a:xfrm>
          <a:prstGeom prst="ellipse">
            <a:avLst/>
          </a:prstGeom>
          <a:solidFill>
            <a:srgbClr val="cc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86680" y="3611520"/>
            <a:ext cx="385560" cy="4525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429680" y="3616200"/>
            <a:ext cx="423720" cy="447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881760" y="3616200"/>
            <a:ext cx="362160" cy="447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5586480" y="3611520"/>
            <a:ext cx="480960" cy="4618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74640" y="430596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489000" y="430596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707240" y="440208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05440" y="440208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32000" y="430596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929720" y="4402080"/>
            <a:ext cx="2044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32400" y="3300480"/>
            <a:ext cx="860400" cy="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844600" y="4907520"/>
            <a:ext cx="204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ding casc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wn edges of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Comic Sans MS"/>
              </a:rPr>
              <a:t>Diagrams to DAG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050840" y="2616120"/>
            <a:ext cx="1219320" cy="12193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498760" y="2616120"/>
            <a:ext cx="1219320" cy="12193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77040" y="234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414960" y="2348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41320" y="2311560"/>
            <a:ext cx="3200400" cy="2133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5191920" y="2450160"/>
            <a:ext cx="3377520" cy="2331360"/>
            <a:chOff x="5191920" y="2450160"/>
            <a:chExt cx="3377520" cy="2331360"/>
          </a:xfrm>
        </p:grpSpPr>
        <p:sp>
          <p:nvSpPr>
            <p:cNvPr id="359" name=""/>
            <p:cNvSpPr/>
            <p:nvPr/>
          </p:nvSpPr>
          <p:spPr>
            <a:xfrm>
              <a:off x="6575400" y="283212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501240" y="2450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41880" y="3365640"/>
              <a:ext cx="304920" cy="3045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794720" y="4051440"/>
              <a:ext cx="304560" cy="304560"/>
            </a:xfrm>
            <a:prstGeom prst="ellipse">
              <a:avLst/>
            </a:prstGeom>
            <a:noFill/>
            <a:ln w="22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51720" y="4051440"/>
              <a:ext cx="304560" cy="3045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184880" y="3365640"/>
              <a:ext cx="304920" cy="3045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58560" y="3069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356080" y="40514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05920" y="3088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6284520" y="3084480"/>
              <a:ext cx="338040" cy="324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856560" y="3079800"/>
              <a:ext cx="376200" cy="323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03960" y="3627360"/>
              <a:ext cx="385920" cy="452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46960" y="3632040"/>
              <a:ext cx="423720" cy="4478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899040" y="3632040"/>
              <a:ext cx="361800" cy="4478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5603760" y="3627360"/>
              <a:ext cx="480960" cy="461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099280" y="4203720"/>
              <a:ext cx="228600" cy="0"/>
            </a:xfrm>
            <a:prstGeom prst="line">
              <a:avLst/>
            </a:prstGeom>
            <a:ln w="22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253000" y="39405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76640" y="3250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489800" y="3517920"/>
              <a:ext cx="262080" cy="0"/>
            </a:xfrm>
            <a:prstGeom prst="line">
              <a:avLst/>
            </a:prstGeom>
            <a:ln w="22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19720" y="26978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880320" y="2960640"/>
              <a:ext cx="309600" cy="0"/>
            </a:xfrm>
            <a:prstGeom prst="line">
              <a:avLst/>
            </a:prstGeom>
            <a:ln w="22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494480" y="317016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856120" y="317016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5191920" y="4321800"/>
              <a:ext cx="603000" cy="459720"/>
              <a:chOff x="5191920" y="4321800"/>
              <a:chExt cx="603000" cy="459720"/>
            </a:xfrm>
          </p:grpSpPr>
          <p:sp>
            <p:nvSpPr>
              <p:cNvPr id="383" name=""/>
              <p:cNvSpPr/>
              <p:nvPr/>
            </p:nvSpPr>
            <p:spPr>
              <a:xfrm>
                <a:off x="5191920" y="4321800"/>
                <a:ext cx="60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298840" y="4403880"/>
                <a:ext cx="2048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6506640" y="4321800"/>
              <a:ext cx="603000" cy="459720"/>
              <a:chOff x="6506640" y="4321800"/>
              <a:chExt cx="603000" cy="459720"/>
            </a:xfrm>
          </p:grpSpPr>
          <p:sp>
            <p:nvSpPr>
              <p:cNvPr id="386" name=""/>
              <p:cNvSpPr/>
              <p:nvPr/>
            </p:nvSpPr>
            <p:spPr>
              <a:xfrm>
                <a:off x="6506640" y="4321800"/>
                <a:ext cx="60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594480" y="4418280"/>
                <a:ext cx="2048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823080" y="4418280"/>
                <a:ext cx="2048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7649640" y="432180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947000" y="4417920"/>
              <a:ext cx="204840" cy="0"/>
            </a:xfrm>
            <a:prstGeom prst="line">
              <a:avLst/>
            </a:prstGeom>
            <a:ln w="22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1452240" y="2981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06840" y="3300480"/>
            <a:ext cx="860400" cy="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64000" y="4618440"/>
            <a:ext cx="2859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 sequence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?=? feet of given spid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cade up the DAG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al touched reg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Comic Sans MS"/>
              </a:rPr>
              <a:t>Diagrams to DAG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Comic Sans MS"/>
              </a:rPr>
              <a:t>Diagrams to DAG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"/>
          <p:cNvSpPr/>
          <p:nvPr/>
        </p:nvSpPr>
        <p:spPr>
          <a:xfrm>
            <a:off x="1038240" y="2603520"/>
            <a:ext cx="1219320" cy="12193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486160" y="2603520"/>
            <a:ext cx="1218960" cy="1219320"/>
          </a:xfrm>
          <a:prstGeom prst="ellipse">
            <a:avLst/>
          </a:prstGeom>
          <a:solidFill>
            <a:srgbClr val="cc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964080" y="2335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402360" y="2335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28720" y="2298600"/>
            <a:ext cx="3200400" cy="21337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647720" y="3381480"/>
            <a:ext cx="468360" cy="769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003040" y="3999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39640" y="2994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81640" y="3279600"/>
            <a:ext cx="860400" cy="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86040" y="266940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Comic Sans MS"/>
              </a:rPr>
              <a:t>Diagrams to DAG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"/>
          <p:cNvSpPr/>
          <p:nvPr/>
        </p:nvSpPr>
        <p:spPr>
          <a:xfrm>
            <a:off x="1038240" y="2603520"/>
            <a:ext cx="1219320" cy="12193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486160" y="2603520"/>
            <a:ext cx="1218960" cy="1219320"/>
          </a:xfrm>
          <a:prstGeom prst="ellipse">
            <a:avLst/>
          </a:prstGeom>
          <a:solidFill>
            <a:srgbClr val="cc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964080" y="2335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402360" y="2335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28720" y="2298600"/>
            <a:ext cx="3200400" cy="21337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647720" y="3381480"/>
            <a:ext cx="468360" cy="769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003040" y="3999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439640" y="2994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481640" y="3279600"/>
            <a:ext cx="860400" cy="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5230080" y="2412000"/>
            <a:ext cx="3377520" cy="2331360"/>
            <a:chOff x="5230080" y="2412000"/>
            <a:chExt cx="3377520" cy="2331360"/>
          </a:xfrm>
        </p:grpSpPr>
        <p:sp>
          <p:nvSpPr>
            <p:cNvPr id="417" name=""/>
            <p:cNvSpPr/>
            <p:nvPr/>
          </p:nvSpPr>
          <p:spPr>
            <a:xfrm>
              <a:off x="6613560" y="279396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539400" y="2412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80040" y="3327480"/>
              <a:ext cx="304920" cy="3045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832880" y="4013280"/>
              <a:ext cx="304560" cy="3045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689880" y="4013280"/>
              <a:ext cx="304560" cy="3045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223040" y="3327480"/>
              <a:ext cx="304920" cy="3045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96360" y="3031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94240" y="4013280"/>
              <a:ext cx="304920" cy="304560"/>
            </a:xfrm>
            <a:prstGeom prst="ellipse">
              <a:avLst/>
            </a:prstGeom>
            <a:solidFill>
              <a:srgbClr val="cc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444080" y="3049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6322680" y="3046320"/>
              <a:ext cx="338040" cy="324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894360" y="3041640"/>
              <a:ext cx="376560" cy="324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342120" y="3589200"/>
              <a:ext cx="385560" cy="452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485120" y="3594240"/>
              <a:ext cx="423720" cy="447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937200" y="3594240"/>
              <a:ext cx="362160" cy="447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641920" y="3589200"/>
              <a:ext cx="480960" cy="462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137440" y="4165560"/>
              <a:ext cx="228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291160" y="39027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994440" y="4165560"/>
              <a:ext cx="228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714800" y="32119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148160" y="3897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27960" y="3479760"/>
              <a:ext cx="2620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7520" y="2659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18480" y="2922480"/>
              <a:ext cx="3092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532640" y="313200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894280" y="313200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5230080" y="4283640"/>
              <a:ext cx="603000" cy="459720"/>
              <a:chOff x="5230080" y="4283640"/>
              <a:chExt cx="603000" cy="459720"/>
            </a:xfrm>
          </p:grpSpPr>
          <p:sp>
            <p:nvSpPr>
              <p:cNvPr id="443" name=""/>
              <p:cNvSpPr/>
              <p:nvPr/>
            </p:nvSpPr>
            <p:spPr>
              <a:xfrm>
                <a:off x="5230080" y="4283640"/>
                <a:ext cx="60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337000" y="4365720"/>
                <a:ext cx="2048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6544440" y="428364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632640" y="437976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61240" y="437976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687440" y="428364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985160" y="437976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399360" y="3495600"/>
              <a:ext cx="228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552720" y="3232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inference ru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converting diagrams to DAG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DAG delt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ecking homogeneous diagram chan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ification of diagra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ogic and DAG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inference ru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converting diagrams to DAG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DAG delt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ecking homogeneous diagram chan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ifi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ogic and DAG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25560" y="1696680"/>
            <a:ext cx="1063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ollowing are DAG delt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 CURVE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MOVE CURVE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 REGION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MOVE REGION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 SHADE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MOVE SHADE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 CONSTANT LINK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;t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MOVE CONSTANT LINK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;t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y are used to capture differences between DAGs.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DAG delt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576080" y="2336040"/>
            <a:ext cx="6168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kes two DAGs  (or, two Euler diagra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produces a set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el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describe the change from DAG1 to DAG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no notion of semantics or validity at this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Algorithm 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579680" y="2446200"/>
            <a:ext cx="911160" cy="78768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611440" y="2352600"/>
            <a:ext cx="831960" cy="747720"/>
          </a:xfrm>
          <a:prstGeom prst="ellipse">
            <a:avLst/>
          </a:prstGeom>
          <a:solidFill>
            <a:srgbClr val="cc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54760" y="209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99120" y="209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370160" y="2141640"/>
            <a:ext cx="2392200" cy="13777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773000" y="2574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790360" y="24530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1974960" y="2734920"/>
            <a:ext cx="874440" cy="106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792680" y="2446200"/>
            <a:ext cx="911160" cy="78768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824440" y="2352600"/>
            <a:ext cx="831960" cy="747720"/>
          </a:xfrm>
          <a:prstGeom prst="ellipse">
            <a:avLst/>
          </a:prstGeom>
          <a:solidFill>
            <a:srgbClr val="cc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67760" y="209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612120" y="209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83160" y="2141640"/>
            <a:ext cx="2392200" cy="13777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986000" y="2574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49840" y="2778120"/>
            <a:ext cx="6523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748440" y="3642120"/>
            <a:ext cx="3382560" cy="2331360"/>
            <a:chOff x="748440" y="3642120"/>
            <a:chExt cx="3382560" cy="2331360"/>
          </a:xfrm>
        </p:grpSpPr>
        <p:sp>
          <p:nvSpPr>
            <p:cNvPr id="474" name=""/>
            <p:cNvSpPr/>
            <p:nvPr/>
          </p:nvSpPr>
          <p:spPr>
            <a:xfrm>
              <a:off x="2182680" y="4024440"/>
              <a:ext cx="304920" cy="3045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108880" y="3642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623960" y="455760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365840" y="4261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1892160" y="4276800"/>
              <a:ext cx="338400" cy="323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2742480" y="455760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2908080" y="4261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441520" y="4276800"/>
              <a:ext cx="338040" cy="323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3003120" y="436248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51240" y="524340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208240" y="524340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12960" y="5243400"/>
              <a:ext cx="304560" cy="304920"/>
            </a:xfrm>
            <a:prstGeom prst="ellipse">
              <a:avLst/>
            </a:prstGeom>
            <a:solidFill>
              <a:srgbClr val="cc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860480" y="4819680"/>
              <a:ext cx="385920" cy="452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003480" y="4824360"/>
              <a:ext cx="424080" cy="4478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2455560" y="4824360"/>
              <a:ext cx="361800" cy="4478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1160640" y="4819680"/>
              <a:ext cx="480960" cy="461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48440" y="551376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063160" y="551376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379600" y="561024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206160" y="551376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503520" y="561024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474920" y="436572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44560" y="561492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143080" y="561816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220760" y="5418000"/>
              <a:ext cx="228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74480" y="51552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660840" y="5405400"/>
              <a:ext cx="228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14560" y="5142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924200" y="4726080"/>
              <a:ext cx="228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077560" y="44629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060720" y="4713480"/>
              <a:ext cx="228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14440" y="44503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473200" y="4178160"/>
              <a:ext cx="228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626920" y="391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4444200" y="3642120"/>
            <a:ext cx="3382200" cy="2331360"/>
            <a:chOff x="4444200" y="3642120"/>
            <a:chExt cx="3382200" cy="2331360"/>
          </a:xfrm>
        </p:grpSpPr>
        <p:sp>
          <p:nvSpPr>
            <p:cNvPr id="509" name=""/>
            <p:cNvSpPr/>
            <p:nvPr/>
          </p:nvSpPr>
          <p:spPr>
            <a:xfrm>
              <a:off x="5878440" y="4024440"/>
              <a:ext cx="304920" cy="3045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804640" y="3642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19720" y="455760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061600" y="4261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5587560" y="4276800"/>
              <a:ext cx="338040" cy="323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6438240" y="455760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6603840" y="4261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137280" y="4276800"/>
              <a:ext cx="338040" cy="323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6698880" y="436248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47000" y="5243400"/>
              <a:ext cx="30456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904000" y="5243400"/>
              <a:ext cx="30456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608360" y="5243400"/>
              <a:ext cx="304920" cy="304920"/>
            </a:xfrm>
            <a:prstGeom prst="ellipse">
              <a:avLst/>
            </a:prstGeom>
            <a:solidFill>
              <a:srgbClr val="cc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556240" y="4819680"/>
              <a:ext cx="385920" cy="452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99240" y="4824360"/>
              <a:ext cx="423720" cy="4478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6151320" y="4824360"/>
              <a:ext cx="361800" cy="4478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4856040" y="4819680"/>
              <a:ext cx="480960" cy="461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44200" y="551376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758920" y="551376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75360" y="561024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01920" y="551376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199280" y="561024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170320" y="436572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540320" y="561492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838840" y="561816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356600" y="5405400"/>
              <a:ext cx="228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509960" y="5142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56480" y="4713480"/>
              <a:ext cx="228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909840" y="44503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168960" y="4178160"/>
              <a:ext cx="228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322680" y="391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Algorithm 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2182680" y="2449440"/>
            <a:ext cx="30492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108880" y="2067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23960" y="2982960"/>
            <a:ext cx="30492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365840" y="2686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1892160" y="2701800"/>
            <a:ext cx="338400" cy="324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742480" y="2982960"/>
            <a:ext cx="30492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2908080" y="2686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441520" y="2701800"/>
            <a:ext cx="338040" cy="324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3003120" y="278748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51240" y="3668760"/>
            <a:ext cx="30492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208240" y="3668760"/>
            <a:ext cx="30492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912960" y="3668760"/>
            <a:ext cx="304560" cy="304920"/>
          </a:xfrm>
          <a:prstGeom prst="ellipse">
            <a:avLst/>
          </a:prstGeom>
          <a:solidFill>
            <a:srgbClr val="cc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860480" y="3244680"/>
            <a:ext cx="385920" cy="4525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003480" y="3249720"/>
            <a:ext cx="424080" cy="447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2455560" y="3249720"/>
            <a:ext cx="361800" cy="447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1160640" y="3244680"/>
            <a:ext cx="480960" cy="462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48440" y="39391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063160" y="39391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379600" y="403560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6160" y="39391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03520" y="403560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474920" y="2790720"/>
            <a:ext cx="2044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44560" y="404028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143080" y="404352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220760" y="3843360"/>
            <a:ext cx="228600" cy="0"/>
          </a:xfrm>
          <a:prstGeom prst="line">
            <a:avLst/>
          </a:prstGeom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374480" y="3580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660840" y="383076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814560" y="3567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924200" y="3151080"/>
            <a:ext cx="228600" cy="0"/>
          </a:xfrm>
          <a:prstGeom prst="line">
            <a:avLst/>
          </a:prstGeom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077560" y="2888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60720" y="313848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214440" y="2875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473200" y="26035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626920" y="2340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878440" y="2449440"/>
            <a:ext cx="30492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804640" y="2067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19720" y="2982960"/>
            <a:ext cx="30492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061600" y="2686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5587560" y="2701800"/>
            <a:ext cx="338040" cy="324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438240" y="2982960"/>
            <a:ext cx="30492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6603840" y="2686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137280" y="2701800"/>
            <a:ext cx="338040" cy="324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6698880" y="278748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047000" y="3668760"/>
            <a:ext cx="30456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904000" y="3668760"/>
            <a:ext cx="30456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608360" y="3668760"/>
            <a:ext cx="304920" cy="304920"/>
          </a:xfrm>
          <a:prstGeom prst="ellipse">
            <a:avLst/>
          </a:prstGeom>
          <a:solidFill>
            <a:srgbClr val="cc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556240" y="3244680"/>
            <a:ext cx="385920" cy="4525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699240" y="3249720"/>
            <a:ext cx="423720" cy="447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6151320" y="3249720"/>
            <a:ext cx="361800" cy="447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4856040" y="3244680"/>
            <a:ext cx="480960" cy="462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444200" y="39391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758920" y="39391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075360" y="403560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901920" y="39391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199280" y="403560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70320" y="279072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540320" y="404028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838840" y="404352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356600" y="383076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509960" y="3567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756480" y="313848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909840" y="2875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168960" y="26035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322680" y="2340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849840" y="3159000"/>
            <a:ext cx="6523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523880" y="5245560"/>
            <a:ext cx="51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CONSTANT LINK: c,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48360" y="533700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88240" y="469476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algorithm 1 to create set of DEL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Algorithm 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2182680" y="3554280"/>
            <a:ext cx="30492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108880" y="317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23960" y="4087800"/>
            <a:ext cx="30492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365840" y="3791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1892160" y="3807000"/>
            <a:ext cx="338400" cy="323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2742480" y="4087800"/>
            <a:ext cx="30492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2900520" y="3791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441520" y="3807000"/>
            <a:ext cx="338040" cy="323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474920" y="3895560"/>
            <a:ext cx="2044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060720" y="42433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214440" y="3980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473200" y="370836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26920" y="3445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878440" y="3554280"/>
            <a:ext cx="30492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804640" y="317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319720" y="4087800"/>
            <a:ext cx="30492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061600" y="3791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5587560" y="3807000"/>
            <a:ext cx="338040" cy="323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6438240" y="4087800"/>
            <a:ext cx="30492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6596640" y="3791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137280" y="3807000"/>
            <a:ext cx="338040" cy="323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170320" y="389556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756480" y="42433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909840" y="3980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168960" y="370836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322680" y="3445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874880" y="5588640"/>
            <a:ext cx="44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CONSTANT LINK: c,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1362240" y="1622880"/>
            <a:ext cx="2392200" cy="1421640"/>
            <a:chOff x="1362240" y="1622880"/>
            <a:chExt cx="2392200" cy="1421640"/>
          </a:xfrm>
        </p:grpSpPr>
        <p:sp>
          <p:nvSpPr>
            <p:cNvPr id="637" name=""/>
            <p:cNvSpPr/>
            <p:nvPr/>
          </p:nvSpPr>
          <p:spPr>
            <a:xfrm>
              <a:off x="1571760" y="1971360"/>
              <a:ext cx="911160" cy="78768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446840" y="162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362240" y="1666800"/>
              <a:ext cx="2392200" cy="13777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65080" y="20991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4584600" y="1622880"/>
            <a:ext cx="2392200" cy="1422000"/>
            <a:chOff x="4584600" y="1622880"/>
            <a:chExt cx="2392200" cy="1422000"/>
          </a:xfrm>
        </p:grpSpPr>
        <p:sp>
          <p:nvSpPr>
            <p:cNvPr id="642" name=""/>
            <p:cNvSpPr/>
            <p:nvPr/>
          </p:nvSpPr>
          <p:spPr>
            <a:xfrm>
              <a:off x="4794120" y="1971720"/>
              <a:ext cx="911160" cy="7873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669200" y="162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584600" y="1666800"/>
              <a:ext cx="2392200" cy="13780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987440" y="20991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216400" y="2400120"/>
              <a:ext cx="549360" cy="3650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689080" y="25261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3836880" y="2338560"/>
            <a:ext cx="6652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626080" y="4243320"/>
            <a:ext cx="228600" cy="0"/>
          </a:xfrm>
          <a:prstGeom prst="line">
            <a:avLst/>
          </a:prstGeom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79800" y="3980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468216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algorithm 1 to create set of DELT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Algorithm 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5805360" y="569268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Algorithm 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"/>
          <p:cNvSpPr/>
          <p:nvPr/>
        </p:nvSpPr>
        <p:spPr>
          <a:xfrm>
            <a:off x="2611440" y="2276640"/>
            <a:ext cx="831960" cy="747720"/>
          </a:xfrm>
          <a:prstGeom prst="ellipse">
            <a:avLst/>
          </a:prstGeom>
          <a:solidFill>
            <a:srgbClr val="cc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454760" y="2021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399120" y="2021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370160" y="2065320"/>
            <a:ext cx="2392200" cy="13780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765440" y="2497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897280" y="2300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2065320" y="2566800"/>
            <a:ext cx="888840" cy="183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24440" y="2276640"/>
            <a:ext cx="831960" cy="747720"/>
          </a:xfrm>
          <a:prstGeom prst="ellipse">
            <a:avLst/>
          </a:prstGeom>
          <a:solidFill>
            <a:srgbClr val="cc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667760" y="2021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612120" y="2021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83160" y="2065320"/>
            <a:ext cx="2392200" cy="13780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77000" y="2497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849840" y="2701800"/>
            <a:ext cx="6523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579680" y="2370240"/>
            <a:ext cx="1263600" cy="7873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329080" y="2719440"/>
            <a:ext cx="1068480" cy="6048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340680" y="3021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24440" y="2276640"/>
            <a:ext cx="831960" cy="7477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792680" y="2370240"/>
            <a:ext cx="911160" cy="7873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446400" y="3350160"/>
            <a:ext cx="3725280" cy="2331360"/>
            <a:chOff x="446400" y="3350160"/>
            <a:chExt cx="3725280" cy="2331360"/>
          </a:xfrm>
        </p:grpSpPr>
        <p:sp>
          <p:nvSpPr>
            <p:cNvPr id="674" name=""/>
            <p:cNvSpPr/>
            <p:nvPr/>
          </p:nvSpPr>
          <p:spPr>
            <a:xfrm>
              <a:off x="2182680" y="3732480"/>
              <a:ext cx="304920" cy="3045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108880" y="3350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623960" y="426564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327680" y="4147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1892160" y="3984840"/>
              <a:ext cx="338400" cy="323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2742480" y="426564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2438280" y="4236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441520" y="3984840"/>
              <a:ext cx="338040" cy="323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2533320" y="433728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427560" y="4951440"/>
              <a:ext cx="30456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525760" y="495144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912960" y="4951440"/>
              <a:ext cx="304560" cy="304920"/>
            </a:xfrm>
            <a:prstGeom prst="ellipse">
              <a:avLst/>
            </a:prstGeom>
            <a:solidFill>
              <a:srgbClr val="cc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860480" y="4527720"/>
              <a:ext cx="698400" cy="479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003480" y="4532400"/>
              <a:ext cx="476280" cy="4478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2690280" y="4532400"/>
              <a:ext cx="127080" cy="434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1160640" y="4527720"/>
              <a:ext cx="480960" cy="461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69080" y="5221800"/>
              <a:ext cx="9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  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80680" y="522180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697120" y="531828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269520" y="5221800"/>
              <a:ext cx="83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579840" y="531828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436760" y="425160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44560" y="532296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460600" y="532620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25480" y="4951440"/>
              <a:ext cx="304920" cy="304920"/>
            </a:xfrm>
            <a:prstGeom prst="ellipse">
              <a:avLst/>
            </a:prstGeom>
            <a:solidFill>
              <a:srgbClr val="cc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567800" y="522180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950760" y="4265640"/>
              <a:ext cx="304920" cy="304920"/>
            </a:xfrm>
            <a:prstGeom prst="ellipse">
              <a:avLst/>
            </a:prstGeom>
            <a:solidFill>
              <a:srgbClr val="cc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46400" y="396936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 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465360" y="426564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461400" y="38930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200240" y="4513320"/>
              <a:ext cx="574560" cy="482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1239840" y="3888000"/>
              <a:ext cx="952560" cy="4572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479680" y="3927600"/>
              <a:ext cx="1017720" cy="417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2035080" y="4475160"/>
              <a:ext cx="1462320" cy="560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3600360" y="4565880"/>
              <a:ext cx="14400" cy="379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1057320" y="4540320"/>
              <a:ext cx="25200" cy="4302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flipV="1">
              <a:off x="3717720" y="5152680"/>
              <a:ext cx="169560" cy="195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677880" y="5165640"/>
              <a:ext cx="262080" cy="182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92280" y="4265640"/>
              <a:ext cx="260280" cy="104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971720" y="4182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1917360" y="4435560"/>
              <a:ext cx="104760" cy="12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102120" y="416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3047760" y="4422960"/>
              <a:ext cx="104760" cy="12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838680" y="4156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3784320" y="4410360"/>
              <a:ext cx="104760" cy="12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556000" y="3597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2501640" y="3851280"/>
              <a:ext cx="10476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4381560" y="4848840"/>
            <a:ext cx="4442760" cy="810360"/>
            <a:chOff x="4381560" y="4848840"/>
            <a:chExt cx="4442760" cy="810360"/>
          </a:xfrm>
        </p:grpSpPr>
        <p:sp>
          <p:nvSpPr>
            <p:cNvPr id="722" name=""/>
            <p:cNvSpPr/>
            <p:nvPr/>
          </p:nvSpPr>
          <p:spPr>
            <a:xfrm>
              <a:off x="6156360" y="4950000"/>
              <a:ext cx="304920" cy="3045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861240" y="4950000"/>
              <a:ext cx="304560" cy="3045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567560" y="4951440"/>
              <a:ext cx="304920" cy="304920"/>
            </a:xfrm>
            <a:prstGeom prst="ellipse">
              <a:avLst/>
            </a:prstGeom>
            <a:solidFill>
              <a:srgbClr val="cc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272440" y="495144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745160" y="4950000"/>
              <a:ext cx="304560" cy="3045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450040" y="4950000"/>
              <a:ext cx="304560" cy="3045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513680" y="5199480"/>
              <a:ext cx="431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C ABC ABC ABC ABC A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776840" y="531648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92840" y="531648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997600" y="531180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213600" y="531180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497560" y="531972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708600" y="531180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407360" y="531180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813800" y="531180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093160" y="531180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308800" y="531180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537400" y="531180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381560" y="4848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4644720" y="5102280"/>
              <a:ext cx="104760" cy="12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2" name=""/>
          <p:cNvSpPr/>
          <p:nvPr/>
        </p:nvSpPr>
        <p:spPr>
          <a:xfrm>
            <a:off x="4800240" y="4219920"/>
            <a:ext cx="33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 … induce rest of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Algorithm 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i) Compute curve delta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 CURVE: 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and ‘update’ the DAG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469080" y="3529080"/>
            <a:ext cx="3632040" cy="730080"/>
            <a:chOff x="469080" y="3529080"/>
            <a:chExt cx="3632040" cy="730080"/>
          </a:xfrm>
        </p:grpSpPr>
        <p:sp>
          <p:nvSpPr>
            <p:cNvPr id="746" name=""/>
            <p:cNvSpPr/>
            <p:nvPr/>
          </p:nvSpPr>
          <p:spPr>
            <a:xfrm>
              <a:off x="3427560" y="3529080"/>
              <a:ext cx="30456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525760" y="352908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912960" y="3529080"/>
              <a:ext cx="304560" cy="304920"/>
            </a:xfrm>
            <a:prstGeom prst="ellipse">
              <a:avLst/>
            </a:prstGeom>
            <a:solidFill>
              <a:srgbClr val="cc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69080" y="3799440"/>
              <a:ext cx="9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  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380680" y="379944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697120" y="389592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269520" y="3799440"/>
              <a:ext cx="83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579840" y="389592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44560" y="390060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460600" y="390384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725480" y="3529080"/>
              <a:ext cx="304920" cy="304920"/>
            </a:xfrm>
            <a:prstGeom prst="ellipse">
              <a:avLst/>
            </a:prstGeom>
            <a:solidFill>
              <a:srgbClr val="cc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567800" y="379944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 flipV="1">
              <a:off x="3717720" y="3730680"/>
              <a:ext cx="169560" cy="195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677880" y="3742920"/>
              <a:ext cx="262080" cy="182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4683240" y="3773520"/>
            <a:ext cx="7444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599760" y="4802040"/>
            <a:ext cx="7715880" cy="731880"/>
            <a:chOff x="599760" y="4802040"/>
            <a:chExt cx="7715880" cy="731880"/>
          </a:xfrm>
        </p:grpSpPr>
        <p:grpSp>
          <p:nvGrpSpPr>
            <p:cNvPr id="762" name=""/>
            <p:cNvGrpSpPr/>
            <p:nvPr/>
          </p:nvGrpSpPr>
          <p:grpSpPr>
            <a:xfrm>
              <a:off x="599760" y="4803840"/>
              <a:ext cx="3834360" cy="730080"/>
              <a:chOff x="599760" y="4803840"/>
              <a:chExt cx="3834360" cy="730080"/>
            </a:xfrm>
          </p:grpSpPr>
          <p:sp>
            <p:nvSpPr>
              <p:cNvPr id="763" name=""/>
              <p:cNvSpPr/>
              <p:nvPr/>
            </p:nvSpPr>
            <p:spPr>
              <a:xfrm>
                <a:off x="3659400" y="4803840"/>
                <a:ext cx="304560" cy="30492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757600" y="4803840"/>
                <a:ext cx="304920" cy="30492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144800" y="4803840"/>
                <a:ext cx="304560" cy="304920"/>
              </a:xfrm>
              <a:prstGeom prst="ellipse">
                <a:avLst/>
              </a:prstGeom>
              <a:solidFill>
                <a:srgbClr val="cccc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99760" y="5074200"/>
                <a:ext cx="1110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x  A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511000" y="50742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814840" y="5183280"/>
                <a:ext cx="2044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399840" y="5074200"/>
                <a:ext cx="103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C 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697200" y="5170680"/>
                <a:ext cx="2048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000080" y="5175360"/>
                <a:ext cx="2048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616120" y="5178600"/>
                <a:ext cx="2048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957320" y="4803840"/>
                <a:ext cx="304920" cy="304920"/>
              </a:xfrm>
              <a:prstGeom prst="ellipse">
                <a:avLst/>
              </a:prstGeom>
              <a:solidFill>
                <a:srgbClr val="cccc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698120" y="50742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 flipV="1">
                <a:off x="3949560" y="5005080"/>
                <a:ext cx="169560" cy="1954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V="1">
                <a:off x="909720" y="5018040"/>
                <a:ext cx="262080" cy="1825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4481280" y="4802040"/>
              <a:ext cx="3834360" cy="730080"/>
              <a:chOff x="4481280" y="4802040"/>
              <a:chExt cx="3834360" cy="730080"/>
            </a:xfrm>
          </p:grpSpPr>
          <p:grpSp>
            <p:nvGrpSpPr>
              <p:cNvPr id="778" name=""/>
              <p:cNvGrpSpPr/>
              <p:nvPr/>
            </p:nvGrpSpPr>
            <p:grpSpPr>
              <a:xfrm>
                <a:off x="4481280" y="4802040"/>
                <a:ext cx="3834360" cy="730080"/>
                <a:chOff x="4481280" y="4802040"/>
                <a:chExt cx="3834360" cy="73008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7540560" y="4802040"/>
                  <a:ext cx="304920" cy="304560"/>
                </a:xfrm>
                <a:prstGeom prst="ellipse">
                  <a:avLst/>
                </a:prstGeom>
                <a:noFill/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6638760" y="4802040"/>
                  <a:ext cx="304920" cy="304560"/>
                </a:xfrm>
                <a:prstGeom prst="ellipse">
                  <a:avLst/>
                </a:prstGeom>
                <a:noFill/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5025960" y="4802040"/>
                  <a:ext cx="304920" cy="304560"/>
                </a:xfrm>
                <a:prstGeom prst="ellipse">
                  <a:avLst/>
                </a:prstGeom>
                <a:solidFill>
                  <a:srgbClr val="ccccff"/>
                </a:solidFill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4481280" y="5072400"/>
                  <a:ext cx="1110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  AB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6392160" y="5072400"/>
                  <a:ext cx="805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B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6721560" y="5168520"/>
                  <a:ext cx="20484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7281360" y="5072400"/>
                  <a:ext cx="1034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BC 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7578720" y="5168520"/>
                  <a:ext cx="20484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4906800" y="5173560"/>
                  <a:ext cx="20484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6535800" y="5163840"/>
                  <a:ext cx="20484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5838840" y="4802040"/>
                  <a:ext cx="304920" cy="304560"/>
                </a:xfrm>
                <a:prstGeom prst="ellipse">
                  <a:avLst/>
                </a:prstGeom>
                <a:solidFill>
                  <a:srgbClr val="ccccff"/>
                </a:solidFill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579640" y="5072400"/>
                  <a:ext cx="805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B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flipH="1" flipV="1">
                  <a:off x="7831080" y="5003640"/>
                  <a:ext cx="169920" cy="19512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 flipV="1">
                  <a:off x="4790880" y="5015880"/>
                  <a:ext cx="262080" cy="18252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3" name=""/>
              <p:cNvSpPr/>
              <p:nvPr/>
            </p:nvSpPr>
            <p:spPr>
              <a:xfrm>
                <a:off x="6087960" y="5173560"/>
                <a:ext cx="2048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799400" y="5168520"/>
                <a:ext cx="2048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921360" y="5168520"/>
                <a:ext cx="2048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335560" y="5182920"/>
                <a:ext cx="2048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7" name=""/>
          <p:cNvSpPr/>
          <p:nvPr/>
        </p:nvSpPr>
        <p:spPr>
          <a:xfrm>
            <a:off x="432000" y="411516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615120" y="553608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start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Algorithm 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ii) Compute region delta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MOVE REGION: ABC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MOVE REGION: AB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MOVE SHADE: AB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MOVE SHADE: AB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561600" y="4454640"/>
            <a:ext cx="7715880" cy="730800"/>
            <a:chOff x="561600" y="4454640"/>
            <a:chExt cx="7715880" cy="730800"/>
          </a:xfrm>
        </p:grpSpPr>
        <p:grpSp>
          <p:nvGrpSpPr>
            <p:cNvPr id="802" name=""/>
            <p:cNvGrpSpPr/>
            <p:nvPr/>
          </p:nvGrpSpPr>
          <p:grpSpPr>
            <a:xfrm>
              <a:off x="561600" y="4456080"/>
              <a:ext cx="3834360" cy="729360"/>
              <a:chOff x="561600" y="4456080"/>
              <a:chExt cx="3834360" cy="729360"/>
            </a:xfrm>
          </p:grpSpPr>
          <p:sp>
            <p:nvSpPr>
              <p:cNvPr id="803" name=""/>
              <p:cNvSpPr/>
              <p:nvPr/>
            </p:nvSpPr>
            <p:spPr>
              <a:xfrm>
                <a:off x="3621240" y="4456080"/>
                <a:ext cx="304560" cy="3045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719440" y="4456080"/>
                <a:ext cx="304920" cy="3045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106640" y="4456080"/>
                <a:ext cx="304560" cy="304560"/>
              </a:xfrm>
              <a:prstGeom prst="ellipse">
                <a:avLst/>
              </a:prstGeom>
              <a:solidFill>
                <a:srgbClr val="cccc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61600" y="4725720"/>
                <a:ext cx="1110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x  A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472840" y="472572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776680" y="4835160"/>
                <a:ext cx="2044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361680" y="4725720"/>
                <a:ext cx="103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C 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659040" y="4822560"/>
                <a:ext cx="2048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961920" y="4827240"/>
                <a:ext cx="2048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577960" y="4830480"/>
                <a:ext cx="2048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919160" y="4456080"/>
                <a:ext cx="304920" cy="304560"/>
              </a:xfrm>
              <a:prstGeom prst="ellipse">
                <a:avLst/>
              </a:prstGeom>
              <a:solidFill>
                <a:srgbClr val="cccc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659960" y="472572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 flipV="1">
                <a:off x="3911400" y="4657320"/>
                <a:ext cx="169560" cy="195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V="1">
                <a:off x="871560" y="4670280"/>
                <a:ext cx="262080" cy="1821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4443120" y="4454640"/>
              <a:ext cx="3834360" cy="729360"/>
              <a:chOff x="4443120" y="4454640"/>
              <a:chExt cx="3834360" cy="729360"/>
            </a:xfrm>
          </p:grpSpPr>
          <p:grpSp>
            <p:nvGrpSpPr>
              <p:cNvPr id="818" name=""/>
              <p:cNvGrpSpPr/>
              <p:nvPr/>
            </p:nvGrpSpPr>
            <p:grpSpPr>
              <a:xfrm>
                <a:off x="4443120" y="4454640"/>
                <a:ext cx="3834360" cy="729360"/>
                <a:chOff x="4443120" y="4454640"/>
                <a:chExt cx="3834360" cy="729360"/>
              </a:xfrm>
            </p:grpSpPr>
            <p:sp>
              <p:nvSpPr>
                <p:cNvPr id="819" name=""/>
                <p:cNvSpPr/>
                <p:nvPr/>
              </p:nvSpPr>
              <p:spPr>
                <a:xfrm>
                  <a:off x="7502400" y="4454640"/>
                  <a:ext cx="304920" cy="304200"/>
                </a:xfrm>
                <a:prstGeom prst="ellipse">
                  <a:avLst/>
                </a:prstGeom>
                <a:noFill/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6600600" y="4454640"/>
                  <a:ext cx="304920" cy="304200"/>
                </a:xfrm>
                <a:prstGeom prst="ellipse">
                  <a:avLst/>
                </a:prstGeom>
                <a:noFill/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4987800" y="4454640"/>
                  <a:ext cx="304920" cy="304200"/>
                </a:xfrm>
                <a:prstGeom prst="ellipse">
                  <a:avLst/>
                </a:prstGeom>
                <a:solidFill>
                  <a:srgbClr val="ccccff"/>
                </a:solidFill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4443120" y="4724280"/>
                  <a:ext cx="1110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  AB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6354000" y="4724280"/>
                  <a:ext cx="805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B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6683400" y="4820760"/>
                  <a:ext cx="20484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7243200" y="4724280"/>
                  <a:ext cx="1034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BC 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7540560" y="4820760"/>
                  <a:ext cx="20484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4868640" y="4825800"/>
                  <a:ext cx="20484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6497640" y="4816080"/>
                  <a:ext cx="20484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5800680" y="4454640"/>
                  <a:ext cx="304920" cy="304200"/>
                </a:xfrm>
                <a:prstGeom prst="ellipse">
                  <a:avLst/>
                </a:prstGeom>
                <a:solidFill>
                  <a:srgbClr val="ccccff"/>
                </a:solidFill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5541480" y="4724280"/>
                  <a:ext cx="805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B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flipH="1" flipV="1">
                  <a:off x="7792920" y="4655520"/>
                  <a:ext cx="169920" cy="1947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 flipV="1">
                  <a:off x="4752720" y="4668480"/>
                  <a:ext cx="262080" cy="182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3" name=""/>
              <p:cNvSpPr/>
              <p:nvPr/>
            </p:nvSpPr>
            <p:spPr>
              <a:xfrm>
                <a:off x="6049800" y="4825800"/>
                <a:ext cx="2048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761240" y="4820760"/>
                <a:ext cx="2048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883200" y="4820760"/>
                <a:ext cx="2048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97400" y="4835160"/>
                <a:ext cx="2048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7" name=""/>
          <p:cNvGrpSpPr/>
          <p:nvPr/>
        </p:nvGrpSpPr>
        <p:grpSpPr>
          <a:xfrm>
            <a:off x="2711520" y="5306040"/>
            <a:ext cx="4442760" cy="810360"/>
            <a:chOff x="2711520" y="5306040"/>
            <a:chExt cx="4442760" cy="810360"/>
          </a:xfrm>
        </p:grpSpPr>
        <p:sp>
          <p:nvSpPr>
            <p:cNvPr id="838" name=""/>
            <p:cNvSpPr/>
            <p:nvPr/>
          </p:nvSpPr>
          <p:spPr>
            <a:xfrm>
              <a:off x="4486320" y="5407200"/>
              <a:ext cx="304920" cy="3045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191200" y="5407200"/>
              <a:ext cx="304560" cy="3045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897520" y="5408640"/>
              <a:ext cx="304920" cy="304920"/>
            </a:xfrm>
            <a:prstGeom prst="ellipse">
              <a:avLst/>
            </a:prstGeom>
            <a:solidFill>
              <a:srgbClr val="cc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602400" y="540864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075120" y="5407200"/>
              <a:ext cx="304560" cy="3045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780000" y="5407200"/>
              <a:ext cx="304560" cy="3045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843640" y="5656680"/>
              <a:ext cx="431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C ABC ABC ABC ABC A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106800" y="577368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322800" y="577368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327560" y="576900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543560" y="576900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827520" y="577692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038560" y="576900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737320" y="576900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143760" y="576900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423120" y="576900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638760" y="576900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867360" y="576900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711520" y="5306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2974680" y="5559480"/>
              <a:ext cx="104760" cy="12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8" name=""/>
          <p:cNvSpPr/>
          <p:nvPr/>
        </p:nvSpPr>
        <p:spPr>
          <a:xfrm flipV="1">
            <a:off x="4371840" y="3182760"/>
            <a:ext cx="195480" cy="14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4224240" y="3909960"/>
            <a:ext cx="195480" cy="14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49480" y="385344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ew) start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720880" y="6123600"/>
            <a:ext cx="21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result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Algorithm 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iii) Compute all other delt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MOVE SHADE: AB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MOVE CONSTANT LINK: x;AB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MOVE CONSTANK LINK: x;AB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MOVE CONSTANT LINK: x;AB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561600" y="4911840"/>
            <a:ext cx="7715880" cy="730800"/>
            <a:chOff x="561600" y="4911840"/>
            <a:chExt cx="7715880" cy="730800"/>
          </a:xfrm>
        </p:grpSpPr>
        <p:grpSp>
          <p:nvGrpSpPr>
            <p:cNvPr id="865" name=""/>
            <p:cNvGrpSpPr/>
            <p:nvPr/>
          </p:nvGrpSpPr>
          <p:grpSpPr>
            <a:xfrm>
              <a:off x="561600" y="4913280"/>
              <a:ext cx="3834360" cy="729360"/>
              <a:chOff x="561600" y="4913280"/>
              <a:chExt cx="3834360" cy="729360"/>
            </a:xfrm>
          </p:grpSpPr>
          <p:sp>
            <p:nvSpPr>
              <p:cNvPr id="866" name=""/>
              <p:cNvSpPr/>
              <p:nvPr/>
            </p:nvSpPr>
            <p:spPr>
              <a:xfrm>
                <a:off x="3621240" y="4913280"/>
                <a:ext cx="304560" cy="3045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719440" y="4913280"/>
                <a:ext cx="304920" cy="3045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1106640" y="4913280"/>
                <a:ext cx="304560" cy="304560"/>
              </a:xfrm>
              <a:prstGeom prst="ellipse">
                <a:avLst/>
              </a:prstGeom>
              <a:solidFill>
                <a:srgbClr val="cccc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61600" y="5182920"/>
                <a:ext cx="1110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x  A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472840" y="518292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776680" y="5292360"/>
                <a:ext cx="2044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361680" y="5182920"/>
                <a:ext cx="103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C 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659040" y="5279760"/>
                <a:ext cx="2048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961920" y="5284440"/>
                <a:ext cx="2048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577960" y="5287680"/>
                <a:ext cx="2048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1919160" y="4913280"/>
                <a:ext cx="304920" cy="304560"/>
              </a:xfrm>
              <a:prstGeom prst="ellipse">
                <a:avLst/>
              </a:prstGeom>
              <a:solidFill>
                <a:srgbClr val="cccc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1659960" y="518292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 flipV="1">
                <a:off x="3911400" y="5114520"/>
                <a:ext cx="169560" cy="195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V="1">
                <a:off x="871560" y="5127480"/>
                <a:ext cx="262080" cy="1821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"/>
            <p:cNvGrpSpPr/>
            <p:nvPr/>
          </p:nvGrpSpPr>
          <p:grpSpPr>
            <a:xfrm>
              <a:off x="4443120" y="4911840"/>
              <a:ext cx="3834360" cy="729360"/>
              <a:chOff x="4443120" y="4911840"/>
              <a:chExt cx="3834360" cy="729360"/>
            </a:xfrm>
          </p:grpSpPr>
          <p:grpSp>
            <p:nvGrpSpPr>
              <p:cNvPr id="881" name=""/>
              <p:cNvGrpSpPr/>
              <p:nvPr/>
            </p:nvGrpSpPr>
            <p:grpSpPr>
              <a:xfrm>
                <a:off x="4443120" y="4911840"/>
                <a:ext cx="3834360" cy="729360"/>
                <a:chOff x="4443120" y="4911840"/>
                <a:chExt cx="3834360" cy="729360"/>
              </a:xfrm>
            </p:grpSpPr>
            <p:sp>
              <p:nvSpPr>
                <p:cNvPr id="882" name=""/>
                <p:cNvSpPr/>
                <p:nvPr/>
              </p:nvSpPr>
              <p:spPr>
                <a:xfrm>
                  <a:off x="7502400" y="4911840"/>
                  <a:ext cx="304920" cy="304200"/>
                </a:xfrm>
                <a:prstGeom prst="ellipse">
                  <a:avLst/>
                </a:prstGeom>
                <a:noFill/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6600600" y="4911840"/>
                  <a:ext cx="304920" cy="304200"/>
                </a:xfrm>
                <a:prstGeom prst="ellipse">
                  <a:avLst/>
                </a:prstGeom>
                <a:noFill/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4987800" y="4911840"/>
                  <a:ext cx="304920" cy="304200"/>
                </a:xfrm>
                <a:prstGeom prst="ellipse">
                  <a:avLst/>
                </a:prstGeom>
                <a:solidFill>
                  <a:srgbClr val="ccccff"/>
                </a:solidFill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4443120" y="5181480"/>
                  <a:ext cx="1110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  AB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6354000" y="5181480"/>
                  <a:ext cx="805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B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6683400" y="5277960"/>
                  <a:ext cx="20484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243200" y="5181480"/>
                  <a:ext cx="1034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BC 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7540560" y="5277960"/>
                  <a:ext cx="20484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4868640" y="5283000"/>
                  <a:ext cx="20484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6497640" y="5273280"/>
                  <a:ext cx="20484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5800680" y="4911840"/>
                  <a:ext cx="304920" cy="304200"/>
                </a:xfrm>
                <a:prstGeom prst="ellipse">
                  <a:avLst/>
                </a:prstGeom>
                <a:solidFill>
                  <a:srgbClr val="ccccff"/>
                </a:solidFill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5541480" y="5181480"/>
                  <a:ext cx="805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B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H="1" flipV="1">
                  <a:off x="7792920" y="5112720"/>
                  <a:ext cx="169920" cy="1947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 flipV="1">
                  <a:off x="4752720" y="5125680"/>
                  <a:ext cx="262080" cy="182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6" name=""/>
              <p:cNvSpPr/>
              <p:nvPr/>
            </p:nvSpPr>
            <p:spPr>
              <a:xfrm>
                <a:off x="6049800" y="5283000"/>
                <a:ext cx="2048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761240" y="5277960"/>
                <a:ext cx="2048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883200" y="5277960"/>
                <a:ext cx="2048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297400" y="5292360"/>
                <a:ext cx="2048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0" name=""/>
          <p:cNvGrpSpPr/>
          <p:nvPr/>
        </p:nvGrpSpPr>
        <p:grpSpPr>
          <a:xfrm>
            <a:off x="2711520" y="5763240"/>
            <a:ext cx="4442760" cy="810360"/>
            <a:chOff x="2711520" y="5763240"/>
            <a:chExt cx="4442760" cy="810360"/>
          </a:xfrm>
        </p:grpSpPr>
        <p:sp>
          <p:nvSpPr>
            <p:cNvPr id="901" name=""/>
            <p:cNvSpPr/>
            <p:nvPr/>
          </p:nvSpPr>
          <p:spPr>
            <a:xfrm>
              <a:off x="4486320" y="5864400"/>
              <a:ext cx="304920" cy="3045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191200" y="5864400"/>
              <a:ext cx="304560" cy="3045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897520" y="5865840"/>
              <a:ext cx="304920" cy="304920"/>
            </a:xfrm>
            <a:prstGeom prst="ellipse">
              <a:avLst/>
            </a:prstGeom>
            <a:solidFill>
              <a:srgbClr val="cc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602400" y="586584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075120" y="5864400"/>
              <a:ext cx="304560" cy="3045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780000" y="5864400"/>
              <a:ext cx="304560" cy="3045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843640" y="6113880"/>
              <a:ext cx="431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C ABC ABC ABC ABC A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106800" y="623088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322800" y="623088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327560" y="622620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543560" y="622620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827520" y="623412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038560" y="622620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737320" y="622620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143760" y="622620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423120" y="622620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638760" y="622620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867360" y="622620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711520" y="5763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2974680" y="6016680"/>
              <a:ext cx="104760" cy="12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1" name=""/>
          <p:cNvSpPr/>
          <p:nvPr/>
        </p:nvSpPr>
        <p:spPr>
          <a:xfrm flipV="1">
            <a:off x="3875040" y="2962080"/>
            <a:ext cx="169920" cy="14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5368680" y="3340080"/>
            <a:ext cx="207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526000" y="3706920"/>
            <a:ext cx="1699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432400" y="4070520"/>
            <a:ext cx="1573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735520" y="4070520"/>
            <a:ext cx="1699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66840" y="44136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ew) start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63320" y="5874120"/>
            <a:ext cx="21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result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Syntax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60040"/>
            <a:ext cx="777240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uler diagrams plus constant sequences and shading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209680" y="3048120"/>
            <a:ext cx="4341960" cy="2286000"/>
            <a:chOff x="2209680" y="3048120"/>
            <a:chExt cx="4341960" cy="2286000"/>
          </a:xfrm>
        </p:grpSpPr>
        <p:grpSp>
          <p:nvGrpSpPr>
            <p:cNvPr id="48" name=""/>
            <p:cNvGrpSpPr/>
            <p:nvPr/>
          </p:nvGrpSpPr>
          <p:grpSpPr>
            <a:xfrm>
              <a:off x="2209680" y="3048120"/>
              <a:ext cx="4341960" cy="2286000"/>
              <a:chOff x="2209680" y="3048120"/>
              <a:chExt cx="4341960" cy="228600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2209680" y="3048120"/>
                <a:ext cx="4341960" cy="2286000"/>
                <a:chOff x="2209680" y="3048120"/>
                <a:chExt cx="4341960" cy="228600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2824200" y="3352680"/>
                  <a:ext cx="1981080" cy="1600200"/>
                </a:xfrm>
                <a:prstGeom prst="ellipse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" name=""/>
                <p:cNvGrpSpPr/>
                <p:nvPr/>
              </p:nvGrpSpPr>
              <p:grpSpPr>
                <a:xfrm>
                  <a:off x="2209680" y="3048120"/>
                  <a:ext cx="4341960" cy="2286000"/>
                  <a:chOff x="2209680" y="3048120"/>
                  <a:chExt cx="4341960" cy="228600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>
                    <a:off x="2209680" y="3048120"/>
                    <a:ext cx="4341960" cy="22860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890880" y="3354480"/>
                    <a:ext cx="1981440" cy="1600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824200" y="3354480"/>
                    <a:ext cx="1981080" cy="16002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" name=""/>
              <p:cNvSpPr/>
              <p:nvPr/>
            </p:nvSpPr>
            <p:spPr>
              <a:xfrm>
                <a:off x="3429000" y="388620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200400" y="36576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267080" y="365760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274320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562720" y="3200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inference ru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converting diagrams to DAG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DAG delt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checking homogeneous diagram chan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ifi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ogic and DAG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Algorithm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"/>
          <p:cNvSpPr/>
          <p:nvPr/>
        </p:nvSpPr>
        <p:spPr>
          <a:xfrm>
            <a:off x="0" y="1619280"/>
            <a:ext cx="4767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k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G1, DAG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a set of DEL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determines whether the 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om DAG1 to DAG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ld have come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uler diagram inference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ing this checklis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have a way to detect “valid” moves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itary Eule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979560" y="2035080"/>
            <a:ext cx="2830320" cy="704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385160" y="4008600"/>
            <a:ext cx="4763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REMOVE CONSTANT LINK:c,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ADD CONSTANT LINK:c,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REMOVE SH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REMOVE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REMOVE CONSTANT LINK: c,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ADD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ADD REGION 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REMOVE REGION 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in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2224440" y="1726560"/>
            <a:ext cx="4917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Algorithm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example 1 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a single applic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of an inference r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1467000" y="260640"/>
            <a:ext cx="518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: Can this be done as a sequence of applications of inference rule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579680" y="1671480"/>
            <a:ext cx="911160" cy="78768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611440" y="1577880"/>
            <a:ext cx="831960" cy="747720"/>
          </a:xfrm>
          <a:prstGeom prst="ellipse">
            <a:avLst/>
          </a:prstGeom>
          <a:solidFill>
            <a:srgbClr val="cc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454760" y="132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399120" y="1323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370160" y="1366920"/>
            <a:ext cx="2392200" cy="13777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773000" y="1799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790360" y="1678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1974960" y="1960200"/>
            <a:ext cx="874440" cy="106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792680" y="1671480"/>
            <a:ext cx="911160" cy="78768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824440" y="1577880"/>
            <a:ext cx="831960" cy="747720"/>
          </a:xfrm>
          <a:prstGeom prst="ellipse">
            <a:avLst/>
          </a:prstGeom>
          <a:solidFill>
            <a:srgbClr val="cc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667760" y="132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612120" y="1323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583160" y="1366920"/>
            <a:ext cx="2392200" cy="13777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986000" y="1799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849840" y="2003400"/>
            <a:ext cx="6523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748440" y="2867400"/>
            <a:ext cx="3382560" cy="2331360"/>
            <a:chOff x="748440" y="2867400"/>
            <a:chExt cx="3382560" cy="2331360"/>
          </a:xfrm>
        </p:grpSpPr>
        <p:sp>
          <p:nvSpPr>
            <p:cNvPr id="952" name=""/>
            <p:cNvSpPr/>
            <p:nvPr/>
          </p:nvSpPr>
          <p:spPr>
            <a:xfrm>
              <a:off x="2182680" y="3249720"/>
              <a:ext cx="304920" cy="3045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108880" y="2867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623960" y="378288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365840" y="3486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1892160" y="3502080"/>
              <a:ext cx="338400" cy="323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2742480" y="378288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>
              <a:off x="2908080" y="3486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41520" y="3502080"/>
              <a:ext cx="338040" cy="323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3003120" y="358776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351240" y="446868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208240" y="446868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912960" y="4468680"/>
              <a:ext cx="304560" cy="304920"/>
            </a:xfrm>
            <a:prstGeom prst="ellipse">
              <a:avLst/>
            </a:prstGeom>
            <a:solidFill>
              <a:srgbClr val="cc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860480" y="4044960"/>
              <a:ext cx="385920" cy="452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003480" y="4049640"/>
              <a:ext cx="424080" cy="4478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2455560" y="4049640"/>
              <a:ext cx="361800" cy="4478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1160640" y="4044960"/>
              <a:ext cx="480960" cy="461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48440" y="473904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063160" y="473904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79600" y="483552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206160" y="473904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503520" y="483552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474920" y="359100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844560" y="484020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143080" y="484344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220760" y="4643280"/>
              <a:ext cx="228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374480" y="43804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660840" y="4630680"/>
              <a:ext cx="228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814560" y="43678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924200" y="3951360"/>
              <a:ext cx="228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077560" y="36882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060720" y="3938760"/>
              <a:ext cx="228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214440" y="3675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473200" y="3403440"/>
              <a:ext cx="228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626920" y="314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4444200" y="2867400"/>
            <a:ext cx="3382200" cy="2331360"/>
            <a:chOff x="4444200" y="2867400"/>
            <a:chExt cx="3382200" cy="2331360"/>
          </a:xfrm>
        </p:grpSpPr>
        <p:sp>
          <p:nvSpPr>
            <p:cNvPr id="987" name=""/>
            <p:cNvSpPr/>
            <p:nvPr/>
          </p:nvSpPr>
          <p:spPr>
            <a:xfrm>
              <a:off x="5878440" y="3249720"/>
              <a:ext cx="304920" cy="3045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804640" y="2867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319720" y="378288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061600" y="3486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>
              <a:off x="5587560" y="3502080"/>
              <a:ext cx="338040" cy="323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>
              <a:off x="6438240" y="378288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6603840" y="3486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137280" y="3502080"/>
              <a:ext cx="338040" cy="323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6698880" y="358776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047000" y="4468680"/>
              <a:ext cx="30456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904000" y="4468680"/>
              <a:ext cx="30456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608360" y="4468680"/>
              <a:ext cx="304920" cy="304920"/>
            </a:xfrm>
            <a:prstGeom prst="ellipse">
              <a:avLst/>
            </a:prstGeom>
            <a:solidFill>
              <a:srgbClr val="cc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556240" y="4044960"/>
              <a:ext cx="385920" cy="452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699240" y="4049640"/>
              <a:ext cx="423720" cy="4478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6151320" y="4049640"/>
              <a:ext cx="361800" cy="4478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4856040" y="4044960"/>
              <a:ext cx="480960" cy="461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444200" y="473904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758920" y="473904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075360" y="483552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901920" y="473904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199280" y="483552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170320" y="359100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540320" y="484020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838840" y="484344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356600" y="4630680"/>
              <a:ext cx="228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509960" y="43678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756480" y="3938760"/>
              <a:ext cx="228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909840" y="3675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168960" y="3403440"/>
              <a:ext cx="228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322680" y="314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/>
          <p:nvPr/>
        </p:nvSpPr>
        <p:spPr>
          <a:xfrm>
            <a:off x="2182680" y="3249720"/>
            <a:ext cx="304920" cy="30456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108880" y="286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623960" y="3782880"/>
            <a:ext cx="30492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365840" y="3486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1892160" y="3502080"/>
            <a:ext cx="338400" cy="323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2742480" y="3782880"/>
            <a:ext cx="30492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2908080" y="3486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441520" y="3502080"/>
            <a:ext cx="338040" cy="323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3003120" y="358776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351240" y="4468680"/>
            <a:ext cx="30492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208240" y="4468680"/>
            <a:ext cx="30492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912960" y="4468680"/>
            <a:ext cx="304560" cy="304920"/>
          </a:xfrm>
          <a:prstGeom prst="ellipse">
            <a:avLst/>
          </a:prstGeom>
          <a:solidFill>
            <a:srgbClr val="cc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860480" y="4044960"/>
            <a:ext cx="385920" cy="4525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003480" y="4049640"/>
            <a:ext cx="424080" cy="447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2455560" y="4049640"/>
            <a:ext cx="361800" cy="447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H="1">
            <a:off x="1160640" y="4044960"/>
            <a:ext cx="480960" cy="4618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48440" y="473904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063160" y="473904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379600" y="483552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206160" y="473904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503520" y="483552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474920" y="3591000"/>
            <a:ext cx="2044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844560" y="484020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143080" y="484344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220760" y="464328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374480" y="4380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660840" y="463068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814560" y="4367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924200" y="395136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077560" y="3688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060720" y="393876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214440" y="3675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473200" y="340344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626920" y="3140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878440" y="3249720"/>
            <a:ext cx="304920" cy="30456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804640" y="286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319720" y="3782880"/>
            <a:ext cx="30492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061600" y="3486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5587560" y="3502080"/>
            <a:ext cx="338040" cy="323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H="1">
            <a:off x="6438240" y="3782880"/>
            <a:ext cx="30492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H="1">
            <a:off x="6603840" y="3486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137280" y="3502080"/>
            <a:ext cx="338040" cy="323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H="1">
            <a:off x="6698880" y="358776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047000" y="4468680"/>
            <a:ext cx="30456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904000" y="4468680"/>
            <a:ext cx="30456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608360" y="4468680"/>
            <a:ext cx="304920" cy="304920"/>
          </a:xfrm>
          <a:prstGeom prst="ellipse">
            <a:avLst/>
          </a:prstGeom>
          <a:solidFill>
            <a:srgbClr val="cc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556240" y="4044960"/>
            <a:ext cx="385920" cy="4525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699240" y="4049640"/>
            <a:ext cx="423720" cy="447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6151320" y="4049640"/>
            <a:ext cx="361800" cy="447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4856040" y="4044960"/>
            <a:ext cx="480960" cy="4618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444200" y="473904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758920" y="473904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075360" y="483552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901920" y="473904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199280" y="483552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170320" y="359100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540320" y="484020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838840" y="484344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356600" y="463068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509960" y="4367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756480" y="393876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909840" y="3675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168960" y="340344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322680" y="3140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849840" y="3959280"/>
            <a:ext cx="6523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800520" y="3516840"/>
            <a:ext cx="6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1523880" y="5253120"/>
            <a:ext cx="6957360" cy="1252440"/>
            <a:chOff x="1523880" y="5253120"/>
            <a:chExt cx="6957360" cy="1252440"/>
          </a:xfrm>
        </p:grpSpPr>
        <p:sp>
          <p:nvSpPr>
            <p:cNvPr id="1084" name=""/>
            <p:cNvSpPr/>
            <p:nvPr/>
          </p:nvSpPr>
          <p:spPr>
            <a:xfrm>
              <a:off x="1523880" y="6045840"/>
              <a:ext cx="518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MOVE CONSTANT LINK: c, 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048360" y="613728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698920" y="5253120"/>
              <a:ext cx="0" cy="704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936160" y="5482080"/>
              <a:ext cx="55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pply algorithm 1 to create set of DELT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"/>
          <p:cNvSpPr/>
          <p:nvPr/>
        </p:nvSpPr>
        <p:spPr>
          <a:xfrm>
            <a:off x="2052720" y="679320"/>
            <a:ext cx="30456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978560" y="2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494000" y="1212840"/>
            <a:ext cx="30456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235520" y="916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1761840" y="932040"/>
            <a:ext cx="338040" cy="323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H="1">
            <a:off x="2612160" y="1212840"/>
            <a:ext cx="30492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>
            <a:off x="2778120" y="916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311560" y="932040"/>
            <a:ext cx="338040" cy="323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H="1">
            <a:off x="2873520" y="1017720"/>
            <a:ext cx="2044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220920" y="1898640"/>
            <a:ext cx="30492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077920" y="1898640"/>
            <a:ext cx="30492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782640" y="1898640"/>
            <a:ext cx="304920" cy="304920"/>
          </a:xfrm>
          <a:prstGeom prst="ellipse">
            <a:avLst/>
          </a:prstGeom>
          <a:solidFill>
            <a:srgbClr val="cc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730520" y="1474920"/>
            <a:ext cx="385560" cy="4521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873520" y="1479600"/>
            <a:ext cx="423720" cy="447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325600" y="1479600"/>
            <a:ext cx="362160" cy="447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1030320" y="1474920"/>
            <a:ext cx="480960" cy="4618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18480" y="21690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932840" y="21690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249640" y="2265480"/>
            <a:ext cx="2044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075840" y="21690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373560" y="226548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344600" y="102060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14240" y="227016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013120" y="2273400"/>
            <a:ext cx="2044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090440" y="207324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244160" y="1810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530520" y="206064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684240" y="1797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793880" y="138096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947600" y="1118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930400" y="136836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084120" y="1105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343240" y="83340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496600" y="570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748480" y="679320"/>
            <a:ext cx="30456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674320" y="2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189400" y="1212840"/>
            <a:ext cx="30492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931280" y="916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H="1">
            <a:off x="5457600" y="932040"/>
            <a:ext cx="338040" cy="323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6307920" y="1212840"/>
            <a:ext cx="30492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6473520" y="916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06960" y="932040"/>
            <a:ext cx="338400" cy="323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6568560" y="101772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916680" y="1898640"/>
            <a:ext cx="30492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773680" y="1898640"/>
            <a:ext cx="30492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478400" y="1898640"/>
            <a:ext cx="304560" cy="304920"/>
          </a:xfrm>
          <a:prstGeom prst="ellipse">
            <a:avLst/>
          </a:prstGeom>
          <a:solidFill>
            <a:srgbClr val="cc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425920" y="1474920"/>
            <a:ext cx="385920" cy="4521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568920" y="1479600"/>
            <a:ext cx="424080" cy="447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6021000" y="1479600"/>
            <a:ext cx="361800" cy="447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4726080" y="1474920"/>
            <a:ext cx="480960" cy="4618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314240" y="21690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628600" y="21690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945040" y="226548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771600" y="21690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068960" y="226548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040360" y="102060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410000" y="227016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708520" y="227340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226280" y="206064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380000" y="1797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626160" y="136836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779880" y="1105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039000" y="83340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192360" y="570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719520" y="1389240"/>
            <a:ext cx="6523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670200" y="946800"/>
            <a:ext cx="6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420920" y="2680200"/>
            <a:ext cx="51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CONSTANT LINK: c,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931000" y="279252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568600" y="3254400"/>
            <a:ext cx="0" cy="7048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816640" y="3483360"/>
            <a:ext cx="55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algorithm 2 to check set of DEL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63680" y="307800"/>
            <a:ext cx="7542000" cy="28846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375080" y="4008600"/>
            <a:ext cx="4781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REMOVE CONSTANT LINK:c,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ADD CONSTANT LINK:c,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REMOVE SH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REMOVE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REMOVE CONSTANT LINK: c,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ADD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ADD REGION 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REMOVE REGION 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in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005360" y="4226040"/>
            <a:ext cx="4172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94480" y="4188240"/>
            <a:ext cx="37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eck that the region tagg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 is shaded in the suppporting 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08320" y="600588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"/>
          <p:cNvSpPr/>
          <p:nvPr/>
        </p:nvSpPr>
        <p:spPr>
          <a:xfrm>
            <a:off x="3178800" y="2336040"/>
            <a:ext cx="298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Algorithm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exampl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"/>
          <p:cNvGrpSpPr/>
          <p:nvPr/>
        </p:nvGrpSpPr>
        <p:grpSpPr>
          <a:xfrm>
            <a:off x="1365840" y="2867400"/>
            <a:ext cx="2165040" cy="1267920"/>
            <a:chOff x="1365840" y="2867400"/>
            <a:chExt cx="2165040" cy="1267920"/>
          </a:xfrm>
        </p:grpSpPr>
        <p:sp>
          <p:nvSpPr>
            <p:cNvPr id="1165" name=""/>
            <p:cNvSpPr/>
            <p:nvPr/>
          </p:nvSpPr>
          <p:spPr>
            <a:xfrm>
              <a:off x="2182680" y="3249720"/>
              <a:ext cx="304920" cy="3045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108880" y="2867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623960" y="378288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365840" y="3486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1892160" y="3502080"/>
              <a:ext cx="338400" cy="323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2742480" y="378288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2900520" y="3486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441520" y="3502080"/>
              <a:ext cx="338040" cy="323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474920" y="359100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060720" y="3938760"/>
              <a:ext cx="228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214440" y="3675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473200" y="3403440"/>
              <a:ext cx="228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626920" y="314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2070000" y="4253400"/>
            <a:ext cx="4475160" cy="459720"/>
            <a:chOff x="2070000" y="4253400"/>
            <a:chExt cx="4475160" cy="459720"/>
          </a:xfrm>
        </p:grpSpPr>
        <p:sp>
          <p:nvSpPr>
            <p:cNvPr id="1179" name=""/>
            <p:cNvSpPr/>
            <p:nvPr/>
          </p:nvSpPr>
          <p:spPr>
            <a:xfrm>
              <a:off x="2070000" y="4253400"/>
              <a:ext cx="447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 CONSTANT LINK: c,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668920" y="436392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1362240" y="1317960"/>
            <a:ext cx="2392200" cy="1421640"/>
            <a:chOff x="1362240" y="1317960"/>
            <a:chExt cx="2392200" cy="1421640"/>
          </a:xfrm>
        </p:grpSpPr>
        <p:sp>
          <p:nvSpPr>
            <p:cNvPr id="1182" name=""/>
            <p:cNvSpPr/>
            <p:nvPr/>
          </p:nvSpPr>
          <p:spPr>
            <a:xfrm>
              <a:off x="1571760" y="1666440"/>
              <a:ext cx="911160" cy="78768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446840" y="13179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362240" y="1361880"/>
              <a:ext cx="2392200" cy="13777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765080" y="17942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6" name=""/>
          <p:cNvGrpSpPr/>
          <p:nvPr/>
        </p:nvGrpSpPr>
        <p:grpSpPr>
          <a:xfrm>
            <a:off x="4584600" y="1317960"/>
            <a:ext cx="2392200" cy="1422000"/>
            <a:chOff x="4584600" y="1317960"/>
            <a:chExt cx="2392200" cy="1422000"/>
          </a:xfrm>
        </p:grpSpPr>
        <p:sp>
          <p:nvSpPr>
            <p:cNvPr id="1187" name=""/>
            <p:cNvSpPr/>
            <p:nvPr/>
          </p:nvSpPr>
          <p:spPr>
            <a:xfrm>
              <a:off x="4794120" y="1666800"/>
              <a:ext cx="911160" cy="7873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669200" y="13179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584600" y="1361880"/>
              <a:ext cx="2392200" cy="13780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987440" y="17942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216400" y="2095200"/>
              <a:ext cx="549360" cy="3650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689080" y="22212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3" name=""/>
          <p:cNvSpPr/>
          <p:nvPr/>
        </p:nvSpPr>
        <p:spPr>
          <a:xfrm>
            <a:off x="3836880" y="2033640"/>
            <a:ext cx="6652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5061600" y="2867400"/>
            <a:ext cx="2164680" cy="1267920"/>
            <a:chOff x="5061600" y="2867400"/>
            <a:chExt cx="2164680" cy="1267920"/>
          </a:xfrm>
        </p:grpSpPr>
        <p:sp>
          <p:nvSpPr>
            <p:cNvPr id="1195" name=""/>
            <p:cNvSpPr/>
            <p:nvPr/>
          </p:nvSpPr>
          <p:spPr>
            <a:xfrm>
              <a:off x="5878440" y="3249720"/>
              <a:ext cx="304920" cy="3045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804640" y="2867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319720" y="378288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061600" y="3486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>
              <a:off x="5587560" y="3502080"/>
              <a:ext cx="338040" cy="323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H="1">
              <a:off x="6438240" y="378288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6596640" y="3486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137280" y="3502080"/>
              <a:ext cx="338040" cy="323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170320" y="359100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756480" y="3938760"/>
              <a:ext cx="228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909840" y="3675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168960" y="3403440"/>
              <a:ext cx="228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322680" y="314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626080" y="3938760"/>
              <a:ext cx="228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779800" y="3675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0" name=""/>
          <p:cNvSpPr/>
          <p:nvPr/>
        </p:nvSpPr>
        <p:spPr>
          <a:xfrm>
            <a:off x="1467000" y="260640"/>
            <a:ext cx="518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: Can this be done as a sequence of applications of inference rule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"/>
          <p:cNvSpPr/>
          <p:nvPr/>
        </p:nvSpPr>
        <p:spPr>
          <a:xfrm>
            <a:off x="2313000" y="1227240"/>
            <a:ext cx="304920" cy="30456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238840" y="84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754280" y="1760400"/>
            <a:ext cx="30456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496160" y="1464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H="1">
            <a:off x="2022120" y="1479600"/>
            <a:ext cx="338040" cy="323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H="1">
            <a:off x="2873520" y="1760400"/>
            <a:ext cx="30456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H="1">
            <a:off x="3031200" y="1464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571840" y="1479600"/>
            <a:ext cx="338040" cy="323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604880" y="156852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191040" y="191628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344400" y="1653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2603520" y="138096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757240" y="1118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008760" y="1227240"/>
            <a:ext cx="304560" cy="30456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934600" y="84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450040" y="1760400"/>
            <a:ext cx="30456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191560" y="1464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H="1">
            <a:off x="5717880" y="1479600"/>
            <a:ext cx="338040" cy="323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6568200" y="1760400"/>
            <a:ext cx="30492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H="1">
            <a:off x="6726960" y="1464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6267600" y="1479600"/>
            <a:ext cx="338040" cy="323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5300640" y="156852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886440" y="191628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040160" y="1653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6299280" y="138096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452640" y="1118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200320" y="2230920"/>
            <a:ext cx="44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CONSTANT LINK: c,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799240" y="234144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756400" y="191628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909760" y="1653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239840" y="873000"/>
            <a:ext cx="6470640" cy="1852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363920" y="4008600"/>
            <a:ext cx="4781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REMOVE CONSTANT LINK:c,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ADD CONSTANT LINK:c,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REMOVE SH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REMOVE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REMOVE CONSTANT LINK: c,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ADD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ADD REGION 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REMOVE REGION 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in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994200" y="4530600"/>
            <a:ext cx="4176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88600" y="3883680"/>
            <a:ext cx="3199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eck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i) t doesn’t already contain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ii) some other node in the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pporting DAG contains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97160" y="600588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/>
          <p:nvPr/>
        </p:nvSpPr>
        <p:spPr>
          <a:xfrm>
            <a:off x="3161520" y="2031480"/>
            <a:ext cx="3024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Algorithm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a non-triv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exampl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2760" y="60912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Semantics 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see[4] for detai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93800"/>
            <a:ext cx="794232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gions represent se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haded regions represent the empty s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stant sequences are spider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 how to distinguish given and existantial(?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 do distinct spiders represent distinct elt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447920" y="4406760"/>
            <a:ext cx="6130800" cy="1752840"/>
            <a:chOff x="1447920" y="4406760"/>
            <a:chExt cx="6130800" cy="1752840"/>
          </a:xfrm>
        </p:grpSpPr>
        <p:grpSp>
          <p:nvGrpSpPr>
            <p:cNvPr id="63" name=""/>
            <p:cNvGrpSpPr/>
            <p:nvPr/>
          </p:nvGrpSpPr>
          <p:grpSpPr>
            <a:xfrm>
              <a:off x="1447920" y="4406760"/>
              <a:ext cx="3352680" cy="1752840"/>
              <a:chOff x="1447920" y="4406760"/>
              <a:chExt cx="3352680" cy="1752840"/>
            </a:xfrm>
          </p:grpSpPr>
          <p:sp>
            <p:nvSpPr>
              <p:cNvPr id="64" name=""/>
              <p:cNvSpPr/>
              <p:nvPr/>
            </p:nvSpPr>
            <p:spPr>
              <a:xfrm>
                <a:off x="1922400" y="4640400"/>
                <a:ext cx="1529640" cy="1226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1447920" y="4406760"/>
                <a:ext cx="3352680" cy="1752840"/>
                <a:chOff x="1447920" y="4406760"/>
                <a:chExt cx="3352680" cy="175284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1447920" y="4406760"/>
                  <a:ext cx="3352680" cy="1752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2746080" y="4641480"/>
                  <a:ext cx="1530000" cy="1226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922400" y="4641480"/>
                  <a:ext cx="1529640" cy="12268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" name=""/>
            <p:cNvSpPr/>
            <p:nvPr/>
          </p:nvSpPr>
          <p:spPr>
            <a:xfrm>
              <a:off x="2401920" y="5138640"/>
              <a:ext cx="70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12920" y="4873680"/>
              <a:ext cx="46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38400" y="4873680"/>
              <a:ext cx="4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28800" y="4483080"/>
              <a:ext cx="41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037040" y="4483080"/>
              <a:ext cx="4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4" name=""/>
            <p:cNvGraphicFramePr/>
            <p:nvPr/>
          </p:nvGraphicFramePr>
          <p:xfrm>
            <a:off x="5450040" y="4498920"/>
            <a:ext cx="2128680" cy="568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50040" y="4498920"/>
                      <a:ext cx="2128680" cy="56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5486400" y="5219640"/>
            <a:ext cx="1130400" cy="541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86400" y="5219640"/>
                      <a:ext cx="1130400" cy="54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1467000" y="260640"/>
            <a:ext cx="518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: Can this be done as a sequence of applications of inference rule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611440" y="1577880"/>
            <a:ext cx="831960" cy="747720"/>
          </a:xfrm>
          <a:prstGeom prst="ellipse">
            <a:avLst/>
          </a:prstGeom>
          <a:solidFill>
            <a:srgbClr val="cc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454760" y="132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399120" y="1323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370160" y="1366920"/>
            <a:ext cx="2392200" cy="13777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765440" y="1799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897280" y="1602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2065320" y="1868400"/>
            <a:ext cx="888840" cy="184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824440" y="1577880"/>
            <a:ext cx="831960" cy="747720"/>
          </a:xfrm>
          <a:prstGeom prst="ellipse">
            <a:avLst/>
          </a:prstGeom>
          <a:solidFill>
            <a:srgbClr val="cc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667760" y="132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612120" y="1323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583160" y="1366920"/>
            <a:ext cx="2392200" cy="13777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977000" y="1799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849840" y="2003400"/>
            <a:ext cx="6523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579680" y="1671480"/>
            <a:ext cx="1263600" cy="78768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329080" y="2021040"/>
            <a:ext cx="1068480" cy="6048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340680" y="2323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824440" y="1577880"/>
            <a:ext cx="831960" cy="7477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792680" y="1671480"/>
            <a:ext cx="911160" cy="78768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6" name=""/>
          <p:cNvGrpSpPr/>
          <p:nvPr/>
        </p:nvGrpSpPr>
        <p:grpSpPr>
          <a:xfrm>
            <a:off x="446400" y="2867400"/>
            <a:ext cx="3725280" cy="2331360"/>
            <a:chOff x="446400" y="2867400"/>
            <a:chExt cx="3725280" cy="2331360"/>
          </a:xfrm>
        </p:grpSpPr>
        <p:sp>
          <p:nvSpPr>
            <p:cNvPr id="1267" name=""/>
            <p:cNvSpPr/>
            <p:nvPr/>
          </p:nvSpPr>
          <p:spPr>
            <a:xfrm>
              <a:off x="2182680" y="3249720"/>
              <a:ext cx="304920" cy="3045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108880" y="2867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623960" y="378288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327680" y="3664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1892160" y="3502080"/>
              <a:ext cx="338400" cy="323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>
              <a:off x="2742480" y="378288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2438280" y="3753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441520" y="3502080"/>
              <a:ext cx="338040" cy="323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H="1">
              <a:off x="2533320" y="385452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427560" y="4468680"/>
              <a:ext cx="30456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525760" y="446868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912960" y="4468680"/>
              <a:ext cx="304560" cy="304920"/>
            </a:xfrm>
            <a:prstGeom prst="ellipse">
              <a:avLst/>
            </a:prstGeom>
            <a:solidFill>
              <a:srgbClr val="cc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860480" y="4044960"/>
              <a:ext cx="698400" cy="479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003480" y="4049640"/>
              <a:ext cx="476280" cy="4478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>
              <a:off x="2690280" y="4049640"/>
              <a:ext cx="127080" cy="434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1160640" y="4044960"/>
              <a:ext cx="480960" cy="461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69080" y="4739040"/>
              <a:ext cx="9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  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380680" y="473904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97120" y="483552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269520" y="4739040"/>
              <a:ext cx="83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579840" y="483552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436760" y="376884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844560" y="484020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60600" y="484344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725480" y="4468680"/>
              <a:ext cx="304920" cy="304920"/>
            </a:xfrm>
            <a:prstGeom prst="ellipse">
              <a:avLst/>
            </a:prstGeom>
            <a:solidFill>
              <a:srgbClr val="cc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567800" y="473904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950760" y="3782880"/>
              <a:ext cx="304920" cy="304920"/>
            </a:xfrm>
            <a:prstGeom prst="ellipse">
              <a:avLst/>
            </a:prstGeom>
            <a:solidFill>
              <a:srgbClr val="cc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46400" y="34866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 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465360" y="378288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461400" y="3410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200240" y="4030560"/>
              <a:ext cx="574560" cy="482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H="1">
              <a:off x="1239840" y="3405240"/>
              <a:ext cx="952560" cy="4572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479680" y="3444840"/>
              <a:ext cx="1017720" cy="417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2035080" y="3992400"/>
              <a:ext cx="1462320" cy="560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>
              <a:off x="3600360" y="4083120"/>
              <a:ext cx="14400" cy="379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H="1">
              <a:off x="1057320" y="4057560"/>
              <a:ext cx="25200" cy="4302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 flipV="1">
              <a:off x="3717720" y="4669920"/>
              <a:ext cx="169560" cy="195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>
              <a:off x="677880" y="4682880"/>
              <a:ext cx="262080" cy="182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92280" y="3782880"/>
              <a:ext cx="260280" cy="104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971720" y="369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>
              <a:off x="1917360" y="3952800"/>
              <a:ext cx="104760" cy="12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102120" y="3686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H="1">
              <a:off x="3047760" y="3940200"/>
              <a:ext cx="104760" cy="12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838680" y="3674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H="1">
              <a:off x="3784320" y="3927600"/>
              <a:ext cx="104760" cy="12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556000" y="3115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>
              <a:off x="2501640" y="3368520"/>
              <a:ext cx="10476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4381560" y="4366080"/>
            <a:ext cx="4442760" cy="810720"/>
            <a:chOff x="4381560" y="4366080"/>
            <a:chExt cx="4442760" cy="810720"/>
          </a:xfrm>
        </p:grpSpPr>
        <p:sp>
          <p:nvSpPr>
            <p:cNvPr id="1315" name=""/>
            <p:cNvSpPr/>
            <p:nvPr/>
          </p:nvSpPr>
          <p:spPr>
            <a:xfrm>
              <a:off x="6156360" y="446724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861240" y="4467240"/>
              <a:ext cx="30456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567560" y="4468680"/>
              <a:ext cx="304920" cy="304920"/>
            </a:xfrm>
            <a:prstGeom prst="ellipse">
              <a:avLst/>
            </a:prstGeom>
            <a:solidFill>
              <a:srgbClr val="cc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8272440" y="446868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745160" y="4467240"/>
              <a:ext cx="30456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450040" y="4467240"/>
              <a:ext cx="30456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513680" y="4717080"/>
              <a:ext cx="431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C ABC ABC ABC ABC A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776840" y="483408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992840" y="483408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997600" y="482904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213600" y="482904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497560" y="483696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708600" y="482904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407360" y="482904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813800" y="482904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8093160" y="482904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8308800" y="482904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8537400" y="482904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381560" y="4366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H="1">
              <a:off x="4644720" y="4619520"/>
              <a:ext cx="10476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"/>
          <p:cNvSpPr/>
          <p:nvPr/>
        </p:nvSpPr>
        <p:spPr>
          <a:xfrm>
            <a:off x="-25200" y="3056040"/>
            <a:ext cx="4038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CURVE: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 REGION: AB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 REGION: A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 SHADE: A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 SHADE: A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 SHADE: A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EMOVE CONSTANT LINK: A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EMOVE CONSTANK LINK: A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EMOVE CONSTANT LINK: A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6" name=""/>
          <p:cNvGrpSpPr/>
          <p:nvPr/>
        </p:nvGrpSpPr>
        <p:grpSpPr>
          <a:xfrm>
            <a:off x="316080" y="245160"/>
            <a:ext cx="3725280" cy="2331360"/>
            <a:chOff x="316080" y="245160"/>
            <a:chExt cx="3725280" cy="2331360"/>
          </a:xfrm>
        </p:grpSpPr>
        <p:sp>
          <p:nvSpPr>
            <p:cNvPr id="1337" name=""/>
            <p:cNvSpPr/>
            <p:nvPr/>
          </p:nvSpPr>
          <p:spPr>
            <a:xfrm>
              <a:off x="2052360" y="627480"/>
              <a:ext cx="304920" cy="3045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978560" y="245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493640" y="116064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197360" y="1042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H="1">
              <a:off x="1761840" y="879840"/>
              <a:ext cx="338400" cy="323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2612160" y="116064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>
              <a:off x="2307960" y="1131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311200" y="879840"/>
              <a:ext cx="338040" cy="323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H="1">
              <a:off x="2403000" y="123228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297240" y="1846440"/>
              <a:ext cx="30456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395440" y="184644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82640" y="1846440"/>
              <a:ext cx="304560" cy="304920"/>
            </a:xfrm>
            <a:prstGeom prst="ellipse">
              <a:avLst/>
            </a:prstGeom>
            <a:solidFill>
              <a:srgbClr val="cc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730160" y="1422720"/>
              <a:ext cx="698400" cy="479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873160" y="1427400"/>
              <a:ext cx="476280" cy="4478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2559960" y="1427400"/>
              <a:ext cx="127080" cy="434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H="1">
              <a:off x="1030320" y="1422720"/>
              <a:ext cx="480960" cy="461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38760" y="2116800"/>
              <a:ext cx="9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  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250360" y="211680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566800" y="221328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139200" y="2116800"/>
              <a:ext cx="83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449520" y="221328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306440" y="114660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14240" y="221796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330280" y="222120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595160" y="1846440"/>
              <a:ext cx="304920" cy="304920"/>
            </a:xfrm>
            <a:prstGeom prst="ellipse">
              <a:avLst/>
            </a:prstGeom>
            <a:solidFill>
              <a:srgbClr val="cc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437480" y="211680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820440" y="1160640"/>
              <a:ext cx="304920" cy="304920"/>
            </a:xfrm>
            <a:prstGeom prst="ellipse">
              <a:avLst/>
            </a:prstGeom>
            <a:solidFill>
              <a:srgbClr val="cc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16080" y="86436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 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335040" y="116064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331080" y="7880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069920" y="1408320"/>
              <a:ext cx="574560" cy="482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H="1">
              <a:off x="1109520" y="783000"/>
              <a:ext cx="952560" cy="4572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349360" y="822600"/>
              <a:ext cx="1017720" cy="417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>
              <a:off x="1904760" y="1370160"/>
              <a:ext cx="1462320" cy="560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H="1">
              <a:off x="3470040" y="1460880"/>
              <a:ext cx="14400" cy="379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>
              <a:off x="927000" y="1435320"/>
              <a:ext cx="25200" cy="4302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 flipV="1">
              <a:off x="3587400" y="2047680"/>
              <a:ext cx="169560" cy="195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V="1">
              <a:off x="547560" y="2060640"/>
              <a:ext cx="262080" cy="182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61960" y="1160640"/>
              <a:ext cx="260280" cy="104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841400" y="1077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H="1">
              <a:off x="1787040" y="1330560"/>
              <a:ext cx="104760" cy="12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971800" y="1064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>
              <a:off x="2917440" y="1317960"/>
              <a:ext cx="104760" cy="12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3708360" y="1051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3654000" y="1305360"/>
              <a:ext cx="104760" cy="12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425680" y="492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>
              <a:off x="2371320" y="746280"/>
              <a:ext cx="10476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4" name=""/>
          <p:cNvGrpSpPr/>
          <p:nvPr/>
        </p:nvGrpSpPr>
        <p:grpSpPr>
          <a:xfrm>
            <a:off x="4251240" y="1743480"/>
            <a:ext cx="4442760" cy="810720"/>
            <a:chOff x="4251240" y="1743480"/>
            <a:chExt cx="4442760" cy="810720"/>
          </a:xfrm>
        </p:grpSpPr>
        <p:sp>
          <p:nvSpPr>
            <p:cNvPr id="1385" name=""/>
            <p:cNvSpPr/>
            <p:nvPr/>
          </p:nvSpPr>
          <p:spPr>
            <a:xfrm>
              <a:off x="6026040" y="1844640"/>
              <a:ext cx="30456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730920" y="1844640"/>
              <a:ext cx="30420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437240" y="1846080"/>
              <a:ext cx="304560" cy="304920"/>
            </a:xfrm>
            <a:prstGeom prst="ellipse">
              <a:avLst/>
            </a:prstGeom>
            <a:solidFill>
              <a:srgbClr val="cc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8142120" y="1846080"/>
              <a:ext cx="30456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614840" y="1844640"/>
              <a:ext cx="30420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319720" y="1844640"/>
              <a:ext cx="30420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383360" y="2094480"/>
              <a:ext cx="431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C ABC ABC ABC ABC A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646520" y="221148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862520" y="2211480"/>
              <a:ext cx="2041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867280" y="220644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083280" y="220644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367240" y="221436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578280" y="220644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277040" y="220644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683480" y="220644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962840" y="220644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8178480" y="220644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8407080" y="220644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251240" y="1743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4514760" y="1996920"/>
              <a:ext cx="10440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5" name=""/>
          <p:cNvSpPr/>
          <p:nvPr/>
        </p:nvSpPr>
        <p:spPr>
          <a:xfrm>
            <a:off x="4362480" y="3029040"/>
            <a:ext cx="4781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ook for  REMOVE CONSTANT LINK:c,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ADD CONSTANT LINK:c,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REMOVE SH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REMOVE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REMOVE CONSTANT LINK: c,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ADD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ADD REGION 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REMOVE REGION 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in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209760" y="3743280"/>
            <a:ext cx="1764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3147840" y="4352760"/>
            <a:ext cx="1764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2795760" y="4667400"/>
            <a:ext cx="1760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390840" y="4976640"/>
            <a:ext cx="176400" cy="0"/>
          </a:xfrm>
          <a:prstGeom prst="line">
            <a:avLst/>
          </a:prstGeom>
          <a:ln w="22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571920" y="5286240"/>
            <a:ext cx="176040" cy="0"/>
          </a:xfrm>
          <a:prstGeom prst="line">
            <a:avLst/>
          </a:prstGeom>
          <a:ln w="22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753000" y="5581800"/>
            <a:ext cx="176040" cy="0"/>
          </a:xfrm>
          <a:prstGeom prst="line">
            <a:avLst/>
          </a:prstGeom>
          <a:ln w="22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400560" y="5586480"/>
            <a:ext cx="176040" cy="0"/>
          </a:xfrm>
          <a:prstGeom prst="line">
            <a:avLst/>
          </a:prstGeom>
          <a:ln w="22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34600" y="5807160"/>
            <a:ext cx="755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these deltas appear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tags are shaded in the support DAG:  OK? not re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"/>
          <p:cNvSpPr/>
          <p:nvPr/>
        </p:nvSpPr>
        <p:spPr>
          <a:xfrm>
            <a:off x="-25200" y="3056040"/>
            <a:ext cx="4038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CURVE: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 REGION: AB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 REGION: A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EMOVE SHADE: A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EMOVE SHADE: A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EMOVE SHADE: A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REMOVE CONSTANT LINK: A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REMOVE CONSTANK LINK: A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REMOVE CONSTANT LINK: A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5" name=""/>
          <p:cNvGrpSpPr/>
          <p:nvPr/>
        </p:nvGrpSpPr>
        <p:grpSpPr>
          <a:xfrm>
            <a:off x="316080" y="245160"/>
            <a:ext cx="3725280" cy="2331360"/>
            <a:chOff x="316080" y="245160"/>
            <a:chExt cx="3725280" cy="2331360"/>
          </a:xfrm>
        </p:grpSpPr>
        <p:sp>
          <p:nvSpPr>
            <p:cNvPr id="1416" name=""/>
            <p:cNvSpPr/>
            <p:nvPr/>
          </p:nvSpPr>
          <p:spPr>
            <a:xfrm>
              <a:off x="2052360" y="627480"/>
              <a:ext cx="304920" cy="3045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978560" y="245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493640" y="116064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197360" y="1042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1761840" y="879840"/>
              <a:ext cx="338400" cy="323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2612160" y="116064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2307960" y="1131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311200" y="879840"/>
              <a:ext cx="338040" cy="323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>
              <a:off x="2403000" y="123228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297240" y="1846440"/>
              <a:ext cx="30456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395440" y="184644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82640" y="1846440"/>
              <a:ext cx="304560" cy="304920"/>
            </a:xfrm>
            <a:prstGeom prst="ellipse">
              <a:avLst/>
            </a:prstGeom>
            <a:solidFill>
              <a:srgbClr val="cc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730160" y="1422720"/>
              <a:ext cx="698400" cy="479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873160" y="1427400"/>
              <a:ext cx="476280" cy="4478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H="1">
              <a:off x="2559960" y="1427400"/>
              <a:ext cx="127080" cy="434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>
              <a:off x="1030320" y="1422720"/>
              <a:ext cx="480960" cy="461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38760" y="2116800"/>
              <a:ext cx="9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  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250360" y="211680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566800" y="221328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3139200" y="2116800"/>
              <a:ext cx="83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3449520" y="221328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306440" y="114660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14240" y="221796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330280" y="222120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595160" y="1846440"/>
              <a:ext cx="304920" cy="304920"/>
            </a:xfrm>
            <a:prstGeom prst="ellipse">
              <a:avLst/>
            </a:prstGeom>
            <a:solidFill>
              <a:srgbClr val="cc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437480" y="211680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820440" y="1160640"/>
              <a:ext cx="304920" cy="304920"/>
            </a:xfrm>
            <a:prstGeom prst="ellipse">
              <a:avLst/>
            </a:prstGeom>
            <a:solidFill>
              <a:srgbClr val="cc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16080" y="86436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 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3335040" y="116064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331080" y="7880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069920" y="1408320"/>
              <a:ext cx="574560" cy="482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>
              <a:off x="1109520" y="783000"/>
              <a:ext cx="952560" cy="4572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349360" y="822600"/>
              <a:ext cx="1017720" cy="417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H="1">
              <a:off x="1904760" y="1370160"/>
              <a:ext cx="1462320" cy="560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H="1">
              <a:off x="3470040" y="1460880"/>
              <a:ext cx="14400" cy="379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927000" y="1435320"/>
              <a:ext cx="25200" cy="4302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 flipV="1">
              <a:off x="3587400" y="2047680"/>
              <a:ext cx="169560" cy="195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V="1">
              <a:off x="547560" y="2060640"/>
              <a:ext cx="262080" cy="182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61960" y="1160640"/>
              <a:ext cx="260280" cy="104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841400" y="1077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1787040" y="1330560"/>
              <a:ext cx="104760" cy="12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971800" y="1064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H="1">
              <a:off x="2917440" y="1317960"/>
              <a:ext cx="104760" cy="12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708360" y="1051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H="1">
              <a:off x="3654000" y="1305360"/>
              <a:ext cx="104760" cy="12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425680" y="492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>
              <a:off x="2371320" y="746280"/>
              <a:ext cx="10476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3" name=""/>
          <p:cNvGrpSpPr/>
          <p:nvPr/>
        </p:nvGrpSpPr>
        <p:grpSpPr>
          <a:xfrm>
            <a:off x="4251240" y="1743480"/>
            <a:ext cx="4442760" cy="810720"/>
            <a:chOff x="4251240" y="1743480"/>
            <a:chExt cx="4442760" cy="810720"/>
          </a:xfrm>
        </p:grpSpPr>
        <p:sp>
          <p:nvSpPr>
            <p:cNvPr id="1464" name=""/>
            <p:cNvSpPr/>
            <p:nvPr/>
          </p:nvSpPr>
          <p:spPr>
            <a:xfrm>
              <a:off x="6026040" y="1844640"/>
              <a:ext cx="30456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730920" y="1844640"/>
              <a:ext cx="30420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437240" y="1846080"/>
              <a:ext cx="304560" cy="304920"/>
            </a:xfrm>
            <a:prstGeom prst="ellipse">
              <a:avLst/>
            </a:prstGeom>
            <a:solidFill>
              <a:srgbClr val="cc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8142120" y="1846080"/>
              <a:ext cx="30456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614840" y="1844640"/>
              <a:ext cx="30420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319720" y="1844640"/>
              <a:ext cx="30420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383360" y="2094480"/>
              <a:ext cx="431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C ABC ABC ABC ABC A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646520" y="221148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862520" y="2211480"/>
              <a:ext cx="2041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867280" y="220644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083280" y="220644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367240" y="221436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578280" y="220644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7277040" y="220644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7683480" y="220644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962840" y="220644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8178480" y="220644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8407080" y="220644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251240" y="1743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H="1">
              <a:off x="4514760" y="1996920"/>
              <a:ext cx="10440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4" name=""/>
          <p:cNvSpPr/>
          <p:nvPr/>
        </p:nvSpPr>
        <p:spPr>
          <a:xfrm>
            <a:off x="4362480" y="3029040"/>
            <a:ext cx="4781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REMOVE CONSTANT LINK:c,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ADD CONSTANT LINK:c,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ook for  REMOVE SH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REMOVE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REMOVE CONSTANT LINK: c,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ADD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ADD REGION 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REMOVE REGION 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in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209760" y="3743280"/>
            <a:ext cx="1764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147840" y="4352760"/>
            <a:ext cx="176400" cy="0"/>
          </a:xfrm>
          <a:prstGeom prst="line">
            <a:avLst/>
          </a:prstGeom>
          <a:ln w="22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795760" y="4667400"/>
            <a:ext cx="176040" cy="0"/>
          </a:xfrm>
          <a:prstGeom prst="line">
            <a:avLst/>
          </a:prstGeom>
          <a:ln w="22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390840" y="4976640"/>
            <a:ext cx="176400" cy="0"/>
          </a:xfrm>
          <a:prstGeom prst="line">
            <a:avLst/>
          </a:prstGeom>
          <a:ln w="22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3571920" y="5286240"/>
            <a:ext cx="176040" cy="0"/>
          </a:xfrm>
          <a:prstGeom prst="line">
            <a:avLst/>
          </a:prstGeom>
          <a:ln w="22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753000" y="5581800"/>
            <a:ext cx="176040" cy="0"/>
          </a:xfrm>
          <a:prstGeom prst="line">
            <a:avLst/>
          </a:prstGeom>
          <a:ln w="22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3400560" y="5586480"/>
            <a:ext cx="176040" cy="0"/>
          </a:xfrm>
          <a:prstGeom prst="line">
            <a:avLst/>
          </a:prstGeom>
          <a:ln w="22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2329920" y="5875920"/>
            <a:ext cx="39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 OK to remove sh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/>
          <p:nvPr/>
        </p:nvSpPr>
        <p:spPr>
          <a:xfrm>
            <a:off x="-25200" y="3056040"/>
            <a:ext cx="4038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 CURVE: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 REGION: AB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 REGION: A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REMOVE SHADE: A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REMOVE SHADE: A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REMOVE SHADE: A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REMOVE CONSTANT LINK: A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REMOVE CONSTANK LINK: A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REMOVE CONSTANT LINK: A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4" name=""/>
          <p:cNvGrpSpPr/>
          <p:nvPr/>
        </p:nvGrpSpPr>
        <p:grpSpPr>
          <a:xfrm>
            <a:off x="316080" y="245160"/>
            <a:ext cx="3725280" cy="2331360"/>
            <a:chOff x="316080" y="245160"/>
            <a:chExt cx="3725280" cy="2331360"/>
          </a:xfrm>
        </p:grpSpPr>
        <p:sp>
          <p:nvSpPr>
            <p:cNvPr id="1495" name=""/>
            <p:cNvSpPr/>
            <p:nvPr/>
          </p:nvSpPr>
          <p:spPr>
            <a:xfrm>
              <a:off x="2052360" y="627480"/>
              <a:ext cx="304920" cy="3045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978560" y="245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493640" y="116064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197360" y="1042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1761840" y="879840"/>
              <a:ext cx="338400" cy="323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>
              <a:off x="2612160" y="116064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H="1">
              <a:off x="2307960" y="1131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311200" y="879840"/>
              <a:ext cx="338040" cy="323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H="1">
              <a:off x="2403000" y="123228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297240" y="1846440"/>
              <a:ext cx="30456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395440" y="184644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82640" y="1846440"/>
              <a:ext cx="304560" cy="304920"/>
            </a:xfrm>
            <a:prstGeom prst="ellipse">
              <a:avLst/>
            </a:prstGeom>
            <a:solidFill>
              <a:srgbClr val="cc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730160" y="1422720"/>
              <a:ext cx="698400" cy="479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873160" y="1427400"/>
              <a:ext cx="476280" cy="4478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>
              <a:off x="2559960" y="1427400"/>
              <a:ext cx="127080" cy="434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1030320" y="1422720"/>
              <a:ext cx="480960" cy="461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38760" y="2116800"/>
              <a:ext cx="9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  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250360" y="211680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566800" y="221328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139200" y="2116800"/>
              <a:ext cx="83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449520" y="221328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306440" y="114660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14240" y="221796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330280" y="222120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595160" y="1846440"/>
              <a:ext cx="304920" cy="304920"/>
            </a:xfrm>
            <a:prstGeom prst="ellipse">
              <a:avLst/>
            </a:prstGeom>
            <a:solidFill>
              <a:srgbClr val="cc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437480" y="211680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20440" y="1160640"/>
              <a:ext cx="304920" cy="304920"/>
            </a:xfrm>
            <a:prstGeom prst="ellipse">
              <a:avLst/>
            </a:prstGeom>
            <a:solidFill>
              <a:srgbClr val="cc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16080" y="86436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 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335040" y="116064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3331080" y="7880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069920" y="1408320"/>
              <a:ext cx="574560" cy="482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1109520" y="783000"/>
              <a:ext cx="952560" cy="4572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349360" y="822600"/>
              <a:ext cx="1017720" cy="417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1904760" y="1370160"/>
              <a:ext cx="1462320" cy="560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3470040" y="1460880"/>
              <a:ext cx="14400" cy="379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927000" y="1435320"/>
              <a:ext cx="25200" cy="4302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 flipV="1">
              <a:off x="3587400" y="2047680"/>
              <a:ext cx="169560" cy="195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V="1">
              <a:off x="547560" y="2060640"/>
              <a:ext cx="262080" cy="182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561960" y="1160640"/>
              <a:ext cx="260280" cy="104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841400" y="1077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1787040" y="1330560"/>
              <a:ext cx="104760" cy="12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971800" y="1064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2917440" y="1317960"/>
              <a:ext cx="104760" cy="12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708360" y="1051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>
              <a:off x="3654000" y="1305360"/>
              <a:ext cx="104760" cy="12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425680" y="492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>
              <a:off x="2371320" y="746280"/>
              <a:ext cx="10476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2" name=""/>
          <p:cNvGrpSpPr/>
          <p:nvPr/>
        </p:nvGrpSpPr>
        <p:grpSpPr>
          <a:xfrm>
            <a:off x="4251240" y="1743480"/>
            <a:ext cx="4442760" cy="810720"/>
            <a:chOff x="4251240" y="1743480"/>
            <a:chExt cx="4442760" cy="810720"/>
          </a:xfrm>
        </p:grpSpPr>
        <p:sp>
          <p:nvSpPr>
            <p:cNvPr id="1543" name=""/>
            <p:cNvSpPr/>
            <p:nvPr/>
          </p:nvSpPr>
          <p:spPr>
            <a:xfrm>
              <a:off x="6026040" y="1844640"/>
              <a:ext cx="30456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730920" y="1844640"/>
              <a:ext cx="30420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7437240" y="1846080"/>
              <a:ext cx="304560" cy="304920"/>
            </a:xfrm>
            <a:prstGeom prst="ellipse">
              <a:avLst/>
            </a:prstGeom>
            <a:solidFill>
              <a:srgbClr val="cc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8142120" y="1846080"/>
              <a:ext cx="30456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614840" y="1844640"/>
              <a:ext cx="30420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319720" y="1844640"/>
              <a:ext cx="30420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383360" y="2094480"/>
              <a:ext cx="431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C ABC ABC ABC ABC A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646520" y="221148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862520" y="2211480"/>
              <a:ext cx="2041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867280" y="220644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083280" y="220644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367240" y="221436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578280" y="220644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277040" y="220644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7683480" y="220644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7962840" y="220644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8178480" y="220644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8407080" y="220644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251240" y="1743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4514760" y="1996920"/>
              <a:ext cx="10440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3" name=""/>
          <p:cNvSpPr/>
          <p:nvPr/>
        </p:nvSpPr>
        <p:spPr>
          <a:xfrm>
            <a:off x="4362480" y="3029040"/>
            <a:ext cx="4781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REMOVE CONSTANT LINK:c,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ADD CONSTANT LINK:c,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REMOVE SH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REMOVE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REMOVE CONSTANT LINK: c,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ook for  ADD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ADD REGION 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REMOVE REGION 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in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209760" y="3743280"/>
            <a:ext cx="1764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147840" y="4352760"/>
            <a:ext cx="176400" cy="0"/>
          </a:xfrm>
          <a:prstGeom prst="line">
            <a:avLst/>
          </a:prstGeom>
          <a:ln w="22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2795760" y="4667400"/>
            <a:ext cx="176040" cy="0"/>
          </a:xfrm>
          <a:prstGeom prst="line">
            <a:avLst/>
          </a:prstGeom>
          <a:ln w="22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390840" y="4976640"/>
            <a:ext cx="176400" cy="0"/>
          </a:xfrm>
          <a:prstGeom prst="line">
            <a:avLst/>
          </a:prstGeom>
          <a:ln w="22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3571920" y="5286240"/>
            <a:ext cx="176040" cy="0"/>
          </a:xfrm>
          <a:prstGeom prst="line">
            <a:avLst/>
          </a:prstGeom>
          <a:ln w="22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753000" y="5581800"/>
            <a:ext cx="176040" cy="0"/>
          </a:xfrm>
          <a:prstGeom prst="line">
            <a:avLst/>
          </a:prstGeom>
          <a:ln w="22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400560" y="5586480"/>
            <a:ext cx="176040" cy="0"/>
          </a:xfrm>
          <a:prstGeom prst="line">
            <a:avLst/>
          </a:prstGeom>
          <a:ln w="22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091520" y="5875920"/>
            <a:ext cx="64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we only have one ADD CURVE delta:  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"/>
          <p:cNvSpPr/>
          <p:nvPr/>
        </p:nvSpPr>
        <p:spPr>
          <a:xfrm>
            <a:off x="-25200" y="3056040"/>
            <a:ext cx="4038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ADD CURVE: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EMOVE REGION: AB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EMOVE REGION: A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REMOVE SHADE: A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REMOVE SHADE: A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REMOVE SHADE: A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REMOVE CONSTANT LINK: A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REMOVE CONSTANK LINK: A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REMOVE CONSTANT LINK: A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3" name=""/>
          <p:cNvGrpSpPr/>
          <p:nvPr/>
        </p:nvGrpSpPr>
        <p:grpSpPr>
          <a:xfrm>
            <a:off x="316080" y="245160"/>
            <a:ext cx="3725280" cy="2331360"/>
            <a:chOff x="316080" y="245160"/>
            <a:chExt cx="3725280" cy="2331360"/>
          </a:xfrm>
        </p:grpSpPr>
        <p:sp>
          <p:nvSpPr>
            <p:cNvPr id="1574" name=""/>
            <p:cNvSpPr/>
            <p:nvPr/>
          </p:nvSpPr>
          <p:spPr>
            <a:xfrm>
              <a:off x="2052360" y="627480"/>
              <a:ext cx="304920" cy="3045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978560" y="245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493640" y="116064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197360" y="1042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1761840" y="879840"/>
              <a:ext cx="338400" cy="323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H="1">
              <a:off x="2612160" y="116064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2307960" y="1131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2311200" y="879840"/>
              <a:ext cx="338040" cy="323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2403000" y="123228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297240" y="1846440"/>
              <a:ext cx="30456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395440" y="184644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82640" y="1846440"/>
              <a:ext cx="304560" cy="304920"/>
            </a:xfrm>
            <a:prstGeom prst="ellipse">
              <a:avLst/>
            </a:prstGeom>
            <a:solidFill>
              <a:srgbClr val="cc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1730160" y="1422720"/>
              <a:ext cx="698400" cy="479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873160" y="1427400"/>
              <a:ext cx="476280" cy="4478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>
              <a:off x="2559960" y="1427400"/>
              <a:ext cx="127080" cy="434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H="1">
              <a:off x="1030320" y="1422720"/>
              <a:ext cx="480960" cy="461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38760" y="2116800"/>
              <a:ext cx="9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  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250360" y="211680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566800" y="221328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139200" y="2116800"/>
              <a:ext cx="83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449520" y="221328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1306440" y="114660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14240" y="221796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330280" y="222120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1595160" y="1846440"/>
              <a:ext cx="304920" cy="304920"/>
            </a:xfrm>
            <a:prstGeom prst="ellipse">
              <a:avLst/>
            </a:prstGeom>
            <a:solidFill>
              <a:srgbClr val="cc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1437480" y="211680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20440" y="1160640"/>
              <a:ext cx="304920" cy="304920"/>
            </a:xfrm>
            <a:prstGeom prst="ellipse">
              <a:avLst/>
            </a:prstGeom>
            <a:solidFill>
              <a:srgbClr val="cc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316080" y="86436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 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335040" y="1160640"/>
              <a:ext cx="30492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331080" y="7880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069920" y="1408320"/>
              <a:ext cx="574560" cy="482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H="1">
              <a:off x="1109520" y="783000"/>
              <a:ext cx="952560" cy="4572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349360" y="822600"/>
              <a:ext cx="1017720" cy="417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H="1">
              <a:off x="1904760" y="1370160"/>
              <a:ext cx="1462320" cy="560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H="1">
              <a:off x="3470040" y="1460880"/>
              <a:ext cx="14400" cy="379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927000" y="1435320"/>
              <a:ext cx="25200" cy="4302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 flipV="1">
              <a:off x="3587400" y="2047680"/>
              <a:ext cx="169560" cy="195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V="1">
              <a:off x="547560" y="2060640"/>
              <a:ext cx="262080" cy="182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61960" y="1160640"/>
              <a:ext cx="260280" cy="104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841400" y="1077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H="1">
              <a:off x="1787040" y="1330560"/>
              <a:ext cx="104760" cy="12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971800" y="1064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>
              <a:off x="2917440" y="1317960"/>
              <a:ext cx="104760" cy="12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708360" y="1051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>
              <a:off x="3654000" y="1305360"/>
              <a:ext cx="104760" cy="12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425680" y="492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>
              <a:off x="2371320" y="746280"/>
              <a:ext cx="10476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1" name=""/>
          <p:cNvGrpSpPr/>
          <p:nvPr/>
        </p:nvGrpSpPr>
        <p:grpSpPr>
          <a:xfrm>
            <a:off x="4251240" y="1743480"/>
            <a:ext cx="4442760" cy="810720"/>
            <a:chOff x="4251240" y="1743480"/>
            <a:chExt cx="4442760" cy="810720"/>
          </a:xfrm>
        </p:grpSpPr>
        <p:sp>
          <p:nvSpPr>
            <p:cNvPr id="1622" name=""/>
            <p:cNvSpPr/>
            <p:nvPr/>
          </p:nvSpPr>
          <p:spPr>
            <a:xfrm>
              <a:off x="6026040" y="1844640"/>
              <a:ext cx="30456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730920" y="1844640"/>
              <a:ext cx="30420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437240" y="1846080"/>
              <a:ext cx="304560" cy="304920"/>
            </a:xfrm>
            <a:prstGeom prst="ellipse">
              <a:avLst/>
            </a:prstGeom>
            <a:solidFill>
              <a:srgbClr val="cc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8142120" y="1846080"/>
              <a:ext cx="30456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614840" y="1844640"/>
              <a:ext cx="30420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319720" y="1844640"/>
              <a:ext cx="304200" cy="304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4383360" y="2094480"/>
              <a:ext cx="431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C ABC ABC ABC ABC A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646520" y="221148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4862520" y="2211480"/>
              <a:ext cx="2041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867280" y="220644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083280" y="220644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367240" y="221436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578280" y="220644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277040" y="220644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683480" y="220644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962840" y="220644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8178480" y="220644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8407080" y="2206440"/>
              <a:ext cx="204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251240" y="1743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H="1">
              <a:off x="4514760" y="1996920"/>
              <a:ext cx="104400" cy="12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2" name=""/>
          <p:cNvSpPr/>
          <p:nvPr/>
        </p:nvSpPr>
        <p:spPr>
          <a:xfrm>
            <a:off x="4362480" y="3029040"/>
            <a:ext cx="4781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REMOVE CONSTANT LINK:c,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ADD CONSTANT LINK:c,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REMOVE SH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REMOVE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REMOVE CONSTANT LINK: c,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ADD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Look for  ADD REGION 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REMOVE REGION 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 in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3209760" y="3743280"/>
            <a:ext cx="176400" cy="0"/>
          </a:xfrm>
          <a:prstGeom prst="line">
            <a:avLst/>
          </a:prstGeom>
          <a:ln w="22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3147840" y="4352760"/>
            <a:ext cx="1764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2795760" y="4667400"/>
            <a:ext cx="17604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390840" y="4976640"/>
            <a:ext cx="1764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571920" y="5286240"/>
            <a:ext cx="17604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3753000" y="5581800"/>
            <a:ext cx="17604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400560" y="5586480"/>
            <a:ext cx="17604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"/>
          <p:cNvSpPr/>
          <p:nvPr/>
        </p:nvSpPr>
        <p:spPr>
          <a:xfrm>
            <a:off x="1910520" y="1413000"/>
            <a:ext cx="492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 2 only work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applications of an inference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inference ru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converting diagrams to DAG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DAG delt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ecking homogeneous diagram chan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unifi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ogic and DAG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"/>
          <p:cNvSpPr/>
          <p:nvPr/>
        </p:nvSpPr>
        <p:spPr>
          <a:xfrm>
            <a:off x="349560" y="1482480"/>
            <a:ext cx="8462160" cy="36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Comic Sans MS"/>
              </a:rPr>
              <a:t>Algorithm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have a “unification ru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rom two Euler diagrams to a resulting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ses concept of “counterpart” (= corresponding reg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gorithm 3 detects, from DAG1, DAG2, Del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ether Deltas could’ve been obtained from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id application of the unification rule on Euler dia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/>
          <p:nvPr/>
        </p:nvSpPr>
        <p:spPr>
          <a:xfrm>
            <a:off x="6373800" y="3795840"/>
            <a:ext cx="304920" cy="30456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299640" y="3413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5815080" y="4329000"/>
            <a:ext cx="30456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077520" y="4236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 flipH="1">
            <a:off x="6082920" y="4048200"/>
            <a:ext cx="338040" cy="323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H="1">
            <a:off x="6934320" y="4329000"/>
            <a:ext cx="30456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 flipH="1">
            <a:off x="6502320" y="4197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6632640" y="4048200"/>
            <a:ext cx="338040" cy="323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H="1">
            <a:off x="6585120" y="4299120"/>
            <a:ext cx="2044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618320" y="5014800"/>
            <a:ext cx="30492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6716880" y="5014800"/>
            <a:ext cx="30456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103720" y="5014800"/>
            <a:ext cx="304920" cy="304920"/>
          </a:xfrm>
          <a:prstGeom prst="ellipse">
            <a:avLst/>
          </a:prstGeom>
          <a:solidFill>
            <a:srgbClr val="cc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6051600" y="4591080"/>
            <a:ext cx="698400" cy="4795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194600" y="4595760"/>
            <a:ext cx="476280" cy="447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H="1">
            <a:off x="6881400" y="4595760"/>
            <a:ext cx="127080" cy="4348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H="1">
            <a:off x="5351400" y="4591080"/>
            <a:ext cx="480960" cy="4618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4939560" y="528516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6571440" y="528516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888240" y="538164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7473240" y="528516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7770960" y="5381640"/>
            <a:ext cx="2044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173640" y="434016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5035680" y="5386320"/>
            <a:ext cx="2044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6651720" y="538956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5916600" y="5014800"/>
            <a:ext cx="304920" cy="304920"/>
          </a:xfrm>
          <a:prstGeom prst="ellipse">
            <a:avLst/>
          </a:prstGeom>
          <a:solidFill>
            <a:srgbClr val="cc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5758920" y="528516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5141880" y="4329000"/>
            <a:ext cx="304920" cy="304920"/>
          </a:xfrm>
          <a:prstGeom prst="ellipse">
            <a:avLst/>
          </a:prstGeom>
          <a:solidFill>
            <a:srgbClr val="cc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4891320" y="4032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656480" y="4329000"/>
            <a:ext cx="30492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7880760" y="4032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5391000" y="4576680"/>
            <a:ext cx="574920" cy="482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H="1">
            <a:off x="5430600" y="3951360"/>
            <a:ext cx="952200" cy="457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670800" y="3990960"/>
            <a:ext cx="1017360" cy="417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>
            <a:off x="6225840" y="4538520"/>
            <a:ext cx="1461960" cy="5605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H="1">
            <a:off x="7791480" y="4629240"/>
            <a:ext cx="14400" cy="3794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flipH="1">
            <a:off x="5248440" y="4603680"/>
            <a:ext cx="25200" cy="43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942320" y="5172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8096040" y="4908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189840" y="521964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343200" y="49568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219800" y="4451400"/>
            <a:ext cx="1764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7297200" y="41882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6667560" y="3911760"/>
            <a:ext cx="1760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6744960" y="3648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977240" y="446256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8130960" y="4199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5442120" y="44719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5584320" y="4202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2" name=""/>
          <p:cNvGrpSpPr/>
          <p:nvPr/>
        </p:nvGrpSpPr>
        <p:grpSpPr>
          <a:xfrm>
            <a:off x="2836800" y="160560"/>
            <a:ext cx="5603760" cy="3116160"/>
            <a:chOff x="2836800" y="160560"/>
            <a:chExt cx="5603760" cy="3116160"/>
          </a:xfrm>
        </p:grpSpPr>
        <p:sp>
          <p:nvSpPr>
            <p:cNvPr id="1703" name=""/>
            <p:cNvSpPr/>
            <p:nvPr/>
          </p:nvSpPr>
          <p:spPr>
            <a:xfrm>
              <a:off x="6802560" y="1192320"/>
              <a:ext cx="1341360" cy="799920"/>
            </a:xfrm>
            <a:prstGeom prst="ellipse">
              <a:avLst/>
            </a:prstGeom>
            <a:solidFill>
              <a:srgbClr val="cc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322960" y="847800"/>
              <a:ext cx="625320" cy="469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V="1">
              <a:off x="5318280" y="1882440"/>
              <a:ext cx="587160" cy="692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048120" y="2212920"/>
              <a:ext cx="915840" cy="781200"/>
            </a:xfrm>
            <a:prstGeom prst="ellipse">
              <a:avLst/>
            </a:prstGeom>
            <a:solidFill>
              <a:srgbClr val="cccc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930760" y="18658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836800" y="1911240"/>
              <a:ext cx="2406600" cy="13654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237120" y="2337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257880" y="1271520"/>
              <a:ext cx="911160" cy="7873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132960" y="922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048360" y="966960"/>
              <a:ext cx="2392200" cy="13777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413040" y="12848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985160" y="9356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825960" y="1254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H="1">
              <a:off x="6624360" y="1504800"/>
              <a:ext cx="260280" cy="381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7" name=""/>
            <p:cNvGrpSpPr/>
            <p:nvPr/>
          </p:nvGrpSpPr>
          <p:grpSpPr>
            <a:xfrm>
              <a:off x="2841480" y="160560"/>
              <a:ext cx="2392200" cy="1421640"/>
              <a:chOff x="2841480" y="160560"/>
              <a:chExt cx="2392200" cy="1421640"/>
            </a:xfrm>
          </p:grpSpPr>
          <p:sp>
            <p:nvSpPr>
              <p:cNvPr id="1718" name=""/>
              <p:cNvSpPr/>
              <p:nvPr/>
            </p:nvSpPr>
            <p:spPr>
              <a:xfrm>
                <a:off x="3051000" y="509400"/>
                <a:ext cx="911160" cy="7869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2926080" y="1605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2841480" y="204480"/>
                <a:ext cx="2392200" cy="137772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3244320" y="63648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2" name=""/>
            <p:cNvSpPr/>
            <p:nvPr/>
          </p:nvSpPr>
          <p:spPr>
            <a:xfrm>
              <a:off x="6836040" y="1487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7250400" y="1458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H="1">
              <a:off x="7030800" y="1670040"/>
              <a:ext cx="260280" cy="381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5" name=""/>
          <p:cNvSpPr/>
          <p:nvPr/>
        </p:nvSpPr>
        <p:spPr>
          <a:xfrm>
            <a:off x="5402160" y="5189400"/>
            <a:ext cx="176400" cy="142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508720" y="511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6167520" y="5302080"/>
            <a:ext cx="176040" cy="142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274080" y="522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5450040" y="4506840"/>
            <a:ext cx="176040" cy="142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5556240" y="443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127920" y="4481640"/>
            <a:ext cx="176040" cy="142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6234120" y="4408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942320" y="4573440"/>
            <a:ext cx="176040" cy="142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8048880" y="450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 flipV="1">
            <a:off x="6624720" y="3630600"/>
            <a:ext cx="215640" cy="209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6759720" y="331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1646280" y="3611520"/>
            <a:ext cx="30492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1572120" y="3229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1087560" y="4145040"/>
            <a:ext cx="304560" cy="30456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1400760" y="4102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flipH="1">
            <a:off x="1355400" y="3863880"/>
            <a:ext cx="338040" cy="324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1496880" y="420696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2154240" y="4145040"/>
            <a:ext cx="304920" cy="30456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2378520" y="3848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1930320" y="3859200"/>
            <a:ext cx="287280" cy="2998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1940040" y="3727440"/>
            <a:ext cx="1760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2017440" y="3464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2475000" y="427824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2628360" y="40154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2243160" y="5041800"/>
            <a:ext cx="30492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2169000" y="4659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1684440" y="5575320"/>
            <a:ext cx="304560" cy="304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2005200" y="5532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flipH="1">
            <a:off x="1952280" y="5294160"/>
            <a:ext cx="338040" cy="324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2093760" y="5637240"/>
            <a:ext cx="2048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2751120" y="5575320"/>
            <a:ext cx="304920" cy="304920"/>
          </a:xfrm>
          <a:prstGeom prst="ellipse">
            <a:avLst/>
          </a:prstGeom>
          <a:solidFill>
            <a:srgbClr val="cc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2982960" y="5279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2527200" y="5289480"/>
            <a:ext cx="287280" cy="300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2536920" y="5157720"/>
            <a:ext cx="1760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2606760" y="489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3033720" y="57085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3179880" y="544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0" y="1361520"/>
            <a:ext cx="279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Un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3132000" y="3979800"/>
            <a:ext cx="1420920" cy="208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 flipV="1">
            <a:off x="3444840" y="4852800"/>
            <a:ext cx="1147680" cy="43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inference ru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converting diagrams to DAG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DAG delt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ecking homogeneous diagram chan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ifi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logic and DAG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inference ru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converting diagrams to DAG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DAG delt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ecking homogeneous diagram chan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ifi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ogic and DAG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"/>
          <p:cNvSpPr/>
          <p:nvPr/>
        </p:nvSpPr>
        <p:spPr>
          <a:xfrm>
            <a:off x="294840" y="1299600"/>
            <a:ext cx="884484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Comic Sans MS"/>
              </a:rPr>
              <a:t>Algorithm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 an Euler diagram and a statement in logic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n the logic statement b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observe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from the Euler diagr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definitely need semantics in order to deter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ether this algorithm is sou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egin by manipulating the logic statement i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normal form then work out a DAG for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"/>
          <p:cNvSpPr/>
          <p:nvPr/>
        </p:nvSpPr>
        <p:spPr>
          <a:xfrm>
            <a:off x="668880" y="85680"/>
            <a:ext cx="8088480" cy="36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Comic Sans MS"/>
              </a:rPr>
              <a:t>EV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magine a world in which we hav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set of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redicate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set of contour labels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{A, B, C,…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set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erm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ons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union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Var = {r, s, t, …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uild up formulae 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0" name=""/>
              <p:cNvSpPr txBox="1"/>
              <p:nvPr/>
            </p:nvSpPr>
            <p:spPr>
              <a:xfrm>
                <a:off x="1544760" y="3467160"/>
                <a:ext cx="6891120" cy="31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rPr>
                            <m:lit/>
                            <m:nor/>
                          </m:rPr>
                          <m:t xml:space="preserve">edicates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Terms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EVOF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EVOF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¬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EVOF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ii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EVOF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EVOF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v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EVOF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EVOF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EVOF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EVOF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EVOF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∃</m:t>
                        </m:r>
                        <m:r>
                          <m:t xml:space="preserve">tϕ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EVO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71" name=""/>
              <p:cNvSpPr txBox="1"/>
              <p:nvPr/>
            </p:nvSpPr>
            <p:spPr>
              <a:xfrm>
                <a:off x="320760" y="404640"/>
                <a:ext cx="3678120" cy="207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∧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¬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  <m:r>
                          <m:t xml:space="preserve">∨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∃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∧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¬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  <m:r>
                          <m:t xml:space="preserve">∨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2" name=""/>
              <p:cNvSpPr txBox="1"/>
              <p:nvPr/>
            </p:nvSpPr>
            <p:spPr>
              <a:xfrm>
                <a:off x="5283360" y="404640"/>
                <a:ext cx="3187440" cy="207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∧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¬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  <m:r>
                          <m:t xml:space="preserve">∨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¬</m:t>
                        </m:r>
                        <m:r>
                          <m:t xml:space="preserve">∃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∃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∃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t xml:space="preserve">¬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Ns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3" name=""/>
              <p:cNvSpPr txBox="1"/>
              <p:nvPr/>
            </p:nvSpPr>
            <p:spPr>
              <a:xfrm>
                <a:off x="1544760" y="3467160"/>
                <a:ext cx="6891120" cy="31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rPr>
                            <m:lit/>
                            <m:nor/>
                          </m:rPr>
                          <m:t xml:space="preserve">edicates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Terms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EVOF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EVOF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¬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EVOF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ii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EVOF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EVOF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v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EVOF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EVOF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EVOF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EVOF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EVOF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∃</m:t>
                        </m:r>
                        <m:r>
                          <m:t xml:space="preserve">tϕ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EVO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74" name=""/>
          <p:cNvSpPr/>
          <p:nvPr/>
        </p:nvSpPr>
        <p:spPr>
          <a:xfrm>
            <a:off x="1366920" y="262620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in EV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5671080" y="255636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n’t in EV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"/>
          <p:cNvSpPr/>
          <p:nvPr/>
        </p:nvSpPr>
        <p:spPr>
          <a:xfrm>
            <a:off x="2151720" y="791640"/>
            <a:ext cx="5124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 a statement in FO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y to convert it into EVC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(?) or (?) or (?))  and ((?) or (?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ere the ?s are formulae of EV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7" name=""/>
              <p:cNvSpPr txBox="1"/>
              <p:nvPr/>
            </p:nvSpPr>
            <p:spPr>
              <a:xfrm>
                <a:off x="2709720" y="3962520"/>
                <a:ext cx="3897360" cy="25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∧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¬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∃</m:t>
                            </m:r>
                            <m:r>
                              <m:t xml:space="preserve">r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q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∧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¬</m:t>
                                    </m:r>
                                    <m:r>
                                      <m:t xml:space="preserve">B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q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∨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"/>
          <p:cNvSpPr/>
          <p:nvPr/>
        </p:nvSpPr>
        <p:spPr>
          <a:xfrm>
            <a:off x="1447920" y="3287880"/>
            <a:ext cx="1657080" cy="11347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9" name=""/>
          <p:cNvGrpSpPr/>
          <p:nvPr/>
        </p:nvGrpSpPr>
        <p:grpSpPr>
          <a:xfrm>
            <a:off x="5100480" y="2806920"/>
            <a:ext cx="1767600" cy="1332720"/>
            <a:chOff x="5100480" y="2806920"/>
            <a:chExt cx="1767600" cy="1332720"/>
          </a:xfrm>
        </p:grpSpPr>
        <p:sp>
          <p:nvSpPr>
            <p:cNvPr id="1780" name=""/>
            <p:cNvSpPr/>
            <p:nvPr/>
          </p:nvSpPr>
          <p:spPr>
            <a:xfrm>
              <a:off x="5659200" y="3189240"/>
              <a:ext cx="304920" cy="30420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585400" y="2806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100480" y="3722400"/>
              <a:ext cx="304920" cy="3045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413680" y="3679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H="1">
              <a:off x="5368680" y="3441600"/>
              <a:ext cx="338400" cy="323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510160" y="378432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6167160" y="3722400"/>
              <a:ext cx="304920" cy="3045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6467760" y="3641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943600" y="3436920"/>
              <a:ext cx="287280" cy="299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9" name=""/>
          <p:cNvSpPr/>
          <p:nvPr/>
        </p:nvSpPr>
        <p:spPr>
          <a:xfrm>
            <a:off x="2716920" y="3054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0" name=""/>
              <p:cNvSpPr txBox="1"/>
              <p:nvPr/>
            </p:nvSpPr>
            <p:spPr>
              <a:xfrm>
                <a:off x="2214720" y="177840"/>
                <a:ext cx="3897000" cy="25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∧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¬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∃</m:t>
                            </m:r>
                            <m:r>
                              <m:t xml:space="preserve">r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q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∧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¬</m:t>
                                    </m:r>
                                    <m:r>
                                      <m:t xml:space="preserve">B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q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∨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91" name=""/>
          <p:cNvSpPr/>
          <p:nvPr/>
        </p:nvSpPr>
        <p:spPr>
          <a:xfrm>
            <a:off x="5200560" y="566640"/>
            <a:ext cx="352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ild 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but easier to show it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building a EVDia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"/>
          <p:cNvSpPr/>
          <p:nvPr/>
        </p:nvSpPr>
        <p:spPr>
          <a:xfrm>
            <a:off x="1447920" y="3287880"/>
            <a:ext cx="1657080" cy="11347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3" name=""/>
          <p:cNvGrpSpPr/>
          <p:nvPr/>
        </p:nvGrpSpPr>
        <p:grpSpPr>
          <a:xfrm>
            <a:off x="5100480" y="2806920"/>
            <a:ext cx="1767600" cy="1332720"/>
            <a:chOff x="5100480" y="2806920"/>
            <a:chExt cx="1767600" cy="1332720"/>
          </a:xfrm>
        </p:grpSpPr>
        <p:sp>
          <p:nvSpPr>
            <p:cNvPr id="1794" name=""/>
            <p:cNvSpPr/>
            <p:nvPr/>
          </p:nvSpPr>
          <p:spPr>
            <a:xfrm>
              <a:off x="5659200" y="3189240"/>
              <a:ext cx="304920" cy="30420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585400" y="2806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100480" y="3722400"/>
              <a:ext cx="304920" cy="3045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5413680" y="3679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>
              <a:off x="5368680" y="3441600"/>
              <a:ext cx="338400" cy="323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510160" y="378432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167160" y="3722400"/>
              <a:ext cx="304920" cy="3045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467760" y="3641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943600" y="3436920"/>
              <a:ext cx="287280" cy="299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3" name=""/>
          <p:cNvSpPr/>
          <p:nvPr/>
        </p:nvSpPr>
        <p:spPr>
          <a:xfrm>
            <a:off x="2716920" y="3054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2030400" y="3792600"/>
            <a:ext cx="1657440" cy="113508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3306960" y="3559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5348520" y="42328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7" name=""/>
              <p:cNvSpPr txBox="1"/>
              <p:nvPr/>
            </p:nvSpPr>
            <p:spPr>
              <a:xfrm>
                <a:off x="2214720" y="177840"/>
                <a:ext cx="3897000" cy="25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∧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¬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∃</m:t>
                            </m:r>
                            <m:r>
                              <m:t xml:space="preserve">r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q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∧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¬</m:t>
                                    </m:r>
                                    <m:r>
                                      <m:t xml:space="preserve">B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q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∨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8" name=""/>
          <p:cNvSpPr/>
          <p:nvPr/>
        </p:nvSpPr>
        <p:spPr>
          <a:xfrm>
            <a:off x="5200560" y="566640"/>
            <a:ext cx="352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ild 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but easier to show it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building a EVDia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"/>
          <p:cNvSpPr/>
          <p:nvPr/>
        </p:nvSpPr>
        <p:spPr>
          <a:xfrm>
            <a:off x="1447920" y="3287880"/>
            <a:ext cx="1657080" cy="11347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0" name=""/>
          <p:cNvGrpSpPr/>
          <p:nvPr/>
        </p:nvGrpSpPr>
        <p:grpSpPr>
          <a:xfrm>
            <a:off x="5100480" y="2806920"/>
            <a:ext cx="1767600" cy="1332720"/>
            <a:chOff x="5100480" y="2806920"/>
            <a:chExt cx="1767600" cy="1332720"/>
          </a:xfrm>
        </p:grpSpPr>
        <p:sp>
          <p:nvSpPr>
            <p:cNvPr id="1811" name=""/>
            <p:cNvSpPr/>
            <p:nvPr/>
          </p:nvSpPr>
          <p:spPr>
            <a:xfrm>
              <a:off x="5659200" y="3189240"/>
              <a:ext cx="304920" cy="30420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585400" y="2806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100480" y="3722400"/>
              <a:ext cx="304920" cy="3045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413680" y="3679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 flipH="1">
              <a:off x="5368680" y="3441600"/>
              <a:ext cx="338400" cy="323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510160" y="378432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6167160" y="3722400"/>
              <a:ext cx="304920" cy="3045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6467760" y="3641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943600" y="3436920"/>
              <a:ext cx="287280" cy="299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0" name=""/>
          <p:cNvSpPr/>
          <p:nvPr/>
        </p:nvSpPr>
        <p:spPr>
          <a:xfrm>
            <a:off x="2716920" y="3054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2030400" y="3792600"/>
            <a:ext cx="1657440" cy="113508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3306960" y="3559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5348520" y="42328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1179360" y="3944880"/>
            <a:ext cx="1657440" cy="113508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1046520" y="4702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6" name=""/>
              <p:cNvSpPr txBox="1"/>
              <p:nvPr/>
            </p:nvSpPr>
            <p:spPr>
              <a:xfrm>
                <a:off x="2214720" y="177840"/>
                <a:ext cx="3897000" cy="25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∧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¬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∃</m:t>
                            </m:r>
                            <m:r>
                              <m:t xml:space="preserve">r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q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∧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¬</m:t>
                                    </m:r>
                                    <m:r>
                                      <m:t xml:space="preserve">B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q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∨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27" name=""/>
          <p:cNvSpPr/>
          <p:nvPr/>
        </p:nvSpPr>
        <p:spPr>
          <a:xfrm>
            <a:off x="5200560" y="566640"/>
            <a:ext cx="352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ild 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but easier to show it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building a EVDia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"/>
          <p:cNvSpPr/>
          <p:nvPr/>
        </p:nvSpPr>
        <p:spPr>
          <a:xfrm>
            <a:off x="1447920" y="3287880"/>
            <a:ext cx="1657080" cy="11347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9" name=""/>
          <p:cNvGrpSpPr/>
          <p:nvPr/>
        </p:nvGrpSpPr>
        <p:grpSpPr>
          <a:xfrm>
            <a:off x="5100480" y="2806920"/>
            <a:ext cx="1767600" cy="1332720"/>
            <a:chOff x="5100480" y="2806920"/>
            <a:chExt cx="1767600" cy="1332720"/>
          </a:xfrm>
        </p:grpSpPr>
        <p:sp>
          <p:nvSpPr>
            <p:cNvPr id="1830" name=""/>
            <p:cNvSpPr/>
            <p:nvPr/>
          </p:nvSpPr>
          <p:spPr>
            <a:xfrm>
              <a:off x="5659200" y="3189240"/>
              <a:ext cx="304920" cy="30420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585400" y="2806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100480" y="3722400"/>
              <a:ext cx="304920" cy="3045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413680" y="3679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 flipH="1">
              <a:off x="5368680" y="3441600"/>
              <a:ext cx="338400" cy="323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5510160" y="378432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167160" y="3722400"/>
              <a:ext cx="304920" cy="3045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467760" y="3641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943600" y="3436920"/>
              <a:ext cx="287280" cy="299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9" name=""/>
          <p:cNvSpPr/>
          <p:nvPr/>
        </p:nvSpPr>
        <p:spPr>
          <a:xfrm>
            <a:off x="2716920" y="3054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2030400" y="3792600"/>
            <a:ext cx="1657440" cy="113508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3306960" y="3559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5348520" y="42328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1179360" y="3944880"/>
            <a:ext cx="1657440" cy="113508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1046520" y="4702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5" name=""/>
              <p:cNvSpPr txBox="1"/>
              <p:nvPr/>
            </p:nvSpPr>
            <p:spPr>
              <a:xfrm>
                <a:off x="2214720" y="177840"/>
                <a:ext cx="3897000" cy="25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∧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¬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∃</m:t>
                            </m:r>
                            <m:r>
                              <m:t xml:space="preserve">r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q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∧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¬</m:t>
                                    </m:r>
                                    <m:r>
                                      <m:t xml:space="preserve">B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q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∨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46" name=""/>
          <p:cNvSpPr/>
          <p:nvPr/>
        </p:nvSpPr>
        <p:spPr>
          <a:xfrm>
            <a:off x="2020320" y="33976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1615680" y="38786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 flipH="1">
            <a:off x="1812960" y="3692520"/>
            <a:ext cx="262080" cy="365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5200560" y="566640"/>
            <a:ext cx="352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ild 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but easier to show it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building a EVDia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"/>
          <p:cNvSpPr/>
          <p:nvPr/>
        </p:nvSpPr>
        <p:spPr>
          <a:xfrm>
            <a:off x="1447920" y="3287880"/>
            <a:ext cx="1657080" cy="11347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1" name=""/>
          <p:cNvGrpSpPr/>
          <p:nvPr/>
        </p:nvGrpSpPr>
        <p:grpSpPr>
          <a:xfrm>
            <a:off x="5100480" y="2806920"/>
            <a:ext cx="1767600" cy="1332720"/>
            <a:chOff x="5100480" y="2806920"/>
            <a:chExt cx="1767600" cy="1332720"/>
          </a:xfrm>
        </p:grpSpPr>
        <p:sp>
          <p:nvSpPr>
            <p:cNvPr id="1852" name=""/>
            <p:cNvSpPr/>
            <p:nvPr/>
          </p:nvSpPr>
          <p:spPr>
            <a:xfrm>
              <a:off x="5659200" y="3189240"/>
              <a:ext cx="304920" cy="30420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585400" y="2806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100480" y="3722400"/>
              <a:ext cx="304920" cy="3045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413680" y="3679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H="1">
              <a:off x="5368680" y="3441600"/>
              <a:ext cx="338400" cy="323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510160" y="378432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167160" y="3722400"/>
              <a:ext cx="304920" cy="3045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467760" y="3641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943600" y="3436920"/>
              <a:ext cx="287280" cy="299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1" name=""/>
          <p:cNvSpPr/>
          <p:nvPr/>
        </p:nvSpPr>
        <p:spPr>
          <a:xfrm>
            <a:off x="2716920" y="3054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2030400" y="3792600"/>
            <a:ext cx="1657440" cy="113508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3306960" y="3559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5348520" y="42328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1179360" y="3944880"/>
            <a:ext cx="1657440" cy="113508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1046520" y="4702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7" name=""/>
              <p:cNvSpPr txBox="1"/>
              <p:nvPr/>
            </p:nvSpPr>
            <p:spPr>
              <a:xfrm>
                <a:off x="2214720" y="177840"/>
                <a:ext cx="3897000" cy="25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∧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¬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∃</m:t>
                            </m:r>
                            <m:r>
                              <m:t xml:space="preserve">r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q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∧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¬</m:t>
                                    </m:r>
                                    <m:r>
                                      <m:t xml:space="preserve">B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q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∨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8" name=""/>
          <p:cNvSpPr/>
          <p:nvPr/>
        </p:nvSpPr>
        <p:spPr>
          <a:xfrm>
            <a:off x="2020320" y="33976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1615680" y="38786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 flipH="1">
            <a:off x="1812960" y="3692520"/>
            <a:ext cx="262080" cy="365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2398320" y="3432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2576160" y="37375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2233440" y="39535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1877760" y="3889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2583000" y="3692520"/>
            <a:ext cx="104760" cy="235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 flipH="1">
            <a:off x="2413080" y="4017960"/>
            <a:ext cx="234720" cy="195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 flipH="1" flipV="1">
            <a:off x="2061720" y="4134960"/>
            <a:ext cx="235080" cy="651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5200560" y="566640"/>
            <a:ext cx="352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ild 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but easier to show it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building a EVDia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"/>
          <p:cNvSpPr/>
          <p:nvPr/>
        </p:nvSpPr>
        <p:spPr>
          <a:xfrm>
            <a:off x="1447920" y="3287880"/>
            <a:ext cx="1657080" cy="1134720"/>
          </a:xfrm>
          <a:prstGeom prst="ellipse">
            <a:avLst/>
          </a:prstGeom>
          <a:solidFill>
            <a:srgbClr val="cc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0" name=""/>
          <p:cNvGrpSpPr/>
          <p:nvPr/>
        </p:nvGrpSpPr>
        <p:grpSpPr>
          <a:xfrm>
            <a:off x="5100480" y="2806920"/>
            <a:ext cx="1767600" cy="1332720"/>
            <a:chOff x="5100480" y="2806920"/>
            <a:chExt cx="1767600" cy="1332720"/>
          </a:xfrm>
        </p:grpSpPr>
        <p:sp>
          <p:nvSpPr>
            <p:cNvPr id="1881" name=""/>
            <p:cNvSpPr/>
            <p:nvPr/>
          </p:nvSpPr>
          <p:spPr>
            <a:xfrm>
              <a:off x="5659200" y="3189240"/>
              <a:ext cx="304920" cy="30420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585400" y="2806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100480" y="3722400"/>
              <a:ext cx="304920" cy="3045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5413680" y="3679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H="1">
              <a:off x="5368680" y="3441600"/>
              <a:ext cx="338400" cy="323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510160" y="3784320"/>
              <a:ext cx="20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167160" y="3722400"/>
              <a:ext cx="304920" cy="3045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467760" y="3641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943600" y="3436920"/>
              <a:ext cx="287280" cy="299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0" name=""/>
          <p:cNvSpPr/>
          <p:nvPr/>
        </p:nvSpPr>
        <p:spPr>
          <a:xfrm>
            <a:off x="2716920" y="3054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2030400" y="3792600"/>
            <a:ext cx="1657440" cy="11350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3306960" y="3559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5348520" y="42328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1179360" y="3944880"/>
            <a:ext cx="1657440" cy="1135080"/>
          </a:xfrm>
          <a:prstGeom prst="ellipse">
            <a:avLst/>
          </a:prstGeom>
          <a:solidFill>
            <a:srgbClr val="cc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1046520" y="4702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6" name=""/>
              <p:cNvSpPr txBox="1"/>
              <p:nvPr/>
            </p:nvSpPr>
            <p:spPr>
              <a:xfrm>
                <a:off x="2214720" y="177840"/>
                <a:ext cx="3897000" cy="25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∧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¬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∃</m:t>
                            </m:r>
                            <m:r>
                              <m:t xml:space="preserve">r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q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∧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¬</m:t>
                                    </m:r>
                                    <m:r>
                                      <m:t xml:space="preserve">B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q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∨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97" name=""/>
          <p:cNvSpPr/>
          <p:nvPr/>
        </p:nvSpPr>
        <p:spPr>
          <a:xfrm>
            <a:off x="2020320" y="33976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1615680" y="38786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 flipH="1">
            <a:off x="1812960" y="3692520"/>
            <a:ext cx="262080" cy="365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2398320" y="3432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2576160" y="37375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2233440" y="39535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1877760" y="3889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2583000" y="3692520"/>
            <a:ext cx="104760" cy="235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flipH="1">
            <a:off x="2413080" y="4017960"/>
            <a:ext cx="234720" cy="195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 flipH="1" flipV="1">
            <a:off x="2061720" y="4134960"/>
            <a:ext cx="235080" cy="651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1447920" y="3287880"/>
            <a:ext cx="1657080" cy="11347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2030400" y="3792600"/>
            <a:ext cx="1657440" cy="113508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5200560" y="566640"/>
            <a:ext cx="352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ild 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but easier to show it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building a EVDia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Inference Rul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1535040" y="3692880"/>
            <a:ext cx="42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on of a constant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59080" y="2521080"/>
            <a:ext cx="911160" cy="7873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90840" y="2427120"/>
            <a:ext cx="831960" cy="747720"/>
          </a:xfrm>
          <a:prstGeom prst="ellipse">
            <a:avLst/>
          </a:prstGeom>
          <a:solidFill>
            <a:srgbClr val="cc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34160" y="2172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78520" y="2172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49200" y="2216160"/>
            <a:ext cx="2392560" cy="13780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52040" y="2648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9760" y="2527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854360" y="2809800"/>
            <a:ext cx="874440" cy="106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72080" y="2521080"/>
            <a:ext cx="911160" cy="7873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03840" y="2427120"/>
            <a:ext cx="831960" cy="747720"/>
          </a:xfrm>
          <a:prstGeom prst="ellipse">
            <a:avLst/>
          </a:prstGeom>
          <a:solidFill>
            <a:srgbClr val="cc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47160" y="2172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91520" y="2172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62560" y="2216160"/>
            <a:ext cx="2392200" cy="13780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65400" y="2648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28880" y="2852640"/>
            <a:ext cx="6526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52600" y="1587960"/>
            <a:ext cx="51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asure of part of a constant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236600" y="4194720"/>
            <a:ext cx="2392200" cy="1421640"/>
            <a:chOff x="1236600" y="4194720"/>
            <a:chExt cx="2392200" cy="1421640"/>
          </a:xfrm>
        </p:grpSpPr>
        <p:sp>
          <p:nvSpPr>
            <p:cNvPr id="99" name=""/>
            <p:cNvSpPr/>
            <p:nvPr/>
          </p:nvSpPr>
          <p:spPr>
            <a:xfrm>
              <a:off x="1446120" y="4543200"/>
              <a:ext cx="911160" cy="78768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21200" y="4194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36600" y="4238640"/>
              <a:ext cx="2392200" cy="13777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39440" y="4671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459320" y="4194720"/>
            <a:ext cx="2392200" cy="1422000"/>
            <a:chOff x="4459320" y="4194720"/>
            <a:chExt cx="2392200" cy="1422000"/>
          </a:xfrm>
        </p:grpSpPr>
        <p:sp>
          <p:nvSpPr>
            <p:cNvPr id="104" name=""/>
            <p:cNvSpPr/>
            <p:nvPr/>
          </p:nvSpPr>
          <p:spPr>
            <a:xfrm>
              <a:off x="4668840" y="4543560"/>
              <a:ext cx="911160" cy="7873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43920" y="4194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59320" y="4238640"/>
              <a:ext cx="2392200" cy="13780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62160" y="4671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91120" y="4971960"/>
              <a:ext cx="549360" cy="3650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63800" y="50979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711600" y="4910040"/>
            <a:ext cx="6652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"/>
          <p:cNvSpPr/>
          <p:nvPr/>
        </p:nvSpPr>
        <p:spPr>
          <a:xfrm>
            <a:off x="57240" y="212400"/>
            <a:ext cx="895140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Comic Sans MS"/>
              </a:rPr>
              <a:t>Algorithm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 an Euler diagram and a statement in logic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n the logic statement be observed from the Euler diagr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definitely need semantics in order to deter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ether this algorithm is sou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nipulate the logic statement into a normal 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n work out a DAG for it  (Venn)  and chec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506520" y="4513680"/>
            <a:ext cx="730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e only DELTAS of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OVE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 REGION (and ADD SHADE to new ta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OVE S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OVE CONSTANT LINK - all must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 CONSTANT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"/>
          <p:cNvSpPr/>
          <p:nvPr/>
        </p:nvSpPr>
        <p:spPr>
          <a:xfrm>
            <a:off x="3519360" y="456480"/>
            <a:ext cx="24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hough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473040" y="3643200"/>
            <a:ext cx="835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Does this work have to be about graph transformation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A DAG is a graph and the DELTAs transform the D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very DAG can be reproduced from its le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156600" y="1226160"/>
            <a:ext cx="8800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reinterpret a DAG as a set of leaves,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aring our work, we see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hading - shading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nimal leaves - abstract z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stant sequences - spiders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ags - abstract zonal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emantics differs slightly so inference rules also di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1502280" y="556920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emantics defined for zonal regions (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 could this streamline any of our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"/>
          <p:cNvSpPr/>
          <p:nvPr/>
        </p:nvSpPr>
        <p:spPr>
          <a:xfrm>
            <a:off x="3519360" y="126360"/>
            <a:ext cx="24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hough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541800" y="1028520"/>
            <a:ext cx="797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fectively algorithm 2 takes a concrete inference r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unitary diagrams and defines it at an abstract le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one algorithm check per inference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168120" y="4313520"/>
            <a:ext cx="874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ur completeness proof works with multi-diagrams not j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heterogenous rules on unitary dia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153720" y="5335200"/>
            <a:ext cx="874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ek to understand the logic section better: EVOF, EVCNF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nadic logic, to see where it could ext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any commonality with outcomes of the reading algorith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154520" y="2262240"/>
            <a:ext cx="681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he unification check is again defi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one application of the rule at an abstract le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237960" y="3138120"/>
            <a:ext cx="867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uld we identify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multipl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pplications of inference rul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acing through our completeness proof ie alpharising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could be doing same job as algorithm 5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90600" y="1605600"/>
            <a:ext cx="55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asure of an entire constant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6120" y="2521080"/>
            <a:ext cx="911160" cy="7873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78240" y="2427120"/>
            <a:ext cx="831600" cy="7477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21200" y="2172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5560" y="2172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36600" y="2216160"/>
            <a:ext cx="2392560" cy="13780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39440" y="2648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57160" y="2527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841400" y="2809800"/>
            <a:ext cx="874800" cy="106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59480" y="2521080"/>
            <a:ext cx="911160" cy="7873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91240" y="2427120"/>
            <a:ext cx="831960" cy="7477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34560" y="2172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78920" y="2172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49600" y="2216160"/>
            <a:ext cx="2392560" cy="13780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16280" y="2852640"/>
            <a:ext cx="6526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Inference Rul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2019240" y="4452840"/>
            <a:ext cx="1276560" cy="747720"/>
          </a:xfrm>
          <a:prstGeom prst="ellipse">
            <a:avLst/>
          </a:prstGeom>
          <a:solidFill>
            <a:srgbClr val="cc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07160" y="419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49640" y="4223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22200" y="4241880"/>
            <a:ext cx="2392560" cy="13777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01880" y="4878360"/>
            <a:ext cx="6526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32080" y="4546440"/>
            <a:ext cx="911160" cy="7876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19240" y="4452840"/>
            <a:ext cx="1276560" cy="7477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24840" y="4192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67680" y="4218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40240" y="4237200"/>
            <a:ext cx="2392200" cy="13777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49760" y="4541760"/>
            <a:ext cx="911160" cy="7873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37280" y="4448160"/>
            <a:ext cx="1276200" cy="7477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5240" y="3691440"/>
            <a:ext cx="51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asure of sh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96840" y="3688200"/>
            <a:ext cx="55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 of a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579920" y="4038840"/>
            <a:ext cx="2392200" cy="1421640"/>
            <a:chOff x="4579920" y="4038840"/>
            <a:chExt cx="2392200" cy="1421640"/>
          </a:xfrm>
        </p:grpSpPr>
        <p:sp>
          <p:nvSpPr>
            <p:cNvPr id="142" name=""/>
            <p:cNvSpPr/>
            <p:nvPr/>
          </p:nvSpPr>
          <p:spPr>
            <a:xfrm>
              <a:off x="4789440" y="4387680"/>
              <a:ext cx="911160" cy="7869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64520" y="4038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79920" y="4082760"/>
              <a:ext cx="2392200" cy="13777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82760" y="45147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33760" y="4308120"/>
              <a:ext cx="1341720" cy="799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516720" y="4051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95320" y="44845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5194080" y="4735080"/>
              <a:ext cx="260640" cy="37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373040" y="4038840"/>
            <a:ext cx="2392200" cy="1421640"/>
            <a:chOff x="1373040" y="4038840"/>
            <a:chExt cx="2392200" cy="1421640"/>
          </a:xfrm>
        </p:grpSpPr>
        <p:sp>
          <p:nvSpPr>
            <p:cNvPr id="151" name=""/>
            <p:cNvSpPr/>
            <p:nvPr/>
          </p:nvSpPr>
          <p:spPr>
            <a:xfrm>
              <a:off x="1582560" y="4387680"/>
              <a:ext cx="911160" cy="7869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57640" y="4038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73040" y="4082760"/>
              <a:ext cx="2392200" cy="13777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75880" y="45147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597560" y="2174760"/>
            <a:ext cx="2392200" cy="13780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00400" y="2607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28000" y="177696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asure of a cont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49840" y="2846520"/>
            <a:ext cx="6649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368360" y="2137680"/>
            <a:ext cx="2406240" cy="1410120"/>
            <a:chOff x="1368360" y="2137680"/>
            <a:chExt cx="2406240" cy="1410120"/>
          </a:xfrm>
        </p:grpSpPr>
        <p:sp>
          <p:nvSpPr>
            <p:cNvPr id="160" name=""/>
            <p:cNvSpPr/>
            <p:nvPr/>
          </p:nvSpPr>
          <p:spPr>
            <a:xfrm>
              <a:off x="1578960" y="2484720"/>
              <a:ext cx="916560" cy="7801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54400" y="2137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68360" y="2182320"/>
              <a:ext cx="2406240" cy="13654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75160" y="26082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03760" y="2909160"/>
              <a:ext cx="552600" cy="36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81120" y="3032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1440" y="6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Inference Rul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851280" y="4738680"/>
            <a:ext cx="6523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Inference Rul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4508640" y="2073240"/>
            <a:ext cx="2392200" cy="13780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26200" y="1675440"/>
            <a:ext cx="38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ivation from inconsis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60920" y="2744640"/>
            <a:ext cx="6649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90760" y="2382840"/>
            <a:ext cx="915840" cy="781200"/>
          </a:xfrm>
          <a:prstGeom prst="ellipse">
            <a:avLst/>
          </a:prstGeom>
          <a:solidFill>
            <a:srgbClr val="cc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65840" y="2035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79440" y="2081160"/>
            <a:ext cx="2406600" cy="13654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86960" y="25070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83520" y="2374920"/>
            <a:ext cx="220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well-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78320" y="4724280"/>
            <a:ext cx="319320" cy="514440"/>
          </a:xfrm>
          <a:custGeom>
            <a:avLst/>
            <a:gdLst/>
            <a:ahLst/>
            <a:rect l="l" t="t" r="r" b="b"/>
            <a:pathLst>
              <a:path w="201" h="324">
                <a:moveTo>
                  <a:pt x="75" y="0"/>
                </a:moveTo>
                <a:lnTo>
                  <a:pt x="21" y="69"/>
                </a:lnTo>
                <a:lnTo>
                  <a:pt x="0" y="165"/>
                </a:lnTo>
                <a:lnTo>
                  <a:pt x="48" y="243"/>
                </a:lnTo>
                <a:lnTo>
                  <a:pt x="120" y="303"/>
                </a:lnTo>
                <a:lnTo>
                  <a:pt x="171" y="324"/>
                </a:lnTo>
                <a:lnTo>
                  <a:pt x="201" y="258"/>
                </a:lnTo>
                <a:lnTo>
                  <a:pt x="198" y="156"/>
                </a:lnTo>
                <a:lnTo>
                  <a:pt x="156" y="84"/>
                </a:lnTo>
                <a:lnTo>
                  <a:pt x="114" y="33"/>
                </a:lnTo>
                <a:lnTo>
                  <a:pt x="75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3961440"/>
            <a:ext cx="51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 of shaded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53240" y="4320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95720" y="4345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68280" y="4363920"/>
            <a:ext cx="2392560" cy="13780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47960" y="5000760"/>
            <a:ext cx="6526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77800" y="4668840"/>
            <a:ext cx="911520" cy="7873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68520" y="4575240"/>
            <a:ext cx="873000" cy="7477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0920" y="4315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13760" y="4340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86320" y="4359240"/>
            <a:ext cx="2392200" cy="13780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95840" y="4664160"/>
            <a:ext cx="911160" cy="7873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83360" y="4570560"/>
            <a:ext cx="1276200" cy="7477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10:39:11Z</dcterms:created>
  <dc:creator>Jean Flower</dc:creator>
  <dc:description/>
  <dc:language>en-US</dc:language>
  <cp:lastModifiedBy>Jean Flower</cp:lastModifiedBy>
  <dcterms:modified xsi:type="dcterms:W3CDTF">2003-01-16T15:31:23Z</dcterms:modified>
  <cp:revision>34</cp:revision>
  <dc:subject/>
  <dc:title>Using DAG transformation rules</dc:title>
</cp:coreProperties>
</file>